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B1AC-F7DE-48E1-AE92-4996CE61F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903-6010-429B-A27E-E8146CAE22D0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3B2-9800-4D84-B42F-01535E7D6972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3E7C-3A9B-4FDE-B948-C8A81859D195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93E-0A9D-46AB-9F39-CB0E6F8CB27D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AD0E-B0CF-4D40-81B6-C36D5C50E151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4CD0-527F-46E1-A596-55BC2DBF6484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3555-BD36-4863-8063-36ED5CB637A0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BE5-D001-423B-AA25-3211BBD7B2B6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B3C4-6BF8-4762-B9E1-75EF920E8CF1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75-BB4A-4E68-9FDB-B4525E95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613-5C2C-4B9B-81EE-2C575CA4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6A5-42C9-4963-985B-9A966E30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B00-1A5B-4079-B34A-C1C13122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8750-602C-4E48-85A4-AFB2CE71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23A-472F-4908-892C-D69637C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2AB0-56D4-451F-AC97-537AF07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2A1-F342-44E5-AC06-91560356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875-907A-47D5-AE34-A393E4A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EE3-0125-4921-86DB-E17EFC0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0DC-4E43-4F68-9154-3BD9031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9EF-134E-4877-89D6-D300BBA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4EB8-B185-44C2-9292-32374C0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503-C85B-477C-B4A3-CF343EA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6143-7D82-447F-B853-FF1E540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F34D-A1DE-4C90-8BAE-BF428E9E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8D05-E86F-42AA-A694-B659CBD9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63E-3378-4F45-8DA2-E4CDDB7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57D-DABB-4A82-9ABE-BB61FD94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837-06F0-4F91-88EE-43B6E30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9BD-944C-47DF-9375-705FEFF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766-804C-45AF-9469-BA0361C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28A-9722-4B10-8336-CF137DA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AC6-5DE1-4943-9585-205BE75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8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6100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56100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56100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4c6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5588-79AA-42D8-ABC7-69D6FC7F1CD0}" type="slidenum">
              <a:rPr b="0" lang="en-US" sz="1400" spc="-1" strike="noStrike">
                <a:solidFill>
                  <a:srgbClr val="2e4c6b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-3240" y="2421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8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F5A2-590E-4D2B-9080-7CDBEC5E75E3}" type="slidenum">
              <a:rPr b="0" lang="en-US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9664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环形目录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8"/>
          <p:cNvGrpSpPr/>
          <p:nvPr/>
        </p:nvGrpSpPr>
        <p:grpSpPr>
          <a:xfrm>
            <a:off x="503280" y="3213000"/>
            <a:ext cx="2970000" cy="2881440"/>
            <a:chOff x="503280" y="3213000"/>
            <a:chExt cx="2970000" cy="2881440"/>
          </a:xfrm>
        </p:grpSpPr>
        <p:sp>
          <p:nvSpPr>
            <p:cNvPr id="97" name="Oval 16">
              <a:hlinkClick r:id="rId1" action="ppaction://hlinksldjump"/>
            </p:cNvPr>
            <p:cNvSpPr/>
            <p:nvPr/>
          </p:nvSpPr>
          <p:spPr>
            <a:xfrm>
              <a:off x="503280" y="3308400"/>
              <a:ext cx="716040" cy="714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1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Oval 17">
              <a:hlinkClick r:id="rId2" action="ppaction://hlinksldjump"/>
            </p:cNvPr>
            <p:cNvSpPr/>
            <p:nvPr/>
          </p:nvSpPr>
          <p:spPr>
            <a:xfrm>
              <a:off x="2292480" y="3635280"/>
              <a:ext cx="7142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3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Oval 18">
              <a:hlinkClick r:id="rId3" action="ppaction://hlinksldjump"/>
            </p:cNvPr>
            <p:cNvSpPr/>
            <p:nvPr/>
          </p:nvSpPr>
          <p:spPr>
            <a:xfrm>
              <a:off x="2757600" y="4462560"/>
              <a:ext cx="71568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4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Oval 19">
              <a:hlinkClick r:id="rId4" action="ppaction://hlinksldjump"/>
            </p:cNvPr>
            <p:cNvSpPr/>
            <p:nvPr/>
          </p:nvSpPr>
          <p:spPr>
            <a:xfrm>
              <a:off x="2708280" y="5378400"/>
              <a:ext cx="7160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5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>
              <a:off x="1003320" y="3990960"/>
              <a:ext cx="183960" cy="48564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Oval 21">
              <a:hlinkClick r:id="rId5" action="ppaction://hlinksldjump"/>
            </p:cNvPr>
            <p:cNvSpPr/>
            <p:nvPr/>
          </p:nvSpPr>
          <p:spPr>
            <a:xfrm>
              <a:off x="1452600" y="3213000"/>
              <a:ext cx="7160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2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H="1">
              <a:off x="1649160" y="3916440"/>
              <a:ext cx="83880" cy="50328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 flipH="1">
              <a:off x="2027160" y="4243320"/>
              <a:ext cx="385920" cy="40320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 flipV="1">
              <a:off x="2254320" y="4889520"/>
              <a:ext cx="519120" cy="13320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>
              <a:off x="2230560" y="5451480"/>
              <a:ext cx="501480" cy="15084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Oval 26"/>
            <p:cNvSpPr/>
            <p:nvPr/>
          </p:nvSpPr>
          <p:spPr>
            <a:xfrm>
              <a:off x="704880" y="4419720"/>
              <a:ext cx="1565280" cy="1565280"/>
            </a:xfrm>
            <a:prstGeom prst="ellipse">
              <a:avLst/>
            </a:prstGeom>
            <a:solidFill>
              <a:srgbClr val="b3cce6"/>
            </a:solidFill>
            <a:ln w="7632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Main Me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Oval 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Oval 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Oval 8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Oval 10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e4c6b"/>
                </a:solidFill>
                <a:latin typeface="Arial"/>
                <a:ea typeface="宋体"/>
              </a:rPr>
              <a:t>Men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824360" y="152100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宋体"/>
              </a:rPr>
              <a:t>Click on a number to go to that s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宋体"/>
              </a:rPr>
              <a:t>(Only works in PowerPoint Show mod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3" name="Oval 14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Oval 15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Oval 16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Oval 17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Oval 19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Oval 24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5" name="Oval 14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Oval 15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Oval 16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Oval 17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19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Oval 24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7" name="Oval 1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Oval 1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1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18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Oval 20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Oval 1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1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1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Oval 16"/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Oval 17"/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Example in use - Mood indic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652320" y="2662200"/>
            <a:ext cx="876600" cy="844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ahoma"/>
                <a:ea typeface="宋体"/>
              </a:rPr>
              <a:t>Excellen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1814400" y="2558880"/>
            <a:ext cx="8780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Goo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2843280" y="305748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Fai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3414600" y="403380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Po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3354480" y="511668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Arial"/>
                <a:ea typeface="宋体"/>
              </a:rPr>
              <a:t>Ba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1265400" y="3476520"/>
            <a:ext cx="225360" cy="57492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2057400" y="3389400"/>
            <a:ext cx="101520" cy="5936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2519280" y="3776760"/>
            <a:ext cx="471600" cy="47448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2797200" y="4538160"/>
            <a:ext cx="636480" cy="1587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2768760" y="5202360"/>
            <a:ext cx="614160" cy="1778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900000" y="3983040"/>
            <a:ext cx="1917720" cy="1849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8cc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6698cc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pt宝藏</dc:creator>
  <dc:description/>
  <dc:language>en-US</dc:language>
  <cp:lastModifiedBy>a</cp:lastModifiedBy>
  <dcterms:modified xsi:type="dcterms:W3CDTF">2015-07-25T06:49:08Z</dcterms:modified>
  <cp:revision>3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er">
    <vt:lpwstr>www.presentationhelper.co.uk</vt:lpwstr>
  </property>
</Properties>
</file>