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C7A42A8-9DD4-4A5F-B0FE-CAEFCF3028C7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5280" y="476280"/>
            <a:ext cx="68770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1200" y="333360"/>
            <a:ext cx="377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含指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33800" y="18900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  <a:ea typeface="宋体"/>
              </a:rPr>
              <a:t>First Pag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73760" y="18900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  <a:ea typeface="宋体"/>
              </a:rPr>
              <a:t>Second Pag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40560" y="5537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005360"/>
            <a:ext cx="80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素材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31:52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6a02000000000001024140</vt:lpwstr>
  </property>
</Properties>
</file>