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D4C-15AD-4B9C-AF3B-495EA19F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0E7-9726-4921-9C2C-C196DD39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76B-2AF9-48A7-ADB0-3ECBC0B7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14F-14C8-49F8-A971-E135349D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E447-7627-46DC-AAD2-47A77E27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C969-7A71-491F-B69F-412C709C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B037-72C7-4720-AC58-21052F35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DAFB-D5DA-429F-A09E-6444C13E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D918-1A7D-4953-8D3E-6719AA31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AF47-453E-42AF-B8CA-504292AF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E592-FCFE-4071-AE23-AD374920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518-2089-4E2E-8F43-D84D49DA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080B-08BF-4F70-BC45-E8B24574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0EF0-0A56-428C-BFAE-EFD762EE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55FC-A8EC-4481-B175-6DC98042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7C06-EF44-44A9-8A00-82A3598A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C926-BE42-485C-8960-9CB90DB3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A74-9470-4A42-A537-5C6806B5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C2F-5797-4230-ABF9-0D07D2D8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7FD-85EF-4CFC-B2A2-9F788E21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6AA-C0AD-4253-80E6-A4D7AA85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2E6-8495-4377-A3A3-D562AD18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473-7786-45F0-AE61-AF13ECF4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8D4-DCEA-48D5-92A2-65D1127C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2BBC-823E-40DE-99A0-21548F1F9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67C8-86F7-41F0-9800-96444CA04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55600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</a:rPr>
              <a:t>菊花通用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14520"/>
            <a:ext cx="64008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51120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351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2971800" y="280044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王玉清</cp:lastModifiedBy>
  <dcterms:modified xsi:type="dcterms:W3CDTF">2016-02-22T03:01:21Z</dcterms:modified>
  <cp:revision>13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