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2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862" spc="-1" strike="noStrike">
                <a:solidFill>
                  <a:srgbClr val="ffffff"/>
                </a:solidFill>
                <a:latin typeface="Century Gothic"/>
              </a:defRPr>
            </a:pPr>
            <a:r>
              <a:rPr b="0" sz="1862" spc="-1" strike="noStrike">
                <a:solidFill>
                  <a:srgbClr val="ffffff"/>
                </a:solidFill>
                <a:latin typeface="Century Gothic"/>
              </a:rPr>
              <a:t>Percent of Grade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75825075751372"/>
          <c:y val="0.141241001028454"/>
          <c:w val="0.636720989271968"/>
          <c:h val="0.666352416866644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Percent of Grade</c:v>
                </c:pt>
              </c:strCache>
            </c:strRef>
          </c:tx>
          <c:spPr>
            <a:solidFill>
              <a:srgbClr val="f5a408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5a408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fa731a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ab9281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a18cd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197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197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197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197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197" spc="-1" strike="noStrike">
                    <a:solidFill>
                      <a:srgbClr val="ffffff"/>
                    </a:solidFill>
                    <a:latin typeface="Century Gothic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Weekly assignments</c:v>
                </c:pt>
                <c:pt idx="1">
                  <c:v>Projects</c:v>
                </c:pt>
                <c:pt idx="2">
                  <c:v>Quizzes</c:v>
                </c:pt>
                <c:pt idx="3">
                  <c:v>Final exam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0</c:v>
                </c:pt>
                <c:pt idx="1">
                  <c:v>30</c:v>
                </c:pt>
                <c:pt idx="2">
                  <c:v>20</c:v>
                </c:pt>
                <c:pt idx="3">
                  <c:v>40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ffffff"/>
              </a:solidFill>
              <a:latin typeface="Century Gothic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2397643-8125-4F1C-A372-ECF3E023D390}" type="doc">
      <dgm:prSet loTypeId="urn:microsoft.com/office/officeart/2005/8/layout/vList5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75F46C7D-8C5B-44B8-885B-72B553DFBDED}">
      <dgm:prSet phldrT="[Text]"/>
      <dgm:spPr/>
      <dgm:t>
        <a:bodyPr/>
        <a:lstStyle/>
        <a:p>
          <a:r>
            <a:rPr lang="en-US" dirty="0" smtClean="0"/>
            <a:t>Reading</a:t>
          </a:r>
          <a:endParaRPr lang="en-US" dirty="0"/>
        </a:p>
      </dgm:t>
    </dgm:pt>
    <dgm:pt modelId="{CDD8B25A-7C01-4D26-B85F-59F94B555813}" type="parTrans" cxnId="{A5C46D86-E622-4CD3-AD5D-56F2787D9492}">
      <dgm:prSet/>
      <dgm:spPr/>
      <dgm:t>
        <a:bodyPr/>
        <a:lstStyle/>
        <a:p>
          <a:endParaRPr lang="en-US"/>
        </a:p>
      </dgm:t>
    </dgm:pt>
    <dgm:pt modelId="{845FF6B3-6688-4FCD-971F-F6007A755750}" type="sibTrans" cxnId="{A5C46D86-E622-4CD3-AD5D-56F2787D9492}">
      <dgm:prSet/>
      <dgm:spPr/>
      <dgm:t>
        <a:bodyPr/>
        <a:lstStyle/>
        <a:p>
          <a:endParaRPr lang="en-US"/>
        </a:p>
      </dgm:t>
    </dgm:pt>
    <dgm:pt modelId="{9804C411-831F-4DA6-8B1B-9C583352CE3D}">
      <dgm:prSet phldrT="[Text]"/>
      <dgm:spPr/>
      <dgm:t>
        <a:bodyPr/>
        <a:lstStyle/>
        <a:p>
          <a:r>
            <a:rPr lang="en-US" dirty="0" smtClean="0"/>
            <a:t>Books</a:t>
          </a:r>
          <a:endParaRPr lang="en-US" dirty="0"/>
        </a:p>
      </dgm:t>
    </dgm:pt>
    <dgm:pt modelId="{10941DF6-D521-4B7D-A157-C3578FDA13BB}" type="parTrans" cxnId="{4699913B-42E8-4C8F-8CDB-095F5ACD8E6F}">
      <dgm:prSet/>
      <dgm:spPr/>
      <dgm:t>
        <a:bodyPr/>
        <a:lstStyle/>
        <a:p>
          <a:endParaRPr lang="en-US"/>
        </a:p>
      </dgm:t>
    </dgm:pt>
    <dgm:pt modelId="{5937179E-E6B7-4288-B225-70592C680919}" type="sibTrans" cxnId="{4699913B-42E8-4C8F-8CDB-095F5ACD8E6F}">
      <dgm:prSet/>
      <dgm:spPr/>
      <dgm:t>
        <a:bodyPr/>
        <a:lstStyle/>
        <a:p>
          <a:endParaRPr lang="en-US"/>
        </a:p>
      </dgm:t>
    </dgm:pt>
    <dgm:pt modelId="{389C0EFA-19BF-411D-A158-4A1EE8E2C12E}">
      <dgm:prSet phldrT="[Text]"/>
      <dgm:spPr/>
      <dgm:t>
        <a:bodyPr/>
        <a:lstStyle/>
        <a:p>
          <a:r>
            <a:rPr lang="en-US" dirty="0" smtClean="0"/>
            <a:t>Articles</a:t>
          </a:r>
          <a:endParaRPr lang="en-US" dirty="0"/>
        </a:p>
      </dgm:t>
    </dgm:pt>
    <dgm:pt modelId="{B48358E2-EB89-48E2-AFBD-BB181A0E33E1}" type="parTrans" cxnId="{BED138B4-15E9-471E-8C3B-E0AF53A0AE5D}">
      <dgm:prSet/>
      <dgm:spPr/>
      <dgm:t>
        <a:bodyPr/>
        <a:lstStyle/>
        <a:p>
          <a:endParaRPr lang="en-US"/>
        </a:p>
      </dgm:t>
    </dgm:pt>
    <dgm:pt modelId="{676BEC3D-CADC-444A-A35B-0F861DE01B81}" type="sibTrans" cxnId="{BED138B4-15E9-471E-8C3B-E0AF53A0AE5D}">
      <dgm:prSet/>
      <dgm:spPr/>
      <dgm:t>
        <a:bodyPr/>
        <a:lstStyle/>
        <a:p>
          <a:endParaRPr lang="en-US"/>
        </a:p>
      </dgm:t>
    </dgm:pt>
    <dgm:pt modelId="{C8FCE1D5-0013-443B-BA52-E4A60EA3FE6D}">
      <dgm:prSet phldrT="[Text]"/>
      <dgm:spPr/>
      <dgm:t>
        <a:bodyPr/>
        <a:lstStyle/>
        <a:p>
          <a:r>
            <a:rPr lang="en-US" dirty="0" smtClean="0"/>
            <a:t>Project</a:t>
          </a:r>
          <a:endParaRPr lang="en-US" dirty="0"/>
        </a:p>
      </dgm:t>
    </dgm:pt>
    <dgm:pt modelId="{534C5E64-47EE-48C9-A4CD-A367C15C24CB}" type="parTrans" cxnId="{992753B7-1671-45EE-9A52-A87F63B4FA71}">
      <dgm:prSet/>
      <dgm:spPr/>
      <dgm:t>
        <a:bodyPr/>
        <a:lstStyle/>
        <a:p>
          <a:endParaRPr lang="en-US"/>
        </a:p>
      </dgm:t>
    </dgm:pt>
    <dgm:pt modelId="{1C2A5E08-29F2-4695-ACA7-95A34ECB417D}" type="sibTrans" cxnId="{992753B7-1671-45EE-9A52-A87F63B4FA71}">
      <dgm:prSet/>
      <dgm:spPr/>
      <dgm:t>
        <a:bodyPr/>
        <a:lstStyle/>
        <a:p>
          <a:endParaRPr lang="en-US"/>
        </a:p>
      </dgm:t>
    </dgm:pt>
    <dgm:pt modelId="{4F09627D-7E88-4601-93C1-4E2BFE4319F2}">
      <dgm:prSet phldrT="[Text]"/>
      <dgm:spPr/>
      <dgm:t>
        <a:bodyPr/>
        <a:lstStyle/>
        <a:p>
          <a:r>
            <a:rPr lang="en-US" dirty="0" smtClean="0"/>
            <a:t>Supplies</a:t>
          </a:r>
          <a:endParaRPr lang="en-US" dirty="0"/>
        </a:p>
      </dgm:t>
    </dgm:pt>
    <dgm:pt modelId="{3827320A-3550-4AEA-B735-11B701042E5A}" type="parTrans" cxnId="{369CCAA4-9D5F-464A-87CE-77B2EF21F0B8}">
      <dgm:prSet/>
      <dgm:spPr/>
      <dgm:t>
        <a:bodyPr/>
        <a:lstStyle/>
        <a:p>
          <a:endParaRPr lang="en-US"/>
        </a:p>
      </dgm:t>
    </dgm:pt>
    <dgm:pt modelId="{91466907-124C-4D4C-A391-76F7F2EEFEE7}" type="sibTrans" cxnId="{369CCAA4-9D5F-464A-87CE-77B2EF21F0B8}">
      <dgm:prSet/>
      <dgm:spPr/>
      <dgm:t>
        <a:bodyPr/>
        <a:lstStyle/>
        <a:p>
          <a:endParaRPr lang="en-US"/>
        </a:p>
      </dgm:t>
    </dgm:pt>
    <dgm:pt modelId="{4E8F3B2F-F18D-4487-BD67-41CFB087905E}">
      <dgm:prSet phldrT="[Text]"/>
      <dgm:spPr/>
      <dgm:t>
        <a:bodyPr/>
        <a:lstStyle/>
        <a:p>
          <a:r>
            <a:rPr lang="en-US" dirty="0" smtClean="0"/>
            <a:t>Other project materials</a:t>
          </a:r>
          <a:endParaRPr lang="en-US" dirty="0"/>
        </a:p>
      </dgm:t>
    </dgm:pt>
    <dgm:pt modelId="{8368A8F6-1661-4193-94BC-073E76623AB2}" type="parTrans" cxnId="{C15E96C3-226A-4C9B-A627-D6BDB51E1BF5}">
      <dgm:prSet/>
      <dgm:spPr/>
      <dgm:t>
        <a:bodyPr/>
        <a:lstStyle/>
        <a:p>
          <a:endParaRPr lang="en-US"/>
        </a:p>
      </dgm:t>
    </dgm:pt>
    <dgm:pt modelId="{AE714AD0-EBFA-4B17-9313-712B634B1DF8}" type="sibTrans" cxnId="{C15E96C3-226A-4C9B-A627-D6BDB51E1BF5}">
      <dgm:prSet/>
      <dgm:spPr/>
      <dgm:t>
        <a:bodyPr/>
        <a:lstStyle/>
        <a:p>
          <a:endParaRPr lang="en-US"/>
        </a:p>
      </dgm:t>
    </dgm:pt>
    <dgm:pt modelId="{6A8A74D4-03D1-4937-B8C8-7B38C7EA0260}">
      <dgm:prSet phldrT="[Text]"/>
      <dgm:spPr/>
      <dgm:t>
        <a:bodyPr/>
        <a:lstStyle/>
        <a:p>
          <a:r>
            <a:rPr lang="en-US" dirty="0" smtClean="0"/>
            <a:t>Technology/Tools</a:t>
          </a:r>
          <a:endParaRPr lang="en-US" dirty="0"/>
        </a:p>
      </dgm:t>
    </dgm:pt>
    <dgm:pt modelId="{B4EBF1B6-3111-4EEE-A303-5A97FE5E0634}" type="parTrans" cxnId="{0A19B143-58AC-48DF-8335-5E07B3EE2C6B}">
      <dgm:prSet/>
      <dgm:spPr/>
      <dgm:t>
        <a:bodyPr/>
        <a:lstStyle/>
        <a:p>
          <a:endParaRPr lang="en-US"/>
        </a:p>
      </dgm:t>
    </dgm:pt>
    <dgm:pt modelId="{6013AA25-446C-4612-B8D9-8C13B3B348A2}" type="sibTrans" cxnId="{0A19B143-58AC-48DF-8335-5E07B3EE2C6B}">
      <dgm:prSet/>
      <dgm:spPr/>
      <dgm:t>
        <a:bodyPr/>
        <a:lstStyle/>
        <a:p>
          <a:endParaRPr lang="en-US"/>
        </a:p>
      </dgm:t>
    </dgm:pt>
    <dgm:pt modelId="{13FC20E3-24F3-4E43-BA2C-BFEA9A5E6181}">
      <dgm:prSet phldrT="[Text]"/>
      <dgm:spPr/>
      <dgm:t>
        <a:bodyPr/>
        <a:lstStyle/>
        <a:p>
          <a:r>
            <a:rPr lang="en-US" dirty="0" smtClean="0"/>
            <a:t>Software and hardware</a:t>
          </a:r>
          <a:endParaRPr lang="en-US" dirty="0"/>
        </a:p>
      </dgm:t>
    </dgm:pt>
    <dgm:pt modelId="{20E3E651-9F89-4232-A78E-7DA54792A69D}" type="parTrans" cxnId="{ACFE6916-B2FA-4B64-AF86-BBC7CF1CB334}">
      <dgm:prSet/>
      <dgm:spPr/>
      <dgm:t>
        <a:bodyPr/>
        <a:lstStyle/>
        <a:p>
          <a:endParaRPr lang="en-US"/>
        </a:p>
      </dgm:t>
    </dgm:pt>
    <dgm:pt modelId="{2954581B-096E-490E-B5BF-AC14E2D13EF1}" type="sibTrans" cxnId="{ACFE6916-B2FA-4B64-AF86-BBC7CF1CB334}">
      <dgm:prSet/>
      <dgm:spPr/>
      <dgm:t>
        <a:bodyPr/>
        <a:lstStyle/>
        <a:p>
          <a:endParaRPr lang="en-US"/>
        </a:p>
      </dgm:t>
    </dgm:pt>
    <dgm:pt modelId="{09A103DB-070E-45E2-85EE-FB5E3CD7CAD5}">
      <dgm:prSet phldrT="[Text]"/>
      <dgm:spPr/>
      <dgm:t>
        <a:bodyPr/>
        <a:lstStyle/>
        <a:p>
          <a:r>
            <a:rPr lang="en-US" dirty="0" smtClean="0"/>
            <a:t>Web</a:t>
          </a:r>
          <a:endParaRPr lang="en-US" dirty="0"/>
        </a:p>
      </dgm:t>
    </dgm:pt>
    <dgm:pt modelId="{B28E84A8-4685-4991-9A1E-E68BA77FA295}" type="parTrans" cxnId="{5460D6FD-58CB-4D32-AB19-F8CAC0780C07}">
      <dgm:prSet/>
      <dgm:spPr/>
      <dgm:t>
        <a:bodyPr/>
        <a:lstStyle/>
        <a:p>
          <a:endParaRPr lang="en-US"/>
        </a:p>
      </dgm:t>
    </dgm:pt>
    <dgm:pt modelId="{9BD2943F-E181-492B-92B4-09E2F396E145}" type="sibTrans" cxnId="{5460D6FD-58CB-4D32-AB19-F8CAC0780C07}">
      <dgm:prSet/>
      <dgm:spPr/>
      <dgm:t>
        <a:bodyPr/>
        <a:lstStyle/>
        <a:p>
          <a:endParaRPr lang="en-US"/>
        </a:p>
      </dgm:t>
    </dgm:pt>
    <dgm:pt modelId="{AB81C759-98AF-444D-BABC-17F825693088}">
      <dgm:prSet phldrT="[Text]"/>
      <dgm:spPr/>
      <dgm:t>
        <a:bodyPr/>
        <a:lstStyle/>
        <a:p>
          <a:r>
            <a:rPr lang="en-US" dirty="0" smtClean="0"/>
            <a:t>Other </a:t>
          </a:r>
          <a:endParaRPr lang="en-US" dirty="0"/>
        </a:p>
      </dgm:t>
    </dgm:pt>
    <dgm:pt modelId="{A8697ECC-7EFA-4F3D-95F1-CCCE4002F752}" type="parTrans" cxnId="{93379940-65E2-452A-913E-68A3F0656AC5}">
      <dgm:prSet/>
      <dgm:spPr/>
      <dgm:t>
        <a:bodyPr/>
        <a:lstStyle/>
        <a:p>
          <a:endParaRPr lang="en-US"/>
        </a:p>
      </dgm:t>
    </dgm:pt>
    <dgm:pt modelId="{1802873D-7808-47F0-8C4D-D4A2D1ADE392}" type="sibTrans" cxnId="{93379940-65E2-452A-913E-68A3F0656AC5}">
      <dgm:prSet/>
      <dgm:spPr/>
      <dgm:t>
        <a:bodyPr/>
        <a:lstStyle/>
        <a:p>
          <a:endParaRPr lang="en-US"/>
        </a:p>
      </dgm:t>
    </dgm:pt>
    <dgm:pt modelId="{D06C39EA-88FF-491A-A601-2B59DC71888A}">
      <dgm:prSet phldrT="[Text]"/>
      <dgm:spPr/>
      <dgm:t>
        <a:bodyPr/>
        <a:lstStyle/>
        <a:p>
          <a:r>
            <a:rPr lang="en-US" dirty="0" smtClean="0"/>
            <a:t>Equipment</a:t>
          </a:r>
          <a:endParaRPr lang="en-US" dirty="0"/>
        </a:p>
      </dgm:t>
    </dgm:pt>
    <dgm:pt modelId="{7BEB754B-C72A-4BD2-98F0-FCE6D62DC4CA}" type="parTrans" cxnId="{EDC53F28-0B7E-4F38-9990-5DF11B1A376D}">
      <dgm:prSet/>
      <dgm:spPr/>
      <dgm:t>
        <a:bodyPr/>
        <a:lstStyle/>
        <a:p>
          <a:endParaRPr lang="en-US"/>
        </a:p>
      </dgm:t>
    </dgm:pt>
    <dgm:pt modelId="{B5E39A68-3EC6-4CBC-95C8-E70580AF46E5}" type="sibTrans" cxnId="{EDC53F28-0B7E-4F38-9990-5DF11B1A376D}">
      <dgm:prSet/>
      <dgm:spPr/>
      <dgm:t>
        <a:bodyPr/>
        <a:lstStyle/>
        <a:p>
          <a:endParaRPr lang="en-US"/>
        </a:p>
      </dgm:t>
    </dgm:pt>
    <dgm:pt modelId="{C8B29964-6444-42B7-95B2-6A5BCADA3A67}" type="pres">
      <dgm:prSet presAssocID="{A2397643-8125-4F1C-A372-ECF3E023D390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AECE52BE-5516-4AC0-B433-E8A97E5A6959}" type="pres">
      <dgm:prSet presAssocID="{75F46C7D-8C5B-44B8-885B-72B553DFBDED}" presName="linNode" presStyleCnt="0"/>
      <dgm:spPr/>
    </dgm:pt>
    <dgm:pt modelId="{08C77654-8D82-4852-ACC6-B961A709AAE1}" type="pres">
      <dgm:prSet presAssocID="{75F46C7D-8C5B-44B8-885B-72B553DFBDED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18E925CD-DA96-4108-9F23-AE05A8DA6274}" type="pres">
      <dgm:prSet presAssocID="{75F46C7D-8C5B-44B8-885B-72B553DFBDED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F58495DC-32AC-4539-8AED-DEBFFCCFE0E5}" type="pres">
      <dgm:prSet presAssocID="{845FF6B3-6688-4FCD-971F-F6007A755750}" presName="sp" presStyleCnt="0"/>
      <dgm:spPr/>
    </dgm:pt>
    <dgm:pt modelId="{D604D9B3-10EE-4962-B7BD-9986132895C7}" type="pres">
      <dgm:prSet presAssocID="{C8FCE1D5-0013-443B-BA52-E4A60EA3FE6D}" presName="linNode" presStyleCnt="0"/>
      <dgm:spPr/>
    </dgm:pt>
    <dgm:pt modelId="{7491B81D-B182-44CE-882F-F2010AEAC0EA}" type="pres">
      <dgm:prSet presAssocID="{C8FCE1D5-0013-443B-BA52-E4A60EA3FE6D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648B53B-7C1D-42EE-9775-0A07C71CCD98}" type="pres">
      <dgm:prSet presAssocID="{C8FCE1D5-0013-443B-BA52-E4A60EA3FE6D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C5E324B-DA9E-4CD8-BC82-0DC84413A471}" type="pres">
      <dgm:prSet presAssocID="{1C2A5E08-29F2-4695-ACA7-95A34ECB417D}" presName="sp" presStyleCnt="0"/>
      <dgm:spPr/>
    </dgm:pt>
    <dgm:pt modelId="{4A27FA38-9C39-4F55-8F9E-F5842224BF78}" type="pres">
      <dgm:prSet presAssocID="{6A8A74D4-03D1-4937-B8C8-7B38C7EA0260}" presName="linNode" presStyleCnt="0"/>
      <dgm:spPr/>
    </dgm:pt>
    <dgm:pt modelId="{B26A34E9-DEA4-407D-9D6C-64B9AF6AEE61}" type="pres">
      <dgm:prSet presAssocID="{6A8A74D4-03D1-4937-B8C8-7B38C7EA0260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9A1F0921-B0AF-40BC-9415-C3C382387AD4}" type="pres">
      <dgm:prSet presAssocID="{6A8A74D4-03D1-4937-B8C8-7B38C7EA0260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93379940-65E2-452A-913E-68A3F0656AC5}" srcId="{75F46C7D-8C5B-44B8-885B-72B553DFBDED}" destId="{AB81C759-98AF-444D-BABC-17F825693088}" srcOrd="3" destOrd="0" parTransId="{A8697ECC-7EFA-4F3D-95F1-CCCE4002F752}" sibTransId="{1802873D-7808-47F0-8C4D-D4A2D1ADE392}"/>
    <dgm:cxn modelId="{6DA59A8C-5A61-481E-9ADD-876BF0AD1C37}" type="presOf" srcId="{4F09627D-7E88-4601-93C1-4E2BFE4319F2}" destId="{B648B53B-7C1D-42EE-9775-0A07C71CCD98}" srcOrd="0" destOrd="0" presId="urn:microsoft.com/office/officeart/2005/8/layout/vList5"/>
    <dgm:cxn modelId="{7FD1FD5C-F3A5-4881-9935-46769BA2A575}" type="presOf" srcId="{09A103DB-070E-45E2-85EE-FB5E3CD7CAD5}" destId="{18E925CD-DA96-4108-9F23-AE05A8DA6274}" srcOrd="0" destOrd="2" presId="urn:microsoft.com/office/officeart/2005/8/layout/vList5"/>
    <dgm:cxn modelId="{57ABB01E-4A53-4571-BB06-995429C666C4}" type="presOf" srcId="{D06C39EA-88FF-491A-A601-2B59DC71888A}" destId="{B648B53B-7C1D-42EE-9775-0A07C71CCD98}" srcOrd="0" destOrd="1" presId="urn:microsoft.com/office/officeart/2005/8/layout/vList5"/>
    <dgm:cxn modelId="{EDC53F28-0B7E-4F38-9990-5DF11B1A376D}" srcId="{C8FCE1D5-0013-443B-BA52-E4A60EA3FE6D}" destId="{D06C39EA-88FF-491A-A601-2B59DC71888A}" srcOrd="1" destOrd="0" parTransId="{7BEB754B-C72A-4BD2-98F0-FCE6D62DC4CA}" sibTransId="{B5E39A68-3EC6-4CBC-95C8-E70580AF46E5}"/>
    <dgm:cxn modelId="{5460D6FD-58CB-4D32-AB19-F8CAC0780C07}" srcId="{75F46C7D-8C5B-44B8-885B-72B553DFBDED}" destId="{09A103DB-070E-45E2-85EE-FB5E3CD7CAD5}" srcOrd="2" destOrd="0" parTransId="{B28E84A8-4685-4991-9A1E-E68BA77FA295}" sibTransId="{9BD2943F-E181-492B-92B4-09E2F396E145}"/>
    <dgm:cxn modelId="{ACFE6916-B2FA-4B64-AF86-BBC7CF1CB334}" srcId="{6A8A74D4-03D1-4937-B8C8-7B38C7EA0260}" destId="{13FC20E3-24F3-4E43-BA2C-BFEA9A5E6181}" srcOrd="0" destOrd="0" parTransId="{20E3E651-9F89-4232-A78E-7DA54792A69D}" sibTransId="{2954581B-096E-490E-B5BF-AC14E2D13EF1}"/>
    <dgm:cxn modelId="{FD0522C0-E3F8-4A30-BBB0-018B8DB59595}" type="presOf" srcId="{4E8F3B2F-F18D-4487-BD67-41CFB087905E}" destId="{B648B53B-7C1D-42EE-9775-0A07C71CCD98}" srcOrd="0" destOrd="2" presId="urn:microsoft.com/office/officeart/2005/8/layout/vList5"/>
    <dgm:cxn modelId="{AFE0B99D-2E57-430D-A357-ACA44DAC5684}" type="presOf" srcId="{13FC20E3-24F3-4E43-BA2C-BFEA9A5E6181}" destId="{9A1F0921-B0AF-40BC-9415-C3C382387AD4}" srcOrd="0" destOrd="0" presId="urn:microsoft.com/office/officeart/2005/8/layout/vList5"/>
    <dgm:cxn modelId="{C15E96C3-226A-4C9B-A627-D6BDB51E1BF5}" srcId="{C8FCE1D5-0013-443B-BA52-E4A60EA3FE6D}" destId="{4E8F3B2F-F18D-4487-BD67-41CFB087905E}" srcOrd="2" destOrd="0" parTransId="{8368A8F6-1661-4193-94BC-073E76623AB2}" sibTransId="{AE714AD0-EBFA-4B17-9313-712B634B1DF8}"/>
    <dgm:cxn modelId="{6DC01451-AC09-42D7-A68B-8558B768DE8C}" type="presOf" srcId="{A2397643-8125-4F1C-A372-ECF3E023D390}" destId="{C8B29964-6444-42B7-95B2-6A5BCADA3A67}" srcOrd="0" destOrd="0" presId="urn:microsoft.com/office/officeart/2005/8/layout/vList5"/>
    <dgm:cxn modelId="{A42C5CE1-000A-4B1A-9FC2-3B2B33ECBAC4}" type="presOf" srcId="{9804C411-831F-4DA6-8B1B-9C583352CE3D}" destId="{18E925CD-DA96-4108-9F23-AE05A8DA6274}" srcOrd="0" destOrd="0" presId="urn:microsoft.com/office/officeart/2005/8/layout/vList5"/>
    <dgm:cxn modelId="{992753B7-1671-45EE-9A52-A87F63B4FA71}" srcId="{A2397643-8125-4F1C-A372-ECF3E023D390}" destId="{C8FCE1D5-0013-443B-BA52-E4A60EA3FE6D}" srcOrd="1" destOrd="0" parTransId="{534C5E64-47EE-48C9-A4CD-A367C15C24CB}" sibTransId="{1C2A5E08-29F2-4695-ACA7-95A34ECB417D}"/>
    <dgm:cxn modelId="{A7237901-8A32-49B0-AD0B-9EE504329D18}" type="presOf" srcId="{AB81C759-98AF-444D-BABC-17F825693088}" destId="{18E925CD-DA96-4108-9F23-AE05A8DA6274}" srcOrd="0" destOrd="3" presId="urn:microsoft.com/office/officeart/2005/8/layout/vList5"/>
    <dgm:cxn modelId="{A5C46D86-E622-4CD3-AD5D-56F2787D9492}" srcId="{A2397643-8125-4F1C-A372-ECF3E023D390}" destId="{75F46C7D-8C5B-44B8-885B-72B553DFBDED}" srcOrd="0" destOrd="0" parTransId="{CDD8B25A-7C01-4D26-B85F-59F94B555813}" sibTransId="{845FF6B3-6688-4FCD-971F-F6007A755750}"/>
    <dgm:cxn modelId="{7F4180B5-3C46-45C3-B072-51BA87C09BB8}" type="presOf" srcId="{389C0EFA-19BF-411D-A158-4A1EE8E2C12E}" destId="{18E925CD-DA96-4108-9F23-AE05A8DA6274}" srcOrd="0" destOrd="1" presId="urn:microsoft.com/office/officeart/2005/8/layout/vList5"/>
    <dgm:cxn modelId="{BED138B4-15E9-471E-8C3B-E0AF53A0AE5D}" srcId="{75F46C7D-8C5B-44B8-885B-72B553DFBDED}" destId="{389C0EFA-19BF-411D-A158-4A1EE8E2C12E}" srcOrd="1" destOrd="0" parTransId="{B48358E2-EB89-48E2-AFBD-BB181A0E33E1}" sibTransId="{676BEC3D-CADC-444A-A35B-0F861DE01B81}"/>
    <dgm:cxn modelId="{15911F43-C678-4150-8A83-845F525739E1}" type="presOf" srcId="{C8FCE1D5-0013-443B-BA52-E4A60EA3FE6D}" destId="{7491B81D-B182-44CE-882F-F2010AEAC0EA}" srcOrd="0" destOrd="0" presId="urn:microsoft.com/office/officeart/2005/8/layout/vList5"/>
    <dgm:cxn modelId="{0A19B143-58AC-48DF-8335-5E07B3EE2C6B}" srcId="{A2397643-8125-4F1C-A372-ECF3E023D390}" destId="{6A8A74D4-03D1-4937-B8C8-7B38C7EA0260}" srcOrd="2" destOrd="0" parTransId="{B4EBF1B6-3111-4EEE-A303-5A97FE5E0634}" sibTransId="{6013AA25-446C-4612-B8D9-8C13B3B348A2}"/>
    <dgm:cxn modelId="{4699913B-42E8-4C8F-8CDB-095F5ACD8E6F}" srcId="{75F46C7D-8C5B-44B8-885B-72B553DFBDED}" destId="{9804C411-831F-4DA6-8B1B-9C583352CE3D}" srcOrd="0" destOrd="0" parTransId="{10941DF6-D521-4B7D-A157-C3578FDA13BB}" sibTransId="{5937179E-E6B7-4288-B225-70592C680919}"/>
    <dgm:cxn modelId="{EBFE4EEF-26DC-44E6-8209-675F78AD1483}" type="presOf" srcId="{75F46C7D-8C5B-44B8-885B-72B553DFBDED}" destId="{08C77654-8D82-4852-ACC6-B961A709AAE1}" srcOrd="0" destOrd="0" presId="urn:microsoft.com/office/officeart/2005/8/layout/vList5"/>
    <dgm:cxn modelId="{CBE39B4A-78E1-4125-97A8-258B4CF25F7E}" type="presOf" srcId="{6A8A74D4-03D1-4937-B8C8-7B38C7EA0260}" destId="{B26A34E9-DEA4-407D-9D6C-64B9AF6AEE61}" srcOrd="0" destOrd="0" presId="urn:microsoft.com/office/officeart/2005/8/layout/vList5"/>
    <dgm:cxn modelId="{369CCAA4-9D5F-464A-87CE-77B2EF21F0B8}" srcId="{C8FCE1D5-0013-443B-BA52-E4A60EA3FE6D}" destId="{4F09627D-7E88-4601-93C1-4E2BFE4319F2}" srcOrd="0" destOrd="0" parTransId="{3827320A-3550-4AEA-B735-11B701042E5A}" sibTransId="{91466907-124C-4D4C-A391-76F7F2EEFEE7}"/>
    <dgm:cxn modelId="{85A6361F-EE0C-4676-BA1E-09B641178A47}" type="presParOf" srcId="{C8B29964-6444-42B7-95B2-6A5BCADA3A67}" destId="{AECE52BE-5516-4AC0-B433-E8A97E5A6959}" srcOrd="0" destOrd="0" presId="urn:microsoft.com/office/officeart/2005/8/layout/vList5"/>
    <dgm:cxn modelId="{A62B9528-B974-4FDF-8C2D-F05E521CCE37}" type="presParOf" srcId="{AECE52BE-5516-4AC0-B433-E8A97E5A6959}" destId="{08C77654-8D82-4852-ACC6-B961A709AAE1}" srcOrd="0" destOrd="0" presId="urn:microsoft.com/office/officeart/2005/8/layout/vList5"/>
    <dgm:cxn modelId="{E9FF7348-1AC6-4E15-8775-7B936EBA84D6}" type="presParOf" srcId="{AECE52BE-5516-4AC0-B433-E8A97E5A6959}" destId="{18E925CD-DA96-4108-9F23-AE05A8DA6274}" srcOrd="1" destOrd="0" presId="urn:microsoft.com/office/officeart/2005/8/layout/vList5"/>
    <dgm:cxn modelId="{45EF7498-CAC6-4DE2-8F6E-81B62F0954C7}" type="presParOf" srcId="{C8B29964-6444-42B7-95B2-6A5BCADA3A67}" destId="{F58495DC-32AC-4539-8AED-DEBFFCCFE0E5}" srcOrd="1" destOrd="0" presId="urn:microsoft.com/office/officeart/2005/8/layout/vList5"/>
    <dgm:cxn modelId="{56C5AAB0-DE0C-4469-96A9-5913750129FA}" type="presParOf" srcId="{C8B29964-6444-42B7-95B2-6A5BCADA3A67}" destId="{D604D9B3-10EE-4962-B7BD-9986132895C7}" srcOrd="2" destOrd="0" presId="urn:microsoft.com/office/officeart/2005/8/layout/vList5"/>
    <dgm:cxn modelId="{EC052282-7774-425A-9C79-C040BDD8FDB9}" type="presParOf" srcId="{D604D9B3-10EE-4962-B7BD-9986132895C7}" destId="{7491B81D-B182-44CE-882F-F2010AEAC0EA}" srcOrd="0" destOrd="0" presId="urn:microsoft.com/office/officeart/2005/8/layout/vList5"/>
    <dgm:cxn modelId="{F2E7C46B-7E56-4144-A5A9-CB5370E66777}" type="presParOf" srcId="{D604D9B3-10EE-4962-B7BD-9986132895C7}" destId="{B648B53B-7C1D-42EE-9775-0A07C71CCD98}" srcOrd="1" destOrd="0" presId="urn:microsoft.com/office/officeart/2005/8/layout/vList5"/>
    <dgm:cxn modelId="{32E59DA2-FE1C-4037-AAD8-E0E76479082B}" type="presParOf" srcId="{C8B29964-6444-42B7-95B2-6A5BCADA3A67}" destId="{CC5E324B-DA9E-4CD8-BC82-0DC84413A471}" srcOrd="3" destOrd="0" presId="urn:microsoft.com/office/officeart/2005/8/layout/vList5"/>
    <dgm:cxn modelId="{28AF1B48-5F31-49FF-892D-D621B5C8131F}" type="presParOf" srcId="{C8B29964-6444-42B7-95B2-6A5BCADA3A67}" destId="{4A27FA38-9C39-4F55-8F9E-F5842224BF78}" srcOrd="4" destOrd="0" presId="urn:microsoft.com/office/officeart/2005/8/layout/vList5"/>
    <dgm:cxn modelId="{6401FAC5-8213-4DF2-8C51-731CCDBDBD91}" type="presParOf" srcId="{4A27FA38-9C39-4F55-8F9E-F5842224BF78}" destId="{B26A34E9-DEA4-407D-9D6C-64B9AF6AEE61}" srcOrd="0" destOrd="0" presId="urn:microsoft.com/office/officeart/2005/8/layout/vList5"/>
    <dgm:cxn modelId="{21FD02D0-2247-49EC-AD79-3D14F88F7935}" type="presParOf" srcId="{4A27FA38-9C39-4F55-8F9E-F5842224BF78}" destId="{9A1F0921-B0AF-40BC-9415-C3C382387AD4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1964A11-60E0-48D1-9D32-82C50FF38D21}" type="doc">
      <dgm:prSet loTypeId="urn:microsoft.com/office/officeart/2005/8/layout/lProcess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C1DF2E0B-F034-409C-97BE-B1E077D0166A}">
      <dgm:prSet phldrT="[Text]"/>
      <dgm:spPr/>
      <dgm:t>
        <a:bodyPr/>
        <a:lstStyle/>
        <a:p>
          <a:r>
            <a:rPr lang="en-US" dirty="0" smtClean="0"/>
            <a:t>Web &amp; Software Tools</a:t>
          </a:r>
          <a:endParaRPr lang="en-US" dirty="0"/>
        </a:p>
      </dgm:t>
    </dgm:pt>
    <dgm:pt modelId="{42A31C57-B267-4553-8EBC-89957EA9919E}" type="parTrans" cxnId="{A6D803CA-B590-4F5F-AC18-40F3D632022F}">
      <dgm:prSet/>
      <dgm:spPr/>
      <dgm:t>
        <a:bodyPr/>
        <a:lstStyle/>
        <a:p>
          <a:endParaRPr lang="en-US"/>
        </a:p>
      </dgm:t>
    </dgm:pt>
    <dgm:pt modelId="{F799DE04-BE06-4558-B401-CA9BE73B0FE5}" type="sibTrans" cxnId="{A6D803CA-B590-4F5F-AC18-40F3D632022F}">
      <dgm:prSet/>
      <dgm:spPr/>
      <dgm:t>
        <a:bodyPr/>
        <a:lstStyle/>
        <a:p>
          <a:endParaRPr lang="en-US"/>
        </a:p>
      </dgm:t>
    </dgm:pt>
    <dgm:pt modelId="{9FA67F5C-A2B3-4A17-AA93-5C0AD273B2D5}">
      <dgm:prSet phldrT="[Text]"/>
      <dgm:spPr/>
      <dgm:t>
        <a:bodyPr/>
        <a:lstStyle/>
        <a:p>
          <a:r>
            <a:rPr lang="en-US" dirty="0" smtClean="0"/>
            <a:t>Class web site</a:t>
          </a:r>
          <a:endParaRPr lang="en-US" dirty="0"/>
        </a:p>
      </dgm:t>
    </dgm:pt>
    <dgm:pt modelId="{F1B411E4-892B-4114-B93A-577EE42BA548}" type="parTrans" cxnId="{BC5D9862-DAC4-4192-97F4-E8931AD3B7CB}">
      <dgm:prSet/>
      <dgm:spPr/>
      <dgm:t>
        <a:bodyPr/>
        <a:lstStyle/>
        <a:p>
          <a:endParaRPr lang="en-US"/>
        </a:p>
      </dgm:t>
    </dgm:pt>
    <dgm:pt modelId="{8A5F7F56-540A-4DE5-B118-0068853256FC}" type="sibTrans" cxnId="{BC5D9862-DAC4-4192-97F4-E8931AD3B7CB}">
      <dgm:prSet/>
      <dgm:spPr/>
      <dgm:t>
        <a:bodyPr/>
        <a:lstStyle/>
        <a:p>
          <a:endParaRPr lang="en-US"/>
        </a:p>
      </dgm:t>
    </dgm:pt>
    <dgm:pt modelId="{452B5EB4-6ED7-4FA8-A7C4-5C3301C82707}">
      <dgm:prSet phldrT="[Text]"/>
      <dgm:spPr/>
      <dgm:t>
        <a:bodyPr/>
        <a:lstStyle/>
        <a:p>
          <a:r>
            <a:rPr lang="en-US" dirty="0" smtClean="0"/>
            <a:t>Mobile/Other apps</a:t>
          </a:r>
          <a:endParaRPr lang="en-US" dirty="0"/>
        </a:p>
      </dgm:t>
    </dgm:pt>
    <dgm:pt modelId="{A65A5292-11EC-4F74-A2DD-B9AB81BC264F}" type="parTrans" cxnId="{0F479CCA-569A-4D77-9DF6-37D751B3E62B}">
      <dgm:prSet/>
      <dgm:spPr/>
      <dgm:t>
        <a:bodyPr/>
        <a:lstStyle/>
        <a:p>
          <a:endParaRPr lang="en-US"/>
        </a:p>
      </dgm:t>
    </dgm:pt>
    <dgm:pt modelId="{ED3C9F27-971A-426E-911A-AC30A16EB8D7}" type="sibTrans" cxnId="{0F479CCA-569A-4D77-9DF6-37D751B3E62B}">
      <dgm:prSet/>
      <dgm:spPr/>
      <dgm:t>
        <a:bodyPr/>
        <a:lstStyle/>
        <a:p>
          <a:endParaRPr lang="en-US"/>
        </a:p>
      </dgm:t>
    </dgm:pt>
    <dgm:pt modelId="{911EC251-C7E4-4814-90D4-8D36FE8DEC24}">
      <dgm:prSet phldrT="[Text]"/>
      <dgm:spPr/>
      <dgm:t>
        <a:bodyPr/>
        <a:lstStyle/>
        <a:p>
          <a:r>
            <a:rPr lang="en-US" dirty="0" smtClean="0"/>
            <a:t>Social Media</a:t>
          </a:r>
          <a:endParaRPr lang="en-US" dirty="0"/>
        </a:p>
      </dgm:t>
    </dgm:pt>
    <dgm:pt modelId="{EA241105-CF1E-4DF7-B8D8-02473B6E0B01}" type="parTrans" cxnId="{57AEE9A1-FDF7-4AB7-9681-008358ED57AB}">
      <dgm:prSet/>
      <dgm:spPr/>
      <dgm:t>
        <a:bodyPr/>
        <a:lstStyle/>
        <a:p>
          <a:endParaRPr lang="en-US"/>
        </a:p>
      </dgm:t>
    </dgm:pt>
    <dgm:pt modelId="{95633792-376C-450E-B8BC-ED28DC101CEB}" type="sibTrans" cxnId="{57AEE9A1-FDF7-4AB7-9681-008358ED57AB}">
      <dgm:prSet/>
      <dgm:spPr/>
      <dgm:t>
        <a:bodyPr/>
        <a:lstStyle/>
        <a:p>
          <a:endParaRPr lang="en-US"/>
        </a:p>
      </dgm:t>
    </dgm:pt>
    <dgm:pt modelId="{BAFD4250-3194-435C-9DB9-26F654B5C03A}">
      <dgm:prSet phldrT="[Text]"/>
      <dgm:spPr/>
      <dgm:t>
        <a:bodyPr/>
        <a:lstStyle/>
        <a:p>
          <a:r>
            <a:rPr lang="en-US" dirty="0" smtClean="0"/>
            <a:t>Twitter</a:t>
          </a:r>
          <a:endParaRPr lang="en-US" dirty="0"/>
        </a:p>
      </dgm:t>
    </dgm:pt>
    <dgm:pt modelId="{0D4B85D5-5F65-4827-8832-FBF48D7B3363}" type="parTrans" cxnId="{071FB365-FE77-48F5-BA17-484D6C356434}">
      <dgm:prSet/>
      <dgm:spPr/>
      <dgm:t>
        <a:bodyPr/>
        <a:lstStyle/>
        <a:p>
          <a:endParaRPr lang="en-US"/>
        </a:p>
      </dgm:t>
    </dgm:pt>
    <dgm:pt modelId="{00CC07D1-76CC-4C43-9A72-FD68CB53A52F}" type="sibTrans" cxnId="{071FB365-FE77-48F5-BA17-484D6C356434}">
      <dgm:prSet/>
      <dgm:spPr/>
      <dgm:t>
        <a:bodyPr/>
        <a:lstStyle/>
        <a:p>
          <a:endParaRPr lang="en-US"/>
        </a:p>
      </dgm:t>
    </dgm:pt>
    <dgm:pt modelId="{39865F2F-A0A2-4069-A0A8-DBD105077B60}">
      <dgm:prSet phldrT="[Text]"/>
      <dgm:spPr/>
      <dgm:t>
        <a:bodyPr/>
        <a:lstStyle/>
        <a:p>
          <a:r>
            <a:rPr lang="en-US" dirty="0" smtClean="0"/>
            <a:t>Facebook</a:t>
          </a:r>
          <a:endParaRPr lang="en-US" dirty="0"/>
        </a:p>
      </dgm:t>
    </dgm:pt>
    <dgm:pt modelId="{258E8A36-BBB7-4C89-BC2C-F3F74D59EC28}" type="parTrans" cxnId="{28D005C6-4C20-4BE6-894F-D3B082F63438}">
      <dgm:prSet/>
      <dgm:spPr/>
      <dgm:t>
        <a:bodyPr/>
        <a:lstStyle/>
        <a:p>
          <a:endParaRPr lang="en-US"/>
        </a:p>
      </dgm:t>
    </dgm:pt>
    <dgm:pt modelId="{84624615-77BD-49D7-9881-B60A734482E2}" type="sibTrans" cxnId="{28D005C6-4C20-4BE6-894F-D3B082F63438}">
      <dgm:prSet/>
      <dgm:spPr/>
      <dgm:t>
        <a:bodyPr/>
        <a:lstStyle/>
        <a:p>
          <a:endParaRPr lang="en-US"/>
        </a:p>
      </dgm:t>
    </dgm:pt>
    <dgm:pt modelId="{3685198B-5321-4885-BEE2-2A3D6DA5B4A6}">
      <dgm:prSet phldrT="[Text]"/>
      <dgm:spPr/>
      <dgm:t>
        <a:bodyPr/>
        <a:lstStyle/>
        <a:p>
          <a:r>
            <a:rPr lang="en-US" dirty="0" smtClean="0"/>
            <a:t>Labs, Study Groups</a:t>
          </a:r>
          <a:endParaRPr lang="en-US" dirty="0"/>
        </a:p>
      </dgm:t>
    </dgm:pt>
    <dgm:pt modelId="{04BBF996-DFD9-466F-BD01-7968559FCCBA}" type="parTrans" cxnId="{D55D4B72-161A-4FAE-AF7B-1ABE9C4AB99D}">
      <dgm:prSet/>
      <dgm:spPr/>
      <dgm:t>
        <a:bodyPr/>
        <a:lstStyle/>
        <a:p>
          <a:endParaRPr lang="en-US"/>
        </a:p>
      </dgm:t>
    </dgm:pt>
    <dgm:pt modelId="{D4A8ADDC-9CBB-47A6-AE74-052767EA090A}" type="sibTrans" cxnId="{D55D4B72-161A-4FAE-AF7B-1ABE9C4AB99D}">
      <dgm:prSet/>
      <dgm:spPr/>
      <dgm:t>
        <a:bodyPr/>
        <a:lstStyle/>
        <a:p>
          <a:endParaRPr lang="en-US"/>
        </a:p>
      </dgm:t>
    </dgm:pt>
    <dgm:pt modelId="{F2B8E16F-5F5A-4339-B42D-A1EA3A873A66}">
      <dgm:prSet phldrT="[Text]"/>
      <dgm:spPr/>
      <dgm:t>
        <a:bodyPr/>
        <a:lstStyle/>
        <a:p>
          <a:r>
            <a:rPr lang="en-US" dirty="0" smtClean="0"/>
            <a:t>Labs</a:t>
          </a:r>
          <a:endParaRPr lang="en-US" dirty="0"/>
        </a:p>
      </dgm:t>
    </dgm:pt>
    <dgm:pt modelId="{07DAEFAB-B713-4B0E-8DFA-5AC55A476C27}" type="parTrans" cxnId="{69F2DDF9-A227-4E72-BAA2-430220F4F365}">
      <dgm:prSet/>
      <dgm:spPr/>
      <dgm:t>
        <a:bodyPr/>
        <a:lstStyle/>
        <a:p>
          <a:endParaRPr lang="en-US"/>
        </a:p>
      </dgm:t>
    </dgm:pt>
    <dgm:pt modelId="{711389FD-DC4C-4AF5-A083-821A33571CBA}" type="sibTrans" cxnId="{69F2DDF9-A227-4E72-BAA2-430220F4F365}">
      <dgm:prSet/>
      <dgm:spPr/>
      <dgm:t>
        <a:bodyPr/>
        <a:lstStyle/>
        <a:p>
          <a:endParaRPr lang="en-US"/>
        </a:p>
      </dgm:t>
    </dgm:pt>
    <dgm:pt modelId="{E25008CC-3EBF-4262-B825-01A46F1E088F}">
      <dgm:prSet phldrT="[Text]"/>
      <dgm:spPr/>
      <dgm:t>
        <a:bodyPr/>
        <a:lstStyle/>
        <a:p>
          <a:r>
            <a:rPr lang="en-US" dirty="0" smtClean="0"/>
            <a:t>Study groups</a:t>
          </a:r>
          <a:endParaRPr lang="en-US" dirty="0"/>
        </a:p>
      </dgm:t>
    </dgm:pt>
    <dgm:pt modelId="{8CE3EAD2-5AF7-45C2-94FF-4E7639E940A5}" type="parTrans" cxnId="{83E6F21F-FEF4-4BA6-8766-8B22936871AC}">
      <dgm:prSet/>
      <dgm:spPr/>
      <dgm:t>
        <a:bodyPr/>
        <a:lstStyle/>
        <a:p>
          <a:endParaRPr lang="en-US"/>
        </a:p>
      </dgm:t>
    </dgm:pt>
    <dgm:pt modelId="{A4D6D835-3339-47DE-B6A4-3291AD8E9A4E}" type="sibTrans" cxnId="{83E6F21F-FEF4-4BA6-8766-8B22936871AC}">
      <dgm:prSet/>
      <dgm:spPr/>
      <dgm:t>
        <a:bodyPr/>
        <a:lstStyle/>
        <a:p>
          <a:endParaRPr lang="en-US"/>
        </a:p>
      </dgm:t>
    </dgm:pt>
    <dgm:pt modelId="{C22B14A1-CEB5-4C85-A079-329A0D631FC4}">
      <dgm:prSet phldrT="[Text]"/>
      <dgm:spPr/>
      <dgm:t>
        <a:bodyPr/>
        <a:lstStyle/>
        <a:p>
          <a:r>
            <a:rPr lang="en-US" dirty="0" smtClean="0"/>
            <a:t>Other</a:t>
          </a:r>
          <a:endParaRPr lang="en-US" dirty="0"/>
        </a:p>
      </dgm:t>
    </dgm:pt>
    <dgm:pt modelId="{C498E0DF-6C2A-40EA-A705-42667224E35E}" type="parTrans" cxnId="{78AD89B4-E3A9-41B0-AF51-37437A573099}">
      <dgm:prSet/>
      <dgm:spPr/>
      <dgm:t>
        <a:bodyPr/>
        <a:lstStyle/>
        <a:p>
          <a:endParaRPr lang="en-US"/>
        </a:p>
      </dgm:t>
    </dgm:pt>
    <dgm:pt modelId="{9B9DEF1B-B47B-45CC-AC15-A4015E7A6961}" type="sibTrans" cxnId="{78AD89B4-E3A9-41B0-AF51-37437A573099}">
      <dgm:prSet/>
      <dgm:spPr/>
      <dgm:t>
        <a:bodyPr/>
        <a:lstStyle/>
        <a:p>
          <a:endParaRPr lang="en-US"/>
        </a:p>
      </dgm:t>
    </dgm:pt>
    <dgm:pt modelId="{D7533782-3A8A-442A-9F24-8DC26FC5B3E3}">
      <dgm:prSet phldrT="[Text]"/>
      <dgm:spPr/>
      <dgm:t>
        <a:bodyPr/>
        <a:lstStyle/>
        <a:p>
          <a:r>
            <a:rPr lang="en-US" dirty="0" smtClean="0"/>
            <a:t>Collaboration tools</a:t>
          </a:r>
          <a:endParaRPr lang="en-US" dirty="0"/>
        </a:p>
      </dgm:t>
    </dgm:pt>
    <dgm:pt modelId="{0B0434F5-F6FF-4749-8332-5CE2942EF69F}" type="sibTrans" cxnId="{660195D4-96BD-4EE8-A65E-0ACF0BCB93F6}">
      <dgm:prSet/>
      <dgm:spPr/>
      <dgm:t>
        <a:bodyPr/>
        <a:lstStyle/>
        <a:p>
          <a:endParaRPr lang="en-US"/>
        </a:p>
      </dgm:t>
    </dgm:pt>
    <dgm:pt modelId="{2779A0B4-ABB2-4420-936D-036EE033A6B5}" type="parTrans" cxnId="{660195D4-96BD-4EE8-A65E-0ACF0BCB93F6}">
      <dgm:prSet/>
      <dgm:spPr/>
      <dgm:t>
        <a:bodyPr/>
        <a:lstStyle/>
        <a:p>
          <a:endParaRPr lang="en-US"/>
        </a:p>
      </dgm:t>
    </dgm:pt>
    <dgm:pt modelId="{0E7A83FE-A83D-4D37-BD58-B3BE98109EBF}" type="pres">
      <dgm:prSet presAssocID="{81964A11-60E0-48D1-9D32-82C50FF38D21}" presName="theList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269D256E-E9CF-442B-9DAB-580449D828DC}" type="pres">
      <dgm:prSet presAssocID="{C1DF2E0B-F034-409C-97BE-B1E077D0166A}" presName="compNode" presStyleCnt="0"/>
      <dgm:spPr/>
    </dgm:pt>
    <dgm:pt modelId="{5EE3D656-49E3-4846-80B3-9DF4C0678135}" type="pres">
      <dgm:prSet presAssocID="{C1DF2E0B-F034-409C-97BE-B1E077D0166A}" presName="aNode" presStyleLbl="bgShp" presStyleIdx="0" presStyleCnt="3"/>
      <dgm:spPr/>
      <dgm:t>
        <a:bodyPr/>
        <a:lstStyle/>
        <a:p>
          <a:endParaRPr lang="en-US"/>
        </a:p>
      </dgm:t>
    </dgm:pt>
    <dgm:pt modelId="{39674946-8641-4D9C-B474-ADD5C2CCB996}" type="pres">
      <dgm:prSet presAssocID="{C1DF2E0B-F034-409C-97BE-B1E077D0166A}" presName="textNode" presStyleLbl="bgShp" presStyleIdx="0" presStyleCnt="3"/>
      <dgm:spPr/>
      <dgm:t>
        <a:bodyPr/>
        <a:lstStyle/>
        <a:p>
          <a:endParaRPr lang="en-US"/>
        </a:p>
      </dgm:t>
    </dgm:pt>
    <dgm:pt modelId="{4AF04BA3-F12F-4B14-922A-44D4F6F8C391}" type="pres">
      <dgm:prSet presAssocID="{C1DF2E0B-F034-409C-97BE-B1E077D0166A}" presName="compChildNode" presStyleCnt="0"/>
      <dgm:spPr/>
    </dgm:pt>
    <dgm:pt modelId="{30665FCA-7375-419C-AD5F-DEFB6A78AF8B}" type="pres">
      <dgm:prSet presAssocID="{C1DF2E0B-F034-409C-97BE-B1E077D0166A}" presName="theInnerList" presStyleCnt="0"/>
      <dgm:spPr/>
    </dgm:pt>
    <dgm:pt modelId="{575ED4E3-10E1-44F4-98F2-9E82E73CD01D}" type="pres">
      <dgm:prSet presAssocID="{9FA67F5C-A2B3-4A17-AA93-5C0AD273B2D5}" presName="childNode" presStyleLbl="node1" presStyleIdx="0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EED572B-1254-4D63-AD99-B2EDA1CEFCD0}" type="pres">
      <dgm:prSet presAssocID="{9FA67F5C-A2B3-4A17-AA93-5C0AD273B2D5}" presName="aSpace2" presStyleCnt="0"/>
      <dgm:spPr/>
    </dgm:pt>
    <dgm:pt modelId="{FE3E8C9E-4E0C-48C9-B969-45E913CB4CB6}" type="pres">
      <dgm:prSet presAssocID="{D7533782-3A8A-442A-9F24-8DC26FC5B3E3}" presName="childNode" presStyleLbl="node1" presStyleIdx="1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F149C5A8-F47F-4249-A33E-785C301435E8}" type="pres">
      <dgm:prSet presAssocID="{D7533782-3A8A-442A-9F24-8DC26FC5B3E3}" presName="aSpace2" presStyleCnt="0"/>
      <dgm:spPr/>
    </dgm:pt>
    <dgm:pt modelId="{96B6F13E-4C71-4B33-9AE7-68769BCA1885}" type="pres">
      <dgm:prSet presAssocID="{452B5EB4-6ED7-4FA8-A7C4-5C3301C82707}" presName="childNode" presStyleLbl="node1" presStyleIdx="2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23CCC18-A8E8-49F1-BA65-3F51C1FDA18A}" type="pres">
      <dgm:prSet presAssocID="{C1DF2E0B-F034-409C-97BE-B1E077D0166A}" presName="aSpace" presStyleCnt="0"/>
      <dgm:spPr/>
    </dgm:pt>
    <dgm:pt modelId="{6930CA3A-746D-45D5-86CF-7E5E82630FFE}" type="pres">
      <dgm:prSet presAssocID="{911EC251-C7E4-4814-90D4-8D36FE8DEC24}" presName="compNode" presStyleCnt="0"/>
      <dgm:spPr/>
    </dgm:pt>
    <dgm:pt modelId="{36A5E784-0575-4B9A-932D-84B4018329C2}" type="pres">
      <dgm:prSet presAssocID="{911EC251-C7E4-4814-90D4-8D36FE8DEC24}" presName="aNode" presStyleLbl="bgShp" presStyleIdx="1" presStyleCnt="3"/>
      <dgm:spPr/>
      <dgm:t>
        <a:bodyPr/>
        <a:lstStyle/>
        <a:p>
          <a:endParaRPr lang="en-US"/>
        </a:p>
      </dgm:t>
    </dgm:pt>
    <dgm:pt modelId="{BB857315-7C35-4D47-8535-974ED697CCEF}" type="pres">
      <dgm:prSet presAssocID="{911EC251-C7E4-4814-90D4-8D36FE8DEC24}" presName="textNode" presStyleLbl="bgShp" presStyleIdx="1" presStyleCnt="3"/>
      <dgm:spPr/>
      <dgm:t>
        <a:bodyPr/>
        <a:lstStyle/>
        <a:p>
          <a:endParaRPr lang="en-US"/>
        </a:p>
      </dgm:t>
    </dgm:pt>
    <dgm:pt modelId="{FCE75200-3B56-41AA-9638-E2DCED5EAB72}" type="pres">
      <dgm:prSet presAssocID="{911EC251-C7E4-4814-90D4-8D36FE8DEC24}" presName="compChildNode" presStyleCnt="0"/>
      <dgm:spPr/>
    </dgm:pt>
    <dgm:pt modelId="{7852F8EC-716B-4B16-A1A5-D39B5E68106B}" type="pres">
      <dgm:prSet presAssocID="{911EC251-C7E4-4814-90D4-8D36FE8DEC24}" presName="theInnerList" presStyleCnt="0"/>
      <dgm:spPr/>
    </dgm:pt>
    <dgm:pt modelId="{C4D55E39-E127-46E1-8C18-E650BDF0FCB0}" type="pres">
      <dgm:prSet presAssocID="{BAFD4250-3194-435C-9DB9-26F654B5C03A}" presName="childNode" presStyleLbl="node1" presStyleIdx="3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51437605-AADB-4D66-843B-C75DD317C3AC}" type="pres">
      <dgm:prSet presAssocID="{BAFD4250-3194-435C-9DB9-26F654B5C03A}" presName="aSpace2" presStyleCnt="0"/>
      <dgm:spPr/>
    </dgm:pt>
    <dgm:pt modelId="{194BEDD1-D18B-469C-A681-6F2CD0649826}" type="pres">
      <dgm:prSet presAssocID="{39865F2F-A0A2-4069-A0A8-DBD105077B60}" presName="childNode" presStyleLbl="node1" presStyleIdx="4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92CDBFD-E30C-4BCF-8196-B5DFA060E363}" type="pres">
      <dgm:prSet presAssocID="{39865F2F-A0A2-4069-A0A8-DBD105077B60}" presName="aSpace2" presStyleCnt="0"/>
      <dgm:spPr/>
    </dgm:pt>
    <dgm:pt modelId="{E864E8C5-2AF8-4B2A-8FB7-8D60286472A2}" type="pres">
      <dgm:prSet presAssocID="{C22B14A1-CEB5-4C85-A079-329A0D631FC4}" presName="childNode" presStyleLbl="node1" presStyleIdx="5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3E9CFA4-C89F-44A7-9A68-11D7A051672A}" type="pres">
      <dgm:prSet presAssocID="{911EC251-C7E4-4814-90D4-8D36FE8DEC24}" presName="aSpace" presStyleCnt="0"/>
      <dgm:spPr/>
    </dgm:pt>
    <dgm:pt modelId="{D18FAD2B-1C42-4AA8-B2B2-4248C0C52B1B}" type="pres">
      <dgm:prSet presAssocID="{3685198B-5321-4885-BEE2-2A3D6DA5B4A6}" presName="compNode" presStyleCnt="0"/>
      <dgm:spPr/>
    </dgm:pt>
    <dgm:pt modelId="{73EF77D7-714B-46AC-B791-77FB73C27C85}" type="pres">
      <dgm:prSet presAssocID="{3685198B-5321-4885-BEE2-2A3D6DA5B4A6}" presName="aNode" presStyleLbl="bgShp" presStyleIdx="2" presStyleCnt="3"/>
      <dgm:spPr/>
      <dgm:t>
        <a:bodyPr/>
        <a:lstStyle/>
        <a:p>
          <a:endParaRPr lang="en-US"/>
        </a:p>
      </dgm:t>
    </dgm:pt>
    <dgm:pt modelId="{67D9D327-C476-4BF7-B7AB-E484AB473A27}" type="pres">
      <dgm:prSet presAssocID="{3685198B-5321-4885-BEE2-2A3D6DA5B4A6}" presName="textNode" presStyleLbl="bgShp" presStyleIdx="2" presStyleCnt="3"/>
      <dgm:spPr/>
      <dgm:t>
        <a:bodyPr/>
        <a:lstStyle/>
        <a:p>
          <a:endParaRPr lang="en-US"/>
        </a:p>
      </dgm:t>
    </dgm:pt>
    <dgm:pt modelId="{116DC192-2051-4BFD-AB50-BD7067181C44}" type="pres">
      <dgm:prSet presAssocID="{3685198B-5321-4885-BEE2-2A3D6DA5B4A6}" presName="compChildNode" presStyleCnt="0"/>
      <dgm:spPr/>
    </dgm:pt>
    <dgm:pt modelId="{E487713E-AFA7-44C8-9935-EADE9CC87190}" type="pres">
      <dgm:prSet presAssocID="{3685198B-5321-4885-BEE2-2A3D6DA5B4A6}" presName="theInnerList" presStyleCnt="0"/>
      <dgm:spPr/>
    </dgm:pt>
    <dgm:pt modelId="{2CA0B65E-4012-4BC5-9436-ACF3DB7847C8}" type="pres">
      <dgm:prSet presAssocID="{F2B8E16F-5F5A-4339-B42D-A1EA3A873A66}" presName="childNode" presStyleLbl="node1" presStyleIdx="6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4F729725-0C9D-49CE-9067-209B03FED34E}" type="pres">
      <dgm:prSet presAssocID="{F2B8E16F-5F5A-4339-B42D-A1EA3A873A66}" presName="aSpace2" presStyleCnt="0"/>
      <dgm:spPr/>
    </dgm:pt>
    <dgm:pt modelId="{727F9D2C-89F2-4A05-AB22-0A805ACA0081}" type="pres">
      <dgm:prSet presAssocID="{E25008CC-3EBF-4262-B825-01A46F1E088F}" presName="childNode" presStyleLbl="node1" presStyleIdx="7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F2587B56-D314-43EC-ABCB-84C77D61FDDA}" type="presOf" srcId="{911EC251-C7E4-4814-90D4-8D36FE8DEC24}" destId="{BB857315-7C35-4D47-8535-974ED697CCEF}" srcOrd="1" destOrd="0" presId="urn:microsoft.com/office/officeart/2005/8/layout/lProcess2"/>
    <dgm:cxn modelId="{28D005C6-4C20-4BE6-894F-D3B082F63438}" srcId="{911EC251-C7E4-4814-90D4-8D36FE8DEC24}" destId="{39865F2F-A0A2-4069-A0A8-DBD105077B60}" srcOrd="1" destOrd="0" parTransId="{258E8A36-BBB7-4C89-BC2C-F3F74D59EC28}" sibTransId="{84624615-77BD-49D7-9881-B60A734482E2}"/>
    <dgm:cxn modelId="{69F2DDF9-A227-4E72-BAA2-430220F4F365}" srcId="{3685198B-5321-4885-BEE2-2A3D6DA5B4A6}" destId="{F2B8E16F-5F5A-4339-B42D-A1EA3A873A66}" srcOrd="0" destOrd="0" parTransId="{07DAEFAB-B713-4B0E-8DFA-5AC55A476C27}" sibTransId="{711389FD-DC4C-4AF5-A083-821A33571CBA}"/>
    <dgm:cxn modelId="{F84BF8AA-607F-438B-99AB-B5DFCB444859}" type="presOf" srcId="{BAFD4250-3194-435C-9DB9-26F654B5C03A}" destId="{C4D55E39-E127-46E1-8C18-E650BDF0FCB0}" srcOrd="0" destOrd="0" presId="urn:microsoft.com/office/officeart/2005/8/layout/lProcess2"/>
    <dgm:cxn modelId="{9D2C00A1-C9B8-4946-AEC1-05DC13345F3F}" type="presOf" srcId="{3685198B-5321-4885-BEE2-2A3D6DA5B4A6}" destId="{67D9D327-C476-4BF7-B7AB-E484AB473A27}" srcOrd="1" destOrd="0" presId="urn:microsoft.com/office/officeart/2005/8/layout/lProcess2"/>
    <dgm:cxn modelId="{A6D803CA-B590-4F5F-AC18-40F3D632022F}" srcId="{81964A11-60E0-48D1-9D32-82C50FF38D21}" destId="{C1DF2E0B-F034-409C-97BE-B1E077D0166A}" srcOrd="0" destOrd="0" parTransId="{42A31C57-B267-4553-8EBC-89957EA9919E}" sibTransId="{F799DE04-BE06-4558-B401-CA9BE73B0FE5}"/>
    <dgm:cxn modelId="{C939D03B-41BC-478F-8898-9F0D9C0E109D}" type="presOf" srcId="{C1DF2E0B-F034-409C-97BE-B1E077D0166A}" destId="{5EE3D656-49E3-4846-80B3-9DF4C0678135}" srcOrd="0" destOrd="0" presId="urn:microsoft.com/office/officeart/2005/8/layout/lProcess2"/>
    <dgm:cxn modelId="{68A880CB-36C5-442A-9C0A-543018EC180C}" type="presOf" srcId="{E25008CC-3EBF-4262-B825-01A46F1E088F}" destId="{727F9D2C-89F2-4A05-AB22-0A805ACA0081}" srcOrd="0" destOrd="0" presId="urn:microsoft.com/office/officeart/2005/8/layout/lProcess2"/>
    <dgm:cxn modelId="{3AEF1512-85D4-4F38-A0AE-869032ED7E2F}" type="presOf" srcId="{81964A11-60E0-48D1-9D32-82C50FF38D21}" destId="{0E7A83FE-A83D-4D37-BD58-B3BE98109EBF}" srcOrd="0" destOrd="0" presId="urn:microsoft.com/office/officeart/2005/8/layout/lProcess2"/>
    <dgm:cxn modelId="{DF641FEB-D82F-4D31-B32E-F19E636FB3A2}" type="presOf" srcId="{9FA67F5C-A2B3-4A17-AA93-5C0AD273B2D5}" destId="{575ED4E3-10E1-44F4-98F2-9E82E73CD01D}" srcOrd="0" destOrd="0" presId="urn:microsoft.com/office/officeart/2005/8/layout/lProcess2"/>
    <dgm:cxn modelId="{E90F8EFB-4FFD-4F13-8F28-B0018CACA6A2}" type="presOf" srcId="{F2B8E16F-5F5A-4339-B42D-A1EA3A873A66}" destId="{2CA0B65E-4012-4BC5-9436-ACF3DB7847C8}" srcOrd="0" destOrd="0" presId="urn:microsoft.com/office/officeart/2005/8/layout/lProcess2"/>
    <dgm:cxn modelId="{0F479CCA-569A-4D77-9DF6-37D751B3E62B}" srcId="{C1DF2E0B-F034-409C-97BE-B1E077D0166A}" destId="{452B5EB4-6ED7-4FA8-A7C4-5C3301C82707}" srcOrd="2" destOrd="0" parTransId="{A65A5292-11EC-4F74-A2DD-B9AB81BC264F}" sibTransId="{ED3C9F27-971A-426E-911A-AC30A16EB8D7}"/>
    <dgm:cxn modelId="{660195D4-96BD-4EE8-A65E-0ACF0BCB93F6}" srcId="{C1DF2E0B-F034-409C-97BE-B1E077D0166A}" destId="{D7533782-3A8A-442A-9F24-8DC26FC5B3E3}" srcOrd="1" destOrd="0" parTransId="{2779A0B4-ABB2-4420-936D-036EE033A6B5}" sibTransId="{0B0434F5-F6FF-4749-8332-5CE2942EF69F}"/>
    <dgm:cxn modelId="{65DA3B0C-C80A-4C1E-9E81-5220CB0ACD02}" type="presOf" srcId="{39865F2F-A0A2-4069-A0A8-DBD105077B60}" destId="{194BEDD1-D18B-469C-A681-6F2CD0649826}" srcOrd="0" destOrd="0" presId="urn:microsoft.com/office/officeart/2005/8/layout/lProcess2"/>
    <dgm:cxn modelId="{90B25311-0A64-41C9-A79C-41BA8BE636D5}" type="presOf" srcId="{D7533782-3A8A-442A-9F24-8DC26FC5B3E3}" destId="{FE3E8C9E-4E0C-48C9-B969-45E913CB4CB6}" srcOrd="0" destOrd="0" presId="urn:microsoft.com/office/officeart/2005/8/layout/lProcess2"/>
    <dgm:cxn modelId="{9A05484E-DE8F-43BE-8338-A9FF8F4980CC}" type="presOf" srcId="{911EC251-C7E4-4814-90D4-8D36FE8DEC24}" destId="{36A5E784-0575-4B9A-932D-84B4018329C2}" srcOrd="0" destOrd="0" presId="urn:microsoft.com/office/officeart/2005/8/layout/lProcess2"/>
    <dgm:cxn modelId="{C98D9AEB-E2D1-4EA1-8B9C-E61863A81C24}" type="presOf" srcId="{C1DF2E0B-F034-409C-97BE-B1E077D0166A}" destId="{39674946-8641-4D9C-B474-ADD5C2CCB996}" srcOrd="1" destOrd="0" presId="urn:microsoft.com/office/officeart/2005/8/layout/lProcess2"/>
    <dgm:cxn modelId="{83E6F21F-FEF4-4BA6-8766-8B22936871AC}" srcId="{3685198B-5321-4885-BEE2-2A3D6DA5B4A6}" destId="{E25008CC-3EBF-4262-B825-01A46F1E088F}" srcOrd="1" destOrd="0" parTransId="{8CE3EAD2-5AF7-45C2-94FF-4E7639E940A5}" sibTransId="{A4D6D835-3339-47DE-B6A4-3291AD8E9A4E}"/>
    <dgm:cxn modelId="{7A14992B-7E79-4D53-AE68-00258322CAF4}" type="presOf" srcId="{3685198B-5321-4885-BEE2-2A3D6DA5B4A6}" destId="{73EF77D7-714B-46AC-B791-77FB73C27C85}" srcOrd="0" destOrd="0" presId="urn:microsoft.com/office/officeart/2005/8/layout/lProcess2"/>
    <dgm:cxn modelId="{57AEE9A1-FDF7-4AB7-9681-008358ED57AB}" srcId="{81964A11-60E0-48D1-9D32-82C50FF38D21}" destId="{911EC251-C7E4-4814-90D4-8D36FE8DEC24}" srcOrd="1" destOrd="0" parTransId="{EA241105-CF1E-4DF7-B8D8-02473B6E0B01}" sibTransId="{95633792-376C-450E-B8BC-ED28DC101CEB}"/>
    <dgm:cxn modelId="{9E99BB4A-64AC-4D27-BAFD-B1775DD4D8D0}" type="presOf" srcId="{C22B14A1-CEB5-4C85-A079-329A0D631FC4}" destId="{E864E8C5-2AF8-4B2A-8FB7-8D60286472A2}" srcOrd="0" destOrd="0" presId="urn:microsoft.com/office/officeart/2005/8/layout/lProcess2"/>
    <dgm:cxn modelId="{78AD89B4-E3A9-41B0-AF51-37437A573099}" srcId="{911EC251-C7E4-4814-90D4-8D36FE8DEC24}" destId="{C22B14A1-CEB5-4C85-A079-329A0D631FC4}" srcOrd="2" destOrd="0" parTransId="{C498E0DF-6C2A-40EA-A705-42667224E35E}" sibTransId="{9B9DEF1B-B47B-45CC-AC15-A4015E7A6961}"/>
    <dgm:cxn modelId="{071FB365-FE77-48F5-BA17-484D6C356434}" srcId="{911EC251-C7E4-4814-90D4-8D36FE8DEC24}" destId="{BAFD4250-3194-435C-9DB9-26F654B5C03A}" srcOrd="0" destOrd="0" parTransId="{0D4B85D5-5F65-4827-8832-FBF48D7B3363}" sibTransId="{00CC07D1-76CC-4C43-9A72-FD68CB53A52F}"/>
    <dgm:cxn modelId="{BC5D9862-DAC4-4192-97F4-E8931AD3B7CB}" srcId="{C1DF2E0B-F034-409C-97BE-B1E077D0166A}" destId="{9FA67F5C-A2B3-4A17-AA93-5C0AD273B2D5}" srcOrd="0" destOrd="0" parTransId="{F1B411E4-892B-4114-B93A-577EE42BA548}" sibTransId="{8A5F7F56-540A-4DE5-B118-0068853256FC}"/>
    <dgm:cxn modelId="{D55D4B72-161A-4FAE-AF7B-1ABE9C4AB99D}" srcId="{81964A11-60E0-48D1-9D32-82C50FF38D21}" destId="{3685198B-5321-4885-BEE2-2A3D6DA5B4A6}" srcOrd="2" destOrd="0" parTransId="{04BBF996-DFD9-466F-BD01-7968559FCCBA}" sibTransId="{D4A8ADDC-9CBB-47A6-AE74-052767EA090A}"/>
    <dgm:cxn modelId="{B1E3CED7-9BA3-46F5-8CFD-59B6546AA29A}" type="presOf" srcId="{452B5EB4-6ED7-4FA8-A7C4-5C3301C82707}" destId="{96B6F13E-4C71-4B33-9AE7-68769BCA1885}" srcOrd="0" destOrd="0" presId="urn:microsoft.com/office/officeart/2005/8/layout/lProcess2"/>
    <dgm:cxn modelId="{2E5DC51E-89E8-4B50-9D40-3C6BD78BD681}" type="presParOf" srcId="{0E7A83FE-A83D-4D37-BD58-B3BE98109EBF}" destId="{269D256E-E9CF-442B-9DAB-580449D828DC}" srcOrd="0" destOrd="0" presId="urn:microsoft.com/office/officeart/2005/8/layout/lProcess2"/>
    <dgm:cxn modelId="{D92BD7CC-7846-4233-AC75-9F78FFA4C1AB}" type="presParOf" srcId="{269D256E-E9CF-442B-9DAB-580449D828DC}" destId="{5EE3D656-49E3-4846-80B3-9DF4C0678135}" srcOrd="0" destOrd="0" presId="urn:microsoft.com/office/officeart/2005/8/layout/lProcess2"/>
    <dgm:cxn modelId="{5F0ACA48-1F53-4320-85B7-8CB2A378A748}" type="presParOf" srcId="{269D256E-E9CF-442B-9DAB-580449D828DC}" destId="{39674946-8641-4D9C-B474-ADD5C2CCB996}" srcOrd="1" destOrd="0" presId="urn:microsoft.com/office/officeart/2005/8/layout/lProcess2"/>
    <dgm:cxn modelId="{2B2CAEBA-F26B-4DF1-8531-316A62B98ED6}" type="presParOf" srcId="{269D256E-E9CF-442B-9DAB-580449D828DC}" destId="{4AF04BA3-F12F-4B14-922A-44D4F6F8C391}" srcOrd="2" destOrd="0" presId="urn:microsoft.com/office/officeart/2005/8/layout/lProcess2"/>
    <dgm:cxn modelId="{A408F08F-09F7-4CA8-9944-6460865CCE63}" type="presParOf" srcId="{4AF04BA3-F12F-4B14-922A-44D4F6F8C391}" destId="{30665FCA-7375-419C-AD5F-DEFB6A78AF8B}" srcOrd="0" destOrd="0" presId="urn:microsoft.com/office/officeart/2005/8/layout/lProcess2"/>
    <dgm:cxn modelId="{2DE73B57-5F7D-49B0-BC20-631944E7AE38}" type="presParOf" srcId="{30665FCA-7375-419C-AD5F-DEFB6A78AF8B}" destId="{575ED4E3-10E1-44F4-98F2-9E82E73CD01D}" srcOrd="0" destOrd="0" presId="urn:microsoft.com/office/officeart/2005/8/layout/lProcess2"/>
    <dgm:cxn modelId="{0EFAF434-9605-4345-90A0-67DFD5086B31}" type="presParOf" srcId="{30665FCA-7375-419C-AD5F-DEFB6A78AF8B}" destId="{BEED572B-1254-4D63-AD99-B2EDA1CEFCD0}" srcOrd="1" destOrd="0" presId="urn:microsoft.com/office/officeart/2005/8/layout/lProcess2"/>
    <dgm:cxn modelId="{75467851-6A42-4BB8-98EB-70027931FE7E}" type="presParOf" srcId="{30665FCA-7375-419C-AD5F-DEFB6A78AF8B}" destId="{FE3E8C9E-4E0C-48C9-B969-45E913CB4CB6}" srcOrd="2" destOrd="0" presId="urn:microsoft.com/office/officeart/2005/8/layout/lProcess2"/>
    <dgm:cxn modelId="{7E5704E2-1D2E-4EFF-B0DC-2DCB55CF8712}" type="presParOf" srcId="{30665FCA-7375-419C-AD5F-DEFB6A78AF8B}" destId="{F149C5A8-F47F-4249-A33E-785C301435E8}" srcOrd="3" destOrd="0" presId="urn:microsoft.com/office/officeart/2005/8/layout/lProcess2"/>
    <dgm:cxn modelId="{0E3DE23F-9AA4-47C3-ADB3-6EAF14C3E55D}" type="presParOf" srcId="{30665FCA-7375-419C-AD5F-DEFB6A78AF8B}" destId="{96B6F13E-4C71-4B33-9AE7-68769BCA1885}" srcOrd="4" destOrd="0" presId="urn:microsoft.com/office/officeart/2005/8/layout/lProcess2"/>
    <dgm:cxn modelId="{2E345F92-B787-493E-8915-B4278C9E1759}" type="presParOf" srcId="{0E7A83FE-A83D-4D37-BD58-B3BE98109EBF}" destId="{C23CCC18-A8E8-49F1-BA65-3F51C1FDA18A}" srcOrd="1" destOrd="0" presId="urn:microsoft.com/office/officeart/2005/8/layout/lProcess2"/>
    <dgm:cxn modelId="{FA579179-CC0E-40DA-965A-F9FFB1B26BF3}" type="presParOf" srcId="{0E7A83FE-A83D-4D37-BD58-B3BE98109EBF}" destId="{6930CA3A-746D-45D5-86CF-7E5E82630FFE}" srcOrd="2" destOrd="0" presId="urn:microsoft.com/office/officeart/2005/8/layout/lProcess2"/>
    <dgm:cxn modelId="{20838F8E-A634-4BE1-99EF-E9A1B9594EDC}" type="presParOf" srcId="{6930CA3A-746D-45D5-86CF-7E5E82630FFE}" destId="{36A5E784-0575-4B9A-932D-84B4018329C2}" srcOrd="0" destOrd="0" presId="urn:microsoft.com/office/officeart/2005/8/layout/lProcess2"/>
    <dgm:cxn modelId="{E11B4138-C8E9-4C72-A113-C551EACEF345}" type="presParOf" srcId="{6930CA3A-746D-45D5-86CF-7E5E82630FFE}" destId="{BB857315-7C35-4D47-8535-974ED697CCEF}" srcOrd="1" destOrd="0" presId="urn:microsoft.com/office/officeart/2005/8/layout/lProcess2"/>
    <dgm:cxn modelId="{80160BB6-6189-41CC-A78D-5F48DF3CE205}" type="presParOf" srcId="{6930CA3A-746D-45D5-86CF-7E5E82630FFE}" destId="{FCE75200-3B56-41AA-9638-E2DCED5EAB72}" srcOrd="2" destOrd="0" presId="urn:microsoft.com/office/officeart/2005/8/layout/lProcess2"/>
    <dgm:cxn modelId="{71C9A70A-AF7A-44F8-AA9F-295D5325FB07}" type="presParOf" srcId="{FCE75200-3B56-41AA-9638-E2DCED5EAB72}" destId="{7852F8EC-716B-4B16-A1A5-D39B5E68106B}" srcOrd="0" destOrd="0" presId="urn:microsoft.com/office/officeart/2005/8/layout/lProcess2"/>
    <dgm:cxn modelId="{01C9FD1B-553B-44E9-8BBA-C1C758905D66}" type="presParOf" srcId="{7852F8EC-716B-4B16-A1A5-D39B5E68106B}" destId="{C4D55E39-E127-46E1-8C18-E650BDF0FCB0}" srcOrd="0" destOrd="0" presId="urn:microsoft.com/office/officeart/2005/8/layout/lProcess2"/>
    <dgm:cxn modelId="{E9DA341D-4118-44A4-B29F-F11B0200102F}" type="presParOf" srcId="{7852F8EC-716B-4B16-A1A5-D39B5E68106B}" destId="{51437605-AADB-4D66-843B-C75DD317C3AC}" srcOrd="1" destOrd="0" presId="urn:microsoft.com/office/officeart/2005/8/layout/lProcess2"/>
    <dgm:cxn modelId="{687D7928-1250-490E-867D-8614C7D1FEDF}" type="presParOf" srcId="{7852F8EC-716B-4B16-A1A5-D39B5E68106B}" destId="{194BEDD1-D18B-469C-A681-6F2CD0649826}" srcOrd="2" destOrd="0" presId="urn:microsoft.com/office/officeart/2005/8/layout/lProcess2"/>
    <dgm:cxn modelId="{6E022723-707D-4161-8175-455527109481}" type="presParOf" srcId="{7852F8EC-716B-4B16-A1A5-D39B5E68106B}" destId="{892CDBFD-E30C-4BCF-8196-B5DFA060E363}" srcOrd="3" destOrd="0" presId="urn:microsoft.com/office/officeart/2005/8/layout/lProcess2"/>
    <dgm:cxn modelId="{0E730A1D-F52D-434D-8A40-EAF27D0B1CFE}" type="presParOf" srcId="{7852F8EC-716B-4B16-A1A5-D39B5E68106B}" destId="{E864E8C5-2AF8-4B2A-8FB7-8D60286472A2}" srcOrd="4" destOrd="0" presId="urn:microsoft.com/office/officeart/2005/8/layout/lProcess2"/>
    <dgm:cxn modelId="{5A4F4263-C59E-4A29-BE06-FE5413D5E2BD}" type="presParOf" srcId="{0E7A83FE-A83D-4D37-BD58-B3BE98109EBF}" destId="{B3E9CFA4-C89F-44A7-9A68-11D7A051672A}" srcOrd="3" destOrd="0" presId="urn:microsoft.com/office/officeart/2005/8/layout/lProcess2"/>
    <dgm:cxn modelId="{E8065534-0D64-4839-8974-7CC94386DE21}" type="presParOf" srcId="{0E7A83FE-A83D-4D37-BD58-B3BE98109EBF}" destId="{D18FAD2B-1C42-4AA8-B2B2-4248C0C52B1B}" srcOrd="4" destOrd="0" presId="urn:microsoft.com/office/officeart/2005/8/layout/lProcess2"/>
    <dgm:cxn modelId="{67D5182E-53E5-4BF6-B143-9212D074347E}" type="presParOf" srcId="{D18FAD2B-1C42-4AA8-B2B2-4248C0C52B1B}" destId="{73EF77D7-714B-46AC-B791-77FB73C27C85}" srcOrd="0" destOrd="0" presId="urn:microsoft.com/office/officeart/2005/8/layout/lProcess2"/>
    <dgm:cxn modelId="{3CC8AF7A-E562-4750-802E-7DA8F8D9BA8A}" type="presParOf" srcId="{D18FAD2B-1C42-4AA8-B2B2-4248C0C52B1B}" destId="{67D9D327-C476-4BF7-B7AB-E484AB473A27}" srcOrd="1" destOrd="0" presId="urn:microsoft.com/office/officeart/2005/8/layout/lProcess2"/>
    <dgm:cxn modelId="{A8E5DD06-06DD-4BCF-98F9-6261A51C8A2D}" type="presParOf" srcId="{D18FAD2B-1C42-4AA8-B2B2-4248C0C52B1B}" destId="{116DC192-2051-4BFD-AB50-BD7067181C44}" srcOrd="2" destOrd="0" presId="urn:microsoft.com/office/officeart/2005/8/layout/lProcess2"/>
    <dgm:cxn modelId="{0E48846A-A0D2-4BD5-9C4B-B67723EF61B3}" type="presParOf" srcId="{116DC192-2051-4BFD-AB50-BD7067181C44}" destId="{E487713E-AFA7-44C8-9935-EADE9CC87190}" srcOrd="0" destOrd="0" presId="urn:microsoft.com/office/officeart/2005/8/layout/lProcess2"/>
    <dgm:cxn modelId="{C5154A85-5A3B-48AB-80E4-919A2EDD2711}" type="presParOf" srcId="{E487713E-AFA7-44C8-9935-EADE9CC87190}" destId="{2CA0B65E-4012-4BC5-9436-ACF3DB7847C8}" srcOrd="0" destOrd="0" presId="urn:microsoft.com/office/officeart/2005/8/layout/lProcess2"/>
    <dgm:cxn modelId="{14CDF71C-EACF-4163-8B0B-1E6DD44905C8}" type="presParOf" srcId="{E487713E-AFA7-44C8-9935-EADE9CC87190}" destId="{4F729725-0C9D-49CE-9067-209B03FED34E}" srcOrd="1" destOrd="0" presId="urn:microsoft.com/office/officeart/2005/8/layout/lProcess2"/>
    <dgm:cxn modelId="{118F4337-845C-4886-9EF6-1C8861AC03D4}" type="presParOf" srcId="{E487713E-AFA7-44C8-9935-EADE9CC87190}" destId="{727F9D2C-89F2-4A05-AB22-0A805ACA0081}" srcOrd="2" destOrd="0" presId="urn:microsoft.com/office/officeart/2005/8/layout/lProcess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787E9D6-2A90-4BCA-9917-059667D4BDBC}" type="doc">
      <dgm:prSet loTypeId="urn:microsoft.com/office/officeart/2005/8/layout/default#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7D1E1409-B4D1-4074-90A1-337E7AFD5784}">
      <dgm:prSet phldrT="[Text]"/>
      <dgm:spPr/>
      <dgm:t>
        <a:bodyPr/>
        <a:lstStyle/>
        <a:p>
          <a:r>
            <a:rPr lang="en-US" dirty="0" smtClean="0"/>
            <a:t>Email</a:t>
          </a:r>
          <a:endParaRPr lang="en-US" dirty="0"/>
        </a:p>
      </dgm:t>
    </dgm:pt>
    <dgm:pt modelId="{3A22935D-9DC8-463F-B9FD-A51FA2726A84}" type="parTrans" cxnId="{7D8B7E75-4507-4B72-AA00-67CAF20DBBA1}">
      <dgm:prSet/>
      <dgm:spPr/>
      <dgm:t>
        <a:bodyPr/>
        <a:lstStyle/>
        <a:p>
          <a:endParaRPr lang="en-US"/>
        </a:p>
      </dgm:t>
    </dgm:pt>
    <dgm:pt modelId="{BD917192-454C-479E-9824-7CFC05C66C75}" type="sibTrans" cxnId="{7D8B7E75-4507-4B72-AA00-67CAF20DBBA1}">
      <dgm:prSet/>
      <dgm:spPr/>
      <dgm:t>
        <a:bodyPr/>
        <a:lstStyle/>
        <a:p>
          <a:endParaRPr lang="en-US"/>
        </a:p>
      </dgm:t>
    </dgm:pt>
    <dgm:pt modelId="{13EF7743-F837-4C14-ABD5-BECC83A95EAC}">
      <dgm:prSet phldrT="[Text]"/>
      <dgm:spPr/>
      <dgm:t>
        <a:bodyPr/>
        <a:lstStyle/>
        <a:p>
          <a:r>
            <a:rPr lang="en-US" dirty="0" smtClean="0"/>
            <a:t>Office phone</a:t>
          </a:r>
          <a:endParaRPr lang="en-US" dirty="0"/>
        </a:p>
      </dgm:t>
    </dgm:pt>
    <dgm:pt modelId="{1AB9E8ED-F37F-42EF-A40F-6CF38FF36144}" type="parTrans" cxnId="{E0FE3E93-CFA9-48C8-AD4F-12EAB3CE8C4B}">
      <dgm:prSet/>
      <dgm:spPr/>
      <dgm:t>
        <a:bodyPr/>
        <a:lstStyle/>
        <a:p>
          <a:endParaRPr lang="en-US"/>
        </a:p>
      </dgm:t>
    </dgm:pt>
    <dgm:pt modelId="{7A3CABFC-B025-4192-AB4B-30AD3C21050A}" type="sibTrans" cxnId="{E0FE3E93-CFA9-48C8-AD4F-12EAB3CE8C4B}">
      <dgm:prSet/>
      <dgm:spPr/>
      <dgm:t>
        <a:bodyPr/>
        <a:lstStyle/>
        <a:p>
          <a:endParaRPr lang="en-US"/>
        </a:p>
      </dgm:t>
    </dgm:pt>
    <dgm:pt modelId="{5D68DDC3-675B-4FA3-BF42-6CEC3951F4B2}">
      <dgm:prSet phldrT="[Text]"/>
      <dgm:spPr/>
      <dgm:t>
        <a:bodyPr/>
        <a:lstStyle/>
        <a:p>
          <a:r>
            <a:rPr lang="en-US" dirty="0" smtClean="0"/>
            <a:t>Office hours</a:t>
          </a:r>
          <a:endParaRPr lang="en-US" dirty="0"/>
        </a:p>
      </dgm:t>
    </dgm:pt>
    <dgm:pt modelId="{10B478FF-4A06-4485-BF9C-F5EB4E7A35D8}" type="parTrans" cxnId="{2B11A69E-6302-4615-BDCA-1BCA5A9CE21A}">
      <dgm:prSet/>
      <dgm:spPr/>
      <dgm:t>
        <a:bodyPr/>
        <a:lstStyle/>
        <a:p>
          <a:endParaRPr lang="en-US"/>
        </a:p>
      </dgm:t>
    </dgm:pt>
    <dgm:pt modelId="{C2396741-9B38-4260-9FCD-B02D01C072DB}" type="sibTrans" cxnId="{2B11A69E-6302-4615-BDCA-1BCA5A9CE21A}">
      <dgm:prSet/>
      <dgm:spPr/>
      <dgm:t>
        <a:bodyPr/>
        <a:lstStyle/>
        <a:p>
          <a:endParaRPr lang="en-US"/>
        </a:p>
      </dgm:t>
    </dgm:pt>
    <dgm:pt modelId="{BD6099BC-12AC-4D40-A8D4-95F72DBC6085}">
      <dgm:prSet phldrT="[Text]"/>
      <dgm:spPr/>
      <dgm:t>
        <a:bodyPr/>
        <a:lstStyle/>
        <a:p>
          <a:r>
            <a:rPr lang="en-US" dirty="0" smtClean="0"/>
            <a:t>Instructor web page</a:t>
          </a:r>
          <a:endParaRPr lang="en-US" dirty="0"/>
        </a:p>
      </dgm:t>
    </dgm:pt>
    <dgm:pt modelId="{83BCF497-231F-4A76-AC07-CFE0C0595BB8}" type="parTrans" cxnId="{5158CE2B-F314-40B4-AE47-68722259FB04}">
      <dgm:prSet/>
      <dgm:spPr/>
      <dgm:t>
        <a:bodyPr/>
        <a:lstStyle/>
        <a:p>
          <a:endParaRPr lang="en-US"/>
        </a:p>
      </dgm:t>
    </dgm:pt>
    <dgm:pt modelId="{2E28A77F-F61D-477E-B5FF-E71DC6BF2C5C}" type="sibTrans" cxnId="{5158CE2B-F314-40B4-AE47-68722259FB04}">
      <dgm:prSet/>
      <dgm:spPr/>
      <dgm:t>
        <a:bodyPr/>
        <a:lstStyle/>
        <a:p>
          <a:endParaRPr lang="en-US"/>
        </a:p>
      </dgm:t>
    </dgm:pt>
    <dgm:pt modelId="{D822D75A-238A-426D-A9D3-A664472FE3B0}" type="pres">
      <dgm:prSet presAssocID="{6787E9D6-2A90-4BCA-9917-059667D4BDBC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12395514-DBA0-4CED-89BE-7504CBC7A432}" type="pres">
      <dgm:prSet presAssocID="{7D1E1409-B4D1-4074-90A1-337E7AFD5784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9D32A82B-4674-4EDF-9D7F-64365CA69702}" type="pres">
      <dgm:prSet presAssocID="{BD917192-454C-479E-9824-7CFC05C66C75}" presName="sibTrans" presStyleCnt="0"/>
      <dgm:spPr/>
    </dgm:pt>
    <dgm:pt modelId="{CA859311-5D60-4C23-8215-E2A3B961A589}" type="pres">
      <dgm:prSet presAssocID="{13EF7743-F837-4C14-ABD5-BECC83A95EAC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F40EDF61-C988-4772-90F2-66FCA11242B4}" type="pres">
      <dgm:prSet presAssocID="{7A3CABFC-B025-4192-AB4B-30AD3C21050A}" presName="sibTrans" presStyleCnt="0"/>
      <dgm:spPr/>
    </dgm:pt>
    <dgm:pt modelId="{C2764FD5-F4FD-48B7-AC49-58329BEF3D17}" type="pres">
      <dgm:prSet presAssocID="{5D68DDC3-675B-4FA3-BF42-6CEC3951F4B2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AE324CE-8FE6-473B-B8C0-21927AF23F67}" type="pres">
      <dgm:prSet presAssocID="{C2396741-9B38-4260-9FCD-B02D01C072DB}" presName="sibTrans" presStyleCnt="0"/>
      <dgm:spPr/>
    </dgm:pt>
    <dgm:pt modelId="{5429D04B-D3BC-42D0-B5D3-4A45E3106E19}" type="pres">
      <dgm:prSet presAssocID="{BD6099BC-12AC-4D40-A8D4-95F72DBC6085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2B11A69E-6302-4615-BDCA-1BCA5A9CE21A}" srcId="{6787E9D6-2A90-4BCA-9917-059667D4BDBC}" destId="{5D68DDC3-675B-4FA3-BF42-6CEC3951F4B2}" srcOrd="2" destOrd="0" parTransId="{10B478FF-4A06-4485-BF9C-F5EB4E7A35D8}" sibTransId="{C2396741-9B38-4260-9FCD-B02D01C072DB}"/>
    <dgm:cxn modelId="{7E596AC8-3FC5-4B50-BF99-906A5FD178AA}" type="presOf" srcId="{BD6099BC-12AC-4D40-A8D4-95F72DBC6085}" destId="{5429D04B-D3BC-42D0-B5D3-4A45E3106E19}" srcOrd="0" destOrd="0" presId="urn:microsoft.com/office/officeart/2005/8/layout/default#1"/>
    <dgm:cxn modelId="{7D8B7E75-4507-4B72-AA00-67CAF20DBBA1}" srcId="{6787E9D6-2A90-4BCA-9917-059667D4BDBC}" destId="{7D1E1409-B4D1-4074-90A1-337E7AFD5784}" srcOrd="0" destOrd="0" parTransId="{3A22935D-9DC8-463F-B9FD-A51FA2726A84}" sibTransId="{BD917192-454C-479E-9824-7CFC05C66C75}"/>
    <dgm:cxn modelId="{5158CE2B-F314-40B4-AE47-68722259FB04}" srcId="{6787E9D6-2A90-4BCA-9917-059667D4BDBC}" destId="{BD6099BC-12AC-4D40-A8D4-95F72DBC6085}" srcOrd="3" destOrd="0" parTransId="{83BCF497-231F-4A76-AC07-CFE0C0595BB8}" sibTransId="{2E28A77F-F61D-477E-B5FF-E71DC6BF2C5C}"/>
    <dgm:cxn modelId="{29EC5D75-B37E-4BA8-9052-2E0CEBAD8A2A}" type="presOf" srcId="{6787E9D6-2A90-4BCA-9917-059667D4BDBC}" destId="{D822D75A-238A-426D-A9D3-A664472FE3B0}" srcOrd="0" destOrd="0" presId="urn:microsoft.com/office/officeart/2005/8/layout/default#1"/>
    <dgm:cxn modelId="{0DEFCAA4-891D-42B4-BAC4-E19A39778418}" type="presOf" srcId="{5D68DDC3-675B-4FA3-BF42-6CEC3951F4B2}" destId="{C2764FD5-F4FD-48B7-AC49-58329BEF3D17}" srcOrd="0" destOrd="0" presId="urn:microsoft.com/office/officeart/2005/8/layout/default#1"/>
    <dgm:cxn modelId="{FFC89062-5E62-495C-8D02-15A93A33AD9B}" type="presOf" srcId="{7D1E1409-B4D1-4074-90A1-337E7AFD5784}" destId="{12395514-DBA0-4CED-89BE-7504CBC7A432}" srcOrd="0" destOrd="0" presId="urn:microsoft.com/office/officeart/2005/8/layout/default#1"/>
    <dgm:cxn modelId="{E0FE3E93-CFA9-48C8-AD4F-12EAB3CE8C4B}" srcId="{6787E9D6-2A90-4BCA-9917-059667D4BDBC}" destId="{13EF7743-F837-4C14-ABD5-BECC83A95EAC}" srcOrd="1" destOrd="0" parTransId="{1AB9E8ED-F37F-42EF-A40F-6CF38FF36144}" sibTransId="{7A3CABFC-B025-4192-AB4B-30AD3C21050A}"/>
    <dgm:cxn modelId="{446A109B-7CB0-497B-A51B-0D582C62DD7B}" type="presOf" srcId="{13EF7743-F837-4C14-ABD5-BECC83A95EAC}" destId="{CA859311-5D60-4C23-8215-E2A3B961A589}" srcOrd="0" destOrd="0" presId="urn:microsoft.com/office/officeart/2005/8/layout/default#1"/>
    <dgm:cxn modelId="{E08EED04-F774-4F97-861B-B6DA61ED375B}" type="presParOf" srcId="{D822D75A-238A-426D-A9D3-A664472FE3B0}" destId="{12395514-DBA0-4CED-89BE-7504CBC7A432}" srcOrd="0" destOrd="0" presId="urn:microsoft.com/office/officeart/2005/8/layout/default#1"/>
    <dgm:cxn modelId="{FB61E03D-CE67-457D-84D3-1EB2F766BAB0}" type="presParOf" srcId="{D822D75A-238A-426D-A9D3-A664472FE3B0}" destId="{9D32A82B-4674-4EDF-9D7F-64365CA69702}" srcOrd="1" destOrd="0" presId="urn:microsoft.com/office/officeart/2005/8/layout/default#1"/>
    <dgm:cxn modelId="{CEA04D50-5F9E-43F2-A97F-C1ECD8DC1020}" type="presParOf" srcId="{D822D75A-238A-426D-A9D3-A664472FE3B0}" destId="{CA859311-5D60-4C23-8215-E2A3B961A589}" srcOrd="2" destOrd="0" presId="urn:microsoft.com/office/officeart/2005/8/layout/default#1"/>
    <dgm:cxn modelId="{D74AC982-FF2A-46C4-AE37-CE41D3B964F0}" type="presParOf" srcId="{D822D75A-238A-426D-A9D3-A664472FE3B0}" destId="{F40EDF61-C988-4772-90F2-66FCA11242B4}" srcOrd="3" destOrd="0" presId="urn:microsoft.com/office/officeart/2005/8/layout/default#1"/>
    <dgm:cxn modelId="{9738C7B0-CDFD-4F05-97B7-3A0234D6222B}" type="presParOf" srcId="{D822D75A-238A-426D-A9D3-A664472FE3B0}" destId="{C2764FD5-F4FD-48B7-AC49-58329BEF3D17}" srcOrd="4" destOrd="0" presId="urn:microsoft.com/office/officeart/2005/8/layout/default#1"/>
    <dgm:cxn modelId="{4158E3E8-5049-43C7-B385-85213C95AC29}" type="presParOf" srcId="{D822D75A-238A-426D-A9D3-A664472FE3B0}" destId="{0AE324CE-8FE6-473B-B8C0-21927AF23F67}" srcOrd="5" destOrd="0" presId="urn:microsoft.com/office/officeart/2005/8/layout/default#1"/>
    <dgm:cxn modelId="{662FDD08-8F3E-4444-AB73-919659FE94A9}" type="presParOf" srcId="{D822D75A-238A-426D-A9D3-A664472FE3B0}" destId="{5429D04B-D3BC-42D0-B5D3-4A45E3106E19}" srcOrd="6" destOrd="0" presId="urn:microsoft.com/office/officeart/2005/8/layout/default#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8E925CD-DA96-4108-9F23-AE05A8DA6274}">
      <dsp:nvSpPr>
        <dsp:cNvPr id="0" name=""/>
        <dsp:cNvSpPr/>
      </dsp:nvSpPr>
      <dsp:spPr>
        <a:xfrm rot="5400000">
          <a:off x="5543202" y="-2184964"/>
          <a:ext cx="1081719" cy="5726176"/>
        </a:xfrm>
        <a:prstGeom prst="round2SameRect">
          <a:avLst/>
        </a:prstGeom>
        <a:solidFill>
          <a:schemeClr val="accen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26670" rIns="53340" bIns="26670" numCol="1" spcCol="1270" anchor="ctr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Books</a:t>
          </a:r>
          <a:endParaRPr lang="en-US" sz="1400" kern="1200" dirty="0"/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Articles</a:t>
          </a:r>
          <a:endParaRPr lang="en-US" sz="1400" kern="1200" dirty="0"/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Web</a:t>
          </a:r>
          <a:endParaRPr lang="en-US" sz="1400" kern="1200" dirty="0"/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Other </a:t>
          </a:r>
          <a:endParaRPr lang="en-US" sz="1400" kern="1200" dirty="0"/>
        </a:p>
      </dsp:txBody>
      <dsp:txXfrm rot="-5400000">
        <a:off x="3220974" y="190069"/>
        <a:ext cx="5673371" cy="976109"/>
      </dsp:txXfrm>
    </dsp:sp>
    <dsp:sp modelId="{08C77654-8D82-4852-ACC6-B961A709AAE1}">
      <dsp:nvSpPr>
        <dsp:cNvPr id="0" name=""/>
        <dsp:cNvSpPr/>
      </dsp:nvSpPr>
      <dsp:spPr>
        <a:xfrm>
          <a:off x="0" y="2048"/>
          <a:ext cx="3220974" cy="135214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5250" tIns="47625" rIns="95250" bIns="47625" numCol="1" spcCol="1270" anchor="ctr" anchorCtr="0">
          <a:noAutofit/>
        </a:bodyPr>
        <a:lstStyle/>
        <a:p>
          <a:pPr lvl="0" algn="ctr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Reading</a:t>
          </a:r>
          <a:endParaRPr lang="en-US" sz="2500" kern="1200" dirty="0"/>
        </a:p>
      </dsp:txBody>
      <dsp:txXfrm>
        <a:off x="66006" y="68054"/>
        <a:ext cx="3088962" cy="1220137"/>
      </dsp:txXfrm>
    </dsp:sp>
    <dsp:sp modelId="{B648B53B-7C1D-42EE-9775-0A07C71CCD98}">
      <dsp:nvSpPr>
        <dsp:cNvPr id="0" name=""/>
        <dsp:cNvSpPr/>
      </dsp:nvSpPr>
      <dsp:spPr>
        <a:xfrm rot="5400000">
          <a:off x="5543202" y="-765207"/>
          <a:ext cx="1081719" cy="5726176"/>
        </a:xfrm>
        <a:prstGeom prst="round2SameRect">
          <a:avLst/>
        </a:prstGeom>
        <a:solidFill>
          <a:schemeClr val="accen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26670" rIns="53340" bIns="26670" numCol="1" spcCol="1270" anchor="ctr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Supplies</a:t>
          </a:r>
          <a:endParaRPr lang="en-US" sz="1400" kern="1200" dirty="0"/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Equipment</a:t>
          </a:r>
          <a:endParaRPr lang="en-US" sz="1400" kern="1200" dirty="0"/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Other project materials</a:t>
          </a:r>
          <a:endParaRPr lang="en-US" sz="1400" kern="1200" dirty="0"/>
        </a:p>
      </dsp:txBody>
      <dsp:txXfrm rot="-5400000">
        <a:off x="3220974" y="1609826"/>
        <a:ext cx="5673371" cy="976109"/>
      </dsp:txXfrm>
    </dsp:sp>
    <dsp:sp modelId="{7491B81D-B182-44CE-882F-F2010AEAC0EA}">
      <dsp:nvSpPr>
        <dsp:cNvPr id="0" name=""/>
        <dsp:cNvSpPr/>
      </dsp:nvSpPr>
      <dsp:spPr>
        <a:xfrm>
          <a:off x="0" y="1421806"/>
          <a:ext cx="3220974" cy="135214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5250" tIns="47625" rIns="95250" bIns="47625" numCol="1" spcCol="1270" anchor="ctr" anchorCtr="0">
          <a:noAutofit/>
        </a:bodyPr>
        <a:lstStyle/>
        <a:p>
          <a:pPr lvl="0" algn="ctr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Project</a:t>
          </a:r>
          <a:endParaRPr lang="en-US" sz="2500" kern="1200" dirty="0"/>
        </a:p>
      </dsp:txBody>
      <dsp:txXfrm>
        <a:off x="66006" y="1487812"/>
        <a:ext cx="3088962" cy="1220137"/>
      </dsp:txXfrm>
    </dsp:sp>
    <dsp:sp modelId="{9A1F0921-B0AF-40BC-9415-C3C382387AD4}">
      <dsp:nvSpPr>
        <dsp:cNvPr id="0" name=""/>
        <dsp:cNvSpPr/>
      </dsp:nvSpPr>
      <dsp:spPr>
        <a:xfrm rot="5400000">
          <a:off x="5543202" y="654550"/>
          <a:ext cx="1081719" cy="5726176"/>
        </a:xfrm>
        <a:prstGeom prst="round2SameRect">
          <a:avLst/>
        </a:prstGeom>
        <a:solidFill>
          <a:schemeClr val="accen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26670" rIns="53340" bIns="26670" numCol="1" spcCol="1270" anchor="ctr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Software and hardware</a:t>
          </a:r>
          <a:endParaRPr lang="en-US" sz="1400" kern="1200" dirty="0"/>
        </a:p>
      </dsp:txBody>
      <dsp:txXfrm rot="-5400000">
        <a:off x="3220974" y="3029584"/>
        <a:ext cx="5673371" cy="976109"/>
      </dsp:txXfrm>
    </dsp:sp>
    <dsp:sp modelId="{B26A34E9-DEA4-407D-9D6C-64B9AF6AEE61}">
      <dsp:nvSpPr>
        <dsp:cNvPr id="0" name=""/>
        <dsp:cNvSpPr/>
      </dsp:nvSpPr>
      <dsp:spPr>
        <a:xfrm>
          <a:off x="0" y="2841563"/>
          <a:ext cx="3220974" cy="135214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5250" tIns="47625" rIns="95250" bIns="47625" numCol="1" spcCol="1270" anchor="ctr" anchorCtr="0">
          <a:noAutofit/>
        </a:bodyPr>
        <a:lstStyle/>
        <a:p>
          <a:pPr lvl="0" algn="ctr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Technology/Tools</a:t>
          </a:r>
          <a:endParaRPr lang="en-US" sz="2500" kern="1200" dirty="0"/>
        </a:p>
      </dsp:txBody>
      <dsp:txXfrm>
        <a:off x="66006" y="2907569"/>
        <a:ext cx="3088962" cy="1220137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EE3D656-49E3-4846-80B3-9DF4C0678135}">
      <dsp:nvSpPr>
        <dsp:cNvPr id="0" name=""/>
        <dsp:cNvSpPr/>
      </dsp:nvSpPr>
      <dsp:spPr>
        <a:xfrm>
          <a:off x="1092" y="0"/>
          <a:ext cx="2839671" cy="4195762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900" kern="1200" dirty="0" smtClean="0"/>
            <a:t>Web &amp; Software Tools</a:t>
          </a:r>
          <a:endParaRPr lang="en-US" sz="2900" kern="1200" dirty="0"/>
        </a:p>
      </dsp:txBody>
      <dsp:txXfrm>
        <a:off x="1092" y="0"/>
        <a:ext cx="2839671" cy="1258728"/>
      </dsp:txXfrm>
    </dsp:sp>
    <dsp:sp modelId="{575ED4E3-10E1-44F4-98F2-9E82E73CD01D}">
      <dsp:nvSpPr>
        <dsp:cNvPr id="0" name=""/>
        <dsp:cNvSpPr/>
      </dsp:nvSpPr>
      <dsp:spPr>
        <a:xfrm>
          <a:off x="285059" y="1259087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Class web site</a:t>
          </a:r>
          <a:endParaRPr lang="en-US" sz="2400" kern="1200" dirty="0"/>
        </a:p>
      </dsp:txBody>
      <dsp:txXfrm>
        <a:off x="309202" y="1283230"/>
        <a:ext cx="2223451" cy="776013"/>
      </dsp:txXfrm>
    </dsp:sp>
    <dsp:sp modelId="{FE3E8C9E-4E0C-48C9-B969-45E913CB4CB6}">
      <dsp:nvSpPr>
        <dsp:cNvPr id="0" name=""/>
        <dsp:cNvSpPr/>
      </dsp:nvSpPr>
      <dsp:spPr>
        <a:xfrm>
          <a:off x="285059" y="2210201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Collaboration tools</a:t>
          </a:r>
          <a:endParaRPr lang="en-US" sz="2400" kern="1200" dirty="0"/>
        </a:p>
      </dsp:txBody>
      <dsp:txXfrm>
        <a:off x="309202" y="2234344"/>
        <a:ext cx="2223451" cy="776013"/>
      </dsp:txXfrm>
    </dsp:sp>
    <dsp:sp modelId="{96B6F13E-4C71-4B33-9AE7-68769BCA1885}">
      <dsp:nvSpPr>
        <dsp:cNvPr id="0" name=""/>
        <dsp:cNvSpPr/>
      </dsp:nvSpPr>
      <dsp:spPr>
        <a:xfrm>
          <a:off x="285059" y="3161316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Mobile/Other apps</a:t>
          </a:r>
          <a:endParaRPr lang="en-US" sz="2400" kern="1200" dirty="0"/>
        </a:p>
      </dsp:txBody>
      <dsp:txXfrm>
        <a:off x="309202" y="3185459"/>
        <a:ext cx="2223451" cy="776013"/>
      </dsp:txXfrm>
    </dsp:sp>
    <dsp:sp modelId="{36A5E784-0575-4B9A-932D-84B4018329C2}">
      <dsp:nvSpPr>
        <dsp:cNvPr id="0" name=""/>
        <dsp:cNvSpPr/>
      </dsp:nvSpPr>
      <dsp:spPr>
        <a:xfrm>
          <a:off x="3053739" y="0"/>
          <a:ext cx="2839671" cy="4195762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900" kern="1200" dirty="0" smtClean="0"/>
            <a:t>Social Media</a:t>
          </a:r>
          <a:endParaRPr lang="en-US" sz="2900" kern="1200" dirty="0"/>
        </a:p>
      </dsp:txBody>
      <dsp:txXfrm>
        <a:off x="3053739" y="0"/>
        <a:ext cx="2839671" cy="1258728"/>
      </dsp:txXfrm>
    </dsp:sp>
    <dsp:sp modelId="{C4D55E39-E127-46E1-8C18-E650BDF0FCB0}">
      <dsp:nvSpPr>
        <dsp:cNvPr id="0" name=""/>
        <dsp:cNvSpPr/>
      </dsp:nvSpPr>
      <dsp:spPr>
        <a:xfrm>
          <a:off x="3337706" y="1259087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Twitter</a:t>
          </a:r>
          <a:endParaRPr lang="en-US" sz="2400" kern="1200" dirty="0"/>
        </a:p>
      </dsp:txBody>
      <dsp:txXfrm>
        <a:off x="3361849" y="1283230"/>
        <a:ext cx="2223451" cy="776013"/>
      </dsp:txXfrm>
    </dsp:sp>
    <dsp:sp modelId="{194BEDD1-D18B-469C-A681-6F2CD0649826}">
      <dsp:nvSpPr>
        <dsp:cNvPr id="0" name=""/>
        <dsp:cNvSpPr/>
      </dsp:nvSpPr>
      <dsp:spPr>
        <a:xfrm>
          <a:off x="3337706" y="2210201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Facebook</a:t>
          </a:r>
          <a:endParaRPr lang="en-US" sz="2400" kern="1200" dirty="0"/>
        </a:p>
      </dsp:txBody>
      <dsp:txXfrm>
        <a:off x="3361849" y="2234344"/>
        <a:ext cx="2223451" cy="776013"/>
      </dsp:txXfrm>
    </dsp:sp>
    <dsp:sp modelId="{E864E8C5-2AF8-4B2A-8FB7-8D60286472A2}">
      <dsp:nvSpPr>
        <dsp:cNvPr id="0" name=""/>
        <dsp:cNvSpPr/>
      </dsp:nvSpPr>
      <dsp:spPr>
        <a:xfrm>
          <a:off x="3337706" y="3161316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Other</a:t>
          </a:r>
          <a:endParaRPr lang="en-US" sz="2400" kern="1200" dirty="0"/>
        </a:p>
      </dsp:txBody>
      <dsp:txXfrm>
        <a:off x="3361849" y="3185459"/>
        <a:ext cx="2223451" cy="776013"/>
      </dsp:txXfrm>
    </dsp:sp>
    <dsp:sp modelId="{73EF77D7-714B-46AC-B791-77FB73C27C85}">
      <dsp:nvSpPr>
        <dsp:cNvPr id="0" name=""/>
        <dsp:cNvSpPr/>
      </dsp:nvSpPr>
      <dsp:spPr>
        <a:xfrm>
          <a:off x="6106386" y="0"/>
          <a:ext cx="2839671" cy="4195762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900" kern="1200" dirty="0" smtClean="0"/>
            <a:t>Labs, Study Groups</a:t>
          </a:r>
          <a:endParaRPr lang="en-US" sz="2900" kern="1200" dirty="0"/>
        </a:p>
      </dsp:txBody>
      <dsp:txXfrm>
        <a:off x="6106386" y="0"/>
        <a:ext cx="2839671" cy="1258728"/>
      </dsp:txXfrm>
    </dsp:sp>
    <dsp:sp modelId="{2CA0B65E-4012-4BC5-9436-ACF3DB7847C8}">
      <dsp:nvSpPr>
        <dsp:cNvPr id="0" name=""/>
        <dsp:cNvSpPr/>
      </dsp:nvSpPr>
      <dsp:spPr>
        <a:xfrm>
          <a:off x="6390353" y="1259957"/>
          <a:ext cx="2271737" cy="126507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Labs</a:t>
          </a:r>
          <a:endParaRPr lang="en-US" sz="2400" kern="1200" dirty="0"/>
        </a:p>
      </dsp:txBody>
      <dsp:txXfrm>
        <a:off x="6427406" y="1297010"/>
        <a:ext cx="2197631" cy="1190973"/>
      </dsp:txXfrm>
    </dsp:sp>
    <dsp:sp modelId="{727F9D2C-89F2-4A05-AB22-0A805ACA0081}">
      <dsp:nvSpPr>
        <dsp:cNvPr id="0" name=""/>
        <dsp:cNvSpPr/>
      </dsp:nvSpPr>
      <dsp:spPr>
        <a:xfrm>
          <a:off x="6390353" y="2719665"/>
          <a:ext cx="2271737" cy="126507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Study groups</a:t>
          </a:r>
          <a:endParaRPr lang="en-US" sz="2400" kern="1200" dirty="0"/>
        </a:p>
      </dsp:txBody>
      <dsp:txXfrm>
        <a:off x="6427406" y="2756718"/>
        <a:ext cx="2197631" cy="119097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Process2">
  <dgm:title val=""/>
  <dgm:desc val=""/>
  <dgm:catLst>
    <dgm:cat type="list" pri="10000"/>
    <dgm:cat type="relationship" pri="13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theList">
    <dgm:varLst>
      <dgm:dir/>
      <dgm:animLvl val="lvl"/>
      <dgm:resizeHandles val="exact"/>
    </dgm:varLst>
    <dgm:choose name="Name0">
      <dgm:if name="Name1" func="var" arg="dir" op="equ" val="norm">
        <dgm:alg type="lin"/>
      </dgm:if>
      <dgm:else name="Name2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Node" refType="w"/>
      <dgm:constr type="h" for="ch" forName="compNode" refType="h"/>
      <dgm:constr type="w" for="ch" forName="aSpace" refType="w" fact="0.075"/>
      <dgm:constr type="h" for="des" forName="aSpace2" refType="h" fact="0.1"/>
      <dgm:constr type="primFontSz" for="des" forName="textNode" op="equ"/>
      <dgm:constr type="primFontSz" for="des" forName="childNode" op="equ"/>
    </dgm:constrLst>
    <dgm:ruleLst/>
    <dgm:forEach name="aNodeForEach" axis="ch" ptType="node">
      <dgm:layoutNode name="compNode">
        <dgm:alg type="composite"/>
        <dgm:shape xmlns:r="http://schemas.openxmlformats.org/officeDocument/2006/relationships" r:blip="">
          <dgm:adjLst/>
        </dgm:shape>
        <dgm:presOf/>
        <dgm:constrLst>
          <dgm:constr type="w" for="ch" forName="aNode" refType="w"/>
          <dgm:constr type="h" for="ch" forName="aNode" refType="h"/>
          <dgm:constr type="w" for="ch" forName="textNode" refType="w"/>
          <dgm:constr type="h" for="ch" forName="textNode" refType="h" fact="0.3"/>
          <dgm:constr type="ctrX" for="ch" forName="textNode" refType="w" fact="0.5"/>
          <dgm:constr type="w" for="ch" forName="compChildNode" refType="w" fact="0.8"/>
          <dgm:constr type="h" for="ch" forName="compChildNode" refType="h" fact="0.65"/>
          <dgm:constr type="t" for="ch" forName="compChildNode" refType="h" fact="0.3"/>
          <dgm:constr type="ctrX" for="ch" forName="compChildNode" refType="w" fact="0.5"/>
        </dgm:constrLst>
        <dgm:ruleLst/>
        <dgm:layoutNode name="aNode" styleLbl="bgShp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/>
          <dgm:ruleLst/>
        </dgm:layoutNode>
        <dgm:layoutNode name="textNode" styleLbl="bgShp">
          <dgm:alg type="tx"/>
          <dgm:shape xmlns:r="http://schemas.openxmlformats.org/officeDocument/2006/relationships" type="rect" r:blip="" hideGeom="1">
            <dgm:adjLst>
              <dgm:adj idx="1" val="0.1"/>
            </dgm:adjLst>
          </dgm:shape>
          <dgm:presOf axis="self"/>
          <dgm:constrLst>
            <dgm:constr type="primFontSz" val="65"/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compChildNode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w" for="des" forName="childNode" refType="w"/>
            <dgm:constr type="h" for="des" forName="childNode" refType="h"/>
          </dgm:constrLst>
          <dgm:ruleLst/>
          <dgm:layoutNode name="theInnerList">
            <dgm:alg type="lin"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childNodeForEach" axis="ch" ptType="node">
              <dgm:layoutNode name="childNode" styleLbl="node1">
                <dgm:varLst>
                  <dgm:bulletEnabled val="1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desOrSelf" ptType="node"/>
                <dgm:constrLst>
                  <dgm:constr type="primFontSz" val="65"/>
                  <dgm:constr type="tMarg" refType="primFontSz" fact="0.15"/>
                  <dgm:constr type="bMarg" refType="primFontSz" fact="0.15"/>
                  <dgm:constr type="lMarg" refType="primFontSz" fact="0.2"/>
                  <dgm:constr type="rMarg" refType="primFontSz" fact="0.2"/>
                </dgm:constrLst>
                <dgm:ruleLst>
                  <dgm:rule type="primFontSz" val="5" fact="NaN" max="NaN"/>
                </dgm:ruleLst>
              </dgm:layoutNode>
              <dgm:choose name="Name3">
                <dgm:if name="Name4" axis="self" ptType="node" func="revPos" op="equ" val="1"/>
                <dgm:else name="Name5">
                  <dgm:layoutNode name="aSpace2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else>
              </dgm:choose>
            </dgm:forEach>
          </dgm:layoutNode>
        </dgm:layoutNode>
      </dgm:layoutNode>
      <dgm:choose name="Name6">
        <dgm:if name="Name7" axis="self" ptType="node" func="revPos" op="equ" val="1"/>
        <dgm:else name="Name8">
          <dgm:layoutNode name="aSpace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default#1">
  <dgm:title val=""/>
  <dgm:desc val=""/>
  <dgm:catLst>
    <dgm:cat type="list" pri="4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028F60-38C5-4232-A9EE-CB943D547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719280" y="1163520"/>
            <a:ext cx="5584320" cy="3141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2360" y="4479840"/>
            <a:ext cx="5618160" cy="3665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6"/>
          </p:nvPr>
        </p:nvSpPr>
        <p:spPr>
          <a:xfrm>
            <a:off x="3978000" y="8841960"/>
            <a:ext cx="304308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B44FF8-7828-48D9-9B13-414575695B4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7BE-2075-477D-BA20-C947886F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722-FB2C-4F00-83A2-3364E416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FD4-6314-4770-B7C9-8C917131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202-42EA-498F-8561-F59B98C8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A0AB-3240-4571-BA23-DE4D1F1E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3CA3-ACA1-4486-B09C-2F498148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12FE-9C99-4F59-8B7F-CEEA0F8A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B716-6252-4FC9-B614-E64E6D28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C723-C0E2-4DF4-95A4-211B79DC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2267-7FDC-4D4F-AA64-D24EC9D5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C348-3113-4B46-91F6-CF0489A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0C9-65FD-4802-B9FF-20BAEA6C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7BFA-5392-4F35-AEE6-6E41B99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24E5-B413-4DAB-B280-6D6BAB10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E039-8CC5-43F1-BCF4-A17C927F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E170-15F7-4E7D-8876-2B290276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577F-F64C-4E4D-84C4-70B89CDE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9FCFD-8688-4064-B6EE-C35C0532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6756-0ECE-4FEB-A5D4-AC3B8C16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2202-F19C-4AB7-B0D3-91D34F3B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DC37-20D6-4CE6-BA1E-756B1336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68C0-DDD0-4DD0-84D7-8EFF9593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94A-68F5-4EA6-AEFE-57239EF8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347E5-9DD3-4F4B-A635-53FFE036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5476-550E-47EA-9383-C99036B6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A54E-00BC-4BE7-96CD-622DA4FA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AE64-BE38-445B-968D-7FBE6F7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5CB7-72FC-4F84-8093-2A4F21A6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1DE5-7E44-4910-8C66-2812E0FB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9FF9-4C6F-4DF1-A89F-0BB6A4FC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3971-5B26-414A-B791-B13199FD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4291C-E5E3-47C7-9A60-F128DCA4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5548-F59B-4B40-A4A3-CAAA4D2D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D20-EBF1-4702-8408-D653C55E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D9C8-EB14-49D5-882C-9C5787D6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D16F-BDB7-4EC6-AD83-8334EBB2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FDD37-1BBA-4938-A716-DAF151B3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47677-E33C-4396-BF59-6E3D1CE4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E9E9-A463-4FD4-9CDC-16DD7381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6EBD-21D7-469B-92FD-4CDD3C4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A7B55-13BF-4F5D-8BE2-70D13586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51EE5-233B-4EC2-AAAA-00162178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2826-99FE-4FC8-BCFB-770CD019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B06-2480-4687-86E2-A755ED2D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C34-068C-4593-A9BD-3272748B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F75-3A2E-49CA-A4CC-FD29809E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50D-30CB-457F-929D-F8FD0BFF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E15-A77C-432C-B884-B9F5312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2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fac96a">
                  <a:alpha val="11372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" name="Oval 14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fac96a">
                  <a:alpha val="8235"/>
                </a:srgbClr>
              </a:gs>
              <a:gs pos="100000">
                <a:srgbClr val="f59b74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" name="Oval 16"/>
          <p:cNvSpPr/>
          <p:nvPr/>
        </p:nvSpPr>
        <p:spPr>
          <a:xfrm>
            <a:off x="799956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fac96a">
                  <a:alpha val="14117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" name="Oval 17"/>
          <p:cNvSpPr/>
          <p:nvPr/>
        </p:nvSpPr>
        <p:spPr>
          <a:xfrm>
            <a:off x="860904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fac96a">
                  <a:alpha val="10196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7200" spc="-1" strike="noStrike">
                <a:solidFill>
                  <a:srgbClr val="ebebeb"/>
                </a:solidFill>
                <a:latin typeface="Century Gothic"/>
              </a:rPr>
              <a:t>Click to edit Master title style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1A5791D-B767-4995-BFB2-A7F3CFFC1927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12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fac96a">
                  <a:alpha val="11372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fac96a">
                  <a:alpha val="8235"/>
                </a:srgbClr>
              </a:gs>
              <a:gs pos="100000">
                <a:srgbClr val="f59b74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0" name="Oval 16"/>
          <p:cNvSpPr/>
          <p:nvPr/>
        </p:nvSpPr>
        <p:spPr>
          <a:xfrm>
            <a:off x="799956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fac96a">
                  <a:alpha val="14117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1" name="Oval 17"/>
          <p:cNvSpPr/>
          <p:nvPr/>
        </p:nvSpPr>
        <p:spPr>
          <a:xfrm>
            <a:off x="860904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fac96a">
                  <a:alpha val="10196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Master title style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03400" y="2060640"/>
            <a:ext cx="4395960" cy="41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5654520" y="2055960"/>
            <a:ext cx="4395960" cy="41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1EF5A57-9261-499D-ABD6-EBA9284589AC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12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fac96a">
                  <a:alpha val="11372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fac96a">
                  <a:alpha val="8235"/>
                </a:srgbClr>
              </a:gs>
              <a:gs pos="100000">
                <a:srgbClr val="f59b74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799956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fac96a">
                  <a:alpha val="14117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860904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fac96a">
                  <a:alpha val="10196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Master title style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C063962-7B9E-4638-A05E-613559306D64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12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fac96a">
                  <a:alpha val="11372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fac96a">
                  <a:alpha val="8235"/>
                </a:srgbClr>
              </a:gs>
              <a:gs pos="100000">
                <a:srgbClr val="f59b74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799956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fac96a">
                  <a:alpha val="14117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860904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fac96a">
                  <a:alpha val="10196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ebebeb"/>
                </a:solidFill>
                <a:latin typeface="Century Gothic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chemeClr val="accent1"/>
                </a:solidFill>
                <a:latin typeface="Century Gothic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D96E60A-DD4B-487E-BBD7-E97A8B44BF91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000" spc="-1" strike="noStrike" cap="all">
                <a:solidFill>
                  <a:schemeClr val="accent1"/>
                </a:solidFill>
                <a:latin typeface="Century Gothic"/>
              </a:rPr>
              <a:t>Teacher name | cours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1882080" y="3648240"/>
            <a:ext cx="528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简洁橙红背景欧美风商务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ebebeb"/>
                </a:solidFill>
                <a:latin typeface="Century Gothic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chemeClr val="accent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ourse Description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03400" y="2060640"/>
            <a:ext cx="4395960" cy="41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dd brief course summ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54520" y="2055960"/>
            <a:ext cx="4395960" cy="41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ocation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ectures: Mon-Wed-Fri at 00:00 a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abs: Tues-Thurs at 00:00 a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erequisite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redit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ourse Objectives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02" name="Content Placeholder 3"/>
          <p:cNvGraphicFramePr/>
          <p:nvPr/>
        </p:nvGraphicFramePr>
        <p:xfrm>
          <a:off x="1103400" y="2052720"/>
          <a:ext cx="8946720" cy="3020760"/>
        </p:xfrm>
        <a:graphic>
          <a:graphicData uri="http://schemas.openxmlformats.org/drawingml/2006/table">
            <a:tbl>
              <a:tblPr/>
              <a:tblGrid>
                <a:gridCol w="2982240"/>
                <a:gridCol w="2982240"/>
                <a:gridCol w="2982240"/>
              </a:tblGrid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Course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Results/Outcome Exp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Skills De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Resul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Skills De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Resul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Skills De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Result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Skills De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Resul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Skills De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Required Materials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701143601"/>
              </p:ext>
            </p:extLst>
          </p:nvPr>
        </p:nvGraphicFramePr>
        <p:xfrm>
          <a:off x="1103400" y="2052720"/>
          <a:ext cx="8946720" cy="4195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Instructional Methods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riefly describe instructional method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ectur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emonstration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ass discussion/Virtual discussion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ividual/group projec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ab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Schedule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07" name="Content Placeholder 3"/>
          <p:cNvGraphicFramePr/>
          <p:nvPr/>
        </p:nvGraphicFramePr>
        <p:xfrm>
          <a:off x="1103400" y="2052720"/>
          <a:ext cx="8946720" cy="3871800"/>
        </p:xfrm>
        <a:graphic>
          <a:graphicData uri="http://schemas.openxmlformats.org/drawingml/2006/table">
            <a:tbl>
              <a:tblPr/>
              <a:tblGrid>
                <a:gridCol w="1418040"/>
                <a:gridCol w="1418040"/>
                <a:gridCol w="3600720"/>
                <a:gridCol w="2509560"/>
              </a:tblGrid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Assignment/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Topi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Brief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Topi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Brief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Topic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Brief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Topic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Brief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Topic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Brief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ssessment Criteria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03400" y="2060640"/>
            <a:ext cx="4395960" cy="41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eekly assignmen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ojec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Quizz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nal Exa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10" name="Content Placeholder 8"/>
          <p:cNvGraphicFramePr/>
          <p:nvPr/>
        </p:nvGraphicFramePr>
        <p:xfrm>
          <a:off x="5654520" y="2055960"/>
          <a:ext cx="4395600" cy="4200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Resources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968647449"/>
              </p:ext>
            </p:extLst>
          </p:nvPr>
        </p:nvGraphicFramePr>
        <p:xfrm>
          <a:off x="1103400" y="2052720"/>
          <a:ext cx="8946720" cy="4195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12" name="Text Box 3"/>
          <p:cNvSpPr/>
          <p:nvPr/>
        </p:nvSpPr>
        <p:spPr>
          <a:xfrm>
            <a:off x="64620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ac96a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Instructor Contact Information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335269609"/>
              </p:ext>
            </p:extLst>
          </p:nvPr>
        </p:nvGraphicFramePr>
        <p:xfrm>
          <a:off x="1103400" y="2052720"/>
          <a:ext cx="8946720" cy="4195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Ion">
  <a:themeElements>
    <a:clrScheme name="Ion Red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on">
  <a:themeElements>
    <a:clrScheme name="Ion Red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Ion">
  <a:themeElements>
    <a:clrScheme name="Ion Red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Ion">
  <a:themeElements>
    <a:clrScheme name="Ion Red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C1D5F340F01F94FA2FD29A5E6DC872E" ma:contentTypeVersion="0" ma:contentTypeDescription="Create a new document." ma:contentTypeScope="" ma:versionID="f583bd66513a361a730282b6a794e352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6841151cf538834e171094e4faaf2d73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CA7F0F3B-1D69-4071-934C-7373F1C638FD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BE3F18AE-EF60-42A5-B9E1-3F709899B7FB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D1FC5151-73AF-4992-B300-816A43C7C293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09</Words>
  <Paragraphs>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4:48:57Z</dcterms:created>
  <dc:creator/>
  <dc:description/>
  <dc:language>en-US</dc:language>
  <cp:lastModifiedBy/>
  <dcterms:modified xsi:type="dcterms:W3CDTF">2015-07-25T12:07:5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C1D5F340F01F94FA2FD29A5E6DC872E</vt:lpwstr>
  </property>
  <property fmtid="{D5CDD505-2E9C-101B-9397-08002B2CF9AE}" pid="3" name="Notes">
    <vt:r8>1</vt:r8>
  </property>
  <property fmtid="{D5CDD505-2E9C-101B-9397-08002B2CF9AE}" pid="4" name="PresentationFormat">
    <vt:lpwstr>宽屏</vt:lpwstr>
  </property>
  <property fmtid="{D5CDD505-2E9C-101B-9397-08002B2CF9AE}" pid="5" name="Slides">
    <vt:r8>10</vt:r8>
  </property>
</Properties>
</file>