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32399288" cy="19440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F4EB41-AEFF-4C98-BEA8-D1366404F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7160" y="1143000"/>
            <a:ext cx="5143320" cy="3085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B06A3B-64AF-4FCF-B485-FE611C82DFC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991-820B-4923-B627-8A136D94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2794392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27320" y="11617560"/>
            <a:ext cx="2794392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319-49E7-4823-8EFB-B1D454E4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2732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596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DDE-4CEA-4943-A060-753559AF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75520" y="517500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123720" y="517500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27320" y="1161756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75520" y="1161756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123720" y="1161756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30E-D3ED-42E8-8FF7-8481BF11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BD11-BCD6-4F11-AD31-4219031F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27320" y="5175000"/>
            <a:ext cx="2794392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2BC8-B9EF-4805-A4C5-7A291066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2794392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8974-1D99-4D67-B01E-00B25661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708B-E54B-431F-B323-F0551BAB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BD05-2184-432E-912D-5DA13127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27320" y="1035000"/>
            <a:ext cx="27943920" cy="174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B324-E537-432E-86A4-6492EA82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2732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9A01-9D37-4828-A210-0BFBEA9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27320" y="5175000"/>
            <a:ext cx="2794392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A6B-F421-4435-A5A0-F54A85FE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54596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2F20-D297-459E-A0D4-ADB32B8A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27320" y="11617560"/>
            <a:ext cx="2794392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264D-F5A2-41B6-83B0-5BC2BBE4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2794392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27320" y="11617560"/>
            <a:ext cx="2794392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FF32-2E30-4016-9545-A542098D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2732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654596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6417-9B1B-4B35-87D1-B4AEAE87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675520" y="517500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123720" y="517500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27320" y="1161756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1675520" y="1161756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1123720" y="11617560"/>
            <a:ext cx="89978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5213-359C-4C7F-A531-26594265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2794392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DE7-A58C-4C3E-89C2-3848A172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BCC-23A8-4ACC-B6E6-C34F4F34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036-CA81-4D4D-B4DD-4DCBDFF3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27320" y="1035000"/>
            <a:ext cx="27943920" cy="174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868-FCF4-49A7-BC2B-92B30EEF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2732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CA3-B2E5-464D-9419-BDDB6AB5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123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5960" y="1161756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658-C8CE-440D-8FAC-3F9F1248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2732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5960" y="5175000"/>
            <a:ext cx="13636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27320" y="11617560"/>
            <a:ext cx="2794392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B17-15AA-46CE-AADA-0FAE80C5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27320" y="1035000"/>
            <a:ext cx="27943920" cy="37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117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27320" y="5175000"/>
            <a:ext cx="27943920" cy="123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7320" indent="-607320">
              <a:lnSpc>
                <a:spcPct val="90000"/>
              </a:lnSpc>
              <a:spcBef>
                <a:spcPts val="2656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744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  <a:p>
            <a:pPr lvl="1" marL="1822320" indent="-607320">
              <a:lnSpc>
                <a:spcPct val="90000"/>
              </a:lnSpc>
              <a:spcBef>
                <a:spcPts val="132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638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6380" spc="-1" strike="noStrike">
              <a:solidFill>
                <a:srgbClr val="000000"/>
              </a:solidFill>
              <a:latin typeface="Calibri"/>
            </a:endParaRPr>
          </a:p>
          <a:p>
            <a:pPr lvl="2" marL="3037320" indent="-607320">
              <a:lnSpc>
                <a:spcPct val="90000"/>
              </a:lnSpc>
              <a:spcBef>
                <a:spcPts val="132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531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5310" spc="-1" strike="noStrike">
              <a:solidFill>
                <a:srgbClr val="000000"/>
              </a:solidFill>
              <a:latin typeface="Calibri"/>
            </a:endParaRPr>
          </a:p>
          <a:p>
            <a:pPr lvl="3" marL="4252320" indent="-607320">
              <a:lnSpc>
                <a:spcPct val="90000"/>
              </a:lnSpc>
              <a:spcBef>
                <a:spcPts val="132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478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4780" spc="-1" strike="noStrike">
              <a:solidFill>
                <a:srgbClr val="000000"/>
              </a:solidFill>
              <a:latin typeface="Calibri"/>
            </a:endParaRPr>
          </a:p>
          <a:p>
            <a:pPr lvl="4" marL="5467320" indent="-607320">
              <a:lnSpc>
                <a:spcPct val="90000"/>
              </a:lnSpc>
              <a:spcBef>
                <a:spcPts val="132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478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47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27320" y="18018360"/>
            <a:ext cx="7289640" cy="103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319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319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319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732320" y="18018360"/>
            <a:ext cx="10934280" cy="103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81960" y="18018360"/>
            <a:ext cx="7289640" cy="103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19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BE8662-6522-4B5E-AFC8-DACB59D97931}" type="slidenum">
              <a:rPr b="0" lang="en-US" sz="319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319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227320" y="18018360"/>
            <a:ext cx="7289640" cy="103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319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319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319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10732320" y="18018360"/>
            <a:ext cx="10934280" cy="103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22881960" y="18018360"/>
            <a:ext cx="7289640" cy="103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19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C25B5C-25E4-4BF1-BF66-0564B4484761}" type="slidenum">
              <a:rPr b="0" lang="en-US" sz="319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319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1619640" y="775440"/>
            <a:ext cx="29158920" cy="32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1619640" y="4548960"/>
            <a:ext cx="29158920" cy="11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44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744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531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31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78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78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78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78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6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34"/>
          <p:cNvGrpSpPr/>
          <p:nvPr/>
        </p:nvGrpSpPr>
        <p:grpSpPr>
          <a:xfrm>
            <a:off x="24185880" y="6539760"/>
            <a:ext cx="5418360" cy="16825680"/>
            <a:chOff x="24185880" y="6539760"/>
            <a:chExt cx="5418360" cy="16825680"/>
          </a:xfrm>
        </p:grpSpPr>
        <p:sp>
          <p:nvSpPr>
            <p:cNvPr id="89" name="任意多边形 42"/>
            <p:cNvSpPr/>
            <p:nvPr/>
          </p:nvSpPr>
          <p:spPr>
            <a:xfrm rot="517200">
              <a:off x="25724880" y="6762600"/>
              <a:ext cx="2657880" cy="16496640"/>
            </a:xfrm>
            <a:custGeom>
              <a:avLst/>
              <a:gdLst>
                <a:gd name="textAreaLeft" fmla="*/ 0 w 2657880"/>
                <a:gd name="textAreaRight" fmla="*/ 2658240 w 2657880"/>
                <a:gd name="textAreaTop" fmla="*/ 0 h 16496640"/>
                <a:gd name="textAreaBottom" fmla="*/ 16497000 h 16496640"/>
              </a:gdLst>
              <a:ahLst/>
              <a:rect l="textAreaLeft" t="textAreaTop" r="textAreaRight" b="textAreaBottom"/>
              <a:pathLst>
                <a:path w="3402140" h="21115013">
                  <a:moveTo>
                    <a:pt x="1844142" y="4735194"/>
                  </a:moveTo>
                  <a:lnTo>
                    <a:pt x="1724044" y="6219645"/>
                  </a:lnTo>
                  <a:cubicBezTo>
                    <a:pt x="1296430" y="11505098"/>
                    <a:pt x="1020552" y="14915068"/>
                    <a:pt x="842564" y="17115049"/>
                  </a:cubicBezTo>
                  <a:lnTo>
                    <a:pt x="798606" y="17658393"/>
                  </a:lnTo>
                  <a:lnTo>
                    <a:pt x="819122" y="17404901"/>
                  </a:lnTo>
                  <a:cubicBezTo>
                    <a:pt x="1705098" y="6457508"/>
                    <a:pt x="1825742" y="4966799"/>
                    <a:pt x="1842170" y="4763809"/>
                  </a:cubicBezTo>
                  <a:lnTo>
                    <a:pt x="1844484" y="4735232"/>
                  </a:lnTo>
                  <a:close/>
                  <a:moveTo>
                    <a:pt x="2745092" y="190"/>
                  </a:moveTo>
                  <a:cubicBezTo>
                    <a:pt x="2782668" y="190"/>
                    <a:pt x="2813980" y="149652"/>
                    <a:pt x="2813980" y="149652"/>
                  </a:cubicBezTo>
                  <a:cubicBezTo>
                    <a:pt x="2889132" y="763072"/>
                    <a:pt x="2926708" y="1069782"/>
                    <a:pt x="2945496" y="1223136"/>
                  </a:cubicBezTo>
                  <a:lnTo>
                    <a:pt x="2947794" y="1241894"/>
                  </a:lnTo>
                  <a:lnTo>
                    <a:pt x="2951808" y="1239662"/>
                  </a:lnTo>
                  <a:cubicBezTo>
                    <a:pt x="3402140" y="4856346"/>
                    <a:pt x="3402140" y="4856346"/>
                    <a:pt x="3402140" y="4856346"/>
                  </a:cubicBezTo>
                  <a:cubicBezTo>
                    <a:pt x="3402140" y="4856346"/>
                    <a:pt x="3402140" y="4856346"/>
                    <a:pt x="3400576" y="4856346"/>
                  </a:cubicBezTo>
                  <a:lnTo>
                    <a:pt x="3395552" y="4856346"/>
                  </a:lnTo>
                  <a:lnTo>
                    <a:pt x="3276252" y="6333263"/>
                  </a:lnTo>
                  <a:cubicBezTo>
                    <a:pt x="2082228" y="21115013"/>
                    <a:pt x="2082228" y="21115013"/>
                    <a:pt x="2082228" y="21115013"/>
                  </a:cubicBezTo>
                  <a:lnTo>
                    <a:pt x="1563144" y="21115013"/>
                  </a:lnTo>
                  <a:lnTo>
                    <a:pt x="1563144" y="21115013"/>
                  </a:lnTo>
                  <a:lnTo>
                    <a:pt x="518952" y="21115013"/>
                  </a:lnTo>
                  <a:lnTo>
                    <a:pt x="518860" y="21115013"/>
                  </a:lnTo>
                  <a:lnTo>
                    <a:pt x="0" y="21115013"/>
                  </a:lnTo>
                  <a:cubicBezTo>
                    <a:pt x="1325516" y="4687583"/>
                    <a:pt x="1325516" y="4687583"/>
                    <a:pt x="1325516" y="4687583"/>
                  </a:cubicBezTo>
                  <a:cubicBezTo>
                    <a:pt x="1325516" y="4687583"/>
                    <a:pt x="1330986" y="4669687"/>
                    <a:pt x="1340560" y="4642258"/>
                  </a:cubicBezTo>
                  <a:lnTo>
                    <a:pt x="1342120" y="4638228"/>
                  </a:lnTo>
                  <a:lnTo>
                    <a:pt x="1348808" y="4615437"/>
                  </a:lnTo>
                  <a:lnTo>
                    <a:pt x="1337650" y="4644550"/>
                  </a:lnTo>
                  <a:cubicBezTo>
                    <a:pt x="1337650" y="4644550"/>
                    <a:pt x="1337650" y="4644550"/>
                    <a:pt x="1400210" y="4438984"/>
                  </a:cubicBezTo>
                  <a:lnTo>
                    <a:pt x="1400862" y="4438048"/>
                  </a:lnTo>
                  <a:lnTo>
                    <a:pt x="1415390" y="4388541"/>
                  </a:lnTo>
                  <a:cubicBezTo>
                    <a:pt x="2313838" y="1326810"/>
                    <a:pt x="2313838" y="1326810"/>
                    <a:pt x="2313838" y="1326810"/>
                  </a:cubicBezTo>
                  <a:lnTo>
                    <a:pt x="2314176" y="1326763"/>
                  </a:lnTo>
                  <a:lnTo>
                    <a:pt x="2312972" y="1326670"/>
                  </a:lnTo>
                  <a:cubicBezTo>
                    <a:pt x="2657416" y="143425"/>
                    <a:pt x="2657416" y="143425"/>
                    <a:pt x="2657416" y="143425"/>
                  </a:cubicBezTo>
                  <a:cubicBezTo>
                    <a:pt x="2657416" y="143425"/>
                    <a:pt x="2707516" y="-6037"/>
                    <a:pt x="2745092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bd84">
                    <a:alpha val="31372"/>
                  </a:srgbClr>
                </a:gs>
                <a:gs pos="100000">
                  <a:srgbClr val="bc8e60">
                    <a:alpha val="88235"/>
                  </a:srgbClr>
                </a:gs>
              </a:gsLst>
              <a:lin ang="5400000"/>
            </a:gradFill>
            <a:ln w="0">
              <a:noFill/>
            </a:ln>
            <a:effectLst>
              <a:softEdge rad="31752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" name="组合 29"/>
            <p:cNvGrpSpPr/>
            <p:nvPr/>
          </p:nvGrpSpPr>
          <p:grpSpPr>
            <a:xfrm>
              <a:off x="24185880" y="6539760"/>
              <a:ext cx="4955400" cy="16441920"/>
              <a:chOff x="24185880" y="6539760"/>
              <a:chExt cx="4955400" cy="16441920"/>
            </a:xfrm>
          </p:grpSpPr>
          <p:sp>
            <p:nvSpPr>
              <p:cNvPr id="91" name="Freeform 17"/>
              <p:cNvSpPr/>
              <p:nvPr/>
            </p:nvSpPr>
            <p:spPr>
              <a:xfrm rot="517200">
                <a:off x="28362240" y="6571440"/>
                <a:ext cx="508680" cy="1079640"/>
              </a:xfrm>
              <a:custGeom>
                <a:avLst/>
                <a:gdLst>
                  <a:gd name="textAreaLeft" fmla="*/ 0 w 508680"/>
                  <a:gd name="textAreaRight" fmla="*/ 509040 w 508680"/>
                  <a:gd name="textAreaTop" fmla="*/ 0 h 1079640"/>
                  <a:gd name="textAreaBottom" fmla="*/ 1080000 h 1079640"/>
                </a:gdLst>
                <a:ahLst/>
                <a:rect l="textAreaLeft" t="textAreaTop" r="textAreaRight" b="textAreaBottom"/>
                <a:pathLst>
                  <a:path w="104" h="222">
                    <a:moveTo>
                      <a:pt x="0" y="214"/>
                    </a:moveTo>
                    <a:cubicBezTo>
                      <a:pt x="55" y="24"/>
                      <a:pt x="55" y="24"/>
                      <a:pt x="55" y="24"/>
                    </a:cubicBezTo>
                    <a:cubicBezTo>
                      <a:pt x="55" y="24"/>
                      <a:pt x="63" y="0"/>
                      <a:pt x="69" y="1"/>
                    </a:cubicBezTo>
                    <a:cubicBezTo>
                      <a:pt x="75" y="1"/>
                      <a:pt x="80" y="25"/>
                      <a:pt x="80" y="25"/>
                    </a:cubicBezTo>
                    <a:cubicBezTo>
                      <a:pt x="104" y="222"/>
                      <a:pt x="104" y="222"/>
                      <a:pt x="104" y="222"/>
                    </a:cubicBezTo>
                    <a:lnTo>
                      <a:pt x="0" y="2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43535"/>
                  </a:gs>
                  <a:gs pos="100000">
                    <a:srgbClr val="5e5c5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8"/>
              <p:cNvSpPr/>
              <p:nvPr/>
            </p:nvSpPr>
            <p:spPr>
              <a:xfrm rot="517200">
                <a:off x="27316440" y="7491960"/>
                <a:ext cx="1622160" cy="2825280"/>
              </a:xfrm>
              <a:custGeom>
                <a:avLst/>
                <a:gdLst>
                  <a:gd name="textAreaLeft" fmla="*/ 0 w 1622160"/>
                  <a:gd name="textAreaRight" fmla="*/ 1622520 w 1622160"/>
                  <a:gd name="textAreaTop" fmla="*/ 0 h 2825280"/>
                  <a:gd name="textAreaBottom" fmla="*/ 2825640 h 2825280"/>
                </a:gdLst>
                <a:ahLst/>
                <a:rect l="textAreaLeft" t="textAreaTop" r="textAreaRight" b="textAreaBottom"/>
                <a:pathLst>
                  <a:path w="332" h="581">
                    <a:moveTo>
                      <a:pt x="0" y="555"/>
                    </a:moveTo>
                    <a:cubicBezTo>
                      <a:pt x="158" y="14"/>
                      <a:pt x="158" y="14"/>
                      <a:pt x="158" y="14"/>
                    </a:cubicBezTo>
                    <a:cubicBezTo>
                      <a:pt x="158" y="14"/>
                      <a:pt x="180" y="11"/>
                      <a:pt x="189" y="7"/>
                    </a:cubicBezTo>
                    <a:cubicBezTo>
                      <a:pt x="199" y="2"/>
                      <a:pt x="224" y="7"/>
                      <a:pt x="232" y="10"/>
                    </a:cubicBezTo>
                    <a:cubicBezTo>
                      <a:pt x="239" y="12"/>
                      <a:pt x="260" y="0"/>
                      <a:pt x="260" y="0"/>
                    </a:cubicBezTo>
                    <a:cubicBezTo>
                      <a:pt x="332" y="581"/>
                      <a:pt x="332" y="581"/>
                      <a:pt x="332" y="581"/>
                    </a:cubicBezTo>
                    <a:lnTo>
                      <a:pt x="0" y="5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bc9a"/>
                  </a:gs>
                  <a:gs pos="100000">
                    <a:srgbClr val="eecfa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reeform 19"/>
              <p:cNvSpPr/>
              <p:nvPr/>
            </p:nvSpPr>
            <p:spPr>
              <a:xfrm rot="517200">
                <a:off x="27149400" y="9832680"/>
                <a:ext cx="1612440" cy="471600"/>
              </a:xfrm>
              <a:custGeom>
                <a:avLst/>
                <a:gdLst>
                  <a:gd name="textAreaLeft" fmla="*/ 0 w 1612440"/>
                  <a:gd name="textAreaRight" fmla="*/ 1612800 w 161244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330" h="97">
                    <a:moveTo>
                      <a:pt x="308" y="25"/>
                    </a:moveTo>
                    <a:cubicBezTo>
                      <a:pt x="307" y="25"/>
                      <a:pt x="307" y="25"/>
                      <a:pt x="307" y="25"/>
                    </a:cubicBezTo>
                    <a:cubicBezTo>
                      <a:pt x="306" y="25"/>
                      <a:pt x="306" y="25"/>
                      <a:pt x="306" y="25"/>
                    </a:cubicBezTo>
                    <a:cubicBezTo>
                      <a:pt x="299" y="24"/>
                      <a:pt x="292" y="33"/>
                      <a:pt x="279" y="52"/>
                    </a:cubicBezTo>
                    <a:cubicBezTo>
                      <a:pt x="270" y="65"/>
                      <a:pt x="253" y="88"/>
                      <a:pt x="247" y="87"/>
                    </a:cubicBezTo>
                    <a:cubicBezTo>
                      <a:pt x="246" y="87"/>
                      <a:pt x="246" y="87"/>
                      <a:pt x="246" y="87"/>
                    </a:cubicBezTo>
                    <a:cubicBezTo>
                      <a:pt x="244" y="88"/>
                      <a:pt x="244" y="88"/>
                      <a:pt x="244" y="88"/>
                    </a:cubicBezTo>
                    <a:cubicBezTo>
                      <a:pt x="241" y="87"/>
                      <a:pt x="229" y="68"/>
                      <a:pt x="220" y="55"/>
                    </a:cubicBezTo>
                    <a:cubicBezTo>
                      <a:pt x="203" y="28"/>
                      <a:pt x="185" y="1"/>
                      <a:pt x="169" y="0"/>
                    </a:cubicBezTo>
                    <a:cubicBezTo>
                      <a:pt x="169" y="0"/>
                      <a:pt x="169" y="0"/>
                      <a:pt x="169" y="0"/>
                    </a:cubicBezTo>
                    <a:cubicBezTo>
                      <a:pt x="167" y="0"/>
                      <a:pt x="166" y="0"/>
                      <a:pt x="164" y="0"/>
                    </a:cubicBezTo>
                    <a:cubicBezTo>
                      <a:pt x="150" y="3"/>
                      <a:pt x="131" y="24"/>
                      <a:pt x="114" y="44"/>
                    </a:cubicBezTo>
                    <a:cubicBezTo>
                      <a:pt x="103" y="56"/>
                      <a:pt x="86" y="75"/>
                      <a:pt x="81" y="74"/>
                    </a:cubicBezTo>
                    <a:cubicBezTo>
                      <a:pt x="74" y="74"/>
                      <a:pt x="64" y="57"/>
                      <a:pt x="56" y="44"/>
                    </a:cubicBezTo>
                    <a:cubicBezTo>
                      <a:pt x="44" y="26"/>
                      <a:pt x="36" y="15"/>
                      <a:pt x="28" y="14"/>
                    </a:cubicBezTo>
                    <a:cubicBezTo>
                      <a:pt x="28" y="14"/>
                      <a:pt x="28" y="14"/>
                      <a:pt x="28" y="14"/>
                    </a:cubicBezTo>
                    <a:cubicBezTo>
                      <a:pt x="26" y="14"/>
                      <a:pt x="25" y="15"/>
                      <a:pt x="23" y="15"/>
                    </a:cubicBezTo>
                    <a:cubicBezTo>
                      <a:pt x="19" y="17"/>
                      <a:pt x="14" y="23"/>
                      <a:pt x="10" y="3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49"/>
                      <a:pt x="15" y="24"/>
                      <a:pt x="25" y="19"/>
                    </a:cubicBezTo>
                    <a:cubicBezTo>
                      <a:pt x="26" y="19"/>
                      <a:pt x="27" y="19"/>
                      <a:pt x="28" y="19"/>
                    </a:cubicBezTo>
                    <a:cubicBezTo>
                      <a:pt x="40" y="20"/>
                      <a:pt x="60" y="67"/>
                      <a:pt x="76" y="77"/>
                    </a:cubicBezTo>
                    <a:cubicBezTo>
                      <a:pt x="85" y="78"/>
                      <a:pt x="85" y="78"/>
                      <a:pt x="85" y="78"/>
                    </a:cubicBezTo>
                    <a:cubicBezTo>
                      <a:pt x="104" y="69"/>
                      <a:pt x="142" y="9"/>
                      <a:pt x="165" y="5"/>
                    </a:cubicBezTo>
                    <a:cubicBezTo>
                      <a:pt x="166" y="4"/>
                      <a:pt x="167" y="4"/>
                      <a:pt x="168" y="4"/>
                    </a:cubicBezTo>
                    <a:cubicBezTo>
                      <a:pt x="191" y="6"/>
                      <a:pt x="224" y="78"/>
                      <a:pt x="241" y="90"/>
                    </a:cubicBezTo>
                    <a:cubicBezTo>
                      <a:pt x="251" y="91"/>
                      <a:pt x="251" y="91"/>
                      <a:pt x="251" y="91"/>
                    </a:cubicBezTo>
                    <a:cubicBezTo>
                      <a:pt x="268" y="83"/>
                      <a:pt x="296" y="29"/>
                      <a:pt x="305" y="29"/>
                    </a:cubicBezTo>
                    <a:cubicBezTo>
                      <a:pt x="306" y="29"/>
                      <a:pt x="306" y="29"/>
                      <a:pt x="306" y="29"/>
                    </a:cubicBezTo>
                    <a:cubicBezTo>
                      <a:pt x="314" y="33"/>
                      <a:pt x="326" y="88"/>
                      <a:pt x="328" y="97"/>
                    </a:cubicBezTo>
                    <a:cubicBezTo>
                      <a:pt x="330" y="97"/>
                      <a:pt x="330" y="97"/>
                      <a:pt x="330" y="97"/>
                    </a:cubicBezTo>
                    <a:cubicBezTo>
                      <a:pt x="326" y="65"/>
                      <a:pt x="326" y="65"/>
                      <a:pt x="326" y="65"/>
                    </a:cubicBezTo>
                    <a:cubicBezTo>
                      <a:pt x="320" y="46"/>
                      <a:pt x="314" y="28"/>
                      <a:pt x="308" y="25"/>
                    </a:cubicBezTo>
                    <a:close/>
                  </a:path>
                </a:pathLst>
              </a:custGeom>
              <a:solidFill>
                <a:srgbClr val="fde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20"/>
              <p:cNvSpPr/>
              <p:nvPr/>
            </p:nvSpPr>
            <p:spPr>
              <a:xfrm rot="517200">
                <a:off x="25564320" y="9672840"/>
                <a:ext cx="1841760" cy="13183920"/>
              </a:xfrm>
              <a:custGeom>
                <a:avLst/>
                <a:gdLst>
                  <a:gd name="textAreaLeft" fmla="*/ 0 w 1841760"/>
                  <a:gd name="textAreaRight" fmla="*/ 1842120 w 1841760"/>
                  <a:gd name="textAreaTop" fmla="*/ 0 h 13183920"/>
                  <a:gd name="textAreaBottom" fmla="*/ 13184280 h 13183920"/>
                </a:gdLst>
                <a:ahLst/>
                <a:rect l="textAreaLeft" t="textAreaTop" r="textAreaRight" b="textAreaBottom"/>
                <a:pathLst>
                  <a:path w="377" h="2711">
                    <a:moveTo>
                      <a:pt x="0" y="2711"/>
                    </a:moveTo>
                    <a:cubicBezTo>
                      <a:pt x="212" y="79"/>
                      <a:pt x="212" y="79"/>
                      <a:pt x="212" y="79"/>
                    </a:cubicBezTo>
                    <a:cubicBezTo>
                      <a:pt x="227" y="83"/>
                      <a:pt x="272" y="10"/>
                      <a:pt x="297" y="5"/>
                    </a:cubicBezTo>
                    <a:cubicBezTo>
                      <a:pt x="322" y="0"/>
                      <a:pt x="363" y="97"/>
                      <a:pt x="377" y="92"/>
                    </a:cubicBezTo>
                    <a:cubicBezTo>
                      <a:pt x="167" y="2711"/>
                      <a:pt x="167" y="2711"/>
                      <a:pt x="167" y="2711"/>
                    </a:cubicBezTo>
                    <a:lnTo>
                      <a:pt x="0" y="2711"/>
                    </a:lnTo>
                    <a:close/>
                  </a:path>
                </a:pathLst>
              </a:custGeom>
              <a:solidFill>
                <a:srgbClr val="ffa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Freeform 21"/>
              <p:cNvSpPr/>
              <p:nvPr/>
            </p:nvSpPr>
            <p:spPr>
              <a:xfrm rot="517200">
                <a:off x="26364240" y="9885600"/>
                <a:ext cx="1431360" cy="13062600"/>
              </a:xfrm>
              <a:custGeom>
                <a:avLst/>
                <a:gdLst>
                  <a:gd name="textAreaLeft" fmla="*/ 0 w 1431360"/>
                  <a:gd name="textAreaRight" fmla="*/ 1431720 w 1431360"/>
                  <a:gd name="textAreaTop" fmla="*/ 0 h 13062600"/>
                  <a:gd name="textAreaBottom" fmla="*/ 13062960 h 13062600"/>
                </a:gdLst>
                <a:ahLst/>
                <a:rect l="textAreaLeft" t="textAreaTop" r="textAreaRight" b="textAreaBottom"/>
                <a:pathLst>
                  <a:path w="293" h="2686">
                    <a:moveTo>
                      <a:pt x="0" y="2686"/>
                    </a:moveTo>
                    <a:cubicBezTo>
                      <a:pt x="210" y="67"/>
                      <a:pt x="210" y="67"/>
                      <a:pt x="210" y="67"/>
                    </a:cubicBezTo>
                    <a:cubicBezTo>
                      <a:pt x="227" y="70"/>
                      <a:pt x="261" y="0"/>
                      <a:pt x="270" y="5"/>
                    </a:cubicBezTo>
                    <a:cubicBezTo>
                      <a:pt x="280" y="9"/>
                      <a:pt x="293" y="74"/>
                      <a:pt x="293" y="74"/>
                    </a:cubicBezTo>
                    <a:cubicBezTo>
                      <a:pt x="83" y="2686"/>
                      <a:pt x="83" y="2686"/>
                      <a:pt x="83" y="2686"/>
                    </a:cubicBezTo>
                    <a:lnTo>
                      <a:pt x="0" y="2686"/>
                    </a:lnTo>
                    <a:close/>
                  </a:path>
                </a:pathLst>
              </a:custGeom>
              <a:solidFill>
                <a:srgbClr val="e08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reeform 22"/>
              <p:cNvSpPr/>
              <p:nvPr/>
            </p:nvSpPr>
            <p:spPr>
              <a:xfrm rot="517200">
                <a:off x="25160760" y="9649440"/>
                <a:ext cx="1440720" cy="13116240"/>
              </a:xfrm>
              <a:custGeom>
                <a:avLst/>
                <a:gdLst>
                  <a:gd name="textAreaLeft" fmla="*/ 0 w 1440720"/>
                  <a:gd name="textAreaRight" fmla="*/ 1441080 w 1440720"/>
                  <a:gd name="textAreaTop" fmla="*/ 0 h 13116240"/>
                  <a:gd name="textAreaBottom" fmla="*/ 13116600 h 13116240"/>
                </a:gdLst>
                <a:ahLst/>
                <a:rect l="textAreaLeft" t="textAreaTop" r="textAreaRight" b="textAreaBottom"/>
                <a:pathLst>
                  <a:path w="295" h="2697">
                    <a:moveTo>
                      <a:pt x="0" y="2697"/>
                    </a:moveTo>
                    <a:cubicBezTo>
                      <a:pt x="212" y="58"/>
                      <a:pt x="212" y="58"/>
                      <a:pt x="212" y="58"/>
                    </a:cubicBezTo>
                    <a:cubicBezTo>
                      <a:pt x="212" y="58"/>
                      <a:pt x="226" y="12"/>
                      <a:pt x="240" y="6"/>
                    </a:cubicBezTo>
                    <a:cubicBezTo>
                      <a:pt x="253" y="0"/>
                      <a:pt x="277" y="63"/>
                      <a:pt x="295" y="65"/>
                    </a:cubicBezTo>
                    <a:cubicBezTo>
                      <a:pt x="83" y="2697"/>
                      <a:pt x="83" y="2697"/>
                      <a:pt x="83" y="2697"/>
                    </a:cubicBezTo>
                    <a:lnTo>
                      <a:pt x="0" y="2697"/>
                    </a:lnTo>
                    <a:close/>
                  </a:path>
                </a:pathLst>
              </a:custGeom>
              <a:solidFill>
                <a:srgbClr val="d18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7" name="组合 43"/>
          <p:cNvGrpSpPr/>
          <p:nvPr/>
        </p:nvGrpSpPr>
        <p:grpSpPr>
          <a:xfrm>
            <a:off x="-89640" y="4139640"/>
            <a:ext cx="26323920" cy="11068560"/>
            <a:chOff x="-89640" y="4139640"/>
            <a:chExt cx="26323920" cy="11068560"/>
          </a:xfrm>
        </p:grpSpPr>
        <p:sp>
          <p:nvSpPr>
            <p:cNvPr id="98" name="文本框 44"/>
            <p:cNvSpPr/>
            <p:nvPr/>
          </p:nvSpPr>
          <p:spPr>
            <a:xfrm>
              <a:off x="1800" y="4139640"/>
              <a:ext cx="8724600" cy="26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600" spc="-1" strike="noStrike">
                  <a:solidFill>
                    <a:srgbClr val="5b524d"/>
                  </a:solidFill>
                  <a:latin typeface="方正黄草简体"/>
                  <a:ea typeface="方正黄草简体"/>
                </a:rPr>
                <a:t>写在前面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45"/>
            <p:cNvSpPr/>
            <p:nvPr/>
          </p:nvSpPr>
          <p:spPr>
            <a:xfrm>
              <a:off x="-89640" y="6374880"/>
              <a:ext cx="26323920" cy="88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·</a:t>
              </a:r>
              <a:r>
                <a:rPr b="0" lang="zh-CN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这份做的名片未按名片大小制作 只做设计借鉴</a:t>
              </a:r>
              <a:endParaRPr b="0" lang="en-US" sz="956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·</a:t>
              </a:r>
              <a:r>
                <a:rPr b="0" lang="zh-CN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两张连在一起的为正反面</a:t>
              </a:r>
              <a:endParaRPr b="0" lang="en-US" sz="956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·</a:t>
              </a:r>
              <a:r>
                <a:rPr b="0" lang="zh-CN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取色模式为</a:t>
              </a:r>
              <a:r>
                <a:rPr b="0" lang="en-US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RGB </a:t>
              </a:r>
              <a:r>
                <a:rPr b="0" lang="zh-CN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印刷注意修改为</a:t>
              </a:r>
              <a:r>
                <a:rPr b="0" lang="en-US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CMYK</a:t>
              </a:r>
              <a:endParaRPr b="0" lang="en-US" sz="956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9560" spc="-1" strike="noStrike">
                  <a:solidFill>
                    <a:srgbClr val="73685d"/>
                  </a:solidFill>
                  <a:latin typeface="方正黄草简体"/>
                  <a:ea typeface="方正黄草简体"/>
                </a:rPr>
                <a:t>·</a:t>
              </a:r>
              <a:endParaRPr b="0" lang="en-US" sz="95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2"/>
          <p:cNvSpPr/>
          <p:nvPr/>
        </p:nvSpPr>
        <p:spPr>
          <a:xfrm>
            <a:off x="11198160" y="1036800"/>
            <a:ext cx="101354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简洁时尚通用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409680" y="18881280"/>
            <a:ext cx="721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8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5" descr=""/>
          <p:cNvPicPr/>
          <p:nvPr/>
        </p:nvPicPr>
        <p:blipFill>
          <a:blip r:embed="rId1"/>
          <a:srcRect l="5060" t="0" r="0" b="37058"/>
          <a:stretch/>
        </p:blipFill>
        <p:spPr>
          <a:xfrm>
            <a:off x="-365760" y="-182880"/>
            <a:ext cx="32003640" cy="19721880"/>
          </a:xfrm>
          <a:prstGeom prst="rect">
            <a:avLst/>
          </a:prstGeom>
          <a:ln w="0">
            <a:noFill/>
          </a:ln>
        </p:spPr>
      </p:pic>
      <p:sp>
        <p:nvSpPr>
          <p:cNvPr id="195" name="矩形 4"/>
          <p:cNvSpPr/>
          <p:nvPr/>
        </p:nvSpPr>
        <p:spPr>
          <a:xfrm>
            <a:off x="31546800" y="9784080"/>
            <a:ext cx="1095120" cy="9692280"/>
          </a:xfrm>
          <a:prstGeom prst="rect">
            <a:avLst/>
          </a:prstGeom>
          <a:solidFill>
            <a:srgbClr val="aa4c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文本框 7"/>
          <p:cNvSpPr/>
          <p:nvPr/>
        </p:nvSpPr>
        <p:spPr>
          <a:xfrm>
            <a:off x="1310760" y="1744920"/>
            <a:ext cx="1558800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171717"/>
                </a:solidFill>
                <a:latin typeface="微软雅黑"/>
                <a:ea typeface="微软雅黑"/>
              </a:rPr>
              <a:t>某某广告有限公司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171717"/>
                </a:solidFill>
                <a:latin typeface="微软雅黑"/>
                <a:ea typeface="微软雅黑"/>
              </a:rPr>
              <a:t>MOUMOU ADVERTISING MEDIA COMP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8"/>
          <p:cNvSpPr/>
          <p:nvPr/>
        </p:nvSpPr>
        <p:spPr>
          <a:xfrm>
            <a:off x="1132200" y="7465680"/>
            <a:ext cx="966600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700" spc="-1" strike="noStrike">
                <a:solidFill>
                  <a:srgbClr val="171717"/>
                </a:solidFill>
                <a:latin typeface="Calibri"/>
              </a:rPr>
              <a:t>LOGO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12"/>
          <p:cNvGrpSpPr/>
          <p:nvPr/>
        </p:nvGrpSpPr>
        <p:grpSpPr>
          <a:xfrm>
            <a:off x="18273600" y="3377160"/>
            <a:ext cx="12775680" cy="2730960"/>
            <a:chOff x="18273600" y="3377160"/>
            <a:chExt cx="12775680" cy="2730960"/>
          </a:xfrm>
        </p:grpSpPr>
        <p:sp>
          <p:nvSpPr>
            <p:cNvPr id="199" name="文本框 10"/>
            <p:cNvSpPr/>
            <p:nvPr/>
          </p:nvSpPr>
          <p:spPr>
            <a:xfrm>
              <a:off x="18273600" y="3377160"/>
              <a:ext cx="12775680" cy="18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梦</a:t>
              </a:r>
              <a:r>
                <a:rPr b="0" lang="en-US" sz="1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ower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11"/>
            <p:cNvSpPr/>
            <p:nvPr/>
          </p:nvSpPr>
          <p:spPr>
            <a:xfrm>
              <a:off x="20276280" y="5013000"/>
              <a:ext cx="8769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门经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25"/>
          <p:cNvGrpSpPr/>
          <p:nvPr/>
        </p:nvGrpSpPr>
        <p:grpSpPr>
          <a:xfrm>
            <a:off x="20885040" y="8181360"/>
            <a:ext cx="8633880" cy="7710120"/>
            <a:chOff x="20885040" y="8181360"/>
            <a:chExt cx="8633880" cy="7710120"/>
          </a:xfrm>
        </p:grpSpPr>
        <p:sp>
          <p:nvSpPr>
            <p:cNvPr id="202" name="文本框 14"/>
            <p:cNvSpPr/>
            <p:nvPr/>
          </p:nvSpPr>
          <p:spPr>
            <a:xfrm>
              <a:off x="22545000" y="8547480"/>
              <a:ext cx="68979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"/>
            <p:cNvSpPr/>
            <p:nvPr/>
          </p:nvSpPr>
          <p:spPr>
            <a:xfrm>
              <a:off x="20885040" y="8181360"/>
              <a:ext cx="1388160" cy="1410840"/>
            </a:xfrm>
            <a:custGeom>
              <a:avLst/>
              <a:gdLst>
                <a:gd name="textAreaLeft" fmla="*/ 0 w 1388160"/>
                <a:gd name="textAreaRight" fmla="*/ 1388520 w 1388160"/>
                <a:gd name="textAreaTop" fmla="*/ 0 h 1410840"/>
                <a:gd name="textAreaBottom" fmla="*/ 1411200 h 1410840"/>
              </a:gdLst>
              <a:ahLst/>
              <a:rect l="textAreaLeft" t="textAreaTop" r="textAreaRight" b="textAreaBottom"/>
              <a:pathLst>
                <a:path w="3217" h="3272">
                  <a:moveTo>
                    <a:pt x="3137" y="1324"/>
                  </a:moveTo>
                  <a:cubicBezTo>
                    <a:pt x="1843" y="118"/>
                    <a:pt x="1843" y="118"/>
                    <a:pt x="1843" y="118"/>
                  </a:cubicBezTo>
                  <a:cubicBezTo>
                    <a:pt x="1777" y="43"/>
                    <a:pt x="1683" y="0"/>
                    <a:pt x="1583" y="0"/>
                  </a:cubicBezTo>
                  <a:cubicBezTo>
                    <a:pt x="1484" y="0"/>
                    <a:pt x="1390" y="42"/>
                    <a:pt x="1327" y="113"/>
                  </a:cubicBezTo>
                  <a:cubicBezTo>
                    <a:pt x="80" y="1324"/>
                    <a:pt x="80" y="1324"/>
                    <a:pt x="80" y="1324"/>
                  </a:cubicBezTo>
                  <a:cubicBezTo>
                    <a:pt x="18" y="1387"/>
                    <a:pt x="0" y="1480"/>
                    <a:pt x="34" y="1562"/>
                  </a:cubicBezTo>
                  <a:cubicBezTo>
                    <a:pt x="69" y="1644"/>
                    <a:pt x="149" y="1695"/>
                    <a:pt x="238" y="1695"/>
                  </a:cubicBezTo>
                  <a:cubicBezTo>
                    <a:pt x="350" y="1695"/>
                    <a:pt x="350" y="1695"/>
                    <a:pt x="350" y="1695"/>
                  </a:cubicBezTo>
                  <a:cubicBezTo>
                    <a:pt x="350" y="2926"/>
                    <a:pt x="350" y="2926"/>
                    <a:pt x="350" y="2926"/>
                  </a:cubicBezTo>
                  <a:cubicBezTo>
                    <a:pt x="350" y="3117"/>
                    <a:pt x="503" y="3272"/>
                    <a:pt x="694" y="3272"/>
                  </a:cubicBezTo>
                  <a:cubicBezTo>
                    <a:pt x="1229" y="3272"/>
                    <a:pt x="1229" y="3272"/>
                    <a:pt x="1229" y="3272"/>
                  </a:cubicBezTo>
                  <a:cubicBezTo>
                    <a:pt x="1298" y="3272"/>
                    <a:pt x="1360" y="3216"/>
                    <a:pt x="1360" y="3147"/>
                  </a:cubicBezTo>
                  <a:cubicBezTo>
                    <a:pt x="1360" y="2328"/>
                    <a:pt x="1360" y="2328"/>
                    <a:pt x="1360" y="2328"/>
                  </a:cubicBezTo>
                  <a:cubicBezTo>
                    <a:pt x="1360" y="2293"/>
                    <a:pt x="1383" y="2262"/>
                    <a:pt x="1418" y="2262"/>
                  </a:cubicBezTo>
                  <a:cubicBezTo>
                    <a:pt x="1796" y="2262"/>
                    <a:pt x="1796" y="2262"/>
                    <a:pt x="1796" y="2262"/>
                  </a:cubicBezTo>
                  <a:cubicBezTo>
                    <a:pt x="1831" y="2262"/>
                    <a:pt x="1857" y="2293"/>
                    <a:pt x="1857" y="2328"/>
                  </a:cubicBezTo>
                  <a:cubicBezTo>
                    <a:pt x="1857" y="3147"/>
                    <a:pt x="1857" y="3147"/>
                    <a:pt x="1857" y="3147"/>
                  </a:cubicBezTo>
                  <a:cubicBezTo>
                    <a:pt x="1857" y="3216"/>
                    <a:pt x="1915" y="3272"/>
                    <a:pt x="1985" y="3272"/>
                  </a:cubicBezTo>
                  <a:cubicBezTo>
                    <a:pt x="2520" y="3272"/>
                    <a:pt x="2520" y="3272"/>
                    <a:pt x="2520" y="3272"/>
                  </a:cubicBezTo>
                  <a:cubicBezTo>
                    <a:pt x="2711" y="3272"/>
                    <a:pt x="2867" y="3117"/>
                    <a:pt x="2867" y="2926"/>
                  </a:cubicBezTo>
                  <a:cubicBezTo>
                    <a:pt x="2867" y="1695"/>
                    <a:pt x="2867" y="1695"/>
                    <a:pt x="2867" y="1695"/>
                  </a:cubicBezTo>
                  <a:cubicBezTo>
                    <a:pt x="2979" y="1695"/>
                    <a:pt x="2979" y="1695"/>
                    <a:pt x="2979" y="1695"/>
                  </a:cubicBezTo>
                  <a:cubicBezTo>
                    <a:pt x="3068" y="1695"/>
                    <a:pt x="3147" y="1644"/>
                    <a:pt x="3182" y="1562"/>
                  </a:cubicBezTo>
                  <a:cubicBezTo>
                    <a:pt x="3217" y="1481"/>
                    <a:pt x="3199" y="1388"/>
                    <a:pt x="3137" y="1324"/>
                  </a:cubicBezTo>
                  <a:cubicBezTo>
                    <a:pt x="3137" y="1324"/>
                    <a:pt x="3137" y="1324"/>
                    <a:pt x="3137" y="1324"/>
                  </a:cubicBezTo>
                  <a:close/>
                  <a:moveTo>
                    <a:pt x="3137" y="1324"/>
                  </a:moveTo>
                  <a:cubicBezTo>
                    <a:pt x="3137" y="1324"/>
                    <a:pt x="3137" y="1324"/>
                    <a:pt x="3137" y="1324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9"/>
            <p:cNvSpPr/>
            <p:nvPr/>
          </p:nvSpPr>
          <p:spPr>
            <a:xfrm>
              <a:off x="20965680" y="10591560"/>
              <a:ext cx="1388160" cy="1388160"/>
            </a:xfrm>
            <a:custGeom>
              <a:avLst/>
              <a:gdLst>
                <a:gd name="textAreaLeft" fmla="*/ 0 w 1388160"/>
                <a:gd name="textAreaRight" fmla="*/ 1388520 w 1388160"/>
                <a:gd name="textAreaTop" fmla="*/ 0 h 1388160"/>
                <a:gd name="textAreaBottom" fmla="*/ 1388520 h 1388160"/>
              </a:gdLst>
              <a:ahLst/>
              <a:rect l="textAreaLeft" t="textAreaTop" r="textAreaRight" b="textAreaBottom"/>
              <a:pathLst>
                <a:path w="2853" h="2853">
                  <a:moveTo>
                    <a:pt x="2530" y="2740"/>
                  </a:moveTo>
                  <a:cubicBezTo>
                    <a:pt x="2611" y="2694"/>
                    <a:pt x="2688" y="2648"/>
                    <a:pt x="2750" y="2602"/>
                  </a:cubicBezTo>
                  <a:cubicBezTo>
                    <a:pt x="2757" y="2597"/>
                    <a:pt x="2788" y="2575"/>
                    <a:pt x="2796" y="2569"/>
                  </a:cubicBezTo>
                  <a:cubicBezTo>
                    <a:pt x="2830" y="2540"/>
                    <a:pt x="2853" y="2497"/>
                    <a:pt x="2853" y="2449"/>
                  </a:cubicBezTo>
                  <a:cubicBezTo>
                    <a:pt x="2853" y="2402"/>
                    <a:pt x="2833" y="2361"/>
                    <a:pt x="2800" y="2333"/>
                  </a:cubicBezTo>
                  <a:cubicBezTo>
                    <a:pt x="2164" y="1809"/>
                    <a:pt x="2164" y="1809"/>
                    <a:pt x="2164" y="1809"/>
                  </a:cubicBezTo>
                  <a:cubicBezTo>
                    <a:pt x="2138" y="1787"/>
                    <a:pt x="2104" y="1774"/>
                    <a:pt x="2067" y="1774"/>
                  </a:cubicBezTo>
                  <a:cubicBezTo>
                    <a:pt x="2025" y="1774"/>
                    <a:pt x="1988" y="1790"/>
                    <a:pt x="1960" y="1816"/>
                  </a:cubicBezTo>
                  <a:cubicBezTo>
                    <a:pt x="1949" y="1827"/>
                    <a:pt x="1853" y="1925"/>
                    <a:pt x="1853" y="1925"/>
                  </a:cubicBezTo>
                  <a:cubicBezTo>
                    <a:pt x="1787" y="1991"/>
                    <a:pt x="1680" y="1991"/>
                    <a:pt x="1614" y="1925"/>
                  </a:cubicBezTo>
                  <a:cubicBezTo>
                    <a:pt x="964" y="1275"/>
                    <a:pt x="964" y="1275"/>
                    <a:pt x="964" y="1275"/>
                  </a:cubicBezTo>
                  <a:cubicBezTo>
                    <a:pt x="898" y="1209"/>
                    <a:pt x="898" y="1101"/>
                    <a:pt x="964" y="1035"/>
                  </a:cubicBezTo>
                  <a:cubicBezTo>
                    <a:pt x="1070" y="929"/>
                    <a:pt x="1070" y="929"/>
                    <a:pt x="1070" y="929"/>
                  </a:cubicBezTo>
                  <a:cubicBezTo>
                    <a:pt x="1098" y="901"/>
                    <a:pt x="1114" y="863"/>
                    <a:pt x="1114" y="821"/>
                  </a:cubicBezTo>
                  <a:cubicBezTo>
                    <a:pt x="1114" y="779"/>
                    <a:pt x="1098" y="742"/>
                    <a:pt x="1072" y="715"/>
                  </a:cubicBezTo>
                  <a:cubicBezTo>
                    <a:pt x="527" y="56"/>
                    <a:pt x="527" y="56"/>
                    <a:pt x="527" y="56"/>
                  </a:cubicBezTo>
                  <a:cubicBezTo>
                    <a:pt x="498" y="22"/>
                    <a:pt x="455" y="0"/>
                    <a:pt x="407" y="0"/>
                  </a:cubicBezTo>
                  <a:cubicBezTo>
                    <a:pt x="356" y="0"/>
                    <a:pt x="312" y="25"/>
                    <a:pt x="283" y="62"/>
                  </a:cubicBezTo>
                  <a:cubicBezTo>
                    <a:pt x="274" y="75"/>
                    <a:pt x="274" y="75"/>
                    <a:pt x="274" y="75"/>
                  </a:cubicBezTo>
                  <a:cubicBezTo>
                    <a:pt x="155" y="235"/>
                    <a:pt x="0" y="490"/>
                    <a:pt x="0" y="729"/>
                  </a:cubicBezTo>
                  <a:cubicBezTo>
                    <a:pt x="0" y="1387"/>
                    <a:pt x="1468" y="2853"/>
                    <a:pt x="2120" y="2853"/>
                  </a:cubicBezTo>
                  <a:cubicBezTo>
                    <a:pt x="2132" y="2853"/>
                    <a:pt x="2145" y="2852"/>
                    <a:pt x="2156" y="2852"/>
                  </a:cubicBezTo>
                  <a:cubicBezTo>
                    <a:pt x="2326" y="2838"/>
                    <a:pt x="2454" y="2782"/>
                    <a:pt x="2530" y="2740"/>
                  </a:cubicBezTo>
                  <a:close/>
                  <a:moveTo>
                    <a:pt x="2530" y="2740"/>
                  </a:moveTo>
                  <a:cubicBezTo>
                    <a:pt x="2530" y="2740"/>
                    <a:pt x="2530" y="2740"/>
                    <a:pt x="2530" y="274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文本框 16"/>
            <p:cNvSpPr/>
            <p:nvPr/>
          </p:nvSpPr>
          <p:spPr>
            <a:xfrm>
              <a:off x="22570200" y="10849320"/>
              <a:ext cx="69487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"/>
            <p:cNvSpPr/>
            <p:nvPr/>
          </p:nvSpPr>
          <p:spPr>
            <a:xfrm>
              <a:off x="20965680" y="12903840"/>
              <a:ext cx="1483920" cy="1004040"/>
            </a:xfrm>
            <a:custGeom>
              <a:avLst/>
              <a:gdLst>
                <a:gd name="textAreaLeft" fmla="*/ 0 w 1483920"/>
                <a:gd name="textAreaRight" fmla="*/ 1484280 w 1483920"/>
                <a:gd name="textAreaTop" fmla="*/ 0 h 1004040"/>
                <a:gd name="textAreaBottom" fmla="*/ 1004400 h 1004040"/>
              </a:gdLst>
              <a:ahLst/>
              <a:rect l="textAreaLeft" t="textAreaTop" r="textAreaRight" b="textAreaBottom"/>
              <a:pathLst>
                <a:path w="3268" h="2207">
                  <a:moveTo>
                    <a:pt x="3258" y="136"/>
                  </a:moveTo>
                  <a:cubicBezTo>
                    <a:pt x="2256" y="994"/>
                    <a:pt x="2256" y="994"/>
                    <a:pt x="2256" y="994"/>
                  </a:cubicBezTo>
                  <a:cubicBezTo>
                    <a:pt x="1634" y="1503"/>
                    <a:pt x="1634" y="1503"/>
                    <a:pt x="1634" y="1503"/>
                  </a:cubicBezTo>
                  <a:cubicBezTo>
                    <a:pt x="1016" y="998"/>
                    <a:pt x="1016" y="998"/>
                    <a:pt x="1016" y="998"/>
                  </a:cubicBezTo>
                  <a:cubicBezTo>
                    <a:pt x="10" y="136"/>
                    <a:pt x="10" y="136"/>
                    <a:pt x="10" y="136"/>
                  </a:cubicBezTo>
                  <a:cubicBezTo>
                    <a:pt x="4" y="155"/>
                    <a:pt x="0" y="175"/>
                    <a:pt x="0" y="196"/>
                  </a:cubicBezTo>
                  <a:cubicBezTo>
                    <a:pt x="0" y="2010"/>
                    <a:pt x="0" y="2010"/>
                    <a:pt x="0" y="2010"/>
                  </a:cubicBezTo>
                  <a:cubicBezTo>
                    <a:pt x="0" y="2022"/>
                    <a:pt x="1" y="2034"/>
                    <a:pt x="4" y="2045"/>
                  </a:cubicBezTo>
                  <a:cubicBezTo>
                    <a:pt x="20" y="2137"/>
                    <a:pt x="100" y="2207"/>
                    <a:pt x="196" y="2207"/>
                  </a:cubicBezTo>
                  <a:cubicBezTo>
                    <a:pt x="3071" y="2207"/>
                    <a:pt x="3071" y="2207"/>
                    <a:pt x="3071" y="2207"/>
                  </a:cubicBezTo>
                  <a:cubicBezTo>
                    <a:pt x="3157" y="2207"/>
                    <a:pt x="3230" y="2150"/>
                    <a:pt x="3256" y="2072"/>
                  </a:cubicBezTo>
                  <a:cubicBezTo>
                    <a:pt x="3257" y="2073"/>
                    <a:pt x="3257" y="2073"/>
                    <a:pt x="3257" y="2073"/>
                  </a:cubicBezTo>
                  <a:cubicBezTo>
                    <a:pt x="3264" y="2053"/>
                    <a:pt x="3268" y="2032"/>
                    <a:pt x="3268" y="2010"/>
                  </a:cubicBezTo>
                  <a:cubicBezTo>
                    <a:pt x="3268" y="196"/>
                    <a:pt x="3268" y="196"/>
                    <a:pt x="3268" y="196"/>
                  </a:cubicBezTo>
                  <a:cubicBezTo>
                    <a:pt x="3268" y="175"/>
                    <a:pt x="3264" y="155"/>
                    <a:pt x="3258" y="136"/>
                  </a:cubicBezTo>
                  <a:close/>
                  <a:moveTo>
                    <a:pt x="1354" y="1042"/>
                  </a:moveTo>
                  <a:cubicBezTo>
                    <a:pt x="1634" y="1269"/>
                    <a:pt x="1634" y="1269"/>
                    <a:pt x="1634" y="1269"/>
                  </a:cubicBezTo>
                  <a:cubicBezTo>
                    <a:pt x="1915" y="1041"/>
                    <a:pt x="1915" y="1041"/>
                    <a:pt x="1915" y="1041"/>
                  </a:cubicBezTo>
                  <a:cubicBezTo>
                    <a:pt x="2057" y="925"/>
                    <a:pt x="2057" y="925"/>
                    <a:pt x="2057" y="925"/>
                  </a:cubicBezTo>
                  <a:cubicBezTo>
                    <a:pt x="3128" y="9"/>
                    <a:pt x="3128" y="9"/>
                    <a:pt x="3128" y="9"/>
                  </a:cubicBezTo>
                  <a:cubicBezTo>
                    <a:pt x="3110" y="4"/>
                    <a:pt x="3092" y="0"/>
                    <a:pt x="3073" y="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77" y="0"/>
                    <a:pt x="158" y="4"/>
                    <a:pt x="141" y="9"/>
                  </a:cubicBezTo>
                  <a:cubicBezTo>
                    <a:pt x="1212" y="926"/>
                    <a:pt x="1212" y="926"/>
                    <a:pt x="1212" y="926"/>
                  </a:cubicBezTo>
                  <a:cubicBezTo>
                    <a:pt x="1354" y="1042"/>
                    <a:pt x="1354" y="1042"/>
                    <a:pt x="1354" y="1042"/>
                  </a:cubicBezTo>
                  <a:close/>
                  <a:moveTo>
                    <a:pt x="1354" y="1042"/>
                  </a:moveTo>
                  <a:cubicBezTo>
                    <a:pt x="1354" y="1042"/>
                    <a:pt x="1354" y="1042"/>
                    <a:pt x="1354" y="1042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文本框 21"/>
            <p:cNvSpPr/>
            <p:nvPr/>
          </p:nvSpPr>
          <p:spPr>
            <a:xfrm>
              <a:off x="22910760" y="12852000"/>
              <a:ext cx="61210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30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7"/>
            <p:cNvSpPr/>
            <p:nvPr/>
          </p:nvSpPr>
          <p:spPr>
            <a:xfrm>
              <a:off x="21117240" y="14672880"/>
              <a:ext cx="1219320" cy="12186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218600"/>
                <a:gd name="textAreaBottom" fmla="*/ 1218960 h 1218600"/>
              </a:gdLst>
              <a:ahLst/>
              <a:rect l="textAreaLeft" t="textAreaTop" r="textAreaRight" b="textAreaBottom"/>
              <a:pathLst>
                <a:path w="2859" h="2859">
                  <a:moveTo>
                    <a:pt x="1372" y="1373"/>
                  </a:moveTo>
                  <a:cubicBezTo>
                    <a:pt x="1372" y="808"/>
                    <a:pt x="1372" y="808"/>
                    <a:pt x="1372" y="808"/>
                  </a:cubicBezTo>
                  <a:cubicBezTo>
                    <a:pt x="878" y="808"/>
                    <a:pt x="878" y="808"/>
                    <a:pt x="878" y="808"/>
                  </a:cubicBezTo>
                  <a:cubicBezTo>
                    <a:pt x="833" y="978"/>
                    <a:pt x="805" y="1170"/>
                    <a:pt x="801" y="1373"/>
                  </a:cubicBezTo>
                  <a:cubicBezTo>
                    <a:pt x="1372" y="1373"/>
                    <a:pt x="1372" y="1373"/>
                    <a:pt x="1372" y="1373"/>
                  </a:cubicBezTo>
                  <a:close/>
                  <a:moveTo>
                    <a:pt x="911" y="693"/>
                  </a:moveTo>
                  <a:cubicBezTo>
                    <a:pt x="1372" y="693"/>
                    <a:pt x="1372" y="693"/>
                    <a:pt x="1372" y="693"/>
                  </a:cubicBezTo>
                  <a:cubicBezTo>
                    <a:pt x="1372" y="119"/>
                    <a:pt x="1372" y="119"/>
                    <a:pt x="1372" y="119"/>
                  </a:cubicBezTo>
                  <a:cubicBezTo>
                    <a:pt x="1184" y="157"/>
                    <a:pt x="1016" y="377"/>
                    <a:pt x="911" y="693"/>
                  </a:cubicBezTo>
                  <a:close/>
                  <a:moveTo>
                    <a:pt x="0" y="1373"/>
                  </a:moveTo>
                  <a:cubicBezTo>
                    <a:pt x="686" y="1373"/>
                    <a:pt x="686" y="1373"/>
                    <a:pt x="686" y="1373"/>
                  </a:cubicBezTo>
                  <a:cubicBezTo>
                    <a:pt x="690" y="1170"/>
                    <a:pt x="715" y="979"/>
                    <a:pt x="757" y="808"/>
                  </a:cubicBezTo>
                  <a:cubicBezTo>
                    <a:pt x="141" y="808"/>
                    <a:pt x="141" y="808"/>
                    <a:pt x="141" y="808"/>
                  </a:cubicBezTo>
                  <a:cubicBezTo>
                    <a:pt x="58" y="980"/>
                    <a:pt x="8" y="1171"/>
                    <a:pt x="0" y="1373"/>
                  </a:cubicBezTo>
                  <a:close/>
                  <a:moveTo>
                    <a:pt x="1372" y="1487"/>
                  </a:moveTo>
                  <a:cubicBezTo>
                    <a:pt x="801" y="1487"/>
                    <a:pt x="801" y="1487"/>
                    <a:pt x="801" y="1487"/>
                  </a:cubicBezTo>
                  <a:cubicBezTo>
                    <a:pt x="805" y="1689"/>
                    <a:pt x="833" y="1881"/>
                    <a:pt x="878" y="2052"/>
                  </a:cubicBezTo>
                  <a:cubicBezTo>
                    <a:pt x="1372" y="2052"/>
                    <a:pt x="1372" y="2052"/>
                    <a:pt x="1372" y="2052"/>
                  </a:cubicBezTo>
                  <a:cubicBezTo>
                    <a:pt x="1372" y="1487"/>
                    <a:pt x="1372" y="1487"/>
                    <a:pt x="1372" y="1487"/>
                  </a:cubicBezTo>
                  <a:close/>
                  <a:moveTo>
                    <a:pt x="686" y="1487"/>
                  </a:moveTo>
                  <a:cubicBezTo>
                    <a:pt x="0" y="1487"/>
                    <a:pt x="0" y="1487"/>
                    <a:pt x="0" y="1487"/>
                  </a:cubicBezTo>
                  <a:cubicBezTo>
                    <a:pt x="8" y="1689"/>
                    <a:pt x="58" y="1880"/>
                    <a:pt x="141" y="2052"/>
                  </a:cubicBezTo>
                  <a:cubicBezTo>
                    <a:pt x="757" y="2052"/>
                    <a:pt x="757" y="2052"/>
                    <a:pt x="757" y="2052"/>
                  </a:cubicBezTo>
                  <a:cubicBezTo>
                    <a:pt x="715" y="1881"/>
                    <a:pt x="690" y="1690"/>
                    <a:pt x="686" y="1487"/>
                  </a:cubicBezTo>
                  <a:close/>
                  <a:moveTo>
                    <a:pt x="2059" y="1373"/>
                  </a:moveTo>
                  <a:cubicBezTo>
                    <a:pt x="2054" y="1170"/>
                    <a:pt x="2027" y="978"/>
                    <a:pt x="1982" y="808"/>
                  </a:cubicBezTo>
                  <a:cubicBezTo>
                    <a:pt x="1487" y="808"/>
                    <a:pt x="1487" y="808"/>
                    <a:pt x="1487" y="808"/>
                  </a:cubicBezTo>
                  <a:cubicBezTo>
                    <a:pt x="1487" y="1373"/>
                    <a:pt x="1487" y="1373"/>
                    <a:pt x="1487" y="1373"/>
                  </a:cubicBezTo>
                  <a:cubicBezTo>
                    <a:pt x="2059" y="1373"/>
                    <a:pt x="2059" y="1373"/>
                    <a:pt x="2059" y="1373"/>
                  </a:cubicBezTo>
                  <a:close/>
                  <a:moveTo>
                    <a:pt x="2102" y="2052"/>
                  </a:moveTo>
                  <a:cubicBezTo>
                    <a:pt x="2718" y="2052"/>
                    <a:pt x="2718" y="2052"/>
                    <a:pt x="2718" y="2052"/>
                  </a:cubicBezTo>
                  <a:cubicBezTo>
                    <a:pt x="2801" y="1880"/>
                    <a:pt x="2851" y="1689"/>
                    <a:pt x="2859" y="1487"/>
                  </a:cubicBezTo>
                  <a:cubicBezTo>
                    <a:pt x="2173" y="1487"/>
                    <a:pt x="2173" y="1487"/>
                    <a:pt x="2173" y="1487"/>
                  </a:cubicBezTo>
                  <a:cubicBezTo>
                    <a:pt x="2169" y="1690"/>
                    <a:pt x="2144" y="1881"/>
                    <a:pt x="2102" y="2052"/>
                  </a:cubicBezTo>
                  <a:close/>
                  <a:moveTo>
                    <a:pt x="1487" y="119"/>
                  </a:moveTo>
                  <a:cubicBezTo>
                    <a:pt x="1487" y="693"/>
                    <a:pt x="1487" y="693"/>
                    <a:pt x="1487" y="693"/>
                  </a:cubicBezTo>
                  <a:cubicBezTo>
                    <a:pt x="1948" y="693"/>
                    <a:pt x="1948" y="693"/>
                    <a:pt x="1948" y="693"/>
                  </a:cubicBezTo>
                  <a:cubicBezTo>
                    <a:pt x="1844" y="377"/>
                    <a:pt x="1676" y="157"/>
                    <a:pt x="1487" y="119"/>
                  </a:cubicBezTo>
                  <a:close/>
                  <a:moveTo>
                    <a:pt x="1372" y="2857"/>
                  </a:moveTo>
                  <a:cubicBezTo>
                    <a:pt x="1121" y="2821"/>
                    <a:pt x="908" y="2556"/>
                    <a:pt x="789" y="2166"/>
                  </a:cubicBezTo>
                  <a:cubicBezTo>
                    <a:pt x="203" y="2166"/>
                    <a:pt x="203" y="2166"/>
                    <a:pt x="203" y="2166"/>
                  </a:cubicBezTo>
                  <a:cubicBezTo>
                    <a:pt x="445" y="2567"/>
                    <a:pt x="877" y="2840"/>
                    <a:pt x="1372" y="2859"/>
                  </a:cubicBezTo>
                  <a:cubicBezTo>
                    <a:pt x="1372" y="2857"/>
                    <a:pt x="1372" y="2857"/>
                    <a:pt x="1372" y="2857"/>
                  </a:cubicBezTo>
                  <a:close/>
                  <a:moveTo>
                    <a:pt x="789" y="693"/>
                  </a:moveTo>
                  <a:cubicBezTo>
                    <a:pt x="908" y="304"/>
                    <a:pt x="1121" y="38"/>
                    <a:pt x="1372" y="3"/>
                  </a:cubicBezTo>
                  <a:cubicBezTo>
                    <a:pt x="1372" y="0"/>
                    <a:pt x="1372" y="0"/>
                    <a:pt x="1372" y="0"/>
                  </a:cubicBezTo>
                  <a:cubicBezTo>
                    <a:pt x="877" y="20"/>
                    <a:pt x="445" y="293"/>
                    <a:pt x="203" y="693"/>
                  </a:cubicBezTo>
                  <a:cubicBezTo>
                    <a:pt x="789" y="693"/>
                    <a:pt x="789" y="693"/>
                    <a:pt x="789" y="693"/>
                  </a:cubicBezTo>
                  <a:close/>
                  <a:moveTo>
                    <a:pt x="2071" y="2166"/>
                  </a:moveTo>
                  <a:cubicBezTo>
                    <a:pt x="1951" y="2556"/>
                    <a:pt x="1738" y="2821"/>
                    <a:pt x="1487" y="2857"/>
                  </a:cubicBezTo>
                  <a:cubicBezTo>
                    <a:pt x="1487" y="2859"/>
                    <a:pt x="1487" y="2859"/>
                    <a:pt x="1487" y="2859"/>
                  </a:cubicBezTo>
                  <a:cubicBezTo>
                    <a:pt x="1983" y="2840"/>
                    <a:pt x="2415" y="2567"/>
                    <a:pt x="2656" y="2166"/>
                  </a:cubicBezTo>
                  <a:cubicBezTo>
                    <a:pt x="2071" y="2166"/>
                    <a:pt x="2071" y="2166"/>
                    <a:pt x="2071" y="2166"/>
                  </a:cubicBezTo>
                  <a:close/>
                  <a:moveTo>
                    <a:pt x="1487" y="3"/>
                  </a:moveTo>
                  <a:cubicBezTo>
                    <a:pt x="1738" y="38"/>
                    <a:pt x="1951" y="303"/>
                    <a:pt x="2071" y="693"/>
                  </a:cubicBezTo>
                  <a:cubicBezTo>
                    <a:pt x="2656" y="693"/>
                    <a:pt x="2656" y="693"/>
                    <a:pt x="2656" y="693"/>
                  </a:cubicBezTo>
                  <a:cubicBezTo>
                    <a:pt x="2415" y="293"/>
                    <a:pt x="1983" y="20"/>
                    <a:pt x="1487" y="0"/>
                  </a:cubicBezTo>
                  <a:cubicBezTo>
                    <a:pt x="1487" y="3"/>
                    <a:pt x="1487" y="3"/>
                    <a:pt x="1487" y="3"/>
                  </a:cubicBezTo>
                  <a:close/>
                  <a:moveTo>
                    <a:pt x="1948" y="2166"/>
                  </a:moveTo>
                  <a:cubicBezTo>
                    <a:pt x="1487" y="2166"/>
                    <a:pt x="1487" y="2166"/>
                    <a:pt x="1487" y="2166"/>
                  </a:cubicBezTo>
                  <a:cubicBezTo>
                    <a:pt x="1487" y="2740"/>
                    <a:pt x="1487" y="2740"/>
                    <a:pt x="1487" y="2740"/>
                  </a:cubicBezTo>
                  <a:cubicBezTo>
                    <a:pt x="1676" y="2703"/>
                    <a:pt x="1844" y="2482"/>
                    <a:pt x="1948" y="2166"/>
                  </a:cubicBezTo>
                  <a:close/>
                  <a:moveTo>
                    <a:pt x="2102" y="808"/>
                  </a:moveTo>
                  <a:cubicBezTo>
                    <a:pt x="2144" y="979"/>
                    <a:pt x="2169" y="1170"/>
                    <a:pt x="2173" y="1373"/>
                  </a:cubicBezTo>
                  <a:cubicBezTo>
                    <a:pt x="2859" y="1373"/>
                    <a:pt x="2859" y="1373"/>
                    <a:pt x="2859" y="1373"/>
                  </a:cubicBezTo>
                  <a:cubicBezTo>
                    <a:pt x="2851" y="1171"/>
                    <a:pt x="2801" y="980"/>
                    <a:pt x="2718" y="808"/>
                  </a:cubicBezTo>
                  <a:cubicBezTo>
                    <a:pt x="2102" y="808"/>
                    <a:pt x="2102" y="808"/>
                    <a:pt x="2102" y="808"/>
                  </a:cubicBezTo>
                  <a:close/>
                  <a:moveTo>
                    <a:pt x="1372" y="2740"/>
                  </a:moveTo>
                  <a:cubicBezTo>
                    <a:pt x="1372" y="2166"/>
                    <a:pt x="1372" y="2166"/>
                    <a:pt x="1372" y="2166"/>
                  </a:cubicBezTo>
                  <a:cubicBezTo>
                    <a:pt x="911" y="2166"/>
                    <a:pt x="911" y="2166"/>
                    <a:pt x="911" y="2166"/>
                  </a:cubicBezTo>
                  <a:cubicBezTo>
                    <a:pt x="1016" y="2482"/>
                    <a:pt x="1184" y="2703"/>
                    <a:pt x="1372" y="2740"/>
                  </a:cubicBezTo>
                  <a:close/>
                  <a:moveTo>
                    <a:pt x="1487" y="1487"/>
                  </a:moveTo>
                  <a:cubicBezTo>
                    <a:pt x="1487" y="2052"/>
                    <a:pt x="1487" y="2052"/>
                    <a:pt x="1487" y="2052"/>
                  </a:cubicBezTo>
                  <a:cubicBezTo>
                    <a:pt x="1982" y="2052"/>
                    <a:pt x="1982" y="2052"/>
                    <a:pt x="1982" y="2052"/>
                  </a:cubicBezTo>
                  <a:cubicBezTo>
                    <a:pt x="2027" y="1881"/>
                    <a:pt x="2054" y="1689"/>
                    <a:pt x="2059" y="1487"/>
                  </a:cubicBezTo>
                  <a:cubicBezTo>
                    <a:pt x="1487" y="1487"/>
                    <a:pt x="1487" y="1487"/>
                    <a:pt x="1487" y="1487"/>
                  </a:cubicBezTo>
                  <a:close/>
                  <a:moveTo>
                    <a:pt x="1487" y="1487"/>
                  </a:moveTo>
                  <a:cubicBezTo>
                    <a:pt x="1487" y="1487"/>
                    <a:pt x="1487" y="1487"/>
                    <a:pt x="1487" y="148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文本框 23"/>
            <p:cNvSpPr/>
            <p:nvPr/>
          </p:nvSpPr>
          <p:spPr>
            <a:xfrm>
              <a:off x="22840200" y="14728320"/>
              <a:ext cx="62326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30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等腰三角形 2"/>
          <p:cNvSpPr/>
          <p:nvPr/>
        </p:nvSpPr>
        <p:spPr>
          <a:xfrm flipV="1">
            <a:off x="3721320" y="-131400"/>
            <a:ext cx="12345480" cy="3526920"/>
          </a:xfrm>
          <a:custGeom>
            <a:avLst/>
            <a:gdLst>
              <a:gd name="textAreaLeft" fmla="*/ 0 w 12345480"/>
              <a:gd name="textAreaRight" fmla="*/ 12345840 w 12345480"/>
              <a:gd name="textAreaTop" fmla="*/ -360 h 3526920"/>
              <a:gd name="textAreaBottom" fmla="*/ 3526920 h 3526920"/>
            </a:gdLst>
            <a:ahLst/>
            <a:rect l="textAreaLeft" t="textAreaTop" r="textAreaRight" b="textAreaBottom"/>
            <a:pathLst>
              <a:path w="3962399" h="1132115">
                <a:moveTo>
                  <a:pt x="0" y="1088572"/>
                </a:moveTo>
                <a:lnTo>
                  <a:pt x="1981199" y="0"/>
                </a:lnTo>
                <a:lnTo>
                  <a:pt x="3962399" y="1132115"/>
                </a:lnTo>
                <a:lnTo>
                  <a:pt x="0" y="1088572"/>
                </a:lnTo>
                <a:close/>
              </a:path>
            </a:pathLst>
          </a:custGeom>
          <a:solidFill>
            <a:srgbClr val="aa4d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等腰三角形 3"/>
          <p:cNvSpPr/>
          <p:nvPr/>
        </p:nvSpPr>
        <p:spPr>
          <a:xfrm rot="5400000">
            <a:off x="-3533040" y="7931880"/>
            <a:ext cx="8577000" cy="3251520"/>
          </a:xfrm>
          <a:custGeom>
            <a:avLst/>
            <a:gdLst>
              <a:gd name="textAreaLeft" fmla="*/ 0 w 8577000"/>
              <a:gd name="textAreaRight" fmla="*/ 8577360 w 8577000"/>
              <a:gd name="textAreaTop" fmla="*/ 0 h 3251520"/>
              <a:gd name="textAreaBottom" fmla="*/ 3251880 h 3251520"/>
            </a:gdLst>
            <a:ahLst/>
            <a:rect l="textAreaLeft" t="textAreaTop" r="textAreaRight" b="textAreaBottom"/>
            <a:pathLst>
              <a:path w="1667302" h="870857">
                <a:moveTo>
                  <a:pt x="0" y="870857"/>
                </a:moveTo>
                <a:lnTo>
                  <a:pt x="674232" y="0"/>
                </a:lnTo>
                <a:lnTo>
                  <a:pt x="1667302" y="855743"/>
                </a:lnTo>
                <a:lnTo>
                  <a:pt x="0" y="870857"/>
                </a:lnTo>
                <a:close/>
              </a:path>
            </a:pathLst>
          </a:custGeom>
          <a:solidFill>
            <a:srgbClr val="6c89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等腰三角形 4"/>
          <p:cNvSpPr/>
          <p:nvPr/>
        </p:nvSpPr>
        <p:spPr>
          <a:xfrm>
            <a:off x="6400800" y="16264800"/>
            <a:ext cx="16611120" cy="3175560"/>
          </a:xfrm>
          <a:custGeom>
            <a:avLst/>
            <a:gdLst>
              <a:gd name="textAreaLeft" fmla="*/ 0 w 16611120"/>
              <a:gd name="textAreaRight" fmla="*/ 16611480 w 16611120"/>
              <a:gd name="textAreaTop" fmla="*/ 0 h 3175560"/>
              <a:gd name="textAreaBottom" fmla="*/ 3175920 h 3175560"/>
            </a:gdLst>
            <a:ahLst/>
            <a:rect l="textAreaLeft" t="textAreaTop" r="textAreaRight" b="textAreaBottom"/>
            <a:pathLst>
              <a:path w="5921830" h="1132114">
                <a:moveTo>
                  <a:pt x="0" y="1132114"/>
                </a:moveTo>
                <a:lnTo>
                  <a:pt x="5050973" y="0"/>
                </a:lnTo>
                <a:lnTo>
                  <a:pt x="5921830" y="1132114"/>
                </a:lnTo>
                <a:lnTo>
                  <a:pt x="0" y="1132114"/>
                </a:lnTo>
                <a:close/>
              </a:path>
            </a:pathLst>
          </a:custGeom>
          <a:solidFill>
            <a:srgbClr val="7199f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等腰三角形 5"/>
          <p:cNvSpPr/>
          <p:nvPr/>
        </p:nvSpPr>
        <p:spPr>
          <a:xfrm rot="16200000">
            <a:off x="25471440" y="7447680"/>
            <a:ext cx="10847520" cy="3007440"/>
          </a:xfrm>
          <a:custGeom>
            <a:avLst/>
            <a:gdLst>
              <a:gd name="textAreaLeft" fmla="*/ 0 w 10847520"/>
              <a:gd name="textAreaRight" fmla="*/ 10847880 w 10847520"/>
              <a:gd name="textAreaTop" fmla="*/ 0 h 3007440"/>
              <a:gd name="textAreaBottom" fmla="*/ 3007800 h 3007440"/>
            </a:gdLst>
            <a:ahLst/>
            <a:rect l="textAreaLeft" t="textAreaTop" r="textAreaRight" b="textAreaBottom"/>
            <a:pathLst>
              <a:path w="3265714" h="905509">
                <a:moveTo>
                  <a:pt x="0" y="905509"/>
                </a:moveTo>
                <a:lnTo>
                  <a:pt x="2491974" y="0"/>
                </a:lnTo>
                <a:lnTo>
                  <a:pt x="3265714" y="905509"/>
                </a:lnTo>
                <a:lnTo>
                  <a:pt x="0" y="905509"/>
                </a:lnTo>
                <a:close/>
              </a:path>
            </a:pathLst>
          </a:custGeom>
          <a:solidFill>
            <a:srgbClr val="aa4c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4" name="组合 8"/>
          <p:cNvGrpSpPr/>
          <p:nvPr/>
        </p:nvGrpSpPr>
        <p:grpSpPr>
          <a:xfrm>
            <a:off x="8405640" y="6331320"/>
            <a:ext cx="15588000" cy="6750000"/>
            <a:chOff x="8405640" y="6331320"/>
            <a:chExt cx="15588000" cy="6750000"/>
          </a:xfrm>
        </p:grpSpPr>
        <p:sp>
          <p:nvSpPr>
            <p:cNvPr id="215" name="文本框 6"/>
            <p:cNvSpPr/>
            <p:nvPr/>
          </p:nvSpPr>
          <p:spPr>
            <a:xfrm>
              <a:off x="8405640" y="10416240"/>
              <a:ext cx="15588000" cy="26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1500" spc="-1" strike="noStrike">
                  <a:solidFill>
                    <a:srgbClr val="e9f1f3"/>
                  </a:solidFill>
                  <a:latin typeface="微软雅黑"/>
                  <a:ea typeface="微软雅黑"/>
                </a:rPr>
                <a:t>某某广告有限公司</a:t>
              </a:r>
              <a:endParaRPr b="0" lang="en-US" sz="1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e9f1f3"/>
                  </a:solidFill>
                  <a:latin typeface="微软雅黑"/>
                  <a:ea typeface="微软雅黑"/>
                </a:rPr>
                <a:t>MOUMOU ADVERTISING MEDIA COMPANY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文本框 7"/>
            <p:cNvSpPr/>
            <p:nvPr/>
          </p:nvSpPr>
          <p:spPr>
            <a:xfrm>
              <a:off x="11366280" y="6331320"/>
              <a:ext cx="9666000" cy="44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700" spc="-1" strike="noStrike">
                  <a:solidFill>
                    <a:srgbClr val="e9f1f3"/>
                  </a:solidFill>
                  <a:latin typeface="Calibri"/>
                </a:rPr>
                <a:t>LOGO</a:t>
              </a:r>
              <a:endParaRPr b="0" lang="en-US" sz="28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2b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62" descr=""/>
          <p:cNvPicPr/>
          <p:nvPr/>
        </p:nvPicPr>
        <p:blipFill>
          <a:blip r:embed="rId1"/>
          <a:srcRect l="25796" t="29853" r="25703" b="52351"/>
          <a:stretch/>
        </p:blipFill>
        <p:spPr>
          <a:xfrm>
            <a:off x="0" y="-91440"/>
            <a:ext cx="32643720" cy="11978280"/>
          </a:xfrm>
          <a:prstGeom prst="rect">
            <a:avLst/>
          </a:prstGeom>
          <a:ln w="0">
            <a:noFill/>
          </a:ln>
        </p:spPr>
      </p:pic>
      <p:sp>
        <p:nvSpPr>
          <p:cNvPr id="218" name="矩形 163"/>
          <p:cNvSpPr/>
          <p:nvPr/>
        </p:nvSpPr>
        <p:spPr>
          <a:xfrm>
            <a:off x="0" y="11887200"/>
            <a:ext cx="32398920" cy="7552800"/>
          </a:xfrm>
          <a:prstGeom prst="rect">
            <a:avLst/>
          </a:prstGeom>
          <a:solidFill>
            <a:srgbClr val="74bd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9" name="图片 177" descr=""/>
          <p:cNvPicPr/>
          <p:nvPr/>
        </p:nvPicPr>
        <p:blipFill>
          <a:blip r:embed="rId2"/>
          <a:srcRect l="5933" t="0" r="5764" b="0"/>
          <a:stretch/>
        </p:blipFill>
        <p:spPr>
          <a:xfrm>
            <a:off x="0" y="11109600"/>
            <a:ext cx="32460840" cy="652968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182"/>
          <p:cNvGrpSpPr/>
          <p:nvPr/>
        </p:nvGrpSpPr>
        <p:grpSpPr>
          <a:xfrm>
            <a:off x="9934200" y="5599440"/>
            <a:ext cx="12775680" cy="4071600"/>
            <a:chOff x="9934200" y="5599440"/>
            <a:chExt cx="12775680" cy="4071600"/>
          </a:xfrm>
        </p:grpSpPr>
        <p:sp>
          <p:nvSpPr>
            <p:cNvPr id="221" name="文本框 179"/>
            <p:cNvSpPr/>
            <p:nvPr/>
          </p:nvSpPr>
          <p:spPr>
            <a:xfrm>
              <a:off x="9934200" y="5599440"/>
              <a:ext cx="12775680" cy="26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600" spc="-1" strike="noStrike">
                  <a:solidFill>
                    <a:srgbClr val="1a1818"/>
                  </a:solidFill>
                  <a:latin typeface="微软雅黑"/>
                  <a:ea typeface="微软雅黑"/>
                </a:rPr>
                <a:t>大梦</a:t>
              </a:r>
              <a:r>
                <a:rPr b="0" lang="en-US" sz="16600" spc="-1" strike="noStrike">
                  <a:solidFill>
                    <a:srgbClr val="1a1818"/>
                  </a:solidFill>
                  <a:latin typeface="微软雅黑"/>
                  <a:ea typeface="微软雅黑"/>
                </a:rPr>
                <a:t>Power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180"/>
            <p:cNvSpPr/>
            <p:nvPr/>
          </p:nvSpPr>
          <p:spPr>
            <a:xfrm>
              <a:off x="11936880" y="8240760"/>
              <a:ext cx="876960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1a1818"/>
                  </a:solidFill>
                  <a:latin typeface="微软雅黑"/>
                  <a:ea typeface="微软雅黑"/>
                </a:rPr>
                <a:t>部门经理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94"/>
          <p:cNvGrpSpPr/>
          <p:nvPr/>
        </p:nvGrpSpPr>
        <p:grpSpPr>
          <a:xfrm>
            <a:off x="5911920" y="13840920"/>
            <a:ext cx="21306600" cy="3798360"/>
            <a:chOff x="5911920" y="13840920"/>
            <a:chExt cx="21306600" cy="3798360"/>
          </a:xfrm>
        </p:grpSpPr>
        <p:grpSp>
          <p:nvGrpSpPr>
            <p:cNvPr id="224" name="组合 193"/>
            <p:cNvGrpSpPr/>
            <p:nvPr/>
          </p:nvGrpSpPr>
          <p:grpSpPr>
            <a:xfrm>
              <a:off x="5911920" y="13840920"/>
              <a:ext cx="8634240" cy="3798360"/>
              <a:chOff x="5911920" y="13840920"/>
              <a:chExt cx="8634240" cy="3798360"/>
            </a:xfrm>
          </p:grpSpPr>
          <p:sp>
            <p:nvSpPr>
              <p:cNvPr id="225" name="文本框 184"/>
              <p:cNvSpPr/>
              <p:nvPr/>
            </p:nvSpPr>
            <p:spPr>
              <a:xfrm>
                <a:off x="7572240" y="14207040"/>
                <a:ext cx="689796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6600" spc="-1" strike="noStrike">
                    <a:solidFill>
                      <a:srgbClr val="1a1818"/>
                    </a:solidFill>
                    <a:latin typeface="微软雅黑"/>
                    <a:ea typeface="微软雅黑"/>
                  </a:rPr>
                  <a:t>0123456789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5"/>
              <p:cNvSpPr/>
              <p:nvPr/>
            </p:nvSpPr>
            <p:spPr>
              <a:xfrm>
                <a:off x="5911920" y="13840920"/>
                <a:ext cx="1388160" cy="141084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1410840"/>
                  <a:gd name="textAreaBottom" fmla="*/ 1411200 h 1410840"/>
                </a:gdLst>
                <a:ahLst/>
                <a:rect l="textAreaLeft" t="textAreaTop" r="textAreaRight" b="textAreaBottom"/>
                <a:pathLst>
                  <a:path w="3217" h="3272">
                    <a:moveTo>
                      <a:pt x="3137" y="1324"/>
                    </a:moveTo>
                    <a:cubicBezTo>
                      <a:pt x="1843" y="118"/>
                      <a:pt x="1843" y="118"/>
                      <a:pt x="1843" y="118"/>
                    </a:cubicBezTo>
                    <a:cubicBezTo>
                      <a:pt x="1777" y="43"/>
                      <a:pt x="1683" y="0"/>
                      <a:pt x="1583" y="0"/>
                    </a:cubicBezTo>
                    <a:cubicBezTo>
                      <a:pt x="1484" y="0"/>
                      <a:pt x="1390" y="42"/>
                      <a:pt x="1327" y="113"/>
                    </a:cubicBezTo>
                    <a:cubicBezTo>
                      <a:pt x="80" y="1324"/>
                      <a:pt x="80" y="1324"/>
                      <a:pt x="80" y="1324"/>
                    </a:cubicBezTo>
                    <a:cubicBezTo>
                      <a:pt x="18" y="1387"/>
                      <a:pt x="0" y="1480"/>
                      <a:pt x="34" y="1562"/>
                    </a:cubicBezTo>
                    <a:cubicBezTo>
                      <a:pt x="69" y="1644"/>
                      <a:pt x="149" y="1695"/>
                      <a:pt x="238" y="1695"/>
                    </a:cubicBezTo>
                    <a:cubicBezTo>
                      <a:pt x="350" y="1695"/>
                      <a:pt x="350" y="1695"/>
                      <a:pt x="350" y="1695"/>
                    </a:cubicBezTo>
                    <a:cubicBezTo>
                      <a:pt x="350" y="2926"/>
                      <a:pt x="350" y="2926"/>
                      <a:pt x="350" y="2926"/>
                    </a:cubicBezTo>
                    <a:cubicBezTo>
                      <a:pt x="350" y="3117"/>
                      <a:pt x="503" y="3272"/>
                      <a:pt x="694" y="3272"/>
                    </a:cubicBezTo>
                    <a:cubicBezTo>
                      <a:pt x="1229" y="3272"/>
                      <a:pt x="1229" y="3272"/>
                      <a:pt x="1229" y="3272"/>
                    </a:cubicBezTo>
                    <a:cubicBezTo>
                      <a:pt x="1298" y="3272"/>
                      <a:pt x="1360" y="3216"/>
                      <a:pt x="1360" y="3147"/>
                    </a:cubicBezTo>
                    <a:cubicBezTo>
                      <a:pt x="1360" y="2328"/>
                      <a:pt x="1360" y="2328"/>
                      <a:pt x="1360" y="2328"/>
                    </a:cubicBezTo>
                    <a:cubicBezTo>
                      <a:pt x="1360" y="2293"/>
                      <a:pt x="1383" y="2262"/>
                      <a:pt x="1418" y="2262"/>
                    </a:cubicBezTo>
                    <a:cubicBezTo>
                      <a:pt x="1796" y="2262"/>
                      <a:pt x="1796" y="2262"/>
                      <a:pt x="1796" y="2262"/>
                    </a:cubicBezTo>
                    <a:cubicBezTo>
                      <a:pt x="1831" y="2262"/>
                      <a:pt x="1857" y="2293"/>
                      <a:pt x="1857" y="2328"/>
                    </a:cubicBezTo>
                    <a:cubicBezTo>
                      <a:pt x="1857" y="3147"/>
                      <a:pt x="1857" y="3147"/>
                      <a:pt x="1857" y="3147"/>
                    </a:cubicBezTo>
                    <a:cubicBezTo>
                      <a:pt x="1857" y="3216"/>
                      <a:pt x="1915" y="3272"/>
                      <a:pt x="1985" y="3272"/>
                    </a:cubicBezTo>
                    <a:cubicBezTo>
                      <a:pt x="2520" y="3272"/>
                      <a:pt x="2520" y="3272"/>
                      <a:pt x="2520" y="3272"/>
                    </a:cubicBezTo>
                    <a:cubicBezTo>
                      <a:pt x="2711" y="3272"/>
                      <a:pt x="2867" y="3117"/>
                      <a:pt x="2867" y="2926"/>
                    </a:cubicBezTo>
                    <a:cubicBezTo>
                      <a:pt x="2867" y="1695"/>
                      <a:pt x="2867" y="1695"/>
                      <a:pt x="2867" y="1695"/>
                    </a:cubicBezTo>
                    <a:cubicBezTo>
                      <a:pt x="2979" y="1695"/>
                      <a:pt x="2979" y="1695"/>
                      <a:pt x="2979" y="1695"/>
                    </a:cubicBezTo>
                    <a:cubicBezTo>
                      <a:pt x="3068" y="1695"/>
                      <a:pt x="3147" y="1644"/>
                      <a:pt x="3182" y="1562"/>
                    </a:cubicBezTo>
                    <a:cubicBezTo>
                      <a:pt x="3217" y="1481"/>
                      <a:pt x="3199" y="1388"/>
                      <a:pt x="3137" y="1324"/>
                    </a:cubicBezTo>
                    <a:cubicBezTo>
                      <a:pt x="3137" y="1324"/>
                      <a:pt x="3137" y="1324"/>
                      <a:pt x="3137" y="1324"/>
                    </a:cubicBezTo>
                    <a:close/>
                    <a:moveTo>
                      <a:pt x="3137" y="1324"/>
                    </a:moveTo>
                    <a:cubicBezTo>
                      <a:pt x="3137" y="1324"/>
                      <a:pt x="3137" y="1324"/>
                      <a:pt x="3137" y="1324"/>
                    </a:cubicBezTo>
                  </a:path>
                </a:pathLst>
              </a:custGeom>
              <a:solidFill>
                <a:srgbClr val="1a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1a1818"/>
                  </a:solidFill>
                  <a:latin typeface="Calibri"/>
                </a:endParaRPr>
              </a:p>
            </p:txBody>
          </p:sp>
          <p:sp>
            <p:nvSpPr>
              <p:cNvPr id="227" name="Freeform 9"/>
              <p:cNvSpPr/>
              <p:nvPr/>
            </p:nvSpPr>
            <p:spPr>
              <a:xfrm>
                <a:off x="5992920" y="16251120"/>
                <a:ext cx="1388160" cy="138816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1388160"/>
                  <a:gd name="textAreaBottom" fmla="*/ 1388520 h 1388160"/>
                </a:gdLst>
                <a:ahLst/>
                <a:rect l="textAreaLeft" t="textAreaTop" r="textAreaRight" b="textAreaBottom"/>
                <a:pathLst>
                  <a:path w="2853" h="2853">
                    <a:moveTo>
                      <a:pt x="2530" y="2740"/>
                    </a:moveTo>
                    <a:cubicBezTo>
                      <a:pt x="2611" y="2694"/>
                      <a:pt x="2688" y="2648"/>
                      <a:pt x="2750" y="2602"/>
                    </a:cubicBezTo>
                    <a:cubicBezTo>
                      <a:pt x="2757" y="2597"/>
                      <a:pt x="2788" y="2575"/>
                      <a:pt x="2796" y="2569"/>
                    </a:cubicBezTo>
                    <a:cubicBezTo>
                      <a:pt x="2830" y="2540"/>
                      <a:pt x="2853" y="2497"/>
                      <a:pt x="2853" y="2449"/>
                    </a:cubicBezTo>
                    <a:cubicBezTo>
                      <a:pt x="2853" y="2402"/>
                      <a:pt x="2833" y="2361"/>
                      <a:pt x="2800" y="2333"/>
                    </a:cubicBezTo>
                    <a:cubicBezTo>
                      <a:pt x="2164" y="1809"/>
                      <a:pt x="2164" y="1809"/>
                      <a:pt x="2164" y="1809"/>
                    </a:cubicBezTo>
                    <a:cubicBezTo>
                      <a:pt x="2138" y="1787"/>
                      <a:pt x="2104" y="1774"/>
                      <a:pt x="2067" y="1774"/>
                    </a:cubicBezTo>
                    <a:cubicBezTo>
                      <a:pt x="2025" y="1774"/>
                      <a:pt x="1988" y="1790"/>
                      <a:pt x="1960" y="1816"/>
                    </a:cubicBezTo>
                    <a:cubicBezTo>
                      <a:pt x="1949" y="1827"/>
                      <a:pt x="1853" y="1925"/>
                      <a:pt x="1853" y="1925"/>
                    </a:cubicBezTo>
                    <a:cubicBezTo>
                      <a:pt x="1787" y="1991"/>
                      <a:pt x="1680" y="1991"/>
                      <a:pt x="1614" y="1925"/>
                    </a:cubicBezTo>
                    <a:cubicBezTo>
                      <a:pt x="964" y="1275"/>
                      <a:pt x="964" y="1275"/>
                      <a:pt x="964" y="1275"/>
                    </a:cubicBezTo>
                    <a:cubicBezTo>
                      <a:pt x="898" y="1209"/>
                      <a:pt x="898" y="1101"/>
                      <a:pt x="964" y="1035"/>
                    </a:cubicBezTo>
                    <a:cubicBezTo>
                      <a:pt x="1070" y="929"/>
                      <a:pt x="1070" y="929"/>
                      <a:pt x="1070" y="929"/>
                    </a:cubicBezTo>
                    <a:cubicBezTo>
                      <a:pt x="1098" y="901"/>
                      <a:pt x="1114" y="863"/>
                      <a:pt x="1114" y="821"/>
                    </a:cubicBezTo>
                    <a:cubicBezTo>
                      <a:pt x="1114" y="779"/>
                      <a:pt x="1098" y="742"/>
                      <a:pt x="1072" y="715"/>
                    </a:cubicBezTo>
                    <a:cubicBezTo>
                      <a:pt x="527" y="56"/>
                      <a:pt x="527" y="56"/>
                      <a:pt x="527" y="56"/>
                    </a:cubicBezTo>
                    <a:cubicBezTo>
                      <a:pt x="498" y="22"/>
                      <a:pt x="455" y="0"/>
                      <a:pt x="407" y="0"/>
                    </a:cubicBezTo>
                    <a:cubicBezTo>
                      <a:pt x="356" y="0"/>
                      <a:pt x="312" y="25"/>
                      <a:pt x="283" y="62"/>
                    </a:cubicBezTo>
                    <a:cubicBezTo>
                      <a:pt x="274" y="75"/>
                      <a:pt x="274" y="75"/>
                      <a:pt x="274" y="75"/>
                    </a:cubicBezTo>
                    <a:cubicBezTo>
                      <a:pt x="155" y="235"/>
                      <a:pt x="0" y="490"/>
                      <a:pt x="0" y="729"/>
                    </a:cubicBezTo>
                    <a:cubicBezTo>
                      <a:pt x="0" y="1387"/>
                      <a:pt x="1468" y="2853"/>
                      <a:pt x="2120" y="2853"/>
                    </a:cubicBezTo>
                    <a:cubicBezTo>
                      <a:pt x="2132" y="2853"/>
                      <a:pt x="2145" y="2852"/>
                      <a:pt x="2156" y="2852"/>
                    </a:cubicBezTo>
                    <a:cubicBezTo>
                      <a:pt x="2326" y="2838"/>
                      <a:pt x="2454" y="2782"/>
                      <a:pt x="2530" y="2740"/>
                    </a:cubicBezTo>
                    <a:close/>
                    <a:moveTo>
                      <a:pt x="2530" y="2740"/>
                    </a:moveTo>
                    <a:cubicBezTo>
                      <a:pt x="2530" y="2740"/>
                      <a:pt x="2530" y="2740"/>
                      <a:pt x="2530" y="2740"/>
                    </a:cubicBezTo>
                  </a:path>
                </a:pathLst>
              </a:custGeom>
              <a:solidFill>
                <a:srgbClr val="1a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1a1818"/>
                  </a:solidFill>
                  <a:latin typeface="Calibri"/>
                </a:endParaRPr>
              </a:p>
            </p:txBody>
          </p:sp>
          <p:sp>
            <p:nvSpPr>
              <p:cNvPr id="228" name="文本框 187"/>
              <p:cNvSpPr/>
              <p:nvPr/>
            </p:nvSpPr>
            <p:spPr>
              <a:xfrm>
                <a:off x="7597440" y="16508880"/>
                <a:ext cx="694872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6600" spc="-1" strike="noStrike">
                    <a:solidFill>
                      <a:srgbClr val="1a1818"/>
                    </a:solidFill>
                    <a:latin typeface="微软雅黑"/>
                    <a:ea typeface="微软雅黑"/>
                  </a:rPr>
                  <a:t>0123456789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组合 192"/>
            <p:cNvGrpSpPr/>
            <p:nvPr/>
          </p:nvGrpSpPr>
          <p:grpSpPr>
            <a:xfrm>
              <a:off x="19111320" y="14526720"/>
              <a:ext cx="8107200" cy="3039480"/>
              <a:chOff x="19111320" y="14526720"/>
              <a:chExt cx="8107200" cy="3039480"/>
            </a:xfrm>
          </p:grpSpPr>
          <p:sp>
            <p:nvSpPr>
              <p:cNvPr id="230" name="Freeform 13"/>
              <p:cNvSpPr/>
              <p:nvPr/>
            </p:nvSpPr>
            <p:spPr>
              <a:xfrm>
                <a:off x="19111320" y="14578560"/>
                <a:ext cx="1483920" cy="1004040"/>
              </a:xfrm>
              <a:custGeom>
                <a:avLst/>
                <a:gdLst>
                  <a:gd name="textAreaLeft" fmla="*/ 0 w 1483920"/>
                  <a:gd name="textAreaRight" fmla="*/ 1484280 w 1483920"/>
                  <a:gd name="textAreaTop" fmla="*/ 0 h 1004040"/>
                  <a:gd name="textAreaBottom" fmla="*/ 1004400 h 1004040"/>
                </a:gdLst>
                <a:ahLst/>
                <a:rect l="textAreaLeft" t="textAreaTop" r="textAreaRight" b="textAreaBottom"/>
                <a:pathLst>
                  <a:path w="3268" h="2207">
                    <a:moveTo>
                      <a:pt x="3258" y="136"/>
                    </a:moveTo>
                    <a:cubicBezTo>
                      <a:pt x="2256" y="994"/>
                      <a:pt x="2256" y="994"/>
                      <a:pt x="2256" y="994"/>
                    </a:cubicBezTo>
                    <a:cubicBezTo>
                      <a:pt x="1634" y="1503"/>
                      <a:pt x="1634" y="1503"/>
                      <a:pt x="1634" y="1503"/>
                    </a:cubicBezTo>
                    <a:cubicBezTo>
                      <a:pt x="1016" y="998"/>
                      <a:pt x="1016" y="998"/>
                      <a:pt x="1016" y="998"/>
                    </a:cubicBezTo>
                    <a:cubicBezTo>
                      <a:pt x="10" y="136"/>
                      <a:pt x="10" y="136"/>
                      <a:pt x="10" y="136"/>
                    </a:cubicBezTo>
                    <a:cubicBezTo>
                      <a:pt x="4" y="155"/>
                      <a:pt x="0" y="175"/>
                      <a:pt x="0" y="196"/>
                    </a:cubicBezTo>
                    <a:cubicBezTo>
                      <a:pt x="0" y="2010"/>
                      <a:pt x="0" y="2010"/>
                      <a:pt x="0" y="2010"/>
                    </a:cubicBezTo>
                    <a:cubicBezTo>
                      <a:pt x="0" y="2022"/>
                      <a:pt x="1" y="2034"/>
                      <a:pt x="4" y="2045"/>
                    </a:cubicBezTo>
                    <a:cubicBezTo>
                      <a:pt x="20" y="2137"/>
                      <a:pt x="100" y="2207"/>
                      <a:pt x="196" y="2207"/>
                    </a:cubicBezTo>
                    <a:cubicBezTo>
                      <a:pt x="3071" y="2207"/>
                      <a:pt x="3071" y="2207"/>
                      <a:pt x="3071" y="2207"/>
                    </a:cubicBezTo>
                    <a:cubicBezTo>
                      <a:pt x="3157" y="2207"/>
                      <a:pt x="3230" y="2150"/>
                      <a:pt x="3256" y="2072"/>
                    </a:cubicBezTo>
                    <a:cubicBezTo>
                      <a:pt x="3257" y="2073"/>
                      <a:pt x="3257" y="2073"/>
                      <a:pt x="3257" y="2073"/>
                    </a:cubicBezTo>
                    <a:cubicBezTo>
                      <a:pt x="3264" y="2053"/>
                      <a:pt x="3268" y="2032"/>
                      <a:pt x="3268" y="2010"/>
                    </a:cubicBezTo>
                    <a:cubicBezTo>
                      <a:pt x="3268" y="196"/>
                      <a:pt x="3268" y="196"/>
                      <a:pt x="3268" y="196"/>
                    </a:cubicBezTo>
                    <a:cubicBezTo>
                      <a:pt x="3268" y="175"/>
                      <a:pt x="3264" y="155"/>
                      <a:pt x="3258" y="136"/>
                    </a:cubicBezTo>
                    <a:close/>
                    <a:moveTo>
                      <a:pt x="1354" y="1042"/>
                    </a:moveTo>
                    <a:cubicBezTo>
                      <a:pt x="1634" y="1269"/>
                      <a:pt x="1634" y="1269"/>
                      <a:pt x="1634" y="1269"/>
                    </a:cubicBezTo>
                    <a:cubicBezTo>
                      <a:pt x="1915" y="1041"/>
                      <a:pt x="1915" y="1041"/>
                      <a:pt x="1915" y="1041"/>
                    </a:cubicBezTo>
                    <a:cubicBezTo>
                      <a:pt x="2057" y="925"/>
                      <a:pt x="2057" y="925"/>
                      <a:pt x="2057" y="925"/>
                    </a:cubicBezTo>
                    <a:cubicBezTo>
                      <a:pt x="3128" y="9"/>
                      <a:pt x="3128" y="9"/>
                      <a:pt x="3128" y="9"/>
                    </a:cubicBezTo>
                    <a:cubicBezTo>
                      <a:pt x="3110" y="4"/>
                      <a:pt x="3092" y="0"/>
                      <a:pt x="3073" y="0"/>
                    </a:cubicBezTo>
                    <a:cubicBezTo>
                      <a:pt x="196" y="0"/>
                      <a:pt x="196" y="0"/>
                      <a:pt x="196" y="0"/>
                    </a:cubicBezTo>
                    <a:cubicBezTo>
                      <a:pt x="177" y="0"/>
                      <a:pt x="158" y="4"/>
                      <a:pt x="141" y="9"/>
                    </a:cubicBezTo>
                    <a:cubicBezTo>
                      <a:pt x="1212" y="926"/>
                      <a:pt x="1212" y="926"/>
                      <a:pt x="1212" y="926"/>
                    </a:cubicBezTo>
                    <a:cubicBezTo>
                      <a:pt x="1354" y="1042"/>
                      <a:pt x="1354" y="1042"/>
                      <a:pt x="1354" y="1042"/>
                    </a:cubicBezTo>
                    <a:close/>
                    <a:moveTo>
                      <a:pt x="1354" y="1042"/>
                    </a:moveTo>
                    <a:cubicBezTo>
                      <a:pt x="1354" y="1042"/>
                      <a:pt x="1354" y="1042"/>
                      <a:pt x="1354" y="1042"/>
                    </a:cubicBezTo>
                  </a:path>
                </a:pathLst>
              </a:custGeom>
              <a:solidFill>
                <a:srgbClr val="1a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1a1818"/>
                  </a:solidFill>
                  <a:latin typeface="Calibri"/>
                </a:endParaRPr>
              </a:p>
            </p:txBody>
          </p:sp>
          <p:sp>
            <p:nvSpPr>
              <p:cNvPr id="231" name="文本框 189"/>
              <p:cNvSpPr/>
              <p:nvPr/>
            </p:nvSpPr>
            <p:spPr>
              <a:xfrm>
                <a:off x="21056400" y="14526720"/>
                <a:ext cx="61210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6600" spc="-301" strike="noStrike">
                    <a:solidFill>
                      <a:srgbClr val="1a1818"/>
                    </a:solidFill>
                    <a:latin typeface="微软雅黑"/>
                    <a:ea typeface="微软雅黑"/>
                  </a:rPr>
                  <a:t>0123456789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7"/>
              <p:cNvSpPr/>
              <p:nvPr/>
            </p:nvSpPr>
            <p:spPr>
              <a:xfrm>
                <a:off x="19262880" y="16347600"/>
                <a:ext cx="1219320" cy="1218600"/>
              </a:xfrm>
              <a:custGeom>
                <a:avLst/>
                <a:gdLst>
                  <a:gd name="textAreaLeft" fmla="*/ 0 w 1219320"/>
                  <a:gd name="textAreaRight" fmla="*/ 1219680 w 121932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w="2859" h="2859">
                    <a:moveTo>
                      <a:pt x="1372" y="1373"/>
                    </a:moveTo>
                    <a:cubicBezTo>
                      <a:pt x="1372" y="808"/>
                      <a:pt x="1372" y="808"/>
                      <a:pt x="1372" y="808"/>
                    </a:cubicBezTo>
                    <a:cubicBezTo>
                      <a:pt x="878" y="808"/>
                      <a:pt x="878" y="808"/>
                      <a:pt x="878" y="808"/>
                    </a:cubicBezTo>
                    <a:cubicBezTo>
                      <a:pt x="833" y="978"/>
                      <a:pt x="805" y="1170"/>
                      <a:pt x="801" y="1373"/>
                    </a:cubicBezTo>
                    <a:cubicBezTo>
                      <a:pt x="1372" y="1373"/>
                      <a:pt x="1372" y="1373"/>
                      <a:pt x="1372" y="1373"/>
                    </a:cubicBezTo>
                    <a:close/>
                    <a:moveTo>
                      <a:pt x="911" y="693"/>
                    </a:moveTo>
                    <a:cubicBezTo>
                      <a:pt x="1372" y="693"/>
                      <a:pt x="1372" y="693"/>
                      <a:pt x="1372" y="693"/>
                    </a:cubicBezTo>
                    <a:cubicBezTo>
                      <a:pt x="1372" y="119"/>
                      <a:pt x="1372" y="119"/>
                      <a:pt x="1372" y="119"/>
                    </a:cubicBezTo>
                    <a:cubicBezTo>
                      <a:pt x="1184" y="157"/>
                      <a:pt x="1016" y="377"/>
                      <a:pt x="911" y="693"/>
                    </a:cubicBezTo>
                    <a:close/>
                    <a:moveTo>
                      <a:pt x="0" y="1373"/>
                    </a:moveTo>
                    <a:cubicBezTo>
                      <a:pt x="686" y="1373"/>
                      <a:pt x="686" y="1373"/>
                      <a:pt x="686" y="1373"/>
                    </a:cubicBezTo>
                    <a:cubicBezTo>
                      <a:pt x="690" y="1170"/>
                      <a:pt x="715" y="979"/>
                      <a:pt x="757" y="808"/>
                    </a:cubicBezTo>
                    <a:cubicBezTo>
                      <a:pt x="141" y="808"/>
                      <a:pt x="141" y="808"/>
                      <a:pt x="141" y="808"/>
                    </a:cubicBezTo>
                    <a:cubicBezTo>
                      <a:pt x="58" y="980"/>
                      <a:pt x="8" y="1171"/>
                      <a:pt x="0" y="1373"/>
                    </a:cubicBezTo>
                    <a:close/>
                    <a:moveTo>
                      <a:pt x="1372" y="1487"/>
                    </a:moveTo>
                    <a:cubicBezTo>
                      <a:pt x="801" y="1487"/>
                      <a:pt x="801" y="1487"/>
                      <a:pt x="801" y="1487"/>
                    </a:cubicBezTo>
                    <a:cubicBezTo>
                      <a:pt x="805" y="1689"/>
                      <a:pt x="833" y="1881"/>
                      <a:pt x="878" y="2052"/>
                    </a:cubicBezTo>
                    <a:cubicBezTo>
                      <a:pt x="1372" y="2052"/>
                      <a:pt x="1372" y="2052"/>
                      <a:pt x="1372" y="2052"/>
                    </a:cubicBezTo>
                    <a:cubicBezTo>
                      <a:pt x="1372" y="1487"/>
                      <a:pt x="1372" y="1487"/>
                      <a:pt x="1372" y="1487"/>
                    </a:cubicBezTo>
                    <a:close/>
                    <a:moveTo>
                      <a:pt x="686" y="1487"/>
                    </a:moveTo>
                    <a:cubicBezTo>
                      <a:pt x="0" y="1487"/>
                      <a:pt x="0" y="1487"/>
                      <a:pt x="0" y="1487"/>
                    </a:cubicBezTo>
                    <a:cubicBezTo>
                      <a:pt x="8" y="1689"/>
                      <a:pt x="58" y="1880"/>
                      <a:pt x="141" y="2052"/>
                    </a:cubicBezTo>
                    <a:cubicBezTo>
                      <a:pt x="757" y="2052"/>
                      <a:pt x="757" y="2052"/>
                      <a:pt x="757" y="2052"/>
                    </a:cubicBezTo>
                    <a:cubicBezTo>
                      <a:pt x="715" y="1881"/>
                      <a:pt x="690" y="1690"/>
                      <a:pt x="686" y="1487"/>
                    </a:cubicBezTo>
                    <a:close/>
                    <a:moveTo>
                      <a:pt x="2059" y="1373"/>
                    </a:moveTo>
                    <a:cubicBezTo>
                      <a:pt x="2054" y="1170"/>
                      <a:pt x="2027" y="978"/>
                      <a:pt x="1982" y="808"/>
                    </a:cubicBezTo>
                    <a:cubicBezTo>
                      <a:pt x="1487" y="808"/>
                      <a:pt x="1487" y="808"/>
                      <a:pt x="1487" y="808"/>
                    </a:cubicBezTo>
                    <a:cubicBezTo>
                      <a:pt x="1487" y="1373"/>
                      <a:pt x="1487" y="1373"/>
                      <a:pt x="1487" y="1373"/>
                    </a:cubicBezTo>
                    <a:cubicBezTo>
                      <a:pt x="2059" y="1373"/>
                      <a:pt x="2059" y="1373"/>
                      <a:pt x="2059" y="1373"/>
                    </a:cubicBezTo>
                    <a:close/>
                    <a:moveTo>
                      <a:pt x="2102" y="2052"/>
                    </a:moveTo>
                    <a:cubicBezTo>
                      <a:pt x="2718" y="2052"/>
                      <a:pt x="2718" y="2052"/>
                      <a:pt x="2718" y="2052"/>
                    </a:cubicBezTo>
                    <a:cubicBezTo>
                      <a:pt x="2801" y="1880"/>
                      <a:pt x="2851" y="1689"/>
                      <a:pt x="2859" y="1487"/>
                    </a:cubicBezTo>
                    <a:cubicBezTo>
                      <a:pt x="2173" y="1487"/>
                      <a:pt x="2173" y="1487"/>
                      <a:pt x="2173" y="1487"/>
                    </a:cubicBezTo>
                    <a:cubicBezTo>
                      <a:pt x="2169" y="1690"/>
                      <a:pt x="2144" y="1881"/>
                      <a:pt x="2102" y="2052"/>
                    </a:cubicBezTo>
                    <a:close/>
                    <a:moveTo>
                      <a:pt x="1487" y="119"/>
                    </a:moveTo>
                    <a:cubicBezTo>
                      <a:pt x="1487" y="693"/>
                      <a:pt x="1487" y="693"/>
                      <a:pt x="1487" y="693"/>
                    </a:cubicBezTo>
                    <a:cubicBezTo>
                      <a:pt x="1948" y="693"/>
                      <a:pt x="1948" y="693"/>
                      <a:pt x="1948" y="693"/>
                    </a:cubicBezTo>
                    <a:cubicBezTo>
                      <a:pt x="1844" y="377"/>
                      <a:pt x="1676" y="157"/>
                      <a:pt x="1487" y="119"/>
                    </a:cubicBezTo>
                    <a:close/>
                    <a:moveTo>
                      <a:pt x="1372" y="2857"/>
                    </a:moveTo>
                    <a:cubicBezTo>
                      <a:pt x="1121" y="2821"/>
                      <a:pt x="908" y="2556"/>
                      <a:pt x="789" y="2166"/>
                    </a:cubicBezTo>
                    <a:cubicBezTo>
                      <a:pt x="203" y="2166"/>
                      <a:pt x="203" y="2166"/>
                      <a:pt x="203" y="2166"/>
                    </a:cubicBezTo>
                    <a:cubicBezTo>
                      <a:pt x="445" y="2567"/>
                      <a:pt x="877" y="2840"/>
                      <a:pt x="1372" y="2859"/>
                    </a:cubicBezTo>
                    <a:cubicBezTo>
                      <a:pt x="1372" y="2857"/>
                      <a:pt x="1372" y="2857"/>
                      <a:pt x="1372" y="2857"/>
                    </a:cubicBezTo>
                    <a:close/>
                    <a:moveTo>
                      <a:pt x="789" y="693"/>
                    </a:moveTo>
                    <a:cubicBezTo>
                      <a:pt x="908" y="304"/>
                      <a:pt x="1121" y="38"/>
                      <a:pt x="1372" y="3"/>
                    </a:cubicBezTo>
                    <a:cubicBezTo>
                      <a:pt x="1372" y="0"/>
                      <a:pt x="1372" y="0"/>
                      <a:pt x="1372" y="0"/>
                    </a:cubicBezTo>
                    <a:cubicBezTo>
                      <a:pt x="877" y="20"/>
                      <a:pt x="445" y="293"/>
                      <a:pt x="203" y="693"/>
                    </a:cubicBezTo>
                    <a:cubicBezTo>
                      <a:pt x="789" y="693"/>
                      <a:pt x="789" y="693"/>
                      <a:pt x="789" y="693"/>
                    </a:cubicBezTo>
                    <a:close/>
                    <a:moveTo>
                      <a:pt x="2071" y="2166"/>
                    </a:moveTo>
                    <a:cubicBezTo>
                      <a:pt x="1951" y="2556"/>
                      <a:pt x="1738" y="2821"/>
                      <a:pt x="1487" y="2857"/>
                    </a:cubicBezTo>
                    <a:cubicBezTo>
                      <a:pt x="1487" y="2859"/>
                      <a:pt x="1487" y="2859"/>
                      <a:pt x="1487" y="2859"/>
                    </a:cubicBezTo>
                    <a:cubicBezTo>
                      <a:pt x="1983" y="2840"/>
                      <a:pt x="2415" y="2567"/>
                      <a:pt x="2656" y="2166"/>
                    </a:cubicBezTo>
                    <a:cubicBezTo>
                      <a:pt x="2071" y="2166"/>
                      <a:pt x="2071" y="2166"/>
                      <a:pt x="2071" y="2166"/>
                    </a:cubicBezTo>
                    <a:close/>
                    <a:moveTo>
                      <a:pt x="1487" y="3"/>
                    </a:moveTo>
                    <a:cubicBezTo>
                      <a:pt x="1738" y="38"/>
                      <a:pt x="1951" y="303"/>
                      <a:pt x="2071" y="693"/>
                    </a:cubicBezTo>
                    <a:cubicBezTo>
                      <a:pt x="2656" y="693"/>
                      <a:pt x="2656" y="693"/>
                      <a:pt x="2656" y="693"/>
                    </a:cubicBezTo>
                    <a:cubicBezTo>
                      <a:pt x="2415" y="293"/>
                      <a:pt x="1983" y="20"/>
                      <a:pt x="1487" y="0"/>
                    </a:cubicBezTo>
                    <a:cubicBezTo>
                      <a:pt x="1487" y="3"/>
                      <a:pt x="1487" y="3"/>
                      <a:pt x="1487" y="3"/>
                    </a:cubicBezTo>
                    <a:close/>
                    <a:moveTo>
                      <a:pt x="1948" y="2166"/>
                    </a:moveTo>
                    <a:cubicBezTo>
                      <a:pt x="1487" y="2166"/>
                      <a:pt x="1487" y="2166"/>
                      <a:pt x="1487" y="2166"/>
                    </a:cubicBezTo>
                    <a:cubicBezTo>
                      <a:pt x="1487" y="2740"/>
                      <a:pt x="1487" y="2740"/>
                      <a:pt x="1487" y="2740"/>
                    </a:cubicBezTo>
                    <a:cubicBezTo>
                      <a:pt x="1676" y="2703"/>
                      <a:pt x="1844" y="2482"/>
                      <a:pt x="1948" y="2166"/>
                    </a:cubicBezTo>
                    <a:close/>
                    <a:moveTo>
                      <a:pt x="2102" y="808"/>
                    </a:moveTo>
                    <a:cubicBezTo>
                      <a:pt x="2144" y="979"/>
                      <a:pt x="2169" y="1170"/>
                      <a:pt x="2173" y="1373"/>
                    </a:cubicBezTo>
                    <a:cubicBezTo>
                      <a:pt x="2859" y="1373"/>
                      <a:pt x="2859" y="1373"/>
                      <a:pt x="2859" y="1373"/>
                    </a:cubicBezTo>
                    <a:cubicBezTo>
                      <a:pt x="2851" y="1171"/>
                      <a:pt x="2801" y="980"/>
                      <a:pt x="2718" y="808"/>
                    </a:cubicBezTo>
                    <a:cubicBezTo>
                      <a:pt x="2102" y="808"/>
                      <a:pt x="2102" y="808"/>
                      <a:pt x="2102" y="808"/>
                    </a:cubicBezTo>
                    <a:close/>
                    <a:moveTo>
                      <a:pt x="1372" y="2740"/>
                    </a:moveTo>
                    <a:cubicBezTo>
                      <a:pt x="1372" y="2166"/>
                      <a:pt x="1372" y="2166"/>
                      <a:pt x="1372" y="2166"/>
                    </a:cubicBezTo>
                    <a:cubicBezTo>
                      <a:pt x="911" y="2166"/>
                      <a:pt x="911" y="2166"/>
                      <a:pt x="911" y="2166"/>
                    </a:cubicBezTo>
                    <a:cubicBezTo>
                      <a:pt x="1016" y="2482"/>
                      <a:pt x="1184" y="2703"/>
                      <a:pt x="1372" y="2740"/>
                    </a:cubicBezTo>
                    <a:close/>
                    <a:moveTo>
                      <a:pt x="1487" y="1487"/>
                    </a:moveTo>
                    <a:cubicBezTo>
                      <a:pt x="1487" y="2052"/>
                      <a:pt x="1487" y="2052"/>
                      <a:pt x="1487" y="2052"/>
                    </a:cubicBezTo>
                    <a:cubicBezTo>
                      <a:pt x="1982" y="2052"/>
                      <a:pt x="1982" y="2052"/>
                      <a:pt x="1982" y="2052"/>
                    </a:cubicBezTo>
                    <a:cubicBezTo>
                      <a:pt x="2027" y="1881"/>
                      <a:pt x="2054" y="1689"/>
                      <a:pt x="2059" y="1487"/>
                    </a:cubicBezTo>
                    <a:cubicBezTo>
                      <a:pt x="1487" y="1487"/>
                      <a:pt x="1487" y="1487"/>
                      <a:pt x="1487" y="1487"/>
                    </a:cubicBezTo>
                    <a:close/>
                    <a:moveTo>
                      <a:pt x="1487" y="1487"/>
                    </a:moveTo>
                    <a:cubicBezTo>
                      <a:pt x="1487" y="1487"/>
                      <a:pt x="1487" y="1487"/>
                      <a:pt x="1487" y="1487"/>
                    </a:cubicBezTo>
                  </a:path>
                </a:pathLst>
              </a:custGeom>
              <a:solidFill>
                <a:srgbClr val="1a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1a1818"/>
                  </a:solidFill>
                  <a:latin typeface="Calibri"/>
                </a:endParaRPr>
              </a:p>
            </p:txBody>
          </p:sp>
          <p:sp>
            <p:nvSpPr>
              <p:cNvPr id="233" name="文本框 191"/>
              <p:cNvSpPr/>
              <p:nvPr/>
            </p:nvSpPr>
            <p:spPr>
              <a:xfrm>
                <a:off x="20985840" y="16403040"/>
                <a:ext cx="62326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6600" spc="-301" strike="noStrike">
                    <a:solidFill>
                      <a:srgbClr val="1a1818"/>
                    </a:solidFill>
                    <a:latin typeface="微软雅黑"/>
                    <a:ea typeface="微软雅黑"/>
                  </a:rPr>
                  <a:t>0123456789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2"/>
          <p:cNvSpPr/>
          <p:nvPr/>
        </p:nvSpPr>
        <p:spPr>
          <a:xfrm>
            <a:off x="0" y="-36360"/>
            <a:ext cx="16199280" cy="19504800"/>
          </a:xfrm>
          <a:prstGeom prst="rect">
            <a:avLst/>
          </a:prstGeom>
          <a:solidFill>
            <a:srgbClr val="f87a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16199640" y="0"/>
            <a:ext cx="16199280" cy="19440000"/>
          </a:xfrm>
          <a:prstGeom prst="rect">
            <a:avLst/>
          </a:prstGeom>
          <a:solidFill>
            <a:srgbClr val="4545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4" name="图片 10" descr=""/>
          <p:cNvPicPr/>
          <p:nvPr/>
        </p:nvPicPr>
        <p:blipFill>
          <a:blip r:embed="rId1"/>
          <a:srcRect l="23447" t="11661" r="0" b="11876"/>
          <a:stretch/>
        </p:blipFill>
        <p:spPr>
          <a:xfrm>
            <a:off x="0" y="-28800"/>
            <a:ext cx="16382160" cy="1949760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16"/>
          <p:cNvGrpSpPr/>
          <p:nvPr/>
        </p:nvGrpSpPr>
        <p:grpSpPr>
          <a:xfrm>
            <a:off x="-696600" y="7650360"/>
            <a:ext cx="15500880" cy="4097160"/>
            <a:chOff x="-696600" y="7650360"/>
            <a:chExt cx="15500880" cy="4097160"/>
          </a:xfrm>
        </p:grpSpPr>
        <p:sp>
          <p:nvSpPr>
            <p:cNvPr id="106" name="文本框 12"/>
            <p:cNvSpPr/>
            <p:nvPr/>
          </p:nvSpPr>
          <p:spPr>
            <a:xfrm>
              <a:off x="-696600" y="7650360"/>
              <a:ext cx="15500880" cy="40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8800" spc="299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PRISE SLOGAN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1500" spc="299" strike="noStrike">
                  <a:solidFill>
                    <a:srgbClr val="ffffff"/>
                  </a:solidFill>
                  <a:latin typeface="Calibri"/>
                  <a:ea typeface="微软雅黑"/>
                </a:rPr>
                <a:t>THE COMPANY NAME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名称 企业标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等腰三角形 14"/>
            <p:cNvSpPr/>
            <p:nvPr/>
          </p:nvSpPr>
          <p:spPr>
            <a:xfrm rot="5400000">
              <a:off x="7093440" y="10565280"/>
              <a:ext cx="904320" cy="1302840"/>
            </a:xfrm>
            <a:custGeom>
              <a:avLst/>
              <a:gdLst>
                <a:gd name="textAreaLeft" fmla="*/ 0 w 904320"/>
                <a:gd name="textAreaRight" fmla="*/ 904680 w 904320"/>
                <a:gd name="textAreaTop" fmla="*/ 0 h 1302840"/>
                <a:gd name="textAreaBottom" fmla="*/ 1303200 h 1302840"/>
              </a:gdLst>
              <a:ahLst/>
              <a:rect l="textAreaLeft" t="textAreaTop" r="textAreaRight" b="textAreaBottom"/>
              <a:pathLst>
                <a:path w="3657600" h="5268686">
                  <a:moveTo>
                    <a:pt x="0" y="5268686"/>
                  </a:moveTo>
                  <a:lnTo>
                    <a:pt x="1828800" y="0"/>
                  </a:lnTo>
                  <a:lnTo>
                    <a:pt x="3657600" y="5268686"/>
                  </a:lnTo>
                  <a:lnTo>
                    <a:pt x="1850572" y="3544392"/>
                  </a:lnTo>
                  <a:lnTo>
                    <a:pt x="0" y="5268686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9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8" name="矩形 25"/>
          <p:cNvSpPr/>
          <p:nvPr/>
        </p:nvSpPr>
        <p:spPr>
          <a:xfrm>
            <a:off x="16138800" y="-36360"/>
            <a:ext cx="121320" cy="195048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椭圆 18"/>
          <p:cNvSpPr/>
          <p:nvPr/>
        </p:nvSpPr>
        <p:spPr>
          <a:xfrm>
            <a:off x="13229640" y="1218600"/>
            <a:ext cx="5939280" cy="59392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图片 17"/>
          <p:cNvSpPr/>
          <p:nvPr/>
        </p:nvSpPr>
        <p:spPr>
          <a:xfrm>
            <a:off x="13369320" y="1341720"/>
            <a:ext cx="5660280" cy="5693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0"/>
          <p:cNvSpPr/>
          <p:nvPr/>
        </p:nvSpPr>
        <p:spPr>
          <a:xfrm>
            <a:off x="15398640" y="9618840"/>
            <a:ext cx="1602000" cy="1602000"/>
          </a:xfrm>
          <a:prstGeom prst="ellipse">
            <a:avLst/>
          </a:prstGeom>
          <a:solidFill>
            <a:schemeClr val="bg1"/>
          </a:solidFill>
          <a:ln w="1270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2" name="图片 23" descr=""/>
          <p:cNvPicPr/>
          <p:nvPr/>
        </p:nvPicPr>
        <p:blipFill>
          <a:blip r:embed="rId3"/>
          <a:stretch/>
        </p:blipFill>
        <p:spPr>
          <a:xfrm>
            <a:off x="15727320" y="9947520"/>
            <a:ext cx="943920" cy="943920"/>
          </a:xfrm>
          <a:prstGeom prst="rect">
            <a:avLst/>
          </a:prstGeom>
          <a:ln w="0">
            <a:noFill/>
          </a:ln>
        </p:spPr>
      </p:pic>
      <p:sp>
        <p:nvSpPr>
          <p:cNvPr id="113" name="椭圆 27"/>
          <p:cNvSpPr/>
          <p:nvPr/>
        </p:nvSpPr>
        <p:spPr>
          <a:xfrm>
            <a:off x="15398640" y="13119120"/>
            <a:ext cx="1602000" cy="1602000"/>
          </a:xfrm>
          <a:prstGeom prst="ellipse">
            <a:avLst/>
          </a:prstGeom>
          <a:solidFill>
            <a:schemeClr val="bg1"/>
          </a:solidFill>
          <a:ln w="1270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4" name="图片 29" descr=""/>
          <p:cNvPicPr/>
          <p:nvPr/>
        </p:nvPicPr>
        <p:blipFill>
          <a:blip r:embed="rId4"/>
          <a:stretch/>
        </p:blipFill>
        <p:spPr>
          <a:xfrm>
            <a:off x="15544080" y="13264560"/>
            <a:ext cx="1310760" cy="1310760"/>
          </a:xfrm>
          <a:prstGeom prst="rect">
            <a:avLst/>
          </a:prstGeom>
          <a:ln w="0">
            <a:noFill/>
          </a:ln>
        </p:spPr>
      </p:pic>
      <p:sp>
        <p:nvSpPr>
          <p:cNvPr id="115" name="椭圆 33"/>
          <p:cNvSpPr/>
          <p:nvPr/>
        </p:nvSpPr>
        <p:spPr>
          <a:xfrm>
            <a:off x="15398640" y="16619400"/>
            <a:ext cx="1602000" cy="1602000"/>
          </a:xfrm>
          <a:prstGeom prst="ellipse">
            <a:avLst/>
          </a:prstGeom>
          <a:solidFill>
            <a:schemeClr val="bg1"/>
          </a:solidFill>
          <a:ln w="1270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6" name="图片 31" descr=""/>
          <p:cNvPicPr/>
          <p:nvPr/>
        </p:nvPicPr>
        <p:blipFill>
          <a:blip r:embed="rId5"/>
          <a:stretch/>
        </p:blipFill>
        <p:spPr>
          <a:xfrm>
            <a:off x="15509520" y="16730640"/>
            <a:ext cx="1379520" cy="137952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37"/>
          <p:cNvSpPr/>
          <p:nvPr/>
        </p:nvSpPr>
        <p:spPr>
          <a:xfrm>
            <a:off x="19451160" y="3495240"/>
            <a:ext cx="124092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6bc75"/>
                </a:solidFill>
                <a:latin typeface="微软雅黑"/>
                <a:ea typeface="微软雅黑"/>
              </a:rPr>
              <a:t>MR.CHAN </a:t>
            </a:r>
            <a:r>
              <a:rPr b="0" lang="zh-CN" sz="8800" spc="-1" strike="noStrike">
                <a:solidFill>
                  <a:srgbClr val="f6bc75"/>
                </a:solidFill>
                <a:latin typeface="微软雅黑"/>
                <a:ea typeface="微软雅黑"/>
              </a:rPr>
              <a:t>平牌设计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8"/>
          <p:cNvSpPr/>
          <p:nvPr/>
        </p:nvSpPr>
        <p:spPr>
          <a:xfrm>
            <a:off x="19558080" y="4941720"/>
            <a:ext cx="130514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1197" strike="noStrike">
                <a:solidFill>
                  <a:srgbClr val="ffffff"/>
                </a:solidFill>
                <a:latin typeface="Calibri"/>
              </a:rPr>
              <a:t>Mob </a:t>
            </a:r>
            <a:r>
              <a:rPr b="0" lang="zh-CN" sz="8000" spc="1197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0" spc="1197" strike="noStrike">
                <a:solidFill>
                  <a:srgbClr val="ffffff"/>
                </a:solidFill>
                <a:latin typeface="Calibri"/>
              </a:rPr>
              <a:t>1234567890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9"/>
          <p:cNvSpPr/>
          <p:nvPr/>
        </p:nvSpPr>
        <p:spPr>
          <a:xfrm>
            <a:off x="17594640" y="9865800"/>
            <a:ext cx="13508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址 ：广东省广州市越秀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0"/>
          <p:cNvSpPr/>
          <p:nvPr/>
        </p:nvSpPr>
        <p:spPr>
          <a:xfrm>
            <a:off x="17594640" y="13366080"/>
            <a:ext cx="13508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 ：输入你的办公室电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1"/>
          <p:cNvSpPr/>
          <p:nvPr/>
        </p:nvSpPr>
        <p:spPr>
          <a:xfrm>
            <a:off x="17594640" y="16866720"/>
            <a:ext cx="13508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301" strike="noStrike">
                <a:solidFill>
                  <a:srgbClr val="ffffff"/>
                </a:solidFill>
                <a:latin typeface="微软雅黑"/>
                <a:ea typeface="微软雅黑"/>
              </a:rPr>
              <a:t>邮件 ：输入你常用的邮箱地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1" descr=""/>
          <p:cNvPicPr/>
          <p:nvPr/>
        </p:nvPicPr>
        <p:blipFill>
          <a:blip r:embed="rId1"/>
          <a:srcRect l="27405" t="36443" r="27446" b="36392"/>
          <a:stretch/>
        </p:blipFill>
        <p:spPr>
          <a:xfrm>
            <a:off x="0" y="0"/>
            <a:ext cx="32369400" cy="194763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42" descr=""/>
          <p:cNvPicPr/>
          <p:nvPr/>
        </p:nvPicPr>
        <p:blipFill>
          <a:blip r:embed="rId2"/>
          <a:srcRect l="27405" t="36443" r="27446" b="36392"/>
          <a:stretch/>
        </p:blipFill>
        <p:spPr>
          <a:xfrm flipH="1" rot="10800000">
            <a:off x="14760" y="-17640"/>
            <a:ext cx="32369400" cy="19476360"/>
          </a:xfrm>
          <a:prstGeom prst="rect">
            <a:avLst/>
          </a:prstGeom>
          <a:ln w="0">
            <a:noFill/>
          </a:ln>
        </p:spPr>
      </p:pic>
      <p:grpSp>
        <p:nvGrpSpPr>
          <p:cNvPr id="124" name="组合 57"/>
          <p:cNvGrpSpPr/>
          <p:nvPr/>
        </p:nvGrpSpPr>
        <p:grpSpPr>
          <a:xfrm>
            <a:off x="1189800" y="1289160"/>
            <a:ext cx="30339360" cy="17007120"/>
            <a:chOff x="1189800" y="1289160"/>
            <a:chExt cx="30339360" cy="17007120"/>
          </a:xfrm>
        </p:grpSpPr>
        <p:cxnSp>
          <p:nvCxnSpPr>
            <p:cNvPr id="125" name="直接连接符 50"/>
            <p:cNvCxnSpPr/>
            <p:nvPr/>
          </p:nvCxnSpPr>
          <p:spPr>
            <a:xfrm>
              <a:off x="1262520" y="12490560"/>
              <a:ext cx="29874240" cy="360"/>
            </a:xfrm>
            <a:prstGeom prst="straightConnector1">
              <a:avLst/>
            </a:prstGeom>
            <a:ln w="127000">
              <a:solidFill>
                <a:srgbClr val="622232"/>
              </a:solidFill>
            </a:ln>
          </p:spPr>
        </p:cxnSp>
        <p:grpSp>
          <p:nvGrpSpPr>
            <p:cNvPr id="126" name="组合 53"/>
            <p:cNvGrpSpPr/>
            <p:nvPr/>
          </p:nvGrpSpPr>
          <p:grpSpPr>
            <a:xfrm>
              <a:off x="1203480" y="1289160"/>
              <a:ext cx="25579440" cy="11030400"/>
              <a:chOff x="1203480" y="1289160"/>
              <a:chExt cx="25579440" cy="11030400"/>
            </a:xfrm>
          </p:grpSpPr>
          <p:grpSp>
            <p:nvGrpSpPr>
              <p:cNvPr id="127" name="组合 48"/>
              <p:cNvGrpSpPr/>
              <p:nvPr/>
            </p:nvGrpSpPr>
            <p:grpSpPr>
              <a:xfrm>
                <a:off x="1203480" y="1289160"/>
                <a:ext cx="6633720" cy="6094080"/>
                <a:chOff x="1203480" y="1289160"/>
                <a:chExt cx="6633720" cy="6094080"/>
              </a:xfrm>
            </p:grpSpPr>
            <p:sp>
              <p:nvSpPr>
                <p:cNvPr id="128" name="矩形 43"/>
                <p:cNvSpPr/>
                <p:nvPr/>
              </p:nvSpPr>
              <p:spPr>
                <a:xfrm>
                  <a:off x="1203480" y="1289160"/>
                  <a:ext cx="6633720" cy="6094080"/>
                </a:xfrm>
                <a:prstGeom prst="rect">
                  <a:avLst/>
                </a:prstGeom>
                <a:solidFill>
                  <a:srgbClr val="62223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49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" name="Freeform 5"/>
                <p:cNvSpPr/>
                <p:nvPr/>
              </p:nvSpPr>
              <p:spPr>
                <a:xfrm>
                  <a:off x="2352600" y="2077200"/>
                  <a:ext cx="4335480" cy="4518360"/>
                </a:xfrm>
                <a:custGeom>
                  <a:avLst/>
                  <a:gdLst>
                    <a:gd name="textAreaLeft" fmla="*/ 0 w 4335480"/>
                    <a:gd name="textAreaRight" fmla="*/ 4335840 w 4335480"/>
                    <a:gd name="textAreaTop" fmla="*/ 0 h 4518360"/>
                    <a:gd name="textAreaBottom" fmla="*/ 4518720 h 4518360"/>
                  </a:gdLst>
                  <a:ahLst/>
                  <a:rect l="textAreaLeft" t="textAreaTop" r="textAreaRight" b="textAreaBottom"/>
                  <a:pathLst>
                    <a:path w="2973" h="3099">
                      <a:moveTo>
                        <a:pt x="1498" y="564"/>
                      </a:moveTo>
                      <a:cubicBezTo>
                        <a:pt x="1013" y="564"/>
                        <a:pt x="619" y="957"/>
                        <a:pt x="619" y="1442"/>
                      </a:cubicBezTo>
                      <a:cubicBezTo>
                        <a:pt x="619" y="1779"/>
                        <a:pt x="811" y="2084"/>
                        <a:pt x="1113" y="2231"/>
                      </a:cubicBezTo>
                      <a:cubicBezTo>
                        <a:pt x="1113" y="2611"/>
                        <a:pt x="1113" y="2611"/>
                        <a:pt x="1113" y="2611"/>
                      </a:cubicBezTo>
                      <a:cubicBezTo>
                        <a:pt x="1113" y="2717"/>
                        <a:pt x="1176" y="2810"/>
                        <a:pt x="1269" y="2850"/>
                      </a:cubicBezTo>
                      <a:cubicBezTo>
                        <a:pt x="1269" y="2932"/>
                        <a:pt x="1269" y="2932"/>
                        <a:pt x="1269" y="2932"/>
                      </a:cubicBezTo>
                      <a:cubicBezTo>
                        <a:pt x="1269" y="3024"/>
                        <a:pt x="1343" y="3099"/>
                        <a:pt x="1435" y="3099"/>
                      </a:cubicBezTo>
                      <a:cubicBezTo>
                        <a:pt x="1563" y="3099"/>
                        <a:pt x="1563" y="3099"/>
                        <a:pt x="1563" y="3099"/>
                      </a:cubicBezTo>
                      <a:cubicBezTo>
                        <a:pt x="1655" y="3099"/>
                        <a:pt x="1730" y="3024"/>
                        <a:pt x="1730" y="2932"/>
                      </a:cubicBezTo>
                      <a:cubicBezTo>
                        <a:pt x="1730" y="2851"/>
                        <a:pt x="1730" y="2851"/>
                        <a:pt x="1730" y="2851"/>
                      </a:cubicBezTo>
                      <a:cubicBezTo>
                        <a:pt x="1822" y="2810"/>
                        <a:pt x="1886" y="2717"/>
                        <a:pt x="1886" y="2611"/>
                      </a:cubicBezTo>
                      <a:cubicBezTo>
                        <a:pt x="1886" y="2231"/>
                        <a:pt x="1886" y="2231"/>
                        <a:pt x="1886" y="2231"/>
                      </a:cubicBezTo>
                      <a:cubicBezTo>
                        <a:pt x="2186" y="2084"/>
                        <a:pt x="2379" y="1779"/>
                        <a:pt x="2379" y="1442"/>
                      </a:cubicBezTo>
                      <a:cubicBezTo>
                        <a:pt x="2376" y="957"/>
                        <a:pt x="1982" y="564"/>
                        <a:pt x="1498" y="564"/>
                      </a:cubicBezTo>
                      <a:cubicBezTo>
                        <a:pt x="1498" y="564"/>
                        <a:pt x="1498" y="564"/>
                        <a:pt x="1498" y="564"/>
                      </a:cubicBezTo>
                      <a:close/>
                      <a:moveTo>
                        <a:pt x="1561" y="2975"/>
                      </a:moveTo>
                      <a:cubicBezTo>
                        <a:pt x="1434" y="2975"/>
                        <a:pt x="1434" y="2975"/>
                        <a:pt x="1434" y="2975"/>
                      </a:cubicBezTo>
                      <a:cubicBezTo>
                        <a:pt x="1411" y="2975"/>
                        <a:pt x="1391" y="2955"/>
                        <a:pt x="1391" y="2932"/>
                      </a:cubicBezTo>
                      <a:cubicBezTo>
                        <a:pt x="1391" y="2874"/>
                        <a:pt x="1391" y="2874"/>
                        <a:pt x="1391" y="2874"/>
                      </a:cubicBezTo>
                      <a:cubicBezTo>
                        <a:pt x="1604" y="2874"/>
                        <a:pt x="1604" y="2874"/>
                        <a:pt x="1604" y="2874"/>
                      </a:cubicBezTo>
                      <a:cubicBezTo>
                        <a:pt x="1604" y="2932"/>
                        <a:pt x="1604" y="2932"/>
                        <a:pt x="1604" y="2932"/>
                      </a:cubicBezTo>
                      <a:cubicBezTo>
                        <a:pt x="1604" y="2955"/>
                        <a:pt x="1584" y="2975"/>
                        <a:pt x="1561" y="2975"/>
                      </a:cubicBezTo>
                      <a:cubicBezTo>
                        <a:pt x="1561" y="2975"/>
                        <a:pt x="1561" y="2975"/>
                        <a:pt x="1561" y="2975"/>
                      </a:cubicBezTo>
                      <a:close/>
                      <a:moveTo>
                        <a:pt x="1620" y="2749"/>
                      </a:moveTo>
                      <a:cubicBezTo>
                        <a:pt x="1375" y="2749"/>
                        <a:pt x="1375" y="2749"/>
                        <a:pt x="1375" y="2749"/>
                      </a:cubicBezTo>
                      <a:cubicBezTo>
                        <a:pt x="1299" y="2749"/>
                        <a:pt x="1237" y="2687"/>
                        <a:pt x="1237" y="2611"/>
                      </a:cubicBezTo>
                      <a:cubicBezTo>
                        <a:pt x="1237" y="2462"/>
                        <a:pt x="1237" y="2462"/>
                        <a:pt x="1237" y="2462"/>
                      </a:cubicBezTo>
                      <a:cubicBezTo>
                        <a:pt x="1760" y="2462"/>
                        <a:pt x="1760" y="2462"/>
                        <a:pt x="1760" y="2462"/>
                      </a:cubicBezTo>
                      <a:cubicBezTo>
                        <a:pt x="1760" y="2611"/>
                        <a:pt x="1760" y="2611"/>
                        <a:pt x="1760" y="2611"/>
                      </a:cubicBezTo>
                      <a:cubicBezTo>
                        <a:pt x="1758" y="2687"/>
                        <a:pt x="1696" y="2749"/>
                        <a:pt x="1620" y="2749"/>
                      </a:cubicBezTo>
                      <a:cubicBezTo>
                        <a:pt x="1620" y="2749"/>
                        <a:pt x="1620" y="2749"/>
                        <a:pt x="1620" y="2749"/>
                      </a:cubicBezTo>
                      <a:close/>
                      <a:moveTo>
                        <a:pt x="1498" y="1845"/>
                      </a:moveTo>
                      <a:cubicBezTo>
                        <a:pt x="1364" y="1602"/>
                        <a:pt x="1364" y="1602"/>
                        <a:pt x="1364" y="1602"/>
                      </a:cubicBezTo>
                      <a:cubicBezTo>
                        <a:pt x="1629" y="1602"/>
                        <a:pt x="1629" y="1602"/>
                        <a:pt x="1629" y="1602"/>
                      </a:cubicBezTo>
                      <a:cubicBezTo>
                        <a:pt x="1498" y="1845"/>
                        <a:pt x="1498" y="1845"/>
                        <a:pt x="1498" y="1845"/>
                      </a:cubicBezTo>
                      <a:close/>
                      <a:moveTo>
                        <a:pt x="1796" y="2134"/>
                      </a:moveTo>
                      <a:cubicBezTo>
                        <a:pt x="1758" y="2150"/>
                        <a:pt x="1758" y="2150"/>
                        <a:pt x="1758" y="2150"/>
                      </a:cubicBezTo>
                      <a:cubicBezTo>
                        <a:pt x="1758" y="2338"/>
                        <a:pt x="1758" y="2338"/>
                        <a:pt x="1758" y="2338"/>
                      </a:cubicBezTo>
                      <a:cubicBezTo>
                        <a:pt x="1560" y="2338"/>
                        <a:pt x="1560" y="2338"/>
                        <a:pt x="1560" y="2338"/>
                      </a:cubicBezTo>
                      <a:cubicBezTo>
                        <a:pt x="1560" y="1972"/>
                        <a:pt x="1560" y="1972"/>
                        <a:pt x="1560" y="1972"/>
                      </a:cubicBezTo>
                      <a:cubicBezTo>
                        <a:pt x="1570" y="1965"/>
                        <a:pt x="1577" y="1955"/>
                        <a:pt x="1585" y="1944"/>
                      </a:cubicBezTo>
                      <a:cubicBezTo>
                        <a:pt x="1765" y="1610"/>
                        <a:pt x="1765" y="1610"/>
                        <a:pt x="1765" y="1610"/>
                      </a:cubicBezTo>
                      <a:cubicBezTo>
                        <a:pt x="1781" y="1584"/>
                        <a:pt x="1780" y="1550"/>
                        <a:pt x="1764" y="1523"/>
                      </a:cubicBezTo>
                      <a:cubicBezTo>
                        <a:pt x="1746" y="1495"/>
                        <a:pt x="1714" y="1477"/>
                        <a:pt x="1679" y="1477"/>
                      </a:cubicBezTo>
                      <a:cubicBezTo>
                        <a:pt x="1315" y="1477"/>
                        <a:pt x="1315" y="1477"/>
                        <a:pt x="1315" y="1477"/>
                      </a:cubicBezTo>
                      <a:cubicBezTo>
                        <a:pt x="1279" y="1477"/>
                        <a:pt x="1247" y="1495"/>
                        <a:pt x="1230" y="1523"/>
                      </a:cubicBezTo>
                      <a:cubicBezTo>
                        <a:pt x="1214" y="1550"/>
                        <a:pt x="1212" y="1582"/>
                        <a:pt x="1228" y="1610"/>
                      </a:cubicBezTo>
                      <a:cubicBezTo>
                        <a:pt x="1411" y="1946"/>
                        <a:pt x="1411" y="1946"/>
                        <a:pt x="1411" y="1946"/>
                      </a:cubicBezTo>
                      <a:cubicBezTo>
                        <a:pt x="1418" y="1956"/>
                        <a:pt x="1425" y="1967"/>
                        <a:pt x="1435" y="1974"/>
                      </a:cubicBezTo>
                      <a:cubicBezTo>
                        <a:pt x="1435" y="2338"/>
                        <a:pt x="1435" y="2338"/>
                        <a:pt x="1435" y="2338"/>
                      </a:cubicBezTo>
                      <a:cubicBezTo>
                        <a:pt x="1237" y="2338"/>
                        <a:pt x="1237" y="2338"/>
                        <a:pt x="1237" y="2338"/>
                      </a:cubicBezTo>
                      <a:cubicBezTo>
                        <a:pt x="1237" y="2150"/>
                        <a:pt x="1237" y="2150"/>
                        <a:pt x="1237" y="2150"/>
                      </a:cubicBezTo>
                      <a:cubicBezTo>
                        <a:pt x="1200" y="2134"/>
                        <a:pt x="1200" y="2134"/>
                        <a:pt x="1200" y="2134"/>
                      </a:cubicBezTo>
                      <a:cubicBezTo>
                        <a:pt x="923" y="2015"/>
                        <a:pt x="745" y="1742"/>
                        <a:pt x="745" y="1442"/>
                      </a:cubicBezTo>
                      <a:cubicBezTo>
                        <a:pt x="745" y="1027"/>
                        <a:pt x="1084" y="688"/>
                        <a:pt x="1499" y="688"/>
                      </a:cubicBezTo>
                      <a:cubicBezTo>
                        <a:pt x="1915" y="688"/>
                        <a:pt x="2253" y="1027"/>
                        <a:pt x="2253" y="1442"/>
                      </a:cubicBezTo>
                      <a:cubicBezTo>
                        <a:pt x="2252" y="1742"/>
                        <a:pt x="2072" y="2013"/>
                        <a:pt x="1796" y="2134"/>
                      </a:cubicBezTo>
                      <a:cubicBezTo>
                        <a:pt x="1796" y="2134"/>
                        <a:pt x="1796" y="2134"/>
                        <a:pt x="1796" y="2134"/>
                      </a:cubicBezTo>
                      <a:close/>
                      <a:moveTo>
                        <a:pt x="0" y="1266"/>
                      </a:moveTo>
                      <a:cubicBezTo>
                        <a:pt x="329" y="1266"/>
                        <a:pt x="329" y="1266"/>
                        <a:pt x="329" y="1266"/>
                      </a:cubicBezTo>
                      <a:cubicBezTo>
                        <a:pt x="329" y="1394"/>
                        <a:pt x="329" y="1394"/>
                        <a:pt x="329" y="1394"/>
                      </a:cubicBezTo>
                      <a:cubicBezTo>
                        <a:pt x="0" y="1394"/>
                        <a:pt x="0" y="1394"/>
                        <a:pt x="0" y="1394"/>
                      </a:cubicBezTo>
                      <a:cubicBezTo>
                        <a:pt x="0" y="1266"/>
                        <a:pt x="0" y="1266"/>
                        <a:pt x="0" y="1266"/>
                      </a:cubicBezTo>
                      <a:close/>
                      <a:moveTo>
                        <a:pt x="662" y="660"/>
                      </a:moveTo>
                      <a:cubicBezTo>
                        <a:pt x="429" y="427"/>
                        <a:pt x="429" y="427"/>
                        <a:pt x="429" y="427"/>
                      </a:cubicBezTo>
                      <a:cubicBezTo>
                        <a:pt x="519" y="337"/>
                        <a:pt x="519" y="337"/>
                        <a:pt x="519" y="337"/>
                      </a:cubicBezTo>
                      <a:cubicBezTo>
                        <a:pt x="752" y="570"/>
                        <a:pt x="752" y="570"/>
                        <a:pt x="752" y="570"/>
                      </a:cubicBezTo>
                      <a:cubicBezTo>
                        <a:pt x="662" y="660"/>
                        <a:pt x="662" y="660"/>
                        <a:pt x="662" y="660"/>
                      </a:cubicBezTo>
                      <a:close/>
                      <a:moveTo>
                        <a:pt x="2225" y="570"/>
                      </a:moveTo>
                      <a:cubicBezTo>
                        <a:pt x="2458" y="337"/>
                        <a:pt x="2458" y="337"/>
                        <a:pt x="2458" y="337"/>
                      </a:cubicBezTo>
                      <a:cubicBezTo>
                        <a:pt x="2548" y="427"/>
                        <a:pt x="2548" y="427"/>
                        <a:pt x="2548" y="427"/>
                      </a:cubicBezTo>
                      <a:cubicBezTo>
                        <a:pt x="2315" y="660"/>
                        <a:pt x="2315" y="660"/>
                        <a:pt x="2315" y="660"/>
                      </a:cubicBezTo>
                      <a:cubicBezTo>
                        <a:pt x="2225" y="570"/>
                        <a:pt x="2225" y="570"/>
                        <a:pt x="2225" y="570"/>
                      </a:cubicBezTo>
                      <a:close/>
                      <a:moveTo>
                        <a:pt x="2644" y="1266"/>
                      </a:moveTo>
                      <a:cubicBezTo>
                        <a:pt x="2973" y="1266"/>
                        <a:pt x="2973" y="1266"/>
                        <a:pt x="2973" y="1266"/>
                      </a:cubicBezTo>
                      <a:cubicBezTo>
                        <a:pt x="2973" y="1394"/>
                        <a:pt x="2973" y="1394"/>
                        <a:pt x="2973" y="1394"/>
                      </a:cubicBezTo>
                      <a:cubicBezTo>
                        <a:pt x="2644" y="1394"/>
                        <a:pt x="2644" y="1394"/>
                        <a:pt x="2644" y="1394"/>
                      </a:cubicBezTo>
                      <a:cubicBezTo>
                        <a:pt x="2644" y="1266"/>
                        <a:pt x="2644" y="1266"/>
                        <a:pt x="2644" y="1266"/>
                      </a:cubicBezTo>
                      <a:close/>
                      <a:moveTo>
                        <a:pt x="1423" y="0"/>
                      </a:moveTo>
                      <a:cubicBezTo>
                        <a:pt x="1550" y="0"/>
                        <a:pt x="1550" y="0"/>
                        <a:pt x="1550" y="0"/>
                      </a:cubicBezTo>
                      <a:cubicBezTo>
                        <a:pt x="1550" y="329"/>
                        <a:pt x="1550" y="329"/>
                        <a:pt x="1550" y="329"/>
                      </a:cubicBezTo>
                      <a:cubicBezTo>
                        <a:pt x="1423" y="329"/>
                        <a:pt x="1423" y="329"/>
                        <a:pt x="1423" y="329"/>
                      </a:cubicBezTo>
                      <a:cubicBezTo>
                        <a:pt x="1423" y="0"/>
                        <a:pt x="1423" y="0"/>
                        <a:pt x="1423" y="0"/>
                      </a:cubicBezTo>
                      <a:close/>
                      <a:moveTo>
                        <a:pt x="1423" y="0"/>
                      </a:moveTo>
                      <a:cubicBezTo>
                        <a:pt x="1423" y="0"/>
                        <a:pt x="1423" y="0"/>
                        <a:pt x="1423" y="0"/>
                      </a:cubicBezTo>
                    </a:path>
                  </a:pathLst>
                </a:custGeom>
                <a:solidFill>
                  <a:srgbClr val="dcc3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4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0" name="文本框 51"/>
              <p:cNvSpPr/>
              <p:nvPr/>
            </p:nvSpPr>
            <p:spPr>
              <a:xfrm>
                <a:off x="1203480" y="7627680"/>
                <a:ext cx="25579440" cy="46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1500" spc="-1" strike="noStrike">
                    <a:solidFill>
                      <a:srgbClr val="454543"/>
                    </a:solidFill>
                    <a:latin typeface="Calibri"/>
                  </a:rPr>
                  <a:t>MOUMOU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1500" spc="-1" strike="noStrike">
                    <a:solidFill>
                      <a:srgbClr val="454543"/>
                    </a:solidFill>
                    <a:latin typeface="Calibri"/>
                  </a:rPr>
                  <a:t>ADVERTISING MEDIA COMPANY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7200" spc="-1" strike="noStrike">
                    <a:solidFill>
                      <a:srgbClr val="454543"/>
                    </a:solidFill>
                    <a:latin typeface="微软雅黑"/>
                    <a:ea typeface="微软雅黑"/>
                  </a:rPr>
                  <a:t>某某广告传媒公司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文本框 54"/>
            <p:cNvSpPr/>
            <p:nvPr/>
          </p:nvSpPr>
          <p:spPr>
            <a:xfrm>
              <a:off x="22947120" y="2338560"/>
              <a:ext cx="8582040" cy="21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3800" spc="-1" strike="noStrike">
                  <a:solidFill>
                    <a:srgbClr val="622232"/>
                  </a:solidFill>
                  <a:latin typeface="Calibri"/>
                </a:rPr>
                <a:t>Your Name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55"/>
            <p:cNvSpPr/>
            <p:nvPr/>
          </p:nvSpPr>
          <p:spPr>
            <a:xfrm>
              <a:off x="22163400" y="4554360"/>
              <a:ext cx="910332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8000" spc="-1" strike="noStrike">
                  <a:solidFill>
                    <a:srgbClr val="454543"/>
                  </a:solidFill>
                  <a:latin typeface="微软雅黑"/>
                  <a:ea typeface="微软雅黑"/>
                </a:rPr>
                <a:t>部门经理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56"/>
            <p:cNvSpPr/>
            <p:nvPr/>
          </p:nvSpPr>
          <p:spPr>
            <a:xfrm>
              <a:off x="1189800" y="13268880"/>
              <a:ext cx="25084800" cy="50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7200" spc="-1" strike="noStrike">
                  <a:solidFill>
                    <a:srgbClr val="454543"/>
                  </a:solidFill>
                  <a:latin typeface="微软雅黑"/>
                  <a:ea typeface="微软雅黑"/>
                </a:rPr>
                <a:t>A : </a:t>
              </a:r>
              <a:r>
                <a:rPr b="0" lang="zh-CN" sz="7200" spc="-1" strike="noStrike">
                  <a:solidFill>
                    <a:srgbClr val="454543"/>
                  </a:solidFill>
                  <a:latin typeface="微软雅黑"/>
                  <a:ea typeface="微软雅黑"/>
                </a:rPr>
                <a:t>广东省广州市越秀区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7200" spc="-1" strike="noStrike">
                  <a:solidFill>
                    <a:srgbClr val="454543"/>
                  </a:solidFill>
                  <a:latin typeface="微软雅黑"/>
                  <a:ea typeface="微软雅黑"/>
                </a:rPr>
                <a:t>T : 0123456789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7200" spc="-1" strike="noStrike">
                  <a:solidFill>
                    <a:srgbClr val="454543"/>
                  </a:solidFill>
                  <a:latin typeface="微软雅黑"/>
                  <a:ea typeface="微软雅黑"/>
                </a:rPr>
                <a:t>E : gutedaile@foxmail.com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2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4"/>
          <p:cNvGrpSpPr/>
          <p:nvPr/>
        </p:nvGrpSpPr>
        <p:grpSpPr>
          <a:xfrm>
            <a:off x="9232920" y="7082640"/>
            <a:ext cx="13933440" cy="5275080"/>
            <a:chOff x="9232920" y="7082640"/>
            <a:chExt cx="13933440" cy="5275080"/>
          </a:xfrm>
        </p:grpSpPr>
        <p:sp>
          <p:nvSpPr>
            <p:cNvPr id="135" name="矩形 2"/>
            <p:cNvSpPr/>
            <p:nvPr/>
          </p:nvSpPr>
          <p:spPr>
            <a:xfrm>
              <a:off x="9232920" y="7082640"/>
              <a:ext cx="13933440" cy="5275080"/>
            </a:xfrm>
            <a:prstGeom prst="rect">
              <a:avLst/>
            </a:prstGeom>
            <a:noFill/>
            <a:ln w="76200">
              <a:solidFill>
                <a:srgbClr val="dcc3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文本框 3"/>
            <p:cNvSpPr/>
            <p:nvPr/>
          </p:nvSpPr>
          <p:spPr>
            <a:xfrm>
              <a:off x="10168920" y="7550280"/>
              <a:ext cx="12061080" cy="42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3800" spc="-1" strike="noStrike">
                  <a:solidFill>
                    <a:srgbClr val="dcc3b5"/>
                  </a:solidFill>
                  <a:latin typeface="Calibri"/>
                </a:rPr>
                <a:t>MOUMOU</a:t>
              </a:r>
              <a:endParaRPr b="0" lang="en-US" sz="13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3800" spc="-1" strike="noStrike">
                  <a:solidFill>
                    <a:srgbClr val="dcc3b5"/>
                  </a:solidFill>
                  <a:latin typeface="Calibri"/>
                </a:rPr>
                <a:t>ADVERTISING</a:t>
              </a:r>
              <a:endParaRPr b="0" lang="en-US" sz="1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2"/>
          <p:cNvSpPr/>
          <p:nvPr/>
        </p:nvSpPr>
        <p:spPr>
          <a:xfrm>
            <a:off x="0" y="0"/>
            <a:ext cx="32398920" cy="1959120"/>
          </a:xfrm>
          <a:prstGeom prst="rect">
            <a:avLst/>
          </a:prstGeom>
          <a:solidFill>
            <a:srgbClr val="4357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0" y="11313720"/>
            <a:ext cx="32398920" cy="8126280"/>
          </a:xfrm>
          <a:prstGeom prst="rect">
            <a:avLst/>
          </a:prstGeom>
          <a:solidFill>
            <a:srgbClr val="4357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文本框 4"/>
          <p:cNvSpPr/>
          <p:nvPr/>
        </p:nvSpPr>
        <p:spPr>
          <a:xfrm>
            <a:off x="2316600" y="2750760"/>
            <a:ext cx="1558800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445663"/>
                </a:solidFill>
                <a:latin typeface="微软雅黑"/>
                <a:ea typeface="微软雅黑"/>
              </a:rPr>
              <a:t>某某广告有限公司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445663"/>
                </a:solidFill>
                <a:latin typeface="微软雅黑"/>
                <a:ea typeface="微软雅黑"/>
              </a:rPr>
              <a:t>MOUMOU ADVERTISING MEDIA COMP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8"/>
          <p:cNvGrpSpPr/>
          <p:nvPr/>
        </p:nvGrpSpPr>
        <p:grpSpPr>
          <a:xfrm>
            <a:off x="2420640" y="9267480"/>
            <a:ext cx="12775680" cy="2036520"/>
            <a:chOff x="2420640" y="9267480"/>
            <a:chExt cx="12775680" cy="2036520"/>
          </a:xfrm>
        </p:grpSpPr>
        <p:sp>
          <p:nvSpPr>
            <p:cNvPr id="141" name="文本框 5"/>
            <p:cNvSpPr/>
            <p:nvPr/>
          </p:nvSpPr>
          <p:spPr>
            <a:xfrm>
              <a:off x="2420640" y="9267480"/>
              <a:ext cx="1277568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8000" spc="-1" strike="noStrike">
                  <a:solidFill>
                    <a:srgbClr val="445663"/>
                  </a:solidFill>
                  <a:latin typeface="微软雅黑"/>
                  <a:ea typeface="微软雅黑"/>
                </a:rPr>
                <a:t>大梦</a:t>
              </a:r>
              <a:r>
                <a:rPr b="0" lang="en-US" sz="8000" spc="-1" strike="noStrike">
                  <a:solidFill>
                    <a:srgbClr val="445663"/>
                  </a:solidFill>
                  <a:latin typeface="微软雅黑"/>
                  <a:ea typeface="微软雅黑"/>
                </a:rPr>
                <a:t>Power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6"/>
            <p:cNvSpPr/>
            <p:nvPr/>
          </p:nvSpPr>
          <p:spPr>
            <a:xfrm>
              <a:off x="2420640" y="10467720"/>
              <a:ext cx="876960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900" spc="-1" strike="noStrike">
                  <a:solidFill>
                    <a:srgbClr val="445663"/>
                  </a:solidFill>
                  <a:latin typeface="微软雅黑"/>
                  <a:ea typeface="微软雅黑"/>
                </a:rPr>
                <a:t>部门经理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矩形 9"/>
          <p:cNvSpPr/>
          <p:nvPr/>
        </p:nvSpPr>
        <p:spPr>
          <a:xfrm>
            <a:off x="0" y="15521400"/>
            <a:ext cx="32398920" cy="2471400"/>
          </a:xfrm>
          <a:prstGeom prst="rect">
            <a:avLst/>
          </a:prstGeom>
          <a:solidFill>
            <a:srgbClr val="7c7a7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矩形 21"/>
          <p:cNvSpPr/>
          <p:nvPr/>
        </p:nvSpPr>
        <p:spPr>
          <a:xfrm>
            <a:off x="13434840" y="12760920"/>
            <a:ext cx="5529600" cy="5162400"/>
          </a:xfrm>
          <a:prstGeom prst="rect">
            <a:avLst/>
          </a:prstGeom>
          <a:solidFill>
            <a:srgbClr val="7c7a7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5" name="图片 7" descr=""/>
          <p:cNvPicPr/>
          <p:nvPr/>
        </p:nvPicPr>
        <p:blipFill>
          <a:blip r:embed="rId1"/>
          <a:srcRect l="19284" t="8657" r="19069" b="24591"/>
          <a:stretch/>
        </p:blipFill>
        <p:spPr>
          <a:xfrm>
            <a:off x="13727880" y="12919320"/>
            <a:ext cx="4943160" cy="4943160"/>
          </a:xfrm>
          <a:prstGeom prst="rect">
            <a:avLst/>
          </a:prstGeom>
          <a:ln w="0">
            <a:noFill/>
          </a:ln>
        </p:spPr>
      </p:pic>
      <p:grpSp>
        <p:nvGrpSpPr>
          <p:cNvPr id="146" name="组合 48"/>
          <p:cNvGrpSpPr/>
          <p:nvPr/>
        </p:nvGrpSpPr>
        <p:grpSpPr>
          <a:xfrm>
            <a:off x="2460600" y="13211640"/>
            <a:ext cx="9723240" cy="4407120"/>
            <a:chOff x="2460600" y="13211640"/>
            <a:chExt cx="9723240" cy="4407120"/>
          </a:xfrm>
        </p:grpSpPr>
        <p:sp>
          <p:nvSpPr>
            <p:cNvPr id="147" name="文本框 15"/>
            <p:cNvSpPr/>
            <p:nvPr/>
          </p:nvSpPr>
          <p:spPr>
            <a:xfrm>
              <a:off x="4330440" y="13931280"/>
              <a:ext cx="77680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组合 45"/>
            <p:cNvGrpSpPr/>
            <p:nvPr/>
          </p:nvGrpSpPr>
          <p:grpSpPr>
            <a:xfrm>
              <a:off x="2460600" y="13211640"/>
              <a:ext cx="1654560" cy="4235040"/>
              <a:chOff x="2460600" y="13211640"/>
              <a:chExt cx="1654560" cy="4235040"/>
            </a:xfrm>
          </p:grpSpPr>
          <p:sp>
            <p:nvSpPr>
              <p:cNvPr id="149" name="Freeform 5"/>
              <p:cNvSpPr/>
              <p:nvPr/>
            </p:nvSpPr>
            <p:spPr>
              <a:xfrm>
                <a:off x="2460600" y="13211640"/>
                <a:ext cx="1563480" cy="1588680"/>
              </a:xfrm>
              <a:custGeom>
                <a:avLst/>
                <a:gdLst>
                  <a:gd name="textAreaLeft" fmla="*/ 0 w 1563480"/>
                  <a:gd name="textAreaRight" fmla="*/ 1563840 w 1563480"/>
                  <a:gd name="textAreaTop" fmla="*/ 0 h 1588680"/>
                  <a:gd name="textAreaBottom" fmla="*/ 1589040 h 1588680"/>
                </a:gdLst>
                <a:ahLst/>
                <a:rect l="textAreaLeft" t="textAreaTop" r="textAreaRight" b="textAreaBottom"/>
                <a:pathLst>
                  <a:path w="3217" h="3272">
                    <a:moveTo>
                      <a:pt x="3137" y="1324"/>
                    </a:moveTo>
                    <a:cubicBezTo>
                      <a:pt x="1843" y="118"/>
                      <a:pt x="1843" y="118"/>
                      <a:pt x="1843" y="118"/>
                    </a:cubicBezTo>
                    <a:cubicBezTo>
                      <a:pt x="1777" y="43"/>
                      <a:pt x="1683" y="0"/>
                      <a:pt x="1583" y="0"/>
                    </a:cubicBezTo>
                    <a:cubicBezTo>
                      <a:pt x="1484" y="0"/>
                      <a:pt x="1390" y="42"/>
                      <a:pt x="1327" y="113"/>
                    </a:cubicBezTo>
                    <a:cubicBezTo>
                      <a:pt x="80" y="1324"/>
                      <a:pt x="80" y="1324"/>
                      <a:pt x="80" y="1324"/>
                    </a:cubicBezTo>
                    <a:cubicBezTo>
                      <a:pt x="18" y="1387"/>
                      <a:pt x="0" y="1480"/>
                      <a:pt x="34" y="1562"/>
                    </a:cubicBezTo>
                    <a:cubicBezTo>
                      <a:pt x="69" y="1644"/>
                      <a:pt x="149" y="1695"/>
                      <a:pt x="238" y="1695"/>
                    </a:cubicBezTo>
                    <a:cubicBezTo>
                      <a:pt x="350" y="1695"/>
                      <a:pt x="350" y="1695"/>
                      <a:pt x="350" y="1695"/>
                    </a:cubicBezTo>
                    <a:cubicBezTo>
                      <a:pt x="350" y="2926"/>
                      <a:pt x="350" y="2926"/>
                      <a:pt x="350" y="2926"/>
                    </a:cubicBezTo>
                    <a:cubicBezTo>
                      <a:pt x="350" y="3117"/>
                      <a:pt x="503" y="3272"/>
                      <a:pt x="694" y="3272"/>
                    </a:cubicBezTo>
                    <a:cubicBezTo>
                      <a:pt x="1229" y="3272"/>
                      <a:pt x="1229" y="3272"/>
                      <a:pt x="1229" y="3272"/>
                    </a:cubicBezTo>
                    <a:cubicBezTo>
                      <a:pt x="1298" y="3272"/>
                      <a:pt x="1360" y="3216"/>
                      <a:pt x="1360" y="3147"/>
                    </a:cubicBezTo>
                    <a:cubicBezTo>
                      <a:pt x="1360" y="2328"/>
                      <a:pt x="1360" y="2328"/>
                      <a:pt x="1360" y="2328"/>
                    </a:cubicBezTo>
                    <a:cubicBezTo>
                      <a:pt x="1360" y="2293"/>
                      <a:pt x="1383" y="2262"/>
                      <a:pt x="1418" y="2262"/>
                    </a:cubicBezTo>
                    <a:cubicBezTo>
                      <a:pt x="1796" y="2262"/>
                      <a:pt x="1796" y="2262"/>
                      <a:pt x="1796" y="2262"/>
                    </a:cubicBezTo>
                    <a:cubicBezTo>
                      <a:pt x="1831" y="2262"/>
                      <a:pt x="1857" y="2293"/>
                      <a:pt x="1857" y="2328"/>
                    </a:cubicBezTo>
                    <a:cubicBezTo>
                      <a:pt x="1857" y="3147"/>
                      <a:pt x="1857" y="3147"/>
                      <a:pt x="1857" y="3147"/>
                    </a:cubicBezTo>
                    <a:cubicBezTo>
                      <a:pt x="1857" y="3216"/>
                      <a:pt x="1915" y="3272"/>
                      <a:pt x="1985" y="3272"/>
                    </a:cubicBezTo>
                    <a:cubicBezTo>
                      <a:pt x="2520" y="3272"/>
                      <a:pt x="2520" y="3272"/>
                      <a:pt x="2520" y="3272"/>
                    </a:cubicBezTo>
                    <a:cubicBezTo>
                      <a:pt x="2711" y="3272"/>
                      <a:pt x="2867" y="3117"/>
                      <a:pt x="2867" y="2926"/>
                    </a:cubicBezTo>
                    <a:cubicBezTo>
                      <a:pt x="2867" y="1695"/>
                      <a:pt x="2867" y="1695"/>
                      <a:pt x="2867" y="1695"/>
                    </a:cubicBezTo>
                    <a:cubicBezTo>
                      <a:pt x="2979" y="1695"/>
                      <a:pt x="2979" y="1695"/>
                      <a:pt x="2979" y="1695"/>
                    </a:cubicBezTo>
                    <a:cubicBezTo>
                      <a:pt x="3068" y="1695"/>
                      <a:pt x="3147" y="1644"/>
                      <a:pt x="3182" y="1562"/>
                    </a:cubicBezTo>
                    <a:cubicBezTo>
                      <a:pt x="3217" y="1481"/>
                      <a:pt x="3199" y="1388"/>
                      <a:pt x="3137" y="1324"/>
                    </a:cubicBezTo>
                    <a:cubicBezTo>
                      <a:pt x="3137" y="1324"/>
                      <a:pt x="3137" y="1324"/>
                      <a:pt x="3137" y="1324"/>
                    </a:cubicBezTo>
                    <a:close/>
                    <a:moveTo>
                      <a:pt x="3137" y="1324"/>
                    </a:moveTo>
                    <a:cubicBezTo>
                      <a:pt x="3137" y="1324"/>
                      <a:pt x="3137" y="1324"/>
                      <a:pt x="3137" y="1324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9"/>
              <p:cNvSpPr/>
              <p:nvPr/>
            </p:nvSpPr>
            <p:spPr>
              <a:xfrm>
                <a:off x="2551680" y="15883200"/>
                <a:ext cx="1563480" cy="1563480"/>
              </a:xfrm>
              <a:custGeom>
                <a:avLst/>
                <a:gdLst>
                  <a:gd name="textAreaLeft" fmla="*/ 0 w 1563480"/>
                  <a:gd name="textAreaRight" fmla="*/ 1563840 w 1563480"/>
                  <a:gd name="textAreaTop" fmla="*/ 0 h 1563480"/>
                  <a:gd name="textAreaBottom" fmla="*/ 1563840 h 1563480"/>
                </a:gdLst>
                <a:ahLst/>
                <a:rect l="textAreaLeft" t="textAreaTop" r="textAreaRight" b="textAreaBottom"/>
                <a:pathLst>
                  <a:path w="2853" h="2853">
                    <a:moveTo>
                      <a:pt x="2530" y="2740"/>
                    </a:moveTo>
                    <a:cubicBezTo>
                      <a:pt x="2611" y="2694"/>
                      <a:pt x="2688" y="2648"/>
                      <a:pt x="2750" y="2602"/>
                    </a:cubicBezTo>
                    <a:cubicBezTo>
                      <a:pt x="2757" y="2597"/>
                      <a:pt x="2788" y="2575"/>
                      <a:pt x="2796" y="2569"/>
                    </a:cubicBezTo>
                    <a:cubicBezTo>
                      <a:pt x="2830" y="2540"/>
                      <a:pt x="2853" y="2497"/>
                      <a:pt x="2853" y="2449"/>
                    </a:cubicBezTo>
                    <a:cubicBezTo>
                      <a:pt x="2853" y="2402"/>
                      <a:pt x="2833" y="2361"/>
                      <a:pt x="2800" y="2333"/>
                    </a:cubicBezTo>
                    <a:cubicBezTo>
                      <a:pt x="2164" y="1809"/>
                      <a:pt x="2164" y="1809"/>
                      <a:pt x="2164" y="1809"/>
                    </a:cubicBezTo>
                    <a:cubicBezTo>
                      <a:pt x="2138" y="1787"/>
                      <a:pt x="2104" y="1774"/>
                      <a:pt x="2067" y="1774"/>
                    </a:cubicBezTo>
                    <a:cubicBezTo>
                      <a:pt x="2025" y="1774"/>
                      <a:pt x="1988" y="1790"/>
                      <a:pt x="1960" y="1816"/>
                    </a:cubicBezTo>
                    <a:cubicBezTo>
                      <a:pt x="1949" y="1827"/>
                      <a:pt x="1853" y="1925"/>
                      <a:pt x="1853" y="1925"/>
                    </a:cubicBezTo>
                    <a:cubicBezTo>
                      <a:pt x="1787" y="1991"/>
                      <a:pt x="1680" y="1991"/>
                      <a:pt x="1614" y="1925"/>
                    </a:cubicBezTo>
                    <a:cubicBezTo>
                      <a:pt x="964" y="1275"/>
                      <a:pt x="964" y="1275"/>
                      <a:pt x="964" y="1275"/>
                    </a:cubicBezTo>
                    <a:cubicBezTo>
                      <a:pt x="898" y="1209"/>
                      <a:pt x="898" y="1101"/>
                      <a:pt x="964" y="1035"/>
                    </a:cubicBezTo>
                    <a:cubicBezTo>
                      <a:pt x="1070" y="929"/>
                      <a:pt x="1070" y="929"/>
                      <a:pt x="1070" y="929"/>
                    </a:cubicBezTo>
                    <a:cubicBezTo>
                      <a:pt x="1098" y="901"/>
                      <a:pt x="1114" y="863"/>
                      <a:pt x="1114" y="821"/>
                    </a:cubicBezTo>
                    <a:cubicBezTo>
                      <a:pt x="1114" y="779"/>
                      <a:pt x="1098" y="742"/>
                      <a:pt x="1072" y="715"/>
                    </a:cubicBezTo>
                    <a:cubicBezTo>
                      <a:pt x="527" y="56"/>
                      <a:pt x="527" y="56"/>
                      <a:pt x="527" y="56"/>
                    </a:cubicBezTo>
                    <a:cubicBezTo>
                      <a:pt x="498" y="22"/>
                      <a:pt x="455" y="0"/>
                      <a:pt x="407" y="0"/>
                    </a:cubicBezTo>
                    <a:cubicBezTo>
                      <a:pt x="356" y="0"/>
                      <a:pt x="312" y="25"/>
                      <a:pt x="283" y="62"/>
                    </a:cubicBezTo>
                    <a:cubicBezTo>
                      <a:pt x="274" y="75"/>
                      <a:pt x="274" y="75"/>
                      <a:pt x="274" y="75"/>
                    </a:cubicBezTo>
                    <a:cubicBezTo>
                      <a:pt x="155" y="235"/>
                      <a:pt x="0" y="490"/>
                      <a:pt x="0" y="729"/>
                    </a:cubicBezTo>
                    <a:cubicBezTo>
                      <a:pt x="0" y="1387"/>
                      <a:pt x="1468" y="2853"/>
                      <a:pt x="2120" y="2853"/>
                    </a:cubicBezTo>
                    <a:cubicBezTo>
                      <a:pt x="2132" y="2853"/>
                      <a:pt x="2145" y="2852"/>
                      <a:pt x="2156" y="2852"/>
                    </a:cubicBezTo>
                    <a:cubicBezTo>
                      <a:pt x="2326" y="2838"/>
                      <a:pt x="2454" y="2782"/>
                      <a:pt x="2530" y="2740"/>
                    </a:cubicBezTo>
                    <a:close/>
                    <a:moveTo>
                      <a:pt x="2530" y="2740"/>
                    </a:moveTo>
                    <a:cubicBezTo>
                      <a:pt x="2530" y="2740"/>
                      <a:pt x="2530" y="2740"/>
                      <a:pt x="2530" y="274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4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" name="文本框 23"/>
            <p:cNvSpPr/>
            <p:nvPr/>
          </p:nvSpPr>
          <p:spPr>
            <a:xfrm>
              <a:off x="4358520" y="16523640"/>
              <a:ext cx="78253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50"/>
          <p:cNvGrpSpPr/>
          <p:nvPr/>
        </p:nvGrpSpPr>
        <p:grpSpPr>
          <a:xfrm>
            <a:off x="22823640" y="13686840"/>
            <a:ext cx="10658520" cy="3919680"/>
            <a:chOff x="22823640" y="13686840"/>
            <a:chExt cx="10658520" cy="3919680"/>
          </a:xfrm>
        </p:grpSpPr>
        <p:sp>
          <p:nvSpPr>
            <p:cNvPr id="153" name="Freeform 13"/>
            <p:cNvSpPr/>
            <p:nvPr/>
          </p:nvSpPr>
          <p:spPr>
            <a:xfrm>
              <a:off x="22823640" y="13686840"/>
              <a:ext cx="1998360" cy="135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1352160"/>
                <a:gd name="textAreaBottom" fmla="*/ 1352520 h 1352160"/>
              </a:gdLst>
              <a:ahLst/>
              <a:rect l="textAreaLeft" t="textAreaTop" r="textAreaRight" b="textAreaBottom"/>
              <a:pathLst>
                <a:path w="3268" h="2207">
                  <a:moveTo>
                    <a:pt x="3258" y="136"/>
                  </a:moveTo>
                  <a:cubicBezTo>
                    <a:pt x="2256" y="994"/>
                    <a:pt x="2256" y="994"/>
                    <a:pt x="2256" y="994"/>
                  </a:cubicBezTo>
                  <a:cubicBezTo>
                    <a:pt x="1634" y="1503"/>
                    <a:pt x="1634" y="1503"/>
                    <a:pt x="1634" y="1503"/>
                  </a:cubicBezTo>
                  <a:cubicBezTo>
                    <a:pt x="1016" y="998"/>
                    <a:pt x="1016" y="998"/>
                    <a:pt x="1016" y="998"/>
                  </a:cubicBezTo>
                  <a:cubicBezTo>
                    <a:pt x="10" y="136"/>
                    <a:pt x="10" y="136"/>
                    <a:pt x="10" y="136"/>
                  </a:cubicBezTo>
                  <a:cubicBezTo>
                    <a:pt x="4" y="155"/>
                    <a:pt x="0" y="175"/>
                    <a:pt x="0" y="196"/>
                  </a:cubicBezTo>
                  <a:cubicBezTo>
                    <a:pt x="0" y="2010"/>
                    <a:pt x="0" y="2010"/>
                    <a:pt x="0" y="2010"/>
                  </a:cubicBezTo>
                  <a:cubicBezTo>
                    <a:pt x="0" y="2022"/>
                    <a:pt x="1" y="2034"/>
                    <a:pt x="4" y="2045"/>
                  </a:cubicBezTo>
                  <a:cubicBezTo>
                    <a:pt x="20" y="2137"/>
                    <a:pt x="100" y="2207"/>
                    <a:pt x="196" y="2207"/>
                  </a:cubicBezTo>
                  <a:cubicBezTo>
                    <a:pt x="3071" y="2207"/>
                    <a:pt x="3071" y="2207"/>
                    <a:pt x="3071" y="2207"/>
                  </a:cubicBezTo>
                  <a:cubicBezTo>
                    <a:pt x="3157" y="2207"/>
                    <a:pt x="3230" y="2150"/>
                    <a:pt x="3256" y="2072"/>
                  </a:cubicBezTo>
                  <a:cubicBezTo>
                    <a:pt x="3257" y="2073"/>
                    <a:pt x="3257" y="2073"/>
                    <a:pt x="3257" y="2073"/>
                  </a:cubicBezTo>
                  <a:cubicBezTo>
                    <a:pt x="3264" y="2053"/>
                    <a:pt x="3268" y="2032"/>
                    <a:pt x="3268" y="2010"/>
                  </a:cubicBezTo>
                  <a:cubicBezTo>
                    <a:pt x="3268" y="196"/>
                    <a:pt x="3268" y="196"/>
                    <a:pt x="3268" y="196"/>
                  </a:cubicBezTo>
                  <a:cubicBezTo>
                    <a:pt x="3268" y="175"/>
                    <a:pt x="3264" y="155"/>
                    <a:pt x="3258" y="136"/>
                  </a:cubicBezTo>
                  <a:close/>
                  <a:moveTo>
                    <a:pt x="1354" y="1042"/>
                  </a:moveTo>
                  <a:cubicBezTo>
                    <a:pt x="1634" y="1269"/>
                    <a:pt x="1634" y="1269"/>
                    <a:pt x="1634" y="1269"/>
                  </a:cubicBezTo>
                  <a:cubicBezTo>
                    <a:pt x="1915" y="1041"/>
                    <a:pt x="1915" y="1041"/>
                    <a:pt x="1915" y="1041"/>
                  </a:cubicBezTo>
                  <a:cubicBezTo>
                    <a:pt x="2057" y="925"/>
                    <a:pt x="2057" y="925"/>
                    <a:pt x="2057" y="925"/>
                  </a:cubicBezTo>
                  <a:cubicBezTo>
                    <a:pt x="3128" y="9"/>
                    <a:pt x="3128" y="9"/>
                    <a:pt x="3128" y="9"/>
                  </a:cubicBezTo>
                  <a:cubicBezTo>
                    <a:pt x="3110" y="4"/>
                    <a:pt x="3092" y="0"/>
                    <a:pt x="3073" y="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77" y="0"/>
                    <a:pt x="158" y="4"/>
                    <a:pt x="141" y="9"/>
                  </a:cubicBezTo>
                  <a:cubicBezTo>
                    <a:pt x="1212" y="926"/>
                    <a:pt x="1212" y="926"/>
                    <a:pt x="1212" y="926"/>
                  </a:cubicBezTo>
                  <a:cubicBezTo>
                    <a:pt x="1354" y="1042"/>
                    <a:pt x="1354" y="1042"/>
                    <a:pt x="1354" y="1042"/>
                  </a:cubicBezTo>
                  <a:close/>
                  <a:moveTo>
                    <a:pt x="1354" y="1042"/>
                  </a:moveTo>
                  <a:cubicBezTo>
                    <a:pt x="1354" y="1042"/>
                    <a:pt x="1354" y="1042"/>
                    <a:pt x="1354" y="1042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文本框 29"/>
            <p:cNvSpPr/>
            <p:nvPr/>
          </p:nvSpPr>
          <p:spPr>
            <a:xfrm>
              <a:off x="25090560" y="13985640"/>
              <a:ext cx="824184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30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7"/>
            <p:cNvSpPr/>
            <p:nvPr/>
          </p:nvSpPr>
          <p:spPr>
            <a:xfrm>
              <a:off x="23027040" y="15936840"/>
              <a:ext cx="1641960" cy="1640520"/>
            </a:xfrm>
            <a:custGeom>
              <a:avLst/>
              <a:gdLst>
                <a:gd name="textAreaLeft" fmla="*/ 0 w 1641960"/>
                <a:gd name="textAreaRight" fmla="*/ 1642320 w 1641960"/>
                <a:gd name="textAreaTop" fmla="*/ 0 h 1640520"/>
                <a:gd name="textAreaBottom" fmla="*/ 1640880 h 1640520"/>
              </a:gdLst>
              <a:ahLst/>
              <a:rect l="textAreaLeft" t="textAreaTop" r="textAreaRight" b="textAreaBottom"/>
              <a:pathLst>
                <a:path w="2859" h="2859">
                  <a:moveTo>
                    <a:pt x="1372" y="1373"/>
                  </a:moveTo>
                  <a:cubicBezTo>
                    <a:pt x="1372" y="808"/>
                    <a:pt x="1372" y="808"/>
                    <a:pt x="1372" y="808"/>
                  </a:cubicBezTo>
                  <a:cubicBezTo>
                    <a:pt x="878" y="808"/>
                    <a:pt x="878" y="808"/>
                    <a:pt x="878" y="808"/>
                  </a:cubicBezTo>
                  <a:cubicBezTo>
                    <a:pt x="833" y="978"/>
                    <a:pt x="805" y="1170"/>
                    <a:pt x="801" y="1373"/>
                  </a:cubicBezTo>
                  <a:cubicBezTo>
                    <a:pt x="1372" y="1373"/>
                    <a:pt x="1372" y="1373"/>
                    <a:pt x="1372" y="1373"/>
                  </a:cubicBezTo>
                  <a:close/>
                  <a:moveTo>
                    <a:pt x="911" y="693"/>
                  </a:moveTo>
                  <a:cubicBezTo>
                    <a:pt x="1372" y="693"/>
                    <a:pt x="1372" y="693"/>
                    <a:pt x="1372" y="693"/>
                  </a:cubicBezTo>
                  <a:cubicBezTo>
                    <a:pt x="1372" y="119"/>
                    <a:pt x="1372" y="119"/>
                    <a:pt x="1372" y="119"/>
                  </a:cubicBezTo>
                  <a:cubicBezTo>
                    <a:pt x="1184" y="157"/>
                    <a:pt x="1016" y="377"/>
                    <a:pt x="911" y="693"/>
                  </a:cubicBezTo>
                  <a:close/>
                  <a:moveTo>
                    <a:pt x="0" y="1373"/>
                  </a:moveTo>
                  <a:cubicBezTo>
                    <a:pt x="686" y="1373"/>
                    <a:pt x="686" y="1373"/>
                    <a:pt x="686" y="1373"/>
                  </a:cubicBezTo>
                  <a:cubicBezTo>
                    <a:pt x="690" y="1170"/>
                    <a:pt x="715" y="979"/>
                    <a:pt x="757" y="808"/>
                  </a:cubicBezTo>
                  <a:cubicBezTo>
                    <a:pt x="141" y="808"/>
                    <a:pt x="141" y="808"/>
                    <a:pt x="141" y="808"/>
                  </a:cubicBezTo>
                  <a:cubicBezTo>
                    <a:pt x="58" y="980"/>
                    <a:pt x="8" y="1171"/>
                    <a:pt x="0" y="1373"/>
                  </a:cubicBezTo>
                  <a:close/>
                  <a:moveTo>
                    <a:pt x="1372" y="1487"/>
                  </a:moveTo>
                  <a:cubicBezTo>
                    <a:pt x="801" y="1487"/>
                    <a:pt x="801" y="1487"/>
                    <a:pt x="801" y="1487"/>
                  </a:cubicBezTo>
                  <a:cubicBezTo>
                    <a:pt x="805" y="1689"/>
                    <a:pt x="833" y="1881"/>
                    <a:pt x="878" y="2052"/>
                  </a:cubicBezTo>
                  <a:cubicBezTo>
                    <a:pt x="1372" y="2052"/>
                    <a:pt x="1372" y="2052"/>
                    <a:pt x="1372" y="2052"/>
                  </a:cubicBezTo>
                  <a:cubicBezTo>
                    <a:pt x="1372" y="1487"/>
                    <a:pt x="1372" y="1487"/>
                    <a:pt x="1372" y="1487"/>
                  </a:cubicBezTo>
                  <a:close/>
                  <a:moveTo>
                    <a:pt x="686" y="1487"/>
                  </a:moveTo>
                  <a:cubicBezTo>
                    <a:pt x="0" y="1487"/>
                    <a:pt x="0" y="1487"/>
                    <a:pt x="0" y="1487"/>
                  </a:cubicBezTo>
                  <a:cubicBezTo>
                    <a:pt x="8" y="1689"/>
                    <a:pt x="58" y="1880"/>
                    <a:pt x="141" y="2052"/>
                  </a:cubicBezTo>
                  <a:cubicBezTo>
                    <a:pt x="757" y="2052"/>
                    <a:pt x="757" y="2052"/>
                    <a:pt x="757" y="2052"/>
                  </a:cubicBezTo>
                  <a:cubicBezTo>
                    <a:pt x="715" y="1881"/>
                    <a:pt x="690" y="1690"/>
                    <a:pt x="686" y="1487"/>
                  </a:cubicBezTo>
                  <a:close/>
                  <a:moveTo>
                    <a:pt x="2059" y="1373"/>
                  </a:moveTo>
                  <a:cubicBezTo>
                    <a:pt x="2054" y="1170"/>
                    <a:pt x="2027" y="978"/>
                    <a:pt x="1982" y="808"/>
                  </a:cubicBezTo>
                  <a:cubicBezTo>
                    <a:pt x="1487" y="808"/>
                    <a:pt x="1487" y="808"/>
                    <a:pt x="1487" y="808"/>
                  </a:cubicBezTo>
                  <a:cubicBezTo>
                    <a:pt x="1487" y="1373"/>
                    <a:pt x="1487" y="1373"/>
                    <a:pt x="1487" y="1373"/>
                  </a:cubicBezTo>
                  <a:cubicBezTo>
                    <a:pt x="2059" y="1373"/>
                    <a:pt x="2059" y="1373"/>
                    <a:pt x="2059" y="1373"/>
                  </a:cubicBezTo>
                  <a:close/>
                  <a:moveTo>
                    <a:pt x="2102" y="2052"/>
                  </a:moveTo>
                  <a:cubicBezTo>
                    <a:pt x="2718" y="2052"/>
                    <a:pt x="2718" y="2052"/>
                    <a:pt x="2718" y="2052"/>
                  </a:cubicBezTo>
                  <a:cubicBezTo>
                    <a:pt x="2801" y="1880"/>
                    <a:pt x="2851" y="1689"/>
                    <a:pt x="2859" y="1487"/>
                  </a:cubicBezTo>
                  <a:cubicBezTo>
                    <a:pt x="2173" y="1487"/>
                    <a:pt x="2173" y="1487"/>
                    <a:pt x="2173" y="1487"/>
                  </a:cubicBezTo>
                  <a:cubicBezTo>
                    <a:pt x="2169" y="1690"/>
                    <a:pt x="2144" y="1881"/>
                    <a:pt x="2102" y="2052"/>
                  </a:cubicBezTo>
                  <a:close/>
                  <a:moveTo>
                    <a:pt x="1487" y="119"/>
                  </a:moveTo>
                  <a:cubicBezTo>
                    <a:pt x="1487" y="693"/>
                    <a:pt x="1487" y="693"/>
                    <a:pt x="1487" y="693"/>
                  </a:cubicBezTo>
                  <a:cubicBezTo>
                    <a:pt x="1948" y="693"/>
                    <a:pt x="1948" y="693"/>
                    <a:pt x="1948" y="693"/>
                  </a:cubicBezTo>
                  <a:cubicBezTo>
                    <a:pt x="1844" y="377"/>
                    <a:pt x="1676" y="157"/>
                    <a:pt x="1487" y="119"/>
                  </a:cubicBezTo>
                  <a:close/>
                  <a:moveTo>
                    <a:pt x="1372" y="2857"/>
                  </a:moveTo>
                  <a:cubicBezTo>
                    <a:pt x="1121" y="2821"/>
                    <a:pt x="908" y="2556"/>
                    <a:pt x="789" y="2166"/>
                  </a:cubicBezTo>
                  <a:cubicBezTo>
                    <a:pt x="203" y="2166"/>
                    <a:pt x="203" y="2166"/>
                    <a:pt x="203" y="2166"/>
                  </a:cubicBezTo>
                  <a:cubicBezTo>
                    <a:pt x="445" y="2567"/>
                    <a:pt x="877" y="2840"/>
                    <a:pt x="1372" y="2859"/>
                  </a:cubicBezTo>
                  <a:cubicBezTo>
                    <a:pt x="1372" y="2857"/>
                    <a:pt x="1372" y="2857"/>
                    <a:pt x="1372" y="2857"/>
                  </a:cubicBezTo>
                  <a:close/>
                  <a:moveTo>
                    <a:pt x="789" y="693"/>
                  </a:moveTo>
                  <a:cubicBezTo>
                    <a:pt x="908" y="304"/>
                    <a:pt x="1121" y="38"/>
                    <a:pt x="1372" y="3"/>
                  </a:cubicBezTo>
                  <a:cubicBezTo>
                    <a:pt x="1372" y="0"/>
                    <a:pt x="1372" y="0"/>
                    <a:pt x="1372" y="0"/>
                  </a:cubicBezTo>
                  <a:cubicBezTo>
                    <a:pt x="877" y="20"/>
                    <a:pt x="445" y="293"/>
                    <a:pt x="203" y="693"/>
                  </a:cubicBezTo>
                  <a:cubicBezTo>
                    <a:pt x="789" y="693"/>
                    <a:pt x="789" y="693"/>
                    <a:pt x="789" y="693"/>
                  </a:cubicBezTo>
                  <a:close/>
                  <a:moveTo>
                    <a:pt x="2071" y="2166"/>
                  </a:moveTo>
                  <a:cubicBezTo>
                    <a:pt x="1951" y="2556"/>
                    <a:pt x="1738" y="2821"/>
                    <a:pt x="1487" y="2857"/>
                  </a:cubicBezTo>
                  <a:cubicBezTo>
                    <a:pt x="1487" y="2859"/>
                    <a:pt x="1487" y="2859"/>
                    <a:pt x="1487" y="2859"/>
                  </a:cubicBezTo>
                  <a:cubicBezTo>
                    <a:pt x="1983" y="2840"/>
                    <a:pt x="2415" y="2567"/>
                    <a:pt x="2656" y="2166"/>
                  </a:cubicBezTo>
                  <a:cubicBezTo>
                    <a:pt x="2071" y="2166"/>
                    <a:pt x="2071" y="2166"/>
                    <a:pt x="2071" y="2166"/>
                  </a:cubicBezTo>
                  <a:close/>
                  <a:moveTo>
                    <a:pt x="1487" y="3"/>
                  </a:moveTo>
                  <a:cubicBezTo>
                    <a:pt x="1738" y="38"/>
                    <a:pt x="1951" y="303"/>
                    <a:pt x="2071" y="693"/>
                  </a:cubicBezTo>
                  <a:cubicBezTo>
                    <a:pt x="2656" y="693"/>
                    <a:pt x="2656" y="693"/>
                    <a:pt x="2656" y="693"/>
                  </a:cubicBezTo>
                  <a:cubicBezTo>
                    <a:pt x="2415" y="293"/>
                    <a:pt x="1983" y="20"/>
                    <a:pt x="1487" y="0"/>
                  </a:cubicBezTo>
                  <a:cubicBezTo>
                    <a:pt x="1487" y="3"/>
                    <a:pt x="1487" y="3"/>
                    <a:pt x="1487" y="3"/>
                  </a:cubicBezTo>
                  <a:close/>
                  <a:moveTo>
                    <a:pt x="1948" y="2166"/>
                  </a:moveTo>
                  <a:cubicBezTo>
                    <a:pt x="1487" y="2166"/>
                    <a:pt x="1487" y="2166"/>
                    <a:pt x="1487" y="2166"/>
                  </a:cubicBezTo>
                  <a:cubicBezTo>
                    <a:pt x="1487" y="2740"/>
                    <a:pt x="1487" y="2740"/>
                    <a:pt x="1487" y="2740"/>
                  </a:cubicBezTo>
                  <a:cubicBezTo>
                    <a:pt x="1676" y="2703"/>
                    <a:pt x="1844" y="2482"/>
                    <a:pt x="1948" y="2166"/>
                  </a:cubicBezTo>
                  <a:close/>
                  <a:moveTo>
                    <a:pt x="2102" y="808"/>
                  </a:moveTo>
                  <a:cubicBezTo>
                    <a:pt x="2144" y="979"/>
                    <a:pt x="2169" y="1170"/>
                    <a:pt x="2173" y="1373"/>
                  </a:cubicBezTo>
                  <a:cubicBezTo>
                    <a:pt x="2859" y="1373"/>
                    <a:pt x="2859" y="1373"/>
                    <a:pt x="2859" y="1373"/>
                  </a:cubicBezTo>
                  <a:cubicBezTo>
                    <a:pt x="2851" y="1171"/>
                    <a:pt x="2801" y="980"/>
                    <a:pt x="2718" y="808"/>
                  </a:cubicBezTo>
                  <a:cubicBezTo>
                    <a:pt x="2102" y="808"/>
                    <a:pt x="2102" y="808"/>
                    <a:pt x="2102" y="808"/>
                  </a:cubicBezTo>
                  <a:close/>
                  <a:moveTo>
                    <a:pt x="1372" y="2740"/>
                  </a:moveTo>
                  <a:cubicBezTo>
                    <a:pt x="1372" y="2166"/>
                    <a:pt x="1372" y="2166"/>
                    <a:pt x="1372" y="2166"/>
                  </a:cubicBezTo>
                  <a:cubicBezTo>
                    <a:pt x="911" y="2166"/>
                    <a:pt x="911" y="2166"/>
                    <a:pt x="911" y="2166"/>
                  </a:cubicBezTo>
                  <a:cubicBezTo>
                    <a:pt x="1016" y="2482"/>
                    <a:pt x="1184" y="2703"/>
                    <a:pt x="1372" y="2740"/>
                  </a:cubicBezTo>
                  <a:close/>
                  <a:moveTo>
                    <a:pt x="1487" y="1487"/>
                  </a:moveTo>
                  <a:cubicBezTo>
                    <a:pt x="1487" y="2052"/>
                    <a:pt x="1487" y="2052"/>
                    <a:pt x="1487" y="2052"/>
                  </a:cubicBezTo>
                  <a:cubicBezTo>
                    <a:pt x="1982" y="2052"/>
                    <a:pt x="1982" y="2052"/>
                    <a:pt x="1982" y="2052"/>
                  </a:cubicBezTo>
                  <a:cubicBezTo>
                    <a:pt x="2027" y="1881"/>
                    <a:pt x="2054" y="1689"/>
                    <a:pt x="2059" y="1487"/>
                  </a:cubicBezTo>
                  <a:cubicBezTo>
                    <a:pt x="1487" y="1487"/>
                    <a:pt x="1487" y="1487"/>
                    <a:pt x="1487" y="1487"/>
                  </a:cubicBezTo>
                  <a:close/>
                  <a:moveTo>
                    <a:pt x="1487" y="1487"/>
                  </a:moveTo>
                  <a:cubicBezTo>
                    <a:pt x="1487" y="1487"/>
                    <a:pt x="1487" y="1487"/>
                    <a:pt x="1487" y="148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文本框 34"/>
            <p:cNvSpPr/>
            <p:nvPr/>
          </p:nvSpPr>
          <p:spPr>
            <a:xfrm>
              <a:off x="25090560" y="16511400"/>
              <a:ext cx="8391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30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6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"/>
          <p:cNvSpPr/>
          <p:nvPr/>
        </p:nvSpPr>
        <p:spPr>
          <a:xfrm>
            <a:off x="0" y="12888720"/>
            <a:ext cx="32398920" cy="30042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文本框 2"/>
          <p:cNvSpPr/>
          <p:nvPr/>
        </p:nvSpPr>
        <p:spPr>
          <a:xfrm>
            <a:off x="4599720" y="13729320"/>
            <a:ext cx="231991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000" spc="-1" strike="noStrike">
                <a:solidFill>
                  <a:srgbClr val="445663"/>
                </a:solidFill>
                <a:latin typeface="微软雅黑"/>
                <a:ea typeface="微软雅黑"/>
              </a:rPr>
              <a:t>MOUMOU ADVERTISING MEDIA COMPAN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1"/>
          <p:cNvGrpSpPr/>
          <p:nvPr/>
        </p:nvGrpSpPr>
        <p:grpSpPr>
          <a:xfrm>
            <a:off x="0" y="0"/>
            <a:ext cx="32398920" cy="19440000"/>
            <a:chOff x="0" y="0"/>
            <a:chExt cx="32398920" cy="19440000"/>
          </a:xfrm>
        </p:grpSpPr>
        <p:sp>
          <p:nvSpPr>
            <p:cNvPr id="160" name="矩形 2"/>
            <p:cNvSpPr/>
            <p:nvPr/>
          </p:nvSpPr>
          <p:spPr>
            <a:xfrm>
              <a:off x="0" y="0"/>
              <a:ext cx="4049640" cy="19440000"/>
            </a:xfrm>
            <a:prstGeom prst="rect">
              <a:avLst/>
            </a:prstGeom>
            <a:solidFill>
              <a:srgbClr val="d4a82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矩形 3"/>
            <p:cNvSpPr/>
            <p:nvPr/>
          </p:nvSpPr>
          <p:spPr>
            <a:xfrm>
              <a:off x="4050000" y="0"/>
              <a:ext cx="4049640" cy="19440000"/>
            </a:xfrm>
            <a:prstGeom prst="rect">
              <a:avLst/>
            </a:prstGeom>
            <a:solidFill>
              <a:srgbClr val="d183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矩形 4"/>
            <p:cNvSpPr/>
            <p:nvPr/>
          </p:nvSpPr>
          <p:spPr>
            <a:xfrm>
              <a:off x="8100000" y="0"/>
              <a:ext cx="4049640" cy="19440000"/>
            </a:xfrm>
            <a:prstGeom prst="rect">
              <a:avLst/>
            </a:prstGeom>
            <a:solidFill>
              <a:srgbClr val="c8354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矩形 5"/>
            <p:cNvSpPr/>
            <p:nvPr/>
          </p:nvSpPr>
          <p:spPr>
            <a:xfrm>
              <a:off x="12149640" y="0"/>
              <a:ext cx="4049640" cy="19440000"/>
            </a:xfrm>
            <a:prstGeom prst="rect">
              <a:avLst/>
            </a:prstGeom>
            <a:solidFill>
              <a:srgbClr val="c73f8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矩形 6"/>
            <p:cNvSpPr/>
            <p:nvPr/>
          </p:nvSpPr>
          <p:spPr>
            <a:xfrm>
              <a:off x="16199640" y="0"/>
              <a:ext cx="4049640" cy="19440000"/>
            </a:xfrm>
            <a:prstGeom prst="rect">
              <a:avLst/>
            </a:prstGeom>
            <a:solidFill>
              <a:srgbClr val="8e45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5" name="矩形 7"/>
            <p:cNvSpPr/>
            <p:nvPr/>
          </p:nvSpPr>
          <p:spPr>
            <a:xfrm>
              <a:off x="20249640" y="0"/>
              <a:ext cx="4049640" cy="19440000"/>
            </a:xfrm>
            <a:prstGeom prst="rect">
              <a:avLst/>
            </a:prstGeom>
            <a:solidFill>
              <a:srgbClr val="156d9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6" name="矩形 8"/>
            <p:cNvSpPr/>
            <p:nvPr/>
          </p:nvSpPr>
          <p:spPr>
            <a:xfrm>
              <a:off x="24299640" y="0"/>
              <a:ext cx="4049640" cy="19440000"/>
            </a:xfrm>
            <a:prstGeom prst="rect">
              <a:avLst/>
            </a:prstGeom>
            <a:solidFill>
              <a:srgbClr val="16a2c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7" name="矩形 9"/>
            <p:cNvSpPr/>
            <p:nvPr/>
          </p:nvSpPr>
          <p:spPr>
            <a:xfrm>
              <a:off x="28349280" y="0"/>
              <a:ext cx="4049640" cy="19440000"/>
            </a:xfrm>
            <a:prstGeom prst="rect">
              <a:avLst/>
            </a:prstGeom>
            <a:solidFill>
              <a:srgbClr val="7fa14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243000" rIns="243000" tIns="121320" bIns="12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01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8" name="圆角矩形 10"/>
          <p:cNvSpPr/>
          <p:nvPr/>
        </p:nvSpPr>
        <p:spPr>
          <a:xfrm>
            <a:off x="4376160" y="7434360"/>
            <a:ext cx="23646240" cy="4571640"/>
          </a:xfrm>
          <a:prstGeom prst="roundRect">
            <a:avLst>
              <a:gd name="adj" fmla="val 8491"/>
            </a:avLst>
          </a:prstGeom>
          <a:solidFill>
            <a:schemeClr val="bg1">
              <a:alpha val="1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595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9" name="文本框 13"/>
          <p:cNvSpPr/>
          <p:nvPr/>
        </p:nvSpPr>
        <p:spPr>
          <a:xfrm>
            <a:off x="8405640" y="8373600"/>
            <a:ext cx="1558800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rgbClr val="e9f1f3"/>
                </a:solidFill>
                <a:latin typeface="微软雅黑"/>
                <a:ea typeface="微软雅黑"/>
              </a:rPr>
              <a:t>某某广告有限公司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e9f1f3"/>
                </a:solidFill>
                <a:latin typeface="微软雅黑"/>
                <a:ea typeface="微软雅黑"/>
              </a:rPr>
              <a:t>MOUMOU ADVERTISING MEDIA COMP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409680" y="18881280"/>
            <a:ext cx="721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4"/>
          <p:cNvSpPr/>
          <p:nvPr/>
        </p:nvSpPr>
        <p:spPr>
          <a:xfrm>
            <a:off x="31546800" y="9784080"/>
            <a:ext cx="1095120" cy="9692280"/>
          </a:xfrm>
          <a:prstGeom prst="rect">
            <a:avLst/>
          </a:prstGeom>
          <a:solidFill>
            <a:srgbClr val="d8cf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2" name="图片 6" descr=""/>
          <p:cNvPicPr/>
          <p:nvPr/>
        </p:nvPicPr>
        <p:blipFill>
          <a:blip r:embed="rId1"/>
          <a:srcRect l="5398" t="0" r="0" b="37166"/>
          <a:stretch/>
        </p:blipFill>
        <p:spPr>
          <a:xfrm>
            <a:off x="0" y="0"/>
            <a:ext cx="31835520" cy="1947636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7"/>
          <p:cNvSpPr/>
          <p:nvPr/>
        </p:nvSpPr>
        <p:spPr>
          <a:xfrm>
            <a:off x="1310760" y="1744920"/>
            <a:ext cx="1558800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171717"/>
                </a:solidFill>
                <a:latin typeface="微软雅黑"/>
                <a:ea typeface="微软雅黑"/>
              </a:rPr>
              <a:t>某某广告有限公司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171717"/>
                </a:solidFill>
                <a:latin typeface="微软雅黑"/>
                <a:ea typeface="微软雅黑"/>
              </a:rPr>
              <a:t>MOUMOU ADVERTISING MEDIA COMP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8"/>
          <p:cNvSpPr/>
          <p:nvPr/>
        </p:nvSpPr>
        <p:spPr>
          <a:xfrm>
            <a:off x="1132200" y="7465680"/>
            <a:ext cx="966600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700" spc="-1" strike="noStrike">
                <a:solidFill>
                  <a:srgbClr val="171717"/>
                </a:solidFill>
                <a:latin typeface="Calibri"/>
              </a:rPr>
              <a:t>LOGO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2"/>
          <p:cNvGrpSpPr/>
          <p:nvPr/>
        </p:nvGrpSpPr>
        <p:grpSpPr>
          <a:xfrm>
            <a:off x="18273600" y="3377160"/>
            <a:ext cx="12775680" cy="2730960"/>
            <a:chOff x="18273600" y="3377160"/>
            <a:chExt cx="12775680" cy="2730960"/>
          </a:xfrm>
        </p:grpSpPr>
        <p:sp>
          <p:nvSpPr>
            <p:cNvPr id="176" name="文本框 10"/>
            <p:cNvSpPr/>
            <p:nvPr/>
          </p:nvSpPr>
          <p:spPr>
            <a:xfrm>
              <a:off x="18273600" y="3377160"/>
              <a:ext cx="12775680" cy="18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梦</a:t>
              </a:r>
              <a:r>
                <a:rPr b="0" lang="en-US" sz="1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ower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11"/>
            <p:cNvSpPr/>
            <p:nvPr/>
          </p:nvSpPr>
          <p:spPr>
            <a:xfrm>
              <a:off x="20276280" y="5013000"/>
              <a:ext cx="8769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门经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5"/>
          <p:cNvGrpSpPr/>
          <p:nvPr/>
        </p:nvGrpSpPr>
        <p:grpSpPr>
          <a:xfrm>
            <a:off x="20885040" y="8181360"/>
            <a:ext cx="8633880" cy="7710120"/>
            <a:chOff x="20885040" y="8181360"/>
            <a:chExt cx="8633880" cy="7710120"/>
          </a:xfrm>
        </p:grpSpPr>
        <p:sp>
          <p:nvSpPr>
            <p:cNvPr id="179" name="文本框 14"/>
            <p:cNvSpPr/>
            <p:nvPr/>
          </p:nvSpPr>
          <p:spPr>
            <a:xfrm>
              <a:off x="22545000" y="8547480"/>
              <a:ext cx="68979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>
              <a:off x="20885040" y="8181360"/>
              <a:ext cx="1388160" cy="1410840"/>
            </a:xfrm>
            <a:custGeom>
              <a:avLst/>
              <a:gdLst>
                <a:gd name="textAreaLeft" fmla="*/ 0 w 1388160"/>
                <a:gd name="textAreaRight" fmla="*/ 1388520 w 1388160"/>
                <a:gd name="textAreaTop" fmla="*/ 0 h 1410840"/>
                <a:gd name="textAreaBottom" fmla="*/ 1411200 h 1410840"/>
              </a:gdLst>
              <a:ahLst/>
              <a:rect l="textAreaLeft" t="textAreaTop" r="textAreaRight" b="textAreaBottom"/>
              <a:pathLst>
                <a:path w="3217" h="3272">
                  <a:moveTo>
                    <a:pt x="3137" y="1324"/>
                  </a:moveTo>
                  <a:cubicBezTo>
                    <a:pt x="1843" y="118"/>
                    <a:pt x="1843" y="118"/>
                    <a:pt x="1843" y="118"/>
                  </a:cubicBezTo>
                  <a:cubicBezTo>
                    <a:pt x="1777" y="43"/>
                    <a:pt x="1683" y="0"/>
                    <a:pt x="1583" y="0"/>
                  </a:cubicBezTo>
                  <a:cubicBezTo>
                    <a:pt x="1484" y="0"/>
                    <a:pt x="1390" y="42"/>
                    <a:pt x="1327" y="113"/>
                  </a:cubicBezTo>
                  <a:cubicBezTo>
                    <a:pt x="80" y="1324"/>
                    <a:pt x="80" y="1324"/>
                    <a:pt x="80" y="1324"/>
                  </a:cubicBezTo>
                  <a:cubicBezTo>
                    <a:pt x="18" y="1387"/>
                    <a:pt x="0" y="1480"/>
                    <a:pt x="34" y="1562"/>
                  </a:cubicBezTo>
                  <a:cubicBezTo>
                    <a:pt x="69" y="1644"/>
                    <a:pt x="149" y="1695"/>
                    <a:pt x="238" y="1695"/>
                  </a:cubicBezTo>
                  <a:cubicBezTo>
                    <a:pt x="350" y="1695"/>
                    <a:pt x="350" y="1695"/>
                    <a:pt x="350" y="1695"/>
                  </a:cubicBezTo>
                  <a:cubicBezTo>
                    <a:pt x="350" y="2926"/>
                    <a:pt x="350" y="2926"/>
                    <a:pt x="350" y="2926"/>
                  </a:cubicBezTo>
                  <a:cubicBezTo>
                    <a:pt x="350" y="3117"/>
                    <a:pt x="503" y="3272"/>
                    <a:pt x="694" y="3272"/>
                  </a:cubicBezTo>
                  <a:cubicBezTo>
                    <a:pt x="1229" y="3272"/>
                    <a:pt x="1229" y="3272"/>
                    <a:pt x="1229" y="3272"/>
                  </a:cubicBezTo>
                  <a:cubicBezTo>
                    <a:pt x="1298" y="3272"/>
                    <a:pt x="1360" y="3216"/>
                    <a:pt x="1360" y="3147"/>
                  </a:cubicBezTo>
                  <a:cubicBezTo>
                    <a:pt x="1360" y="2328"/>
                    <a:pt x="1360" y="2328"/>
                    <a:pt x="1360" y="2328"/>
                  </a:cubicBezTo>
                  <a:cubicBezTo>
                    <a:pt x="1360" y="2293"/>
                    <a:pt x="1383" y="2262"/>
                    <a:pt x="1418" y="2262"/>
                  </a:cubicBezTo>
                  <a:cubicBezTo>
                    <a:pt x="1796" y="2262"/>
                    <a:pt x="1796" y="2262"/>
                    <a:pt x="1796" y="2262"/>
                  </a:cubicBezTo>
                  <a:cubicBezTo>
                    <a:pt x="1831" y="2262"/>
                    <a:pt x="1857" y="2293"/>
                    <a:pt x="1857" y="2328"/>
                  </a:cubicBezTo>
                  <a:cubicBezTo>
                    <a:pt x="1857" y="3147"/>
                    <a:pt x="1857" y="3147"/>
                    <a:pt x="1857" y="3147"/>
                  </a:cubicBezTo>
                  <a:cubicBezTo>
                    <a:pt x="1857" y="3216"/>
                    <a:pt x="1915" y="3272"/>
                    <a:pt x="1985" y="3272"/>
                  </a:cubicBezTo>
                  <a:cubicBezTo>
                    <a:pt x="2520" y="3272"/>
                    <a:pt x="2520" y="3272"/>
                    <a:pt x="2520" y="3272"/>
                  </a:cubicBezTo>
                  <a:cubicBezTo>
                    <a:pt x="2711" y="3272"/>
                    <a:pt x="2867" y="3117"/>
                    <a:pt x="2867" y="2926"/>
                  </a:cubicBezTo>
                  <a:cubicBezTo>
                    <a:pt x="2867" y="1695"/>
                    <a:pt x="2867" y="1695"/>
                    <a:pt x="2867" y="1695"/>
                  </a:cubicBezTo>
                  <a:cubicBezTo>
                    <a:pt x="2979" y="1695"/>
                    <a:pt x="2979" y="1695"/>
                    <a:pt x="2979" y="1695"/>
                  </a:cubicBezTo>
                  <a:cubicBezTo>
                    <a:pt x="3068" y="1695"/>
                    <a:pt x="3147" y="1644"/>
                    <a:pt x="3182" y="1562"/>
                  </a:cubicBezTo>
                  <a:cubicBezTo>
                    <a:pt x="3217" y="1481"/>
                    <a:pt x="3199" y="1388"/>
                    <a:pt x="3137" y="1324"/>
                  </a:cubicBezTo>
                  <a:cubicBezTo>
                    <a:pt x="3137" y="1324"/>
                    <a:pt x="3137" y="1324"/>
                    <a:pt x="3137" y="1324"/>
                  </a:cubicBezTo>
                  <a:close/>
                  <a:moveTo>
                    <a:pt x="3137" y="1324"/>
                  </a:moveTo>
                  <a:cubicBezTo>
                    <a:pt x="3137" y="1324"/>
                    <a:pt x="3137" y="1324"/>
                    <a:pt x="3137" y="1324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"/>
            <p:cNvSpPr/>
            <p:nvPr/>
          </p:nvSpPr>
          <p:spPr>
            <a:xfrm>
              <a:off x="20965680" y="10591560"/>
              <a:ext cx="1388160" cy="1388160"/>
            </a:xfrm>
            <a:custGeom>
              <a:avLst/>
              <a:gdLst>
                <a:gd name="textAreaLeft" fmla="*/ 0 w 1388160"/>
                <a:gd name="textAreaRight" fmla="*/ 1388520 w 1388160"/>
                <a:gd name="textAreaTop" fmla="*/ 0 h 1388160"/>
                <a:gd name="textAreaBottom" fmla="*/ 1388520 h 1388160"/>
              </a:gdLst>
              <a:ahLst/>
              <a:rect l="textAreaLeft" t="textAreaTop" r="textAreaRight" b="textAreaBottom"/>
              <a:pathLst>
                <a:path w="2853" h="2853">
                  <a:moveTo>
                    <a:pt x="2530" y="2740"/>
                  </a:moveTo>
                  <a:cubicBezTo>
                    <a:pt x="2611" y="2694"/>
                    <a:pt x="2688" y="2648"/>
                    <a:pt x="2750" y="2602"/>
                  </a:cubicBezTo>
                  <a:cubicBezTo>
                    <a:pt x="2757" y="2597"/>
                    <a:pt x="2788" y="2575"/>
                    <a:pt x="2796" y="2569"/>
                  </a:cubicBezTo>
                  <a:cubicBezTo>
                    <a:pt x="2830" y="2540"/>
                    <a:pt x="2853" y="2497"/>
                    <a:pt x="2853" y="2449"/>
                  </a:cubicBezTo>
                  <a:cubicBezTo>
                    <a:pt x="2853" y="2402"/>
                    <a:pt x="2833" y="2361"/>
                    <a:pt x="2800" y="2333"/>
                  </a:cubicBezTo>
                  <a:cubicBezTo>
                    <a:pt x="2164" y="1809"/>
                    <a:pt x="2164" y="1809"/>
                    <a:pt x="2164" y="1809"/>
                  </a:cubicBezTo>
                  <a:cubicBezTo>
                    <a:pt x="2138" y="1787"/>
                    <a:pt x="2104" y="1774"/>
                    <a:pt x="2067" y="1774"/>
                  </a:cubicBezTo>
                  <a:cubicBezTo>
                    <a:pt x="2025" y="1774"/>
                    <a:pt x="1988" y="1790"/>
                    <a:pt x="1960" y="1816"/>
                  </a:cubicBezTo>
                  <a:cubicBezTo>
                    <a:pt x="1949" y="1827"/>
                    <a:pt x="1853" y="1925"/>
                    <a:pt x="1853" y="1925"/>
                  </a:cubicBezTo>
                  <a:cubicBezTo>
                    <a:pt x="1787" y="1991"/>
                    <a:pt x="1680" y="1991"/>
                    <a:pt x="1614" y="1925"/>
                  </a:cubicBezTo>
                  <a:cubicBezTo>
                    <a:pt x="964" y="1275"/>
                    <a:pt x="964" y="1275"/>
                    <a:pt x="964" y="1275"/>
                  </a:cubicBezTo>
                  <a:cubicBezTo>
                    <a:pt x="898" y="1209"/>
                    <a:pt x="898" y="1101"/>
                    <a:pt x="964" y="1035"/>
                  </a:cubicBezTo>
                  <a:cubicBezTo>
                    <a:pt x="1070" y="929"/>
                    <a:pt x="1070" y="929"/>
                    <a:pt x="1070" y="929"/>
                  </a:cubicBezTo>
                  <a:cubicBezTo>
                    <a:pt x="1098" y="901"/>
                    <a:pt x="1114" y="863"/>
                    <a:pt x="1114" y="821"/>
                  </a:cubicBezTo>
                  <a:cubicBezTo>
                    <a:pt x="1114" y="779"/>
                    <a:pt x="1098" y="742"/>
                    <a:pt x="1072" y="715"/>
                  </a:cubicBezTo>
                  <a:cubicBezTo>
                    <a:pt x="527" y="56"/>
                    <a:pt x="527" y="56"/>
                    <a:pt x="527" y="56"/>
                  </a:cubicBezTo>
                  <a:cubicBezTo>
                    <a:pt x="498" y="22"/>
                    <a:pt x="455" y="0"/>
                    <a:pt x="407" y="0"/>
                  </a:cubicBezTo>
                  <a:cubicBezTo>
                    <a:pt x="356" y="0"/>
                    <a:pt x="312" y="25"/>
                    <a:pt x="283" y="62"/>
                  </a:cubicBezTo>
                  <a:cubicBezTo>
                    <a:pt x="274" y="75"/>
                    <a:pt x="274" y="75"/>
                    <a:pt x="274" y="75"/>
                  </a:cubicBezTo>
                  <a:cubicBezTo>
                    <a:pt x="155" y="235"/>
                    <a:pt x="0" y="490"/>
                    <a:pt x="0" y="729"/>
                  </a:cubicBezTo>
                  <a:cubicBezTo>
                    <a:pt x="0" y="1387"/>
                    <a:pt x="1468" y="2853"/>
                    <a:pt x="2120" y="2853"/>
                  </a:cubicBezTo>
                  <a:cubicBezTo>
                    <a:pt x="2132" y="2853"/>
                    <a:pt x="2145" y="2852"/>
                    <a:pt x="2156" y="2852"/>
                  </a:cubicBezTo>
                  <a:cubicBezTo>
                    <a:pt x="2326" y="2838"/>
                    <a:pt x="2454" y="2782"/>
                    <a:pt x="2530" y="2740"/>
                  </a:cubicBezTo>
                  <a:close/>
                  <a:moveTo>
                    <a:pt x="2530" y="2740"/>
                  </a:moveTo>
                  <a:cubicBezTo>
                    <a:pt x="2530" y="2740"/>
                    <a:pt x="2530" y="2740"/>
                    <a:pt x="2530" y="274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文本框 16"/>
            <p:cNvSpPr/>
            <p:nvPr/>
          </p:nvSpPr>
          <p:spPr>
            <a:xfrm>
              <a:off x="22570200" y="10849320"/>
              <a:ext cx="69487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"/>
            <p:cNvSpPr/>
            <p:nvPr/>
          </p:nvSpPr>
          <p:spPr>
            <a:xfrm>
              <a:off x="20965680" y="12903840"/>
              <a:ext cx="1483920" cy="1004040"/>
            </a:xfrm>
            <a:custGeom>
              <a:avLst/>
              <a:gdLst>
                <a:gd name="textAreaLeft" fmla="*/ 0 w 1483920"/>
                <a:gd name="textAreaRight" fmla="*/ 1484280 w 1483920"/>
                <a:gd name="textAreaTop" fmla="*/ 0 h 1004040"/>
                <a:gd name="textAreaBottom" fmla="*/ 1004400 h 1004040"/>
              </a:gdLst>
              <a:ahLst/>
              <a:rect l="textAreaLeft" t="textAreaTop" r="textAreaRight" b="textAreaBottom"/>
              <a:pathLst>
                <a:path w="3268" h="2207">
                  <a:moveTo>
                    <a:pt x="3258" y="136"/>
                  </a:moveTo>
                  <a:cubicBezTo>
                    <a:pt x="2256" y="994"/>
                    <a:pt x="2256" y="994"/>
                    <a:pt x="2256" y="994"/>
                  </a:cubicBezTo>
                  <a:cubicBezTo>
                    <a:pt x="1634" y="1503"/>
                    <a:pt x="1634" y="1503"/>
                    <a:pt x="1634" y="1503"/>
                  </a:cubicBezTo>
                  <a:cubicBezTo>
                    <a:pt x="1016" y="998"/>
                    <a:pt x="1016" y="998"/>
                    <a:pt x="1016" y="998"/>
                  </a:cubicBezTo>
                  <a:cubicBezTo>
                    <a:pt x="10" y="136"/>
                    <a:pt x="10" y="136"/>
                    <a:pt x="10" y="136"/>
                  </a:cubicBezTo>
                  <a:cubicBezTo>
                    <a:pt x="4" y="155"/>
                    <a:pt x="0" y="175"/>
                    <a:pt x="0" y="196"/>
                  </a:cubicBezTo>
                  <a:cubicBezTo>
                    <a:pt x="0" y="2010"/>
                    <a:pt x="0" y="2010"/>
                    <a:pt x="0" y="2010"/>
                  </a:cubicBezTo>
                  <a:cubicBezTo>
                    <a:pt x="0" y="2022"/>
                    <a:pt x="1" y="2034"/>
                    <a:pt x="4" y="2045"/>
                  </a:cubicBezTo>
                  <a:cubicBezTo>
                    <a:pt x="20" y="2137"/>
                    <a:pt x="100" y="2207"/>
                    <a:pt x="196" y="2207"/>
                  </a:cubicBezTo>
                  <a:cubicBezTo>
                    <a:pt x="3071" y="2207"/>
                    <a:pt x="3071" y="2207"/>
                    <a:pt x="3071" y="2207"/>
                  </a:cubicBezTo>
                  <a:cubicBezTo>
                    <a:pt x="3157" y="2207"/>
                    <a:pt x="3230" y="2150"/>
                    <a:pt x="3256" y="2072"/>
                  </a:cubicBezTo>
                  <a:cubicBezTo>
                    <a:pt x="3257" y="2073"/>
                    <a:pt x="3257" y="2073"/>
                    <a:pt x="3257" y="2073"/>
                  </a:cubicBezTo>
                  <a:cubicBezTo>
                    <a:pt x="3264" y="2053"/>
                    <a:pt x="3268" y="2032"/>
                    <a:pt x="3268" y="2010"/>
                  </a:cubicBezTo>
                  <a:cubicBezTo>
                    <a:pt x="3268" y="196"/>
                    <a:pt x="3268" y="196"/>
                    <a:pt x="3268" y="196"/>
                  </a:cubicBezTo>
                  <a:cubicBezTo>
                    <a:pt x="3268" y="175"/>
                    <a:pt x="3264" y="155"/>
                    <a:pt x="3258" y="136"/>
                  </a:cubicBezTo>
                  <a:close/>
                  <a:moveTo>
                    <a:pt x="1354" y="1042"/>
                  </a:moveTo>
                  <a:cubicBezTo>
                    <a:pt x="1634" y="1269"/>
                    <a:pt x="1634" y="1269"/>
                    <a:pt x="1634" y="1269"/>
                  </a:cubicBezTo>
                  <a:cubicBezTo>
                    <a:pt x="1915" y="1041"/>
                    <a:pt x="1915" y="1041"/>
                    <a:pt x="1915" y="1041"/>
                  </a:cubicBezTo>
                  <a:cubicBezTo>
                    <a:pt x="2057" y="925"/>
                    <a:pt x="2057" y="925"/>
                    <a:pt x="2057" y="925"/>
                  </a:cubicBezTo>
                  <a:cubicBezTo>
                    <a:pt x="3128" y="9"/>
                    <a:pt x="3128" y="9"/>
                    <a:pt x="3128" y="9"/>
                  </a:cubicBezTo>
                  <a:cubicBezTo>
                    <a:pt x="3110" y="4"/>
                    <a:pt x="3092" y="0"/>
                    <a:pt x="3073" y="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77" y="0"/>
                    <a:pt x="158" y="4"/>
                    <a:pt x="141" y="9"/>
                  </a:cubicBezTo>
                  <a:cubicBezTo>
                    <a:pt x="1212" y="926"/>
                    <a:pt x="1212" y="926"/>
                    <a:pt x="1212" y="926"/>
                  </a:cubicBezTo>
                  <a:cubicBezTo>
                    <a:pt x="1354" y="1042"/>
                    <a:pt x="1354" y="1042"/>
                    <a:pt x="1354" y="1042"/>
                  </a:cubicBezTo>
                  <a:close/>
                  <a:moveTo>
                    <a:pt x="1354" y="1042"/>
                  </a:moveTo>
                  <a:cubicBezTo>
                    <a:pt x="1354" y="1042"/>
                    <a:pt x="1354" y="1042"/>
                    <a:pt x="1354" y="1042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文本框 21"/>
            <p:cNvSpPr/>
            <p:nvPr/>
          </p:nvSpPr>
          <p:spPr>
            <a:xfrm>
              <a:off x="22910760" y="12852000"/>
              <a:ext cx="61210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30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21117240" y="14672880"/>
              <a:ext cx="1219320" cy="12186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218600"/>
                <a:gd name="textAreaBottom" fmla="*/ 1218960 h 1218600"/>
              </a:gdLst>
              <a:ahLst/>
              <a:rect l="textAreaLeft" t="textAreaTop" r="textAreaRight" b="textAreaBottom"/>
              <a:pathLst>
                <a:path w="2859" h="2859">
                  <a:moveTo>
                    <a:pt x="1372" y="1373"/>
                  </a:moveTo>
                  <a:cubicBezTo>
                    <a:pt x="1372" y="808"/>
                    <a:pt x="1372" y="808"/>
                    <a:pt x="1372" y="808"/>
                  </a:cubicBezTo>
                  <a:cubicBezTo>
                    <a:pt x="878" y="808"/>
                    <a:pt x="878" y="808"/>
                    <a:pt x="878" y="808"/>
                  </a:cubicBezTo>
                  <a:cubicBezTo>
                    <a:pt x="833" y="978"/>
                    <a:pt x="805" y="1170"/>
                    <a:pt x="801" y="1373"/>
                  </a:cubicBezTo>
                  <a:cubicBezTo>
                    <a:pt x="1372" y="1373"/>
                    <a:pt x="1372" y="1373"/>
                    <a:pt x="1372" y="1373"/>
                  </a:cubicBezTo>
                  <a:close/>
                  <a:moveTo>
                    <a:pt x="911" y="693"/>
                  </a:moveTo>
                  <a:cubicBezTo>
                    <a:pt x="1372" y="693"/>
                    <a:pt x="1372" y="693"/>
                    <a:pt x="1372" y="693"/>
                  </a:cubicBezTo>
                  <a:cubicBezTo>
                    <a:pt x="1372" y="119"/>
                    <a:pt x="1372" y="119"/>
                    <a:pt x="1372" y="119"/>
                  </a:cubicBezTo>
                  <a:cubicBezTo>
                    <a:pt x="1184" y="157"/>
                    <a:pt x="1016" y="377"/>
                    <a:pt x="911" y="693"/>
                  </a:cubicBezTo>
                  <a:close/>
                  <a:moveTo>
                    <a:pt x="0" y="1373"/>
                  </a:moveTo>
                  <a:cubicBezTo>
                    <a:pt x="686" y="1373"/>
                    <a:pt x="686" y="1373"/>
                    <a:pt x="686" y="1373"/>
                  </a:cubicBezTo>
                  <a:cubicBezTo>
                    <a:pt x="690" y="1170"/>
                    <a:pt x="715" y="979"/>
                    <a:pt x="757" y="808"/>
                  </a:cubicBezTo>
                  <a:cubicBezTo>
                    <a:pt x="141" y="808"/>
                    <a:pt x="141" y="808"/>
                    <a:pt x="141" y="808"/>
                  </a:cubicBezTo>
                  <a:cubicBezTo>
                    <a:pt x="58" y="980"/>
                    <a:pt x="8" y="1171"/>
                    <a:pt x="0" y="1373"/>
                  </a:cubicBezTo>
                  <a:close/>
                  <a:moveTo>
                    <a:pt x="1372" y="1487"/>
                  </a:moveTo>
                  <a:cubicBezTo>
                    <a:pt x="801" y="1487"/>
                    <a:pt x="801" y="1487"/>
                    <a:pt x="801" y="1487"/>
                  </a:cubicBezTo>
                  <a:cubicBezTo>
                    <a:pt x="805" y="1689"/>
                    <a:pt x="833" y="1881"/>
                    <a:pt x="878" y="2052"/>
                  </a:cubicBezTo>
                  <a:cubicBezTo>
                    <a:pt x="1372" y="2052"/>
                    <a:pt x="1372" y="2052"/>
                    <a:pt x="1372" y="2052"/>
                  </a:cubicBezTo>
                  <a:cubicBezTo>
                    <a:pt x="1372" y="1487"/>
                    <a:pt x="1372" y="1487"/>
                    <a:pt x="1372" y="1487"/>
                  </a:cubicBezTo>
                  <a:close/>
                  <a:moveTo>
                    <a:pt x="686" y="1487"/>
                  </a:moveTo>
                  <a:cubicBezTo>
                    <a:pt x="0" y="1487"/>
                    <a:pt x="0" y="1487"/>
                    <a:pt x="0" y="1487"/>
                  </a:cubicBezTo>
                  <a:cubicBezTo>
                    <a:pt x="8" y="1689"/>
                    <a:pt x="58" y="1880"/>
                    <a:pt x="141" y="2052"/>
                  </a:cubicBezTo>
                  <a:cubicBezTo>
                    <a:pt x="757" y="2052"/>
                    <a:pt x="757" y="2052"/>
                    <a:pt x="757" y="2052"/>
                  </a:cubicBezTo>
                  <a:cubicBezTo>
                    <a:pt x="715" y="1881"/>
                    <a:pt x="690" y="1690"/>
                    <a:pt x="686" y="1487"/>
                  </a:cubicBezTo>
                  <a:close/>
                  <a:moveTo>
                    <a:pt x="2059" y="1373"/>
                  </a:moveTo>
                  <a:cubicBezTo>
                    <a:pt x="2054" y="1170"/>
                    <a:pt x="2027" y="978"/>
                    <a:pt x="1982" y="808"/>
                  </a:cubicBezTo>
                  <a:cubicBezTo>
                    <a:pt x="1487" y="808"/>
                    <a:pt x="1487" y="808"/>
                    <a:pt x="1487" y="808"/>
                  </a:cubicBezTo>
                  <a:cubicBezTo>
                    <a:pt x="1487" y="1373"/>
                    <a:pt x="1487" y="1373"/>
                    <a:pt x="1487" y="1373"/>
                  </a:cubicBezTo>
                  <a:cubicBezTo>
                    <a:pt x="2059" y="1373"/>
                    <a:pt x="2059" y="1373"/>
                    <a:pt x="2059" y="1373"/>
                  </a:cubicBezTo>
                  <a:close/>
                  <a:moveTo>
                    <a:pt x="2102" y="2052"/>
                  </a:moveTo>
                  <a:cubicBezTo>
                    <a:pt x="2718" y="2052"/>
                    <a:pt x="2718" y="2052"/>
                    <a:pt x="2718" y="2052"/>
                  </a:cubicBezTo>
                  <a:cubicBezTo>
                    <a:pt x="2801" y="1880"/>
                    <a:pt x="2851" y="1689"/>
                    <a:pt x="2859" y="1487"/>
                  </a:cubicBezTo>
                  <a:cubicBezTo>
                    <a:pt x="2173" y="1487"/>
                    <a:pt x="2173" y="1487"/>
                    <a:pt x="2173" y="1487"/>
                  </a:cubicBezTo>
                  <a:cubicBezTo>
                    <a:pt x="2169" y="1690"/>
                    <a:pt x="2144" y="1881"/>
                    <a:pt x="2102" y="2052"/>
                  </a:cubicBezTo>
                  <a:close/>
                  <a:moveTo>
                    <a:pt x="1487" y="119"/>
                  </a:moveTo>
                  <a:cubicBezTo>
                    <a:pt x="1487" y="693"/>
                    <a:pt x="1487" y="693"/>
                    <a:pt x="1487" y="693"/>
                  </a:cubicBezTo>
                  <a:cubicBezTo>
                    <a:pt x="1948" y="693"/>
                    <a:pt x="1948" y="693"/>
                    <a:pt x="1948" y="693"/>
                  </a:cubicBezTo>
                  <a:cubicBezTo>
                    <a:pt x="1844" y="377"/>
                    <a:pt x="1676" y="157"/>
                    <a:pt x="1487" y="119"/>
                  </a:cubicBezTo>
                  <a:close/>
                  <a:moveTo>
                    <a:pt x="1372" y="2857"/>
                  </a:moveTo>
                  <a:cubicBezTo>
                    <a:pt x="1121" y="2821"/>
                    <a:pt x="908" y="2556"/>
                    <a:pt x="789" y="2166"/>
                  </a:cubicBezTo>
                  <a:cubicBezTo>
                    <a:pt x="203" y="2166"/>
                    <a:pt x="203" y="2166"/>
                    <a:pt x="203" y="2166"/>
                  </a:cubicBezTo>
                  <a:cubicBezTo>
                    <a:pt x="445" y="2567"/>
                    <a:pt x="877" y="2840"/>
                    <a:pt x="1372" y="2859"/>
                  </a:cubicBezTo>
                  <a:cubicBezTo>
                    <a:pt x="1372" y="2857"/>
                    <a:pt x="1372" y="2857"/>
                    <a:pt x="1372" y="2857"/>
                  </a:cubicBezTo>
                  <a:close/>
                  <a:moveTo>
                    <a:pt x="789" y="693"/>
                  </a:moveTo>
                  <a:cubicBezTo>
                    <a:pt x="908" y="304"/>
                    <a:pt x="1121" y="38"/>
                    <a:pt x="1372" y="3"/>
                  </a:cubicBezTo>
                  <a:cubicBezTo>
                    <a:pt x="1372" y="0"/>
                    <a:pt x="1372" y="0"/>
                    <a:pt x="1372" y="0"/>
                  </a:cubicBezTo>
                  <a:cubicBezTo>
                    <a:pt x="877" y="20"/>
                    <a:pt x="445" y="293"/>
                    <a:pt x="203" y="693"/>
                  </a:cubicBezTo>
                  <a:cubicBezTo>
                    <a:pt x="789" y="693"/>
                    <a:pt x="789" y="693"/>
                    <a:pt x="789" y="693"/>
                  </a:cubicBezTo>
                  <a:close/>
                  <a:moveTo>
                    <a:pt x="2071" y="2166"/>
                  </a:moveTo>
                  <a:cubicBezTo>
                    <a:pt x="1951" y="2556"/>
                    <a:pt x="1738" y="2821"/>
                    <a:pt x="1487" y="2857"/>
                  </a:cubicBezTo>
                  <a:cubicBezTo>
                    <a:pt x="1487" y="2859"/>
                    <a:pt x="1487" y="2859"/>
                    <a:pt x="1487" y="2859"/>
                  </a:cubicBezTo>
                  <a:cubicBezTo>
                    <a:pt x="1983" y="2840"/>
                    <a:pt x="2415" y="2567"/>
                    <a:pt x="2656" y="2166"/>
                  </a:cubicBezTo>
                  <a:cubicBezTo>
                    <a:pt x="2071" y="2166"/>
                    <a:pt x="2071" y="2166"/>
                    <a:pt x="2071" y="2166"/>
                  </a:cubicBezTo>
                  <a:close/>
                  <a:moveTo>
                    <a:pt x="1487" y="3"/>
                  </a:moveTo>
                  <a:cubicBezTo>
                    <a:pt x="1738" y="38"/>
                    <a:pt x="1951" y="303"/>
                    <a:pt x="2071" y="693"/>
                  </a:cubicBezTo>
                  <a:cubicBezTo>
                    <a:pt x="2656" y="693"/>
                    <a:pt x="2656" y="693"/>
                    <a:pt x="2656" y="693"/>
                  </a:cubicBezTo>
                  <a:cubicBezTo>
                    <a:pt x="2415" y="293"/>
                    <a:pt x="1983" y="20"/>
                    <a:pt x="1487" y="0"/>
                  </a:cubicBezTo>
                  <a:cubicBezTo>
                    <a:pt x="1487" y="3"/>
                    <a:pt x="1487" y="3"/>
                    <a:pt x="1487" y="3"/>
                  </a:cubicBezTo>
                  <a:close/>
                  <a:moveTo>
                    <a:pt x="1948" y="2166"/>
                  </a:moveTo>
                  <a:cubicBezTo>
                    <a:pt x="1487" y="2166"/>
                    <a:pt x="1487" y="2166"/>
                    <a:pt x="1487" y="2166"/>
                  </a:cubicBezTo>
                  <a:cubicBezTo>
                    <a:pt x="1487" y="2740"/>
                    <a:pt x="1487" y="2740"/>
                    <a:pt x="1487" y="2740"/>
                  </a:cubicBezTo>
                  <a:cubicBezTo>
                    <a:pt x="1676" y="2703"/>
                    <a:pt x="1844" y="2482"/>
                    <a:pt x="1948" y="2166"/>
                  </a:cubicBezTo>
                  <a:close/>
                  <a:moveTo>
                    <a:pt x="2102" y="808"/>
                  </a:moveTo>
                  <a:cubicBezTo>
                    <a:pt x="2144" y="979"/>
                    <a:pt x="2169" y="1170"/>
                    <a:pt x="2173" y="1373"/>
                  </a:cubicBezTo>
                  <a:cubicBezTo>
                    <a:pt x="2859" y="1373"/>
                    <a:pt x="2859" y="1373"/>
                    <a:pt x="2859" y="1373"/>
                  </a:cubicBezTo>
                  <a:cubicBezTo>
                    <a:pt x="2851" y="1171"/>
                    <a:pt x="2801" y="980"/>
                    <a:pt x="2718" y="808"/>
                  </a:cubicBezTo>
                  <a:cubicBezTo>
                    <a:pt x="2102" y="808"/>
                    <a:pt x="2102" y="808"/>
                    <a:pt x="2102" y="808"/>
                  </a:cubicBezTo>
                  <a:close/>
                  <a:moveTo>
                    <a:pt x="1372" y="2740"/>
                  </a:moveTo>
                  <a:cubicBezTo>
                    <a:pt x="1372" y="2166"/>
                    <a:pt x="1372" y="2166"/>
                    <a:pt x="1372" y="2166"/>
                  </a:cubicBezTo>
                  <a:cubicBezTo>
                    <a:pt x="911" y="2166"/>
                    <a:pt x="911" y="2166"/>
                    <a:pt x="911" y="2166"/>
                  </a:cubicBezTo>
                  <a:cubicBezTo>
                    <a:pt x="1016" y="2482"/>
                    <a:pt x="1184" y="2703"/>
                    <a:pt x="1372" y="2740"/>
                  </a:cubicBezTo>
                  <a:close/>
                  <a:moveTo>
                    <a:pt x="1487" y="1487"/>
                  </a:moveTo>
                  <a:cubicBezTo>
                    <a:pt x="1487" y="2052"/>
                    <a:pt x="1487" y="2052"/>
                    <a:pt x="1487" y="2052"/>
                  </a:cubicBezTo>
                  <a:cubicBezTo>
                    <a:pt x="1982" y="2052"/>
                    <a:pt x="1982" y="2052"/>
                    <a:pt x="1982" y="2052"/>
                  </a:cubicBezTo>
                  <a:cubicBezTo>
                    <a:pt x="2027" y="1881"/>
                    <a:pt x="2054" y="1689"/>
                    <a:pt x="2059" y="1487"/>
                  </a:cubicBezTo>
                  <a:cubicBezTo>
                    <a:pt x="1487" y="1487"/>
                    <a:pt x="1487" y="1487"/>
                    <a:pt x="1487" y="1487"/>
                  </a:cubicBezTo>
                  <a:close/>
                  <a:moveTo>
                    <a:pt x="1487" y="1487"/>
                  </a:moveTo>
                  <a:cubicBezTo>
                    <a:pt x="1487" y="1487"/>
                    <a:pt x="1487" y="1487"/>
                    <a:pt x="1487" y="148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4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文本框 23"/>
            <p:cNvSpPr/>
            <p:nvPr/>
          </p:nvSpPr>
          <p:spPr>
            <a:xfrm>
              <a:off x="22840200" y="14728320"/>
              <a:ext cx="62326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30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23456789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等腰三角形 2"/>
          <p:cNvSpPr/>
          <p:nvPr/>
        </p:nvSpPr>
        <p:spPr>
          <a:xfrm flipV="1">
            <a:off x="3721320" y="-131400"/>
            <a:ext cx="12345480" cy="3526920"/>
          </a:xfrm>
          <a:custGeom>
            <a:avLst/>
            <a:gdLst>
              <a:gd name="textAreaLeft" fmla="*/ 0 w 12345480"/>
              <a:gd name="textAreaRight" fmla="*/ 12345840 w 12345480"/>
              <a:gd name="textAreaTop" fmla="*/ -360 h 3526920"/>
              <a:gd name="textAreaBottom" fmla="*/ 3526920 h 3526920"/>
            </a:gdLst>
            <a:ahLst/>
            <a:rect l="textAreaLeft" t="textAreaTop" r="textAreaRight" b="textAreaBottom"/>
            <a:pathLst>
              <a:path w="3962399" h="1132115">
                <a:moveTo>
                  <a:pt x="0" y="1088572"/>
                </a:moveTo>
                <a:lnTo>
                  <a:pt x="1981199" y="0"/>
                </a:lnTo>
                <a:lnTo>
                  <a:pt x="3962399" y="1132115"/>
                </a:lnTo>
                <a:lnTo>
                  <a:pt x="0" y="1088572"/>
                </a:lnTo>
                <a:close/>
              </a:path>
            </a:pathLst>
          </a:custGeom>
          <a:solidFill>
            <a:srgbClr val="d8d0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等腰三角形 3"/>
          <p:cNvSpPr/>
          <p:nvPr/>
        </p:nvSpPr>
        <p:spPr>
          <a:xfrm rot="5400000">
            <a:off x="-3533040" y="7931880"/>
            <a:ext cx="8577000" cy="3251520"/>
          </a:xfrm>
          <a:custGeom>
            <a:avLst/>
            <a:gdLst>
              <a:gd name="textAreaLeft" fmla="*/ 0 w 8577000"/>
              <a:gd name="textAreaRight" fmla="*/ 8577360 w 8577000"/>
              <a:gd name="textAreaTop" fmla="*/ 0 h 3251520"/>
              <a:gd name="textAreaBottom" fmla="*/ 3251880 h 3251520"/>
            </a:gdLst>
            <a:ahLst/>
            <a:rect l="textAreaLeft" t="textAreaTop" r="textAreaRight" b="textAreaBottom"/>
            <a:pathLst>
              <a:path w="1667302" h="870857">
                <a:moveTo>
                  <a:pt x="0" y="870857"/>
                </a:moveTo>
                <a:lnTo>
                  <a:pt x="674232" y="0"/>
                </a:lnTo>
                <a:lnTo>
                  <a:pt x="1667302" y="855743"/>
                </a:lnTo>
                <a:lnTo>
                  <a:pt x="0" y="870857"/>
                </a:lnTo>
                <a:close/>
              </a:path>
            </a:pathLst>
          </a:custGeom>
          <a:solidFill>
            <a:srgbClr val="e9f1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等腰三角形 4"/>
          <p:cNvSpPr/>
          <p:nvPr/>
        </p:nvSpPr>
        <p:spPr>
          <a:xfrm>
            <a:off x="6400800" y="16264800"/>
            <a:ext cx="16611120" cy="3175560"/>
          </a:xfrm>
          <a:custGeom>
            <a:avLst/>
            <a:gdLst>
              <a:gd name="textAreaLeft" fmla="*/ 0 w 16611120"/>
              <a:gd name="textAreaRight" fmla="*/ 16611480 w 16611120"/>
              <a:gd name="textAreaTop" fmla="*/ 0 h 3175560"/>
              <a:gd name="textAreaBottom" fmla="*/ 3175920 h 3175560"/>
            </a:gdLst>
            <a:ahLst/>
            <a:rect l="textAreaLeft" t="textAreaTop" r="textAreaRight" b="textAreaBottom"/>
            <a:pathLst>
              <a:path w="5921830" h="1132114">
                <a:moveTo>
                  <a:pt x="0" y="1132114"/>
                </a:moveTo>
                <a:lnTo>
                  <a:pt x="5050973" y="0"/>
                </a:lnTo>
                <a:lnTo>
                  <a:pt x="5921830" y="1132114"/>
                </a:lnTo>
                <a:lnTo>
                  <a:pt x="0" y="1132114"/>
                </a:lnTo>
                <a:close/>
              </a:path>
            </a:pathLst>
          </a:custGeom>
          <a:solidFill>
            <a:srgbClr val="e9f1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等腰三角形 5"/>
          <p:cNvSpPr/>
          <p:nvPr/>
        </p:nvSpPr>
        <p:spPr>
          <a:xfrm rot="16200000">
            <a:off x="25471440" y="7447680"/>
            <a:ext cx="10847520" cy="3007440"/>
          </a:xfrm>
          <a:custGeom>
            <a:avLst/>
            <a:gdLst>
              <a:gd name="textAreaLeft" fmla="*/ 0 w 10847520"/>
              <a:gd name="textAreaRight" fmla="*/ 10847880 w 10847520"/>
              <a:gd name="textAreaTop" fmla="*/ 0 h 3007440"/>
              <a:gd name="textAreaBottom" fmla="*/ 3007800 h 3007440"/>
            </a:gdLst>
            <a:ahLst/>
            <a:rect l="textAreaLeft" t="textAreaTop" r="textAreaRight" b="textAreaBottom"/>
            <a:pathLst>
              <a:path w="3265714" h="905509">
                <a:moveTo>
                  <a:pt x="0" y="905509"/>
                </a:moveTo>
                <a:lnTo>
                  <a:pt x="2491974" y="0"/>
                </a:lnTo>
                <a:lnTo>
                  <a:pt x="3265714" y="905509"/>
                </a:lnTo>
                <a:lnTo>
                  <a:pt x="0" y="905509"/>
                </a:lnTo>
                <a:close/>
              </a:path>
            </a:pathLst>
          </a:custGeom>
          <a:solidFill>
            <a:srgbClr val="d8d0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9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1" name="组合 8"/>
          <p:cNvGrpSpPr/>
          <p:nvPr/>
        </p:nvGrpSpPr>
        <p:grpSpPr>
          <a:xfrm>
            <a:off x="8405640" y="6331320"/>
            <a:ext cx="15588000" cy="6750000"/>
            <a:chOff x="8405640" y="6331320"/>
            <a:chExt cx="15588000" cy="6750000"/>
          </a:xfrm>
        </p:grpSpPr>
        <p:sp>
          <p:nvSpPr>
            <p:cNvPr id="192" name="文本框 6"/>
            <p:cNvSpPr/>
            <p:nvPr/>
          </p:nvSpPr>
          <p:spPr>
            <a:xfrm>
              <a:off x="8405640" y="10416240"/>
              <a:ext cx="15588000" cy="26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1500" spc="-1" strike="noStrike">
                  <a:solidFill>
                    <a:srgbClr val="e9f1f3"/>
                  </a:solidFill>
                  <a:latin typeface="微软雅黑"/>
                  <a:ea typeface="微软雅黑"/>
                </a:rPr>
                <a:t>某某广告有限公司</a:t>
              </a:r>
              <a:endParaRPr b="0" lang="en-US" sz="1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e9f1f3"/>
                  </a:solidFill>
                  <a:latin typeface="微软雅黑"/>
                  <a:ea typeface="微软雅黑"/>
                </a:rPr>
                <a:t>MOUMOU ADVERTISING MEDIA COMPANY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文本框 7"/>
            <p:cNvSpPr/>
            <p:nvPr/>
          </p:nvSpPr>
          <p:spPr>
            <a:xfrm>
              <a:off x="11366280" y="6331320"/>
              <a:ext cx="9666000" cy="44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700" spc="-1" strike="noStrike">
                  <a:solidFill>
                    <a:srgbClr val="e9f1f3"/>
                  </a:solidFill>
                  <a:latin typeface="Calibri"/>
                </a:rPr>
                <a:t>LOGO</a:t>
              </a:r>
              <a:endParaRPr b="0" lang="en-US" sz="28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05</TotalTime>
  <Application>LibreOffice/7.4.7.2$Linux_X86_64 LibreOffice_project/40$Build-2</Application>
  <AppVersion>15.0000</AppVersion>
  <Words>208</Words>
  <Paragraphs>6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6:04:00Z</dcterms:created>
  <dc:creator>USER</dc:creator>
  <dc:description/>
  <dc:language>en-US</dc:language>
  <cp:lastModifiedBy>王玉清</cp:lastModifiedBy>
  <dcterms:modified xsi:type="dcterms:W3CDTF">2016-02-23T03:20:09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自定义</vt:lpwstr>
  </property>
  <property fmtid="{D5CDD505-2E9C-101B-9397-08002B2CF9AE}" pid="4" name="Slides">
    <vt:r8>12</vt:r8>
  </property>
</Properties>
</file>