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A096-80B7-43FE-A410-D6C4520C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8B62-3D2D-4554-9BCA-90D92F07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ECDF-2131-4AFE-A40C-CAC56BE1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BB67-01E3-44BB-B6E7-2A844318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21F3-27FE-458B-8D8F-E4F6BD51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32CB-471D-4649-8F5D-12E08CBF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B7B7-FD3C-49F2-A813-7FA862BB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B97A-C31C-4F1F-9C7C-0F840AC7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2FF6-0BCE-428B-AEA3-D0BF47EF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9A9F-8FC9-45CC-B4D9-8766FAF4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1C77-ADFB-4F96-936E-7CEB975A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B735-8852-4AE9-A926-AC8D7324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32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7B75-C8D9-4C58-8A14-1D1F4CDAA2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3608280" y="3932280"/>
            <a:ext cx="2305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3608280" y="4897440"/>
            <a:ext cx="230364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04720" y="3994200"/>
            <a:ext cx="856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极简线条创意清晰精美通用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140360" y="1486080"/>
            <a:ext cx="1296720" cy="1008000"/>
          </a:xfrm>
          <a:prstGeom prst="flowChartProcess">
            <a:avLst/>
          </a:prstGeom>
          <a:solidFill>
            <a:srgbClr val="f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4213080" y="1557360"/>
            <a:ext cx="1167120" cy="865080"/>
          </a:xfrm>
          <a:prstGeom prst="flowChartProcess">
            <a:avLst/>
          </a:prstGeom>
          <a:noFill/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4386240" y="1812960"/>
            <a:ext cx="9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916360" y="1859040"/>
            <a:ext cx="374328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3130560" y="1844640"/>
            <a:ext cx="936720" cy="792360"/>
            <a:chOff x="3130560" y="1844640"/>
            <a:chExt cx="936720" cy="792360"/>
          </a:xfrm>
        </p:grpSpPr>
        <p:sp>
          <p:nvSpPr>
            <p:cNvPr id="50" name="AutoShape 4"/>
            <p:cNvSpPr/>
            <p:nvPr/>
          </p:nvSpPr>
          <p:spPr>
            <a:xfrm>
              <a:off x="3130560" y="1844640"/>
              <a:ext cx="936720" cy="792360"/>
            </a:xfrm>
            <a:prstGeom prst="flowChartProcess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5"/>
            <p:cNvSpPr/>
            <p:nvPr/>
          </p:nvSpPr>
          <p:spPr>
            <a:xfrm>
              <a:off x="3212280" y="1918800"/>
              <a:ext cx="763200" cy="623520"/>
            </a:xfrm>
            <a:prstGeom prst="flowChartProcess">
              <a:avLst/>
            </a:prstGeom>
            <a:noFill/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Text Box 6"/>
          <p:cNvSpPr/>
          <p:nvPr/>
        </p:nvSpPr>
        <p:spPr>
          <a:xfrm>
            <a:off x="4110120" y="1870200"/>
            <a:ext cx="18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 Your 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2911320" y="3316320"/>
            <a:ext cx="3743640" cy="431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125880" y="3301920"/>
            <a:ext cx="934920" cy="790560"/>
            <a:chOff x="3125880" y="3301920"/>
            <a:chExt cx="934920" cy="790560"/>
          </a:xfrm>
        </p:grpSpPr>
        <p:sp>
          <p:nvSpPr>
            <p:cNvPr id="55" name="AutoShape 9"/>
            <p:cNvSpPr/>
            <p:nvPr/>
          </p:nvSpPr>
          <p:spPr>
            <a:xfrm>
              <a:off x="3125880" y="3301920"/>
              <a:ext cx="934920" cy="790560"/>
            </a:xfrm>
            <a:prstGeom prst="flowChartProcess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0"/>
            <p:cNvSpPr/>
            <p:nvPr/>
          </p:nvSpPr>
          <p:spPr>
            <a:xfrm>
              <a:off x="3207600" y="3375360"/>
              <a:ext cx="761760" cy="623520"/>
            </a:xfrm>
            <a:prstGeom prst="flowChartProcess">
              <a:avLst/>
            </a:prstGeom>
            <a:noFill/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11"/>
          <p:cNvSpPr/>
          <p:nvPr/>
        </p:nvSpPr>
        <p:spPr>
          <a:xfrm>
            <a:off x="4105440" y="3327480"/>
            <a:ext cx="183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 Your 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2911320" y="4749840"/>
            <a:ext cx="3743640" cy="431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3"/>
          <p:cNvGrpSpPr/>
          <p:nvPr/>
        </p:nvGrpSpPr>
        <p:grpSpPr>
          <a:xfrm>
            <a:off x="3125880" y="4735440"/>
            <a:ext cx="934920" cy="790560"/>
            <a:chOff x="3125880" y="4735440"/>
            <a:chExt cx="934920" cy="790560"/>
          </a:xfrm>
        </p:grpSpPr>
        <p:sp>
          <p:nvSpPr>
            <p:cNvPr id="60" name="AutoShape 14"/>
            <p:cNvSpPr/>
            <p:nvPr/>
          </p:nvSpPr>
          <p:spPr>
            <a:xfrm>
              <a:off x="3125880" y="4735440"/>
              <a:ext cx="934920" cy="790560"/>
            </a:xfrm>
            <a:prstGeom prst="flowChartProcess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5"/>
            <p:cNvSpPr/>
            <p:nvPr/>
          </p:nvSpPr>
          <p:spPr>
            <a:xfrm>
              <a:off x="3207600" y="4808880"/>
              <a:ext cx="761760" cy="623520"/>
            </a:xfrm>
            <a:prstGeom prst="flowChartProcess">
              <a:avLst/>
            </a:prstGeom>
            <a:noFill/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16"/>
          <p:cNvSpPr/>
          <p:nvPr/>
        </p:nvSpPr>
        <p:spPr>
          <a:xfrm>
            <a:off x="4105440" y="4761000"/>
            <a:ext cx="183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 Your 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3854520" y="76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Line 2"/>
          <p:cNvSpPr/>
          <p:nvPr/>
        </p:nvSpPr>
        <p:spPr>
          <a:xfrm>
            <a:off x="1260360" y="6180120"/>
            <a:ext cx="7561440" cy="1440"/>
          </a:xfrm>
          <a:prstGeom prst="line">
            <a:avLst/>
          </a:prstGeom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252360" y="836640"/>
            <a:ext cx="8712360" cy="527040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>
            <a:off x="973080" y="1555920"/>
            <a:ext cx="172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927000" y="1063800"/>
            <a:ext cx="18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Your 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227960" y="14590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音量 194"/>
          <p:cNvSpPr/>
          <p:nvPr/>
        </p:nvSpPr>
        <p:spPr>
          <a:xfrm rot="10800000">
            <a:off x="328320" y="1271160"/>
            <a:ext cx="576360" cy="576360"/>
          </a:xfrm>
          <a:custGeom>
            <a:avLst/>
            <a:gdLst/>
            <a:ahLst/>
            <a:rect l="l" t="t" r="r" b="b"/>
            <a:pathLst>
              <a:path w="1301527" h="1186978">
                <a:moveTo>
                  <a:pt x="744913" y="309576"/>
                </a:moveTo>
                <a:lnTo>
                  <a:pt x="744913" y="877403"/>
                </a:lnTo>
                <a:lnTo>
                  <a:pt x="1001726" y="719489"/>
                </a:lnTo>
                <a:lnTo>
                  <a:pt x="1259526" y="719489"/>
                </a:lnTo>
                <a:cubicBezTo>
                  <a:pt x="1282723" y="719489"/>
                  <a:pt x="1301527" y="700685"/>
                  <a:pt x="1301527" y="677488"/>
                </a:cubicBezTo>
                <a:lnTo>
                  <a:pt x="1301527" y="509490"/>
                </a:lnTo>
                <a:cubicBezTo>
                  <a:pt x="1301527" y="486293"/>
                  <a:pt x="1282723" y="467489"/>
                  <a:pt x="1259526" y="467489"/>
                </a:cubicBezTo>
                <a:lnTo>
                  <a:pt x="1001724" y="467489"/>
                </a:lnTo>
                <a:lnTo>
                  <a:pt x="744913" y="309576"/>
                </a:lnTo>
                <a:close/>
                <a:moveTo>
                  <a:pt x="486516" y="175870"/>
                </a:moveTo>
                <a:cubicBezTo>
                  <a:pt x="371649" y="278215"/>
                  <a:pt x="300385" y="427530"/>
                  <a:pt x="300385" y="593488"/>
                </a:cubicBezTo>
                <a:cubicBezTo>
                  <a:pt x="300385" y="759449"/>
                  <a:pt x="371649" y="908762"/>
                  <a:pt x="486516" y="1011109"/>
                </a:cubicBezTo>
                <a:lnTo>
                  <a:pt x="609421" y="924274"/>
                </a:lnTo>
                <a:cubicBezTo>
                  <a:pt x="509665" y="848549"/>
                  <a:pt x="446248" y="728424"/>
                  <a:pt x="446248" y="593488"/>
                </a:cubicBezTo>
                <a:cubicBezTo>
                  <a:pt x="446248" y="458553"/>
                  <a:pt x="509665" y="338428"/>
                  <a:pt x="609421" y="262704"/>
                </a:cubicBezTo>
                <a:lnTo>
                  <a:pt x="486516" y="175870"/>
                </a:lnTo>
                <a:close/>
                <a:moveTo>
                  <a:pt x="237591" y="0"/>
                </a:moveTo>
                <a:cubicBezTo>
                  <a:pt x="89700" y="153897"/>
                  <a:pt x="0" y="363218"/>
                  <a:pt x="0" y="593490"/>
                </a:cubicBezTo>
                <a:cubicBezTo>
                  <a:pt x="0" y="823760"/>
                  <a:pt x="89700" y="1033081"/>
                  <a:pt x="237589" y="1186978"/>
                </a:cubicBezTo>
                <a:lnTo>
                  <a:pt x="362934" y="1098420"/>
                </a:lnTo>
                <a:cubicBezTo>
                  <a:pt x="233669" y="969220"/>
                  <a:pt x="153719" y="790692"/>
                  <a:pt x="153719" y="593490"/>
                </a:cubicBezTo>
                <a:cubicBezTo>
                  <a:pt x="153719" y="396288"/>
                  <a:pt x="233671" y="217758"/>
                  <a:pt x="362936" y="88558"/>
                </a:cubicBezTo>
                <a:lnTo>
                  <a:pt x="23759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396720" y="774720"/>
            <a:ext cx="7561440" cy="0"/>
          </a:xfrm>
          <a:prstGeom prst="line">
            <a:avLst/>
          </a:prstGeom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曲线 329"/>
          <p:cNvSpPr/>
          <p:nvPr/>
        </p:nvSpPr>
        <p:spPr>
          <a:xfrm>
            <a:off x="1150920" y="2108160"/>
            <a:ext cx="7034400" cy="65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407" y="4479"/>
                  <a:pt x="895" y="19925"/>
                  <a:pt x="2650" y="20762"/>
                </a:cubicBezTo>
                <a:cubicBezTo>
                  <a:pt x="4405" y="21600"/>
                  <a:pt x="6677" y="4772"/>
                  <a:pt x="8775" y="4227"/>
                </a:cubicBezTo>
                <a:cubicBezTo>
                  <a:pt x="10874" y="3683"/>
                  <a:pt x="11254" y="17853"/>
                  <a:pt x="13146" y="18083"/>
                </a:cubicBezTo>
                <a:cubicBezTo>
                  <a:pt x="15037" y="18313"/>
                  <a:pt x="16541" y="6990"/>
                  <a:pt x="18232" y="5379"/>
                </a:cubicBezTo>
                <a:cubicBezTo>
                  <a:pt x="19922" y="3767"/>
                  <a:pt x="21028" y="8832"/>
                  <a:pt x="21600" y="10004"/>
                </a:cubicBez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 rot="540000">
            <a:off x="569520" y="3026880"/>
            <a:ext cx="2222640" cy="1714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1"/>
          <p:cNvSpPr/>
          <p:nvPr/>
        </p:nvSpPr>
        <p:spPr>
          <a:xfrm rot="540000">
            <a:off x="612360" y="3068280"/>
            <a:ext cx="2133720" cy="1622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 rot="480000">
            <a:off x="3377880" y="2882880"/>
            <a:ext cx="2222640" cy="1714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3"/>
          <p:cNvSpPr/>
          <p:nvPr/>
        </p:nvSpPr>
        <p:spPr>
          <a:xfrm rot="480000">
            <a:off x="3420720" y="2924280"/>
            <a:ext cx="2133720" cy="1622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4"/>
          <p:cNvSpPr/>
          <p:nvPr/>
        </p:nvSpPr>
        <p:spPr>
          <a:xfrm rot="480000">
            <a:off x="6095520" y="2847960"/>
            <a:ext cx="2222640" cy="1714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5"/>
          <p:cNvSpPr/>
          <p:nvPr/>
        </p:nvSpPr>
        <p:spPr>
          <a:xfrm rot="480000">
            <a:off x="6140160" y="2889360"/>
            <a:ext cx="2133360" cy="1622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 flipH="1">
            <a:off x="885960" y="2690640"/>
            <a:ext cx="923760" cy="219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7"/>
          <p:cNvSpPr/>
          <p:nvPr/>
        </p:nvSpPr>
        <p:spPr>
          <a:xfrm flipH="1" flipV="1">
            <a:off x="1885680" y="2698920"/>
            <a:ext cx="803160" cy="480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8"/>
          <p:cNvSpPr/>
          <p:nvPr/>
        </p:nvSpPr>
        <p:spPr>
          <a:xfrm flipH="1">
            <a:off x="3663720" y="2405160"/>
            <a:ext cx="1035000" cy="368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9"/>
          <p:cNvSpPr/>
          <p:nvPr/>
        </p:nvSpPr>
        <p:spPr>
          <a:xfrm flipH="1" flipV="1">
            <a:off x="4754160" y="2411280"/>
            <a:ext cx="787320" cy="63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0"/>
          <p:cNvSpPr/>
          <p:nvPr/>
        </p:nvSpPr>
        <p:spPr>
          <a:xfrm flipH="1">
            <a:off x="6391440" y="2251080"/>
            <a:ext cx="1041120" cy="488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1"/>
          <p:cNvSpPr/>
          <p:nvPr/>
        </p:nvSpPr>
        <p:spPr>
          <a:xfrm>
            <a:off x="7547040" y="2271600"/>
            <a:ext cx="691920" cy="719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2"/>
          <p:cNvSpPr/>
          <p:nvPr/>
        </p:nvSpPr>
        <p:spPr>
          <a:xfrm>
            <a:off x="4645080" y="2397240"/>
            <a:ext cx="142920" cy="144360"/>
          </a:xfrm>
          <a:custGeom>
            <a:avLst/>
            <a:gdLst>
              <a:gd name="textAreaLeft" fmla="*/ 20880 w 142920"/>
              <a:gd name="textAreaRight" fmla="*/ 122040 w 142920"/>
              <a:gd name="textAreaTop" fmla="*/ 20880 h 144360"/>
              <a:gd name="textAreaBottom" fmla="*/ 1234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1d324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3"/>
          <p:cNvSpPr/>
          <p:nvPr/>
        </p:nvSpPr>
        <p:spPr>
          <a:xfrm>
            <a:off x="7410600" y="2239920"/>
            <a:ext cx="144360" cy="14436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144360"/>
              <a:gd name="textAreaBottom" fmla="*/ 1234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1d324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4"/>
          <p:cNvSpPr/>
          <p:nvPr/>
        </p:nvSpPr>
        <p:spPr>
          <a:xfrm>
            <a:off x="1765440" y="2682720"/>
            <a:ext cx="144360" cy="14292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142920"/>
              <a:gd name="textAreaBottom" fmla="*/ 1220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1d324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"/>
          <p:cNvSpPr/>
          <p:nvPr/>
        </p:nvSpPr>
        <p:spPr>
          <a:xfrm>
            <a:off x="828720" y="4869000"/>
            <a:ext cx="1655640" cy="1152360"/>
          </a:xfrm>
          <a:prstGeom prst="flowChartAlternateProcess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1260360" y="6180120"/>
            <a:ext cx="7561440" cy="1440"/>
          </a:xfrm>
          <a:prstGeom prst="line">
            <a:avLst/>
          </a:prstGeom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252360" y="836640"/>
            <a:ext cx="8712360" cy="527040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IFI3 86"/>
          <p:cNvSpPr/>
          <p:nvPr/>
        </p:nvSpPr>
        <p:spPr>
          <a:xfrm rot="10800000">
            <a:off x="725400" y="1054080"/>
            <a:ext cx="432000" cy="1006560"/>
          </a:xfrm>
          <a:custGeom>
            <a:avLst/>
            <a:gdLst/>
            <a:ahLst/>
            <a:rect l="l" t="t" r="r" b="b"/>
            <a:pathLst>
              <a:path w="432042" h="375762">
                <a:moveTo>
                  <a:pt x="0" y="186826"/>
                </a:moveTo>
                <a:moveTo>
                  <a:pt x="216940" y="186826"/>
                </a:moveTo>
                <a:cubicBezTo>
                  <a:pt x="216940" y="239258"/>
                  <a:pt x="167301" y="286567"/>
                  <a:pt x="85489" y="319111"/>
                </a:cubicBezTo>
                <a:lnTo>
                  <a:pt x="0" y="291690"/>
                </a:lnTo>
                <a:cubicBezTo>
                  <a:pt x="69862" y="267583"/>
                  <a:pt x="113985" y="229615"/>
                  <a:pt x="113985" y="186826"/>
                </a:cubicBezTo>
                <a:cubicBezTo>
                  <a:pt x="113985" y="144037"/>
                  <a:pt x="69862" y="106069"/>
                  <a:pt x="0" y="81962"/>
                </a:cubicBezTo>
                <a:lnTo>
                  <a:pt x="85489" y="54541"/>
                </a:lnTo>
                <a:cubicBezTo>
                  <a:pt x="167301" y="87085"/>
                  <a:pt x="216940" y="134394"/>
                  <a:pt x="216940" y="186826"/>
                </a:cubicBezTo>
                <a:moveTo>
                  <a:pt x="432042" y="186826"/>
                </a:moveTo>
                <a:cubicBezTo>
                  <a:pt x="432042" y="259748"/>
                  <a:pt x="366776" y="326042"/>
                  <a:pt x="261982" y="375762"/>
                </a:cubicBezTo>
                <a:lnTo>
                  <a:pt x="172816" y="346532"/>
                </a:lnTo>
                <a:cubicBezTo>
                  <a:pt x="264740" y="305852"/>
                  <a:pt x="320814" y="249202"/>
                  <a:pt x="320814" y="186826"/>
                </a:cubicBezTo>
                <a:cubicBezTo>
                  <a:pt x="320814" y="124450"/>
                  <a:pt x="264740" y="67799"/>
                  <a:pt x="172816" y="27119"/>
                </a:cubicBezTo>
                <a:lnTo>
                  <a:pt x="261982" y="0"/>
                </a:lnTo>
                <a:cubicBezTo>
                  <a:pt x="366776" y="47610"/>
                  <a:pt x="432042" y="113903"/>
                  <a:pt x="432042" y="186826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755640" y="1125360"/>
            <a:ext cx="245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Your 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396720" y="774720"/>
            <a:ext cx="7561440" cy="0"/>
          </a:xfrm>
          <a:prstGeom prst="line">
            <a:avLst/>
          </a:prstGeom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793800" y="1687680"/>
            <a:ext cx="7605360" cy="3079440"/>
            <a:chOff x="793800" y="1687680"/>
            <a:chExt cx="7605360" cy="3079440"/>
          </a:xfrm>
        </p:grpSpPr>
        <p:sp>
          <p:nvSpPr>
            <p:cNvPr id="94" name="任意多边形 197"/>
            <p:cNvSpPr/>
            <p:nvPr/>
          </p:nvSpPr>
          <p:spPr>
            <a:xfrm>
              <a:off x="793800" y="1692000"/>
              <a:ext cx="7603200" cy="2950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134" y="17160"/>
                  </a:moveTo>
                  <a:lnTo>
                    <a:pt x="1722" y="17160"/>
                  </a:lnTo>
                  <a:lnTo>
                    <a:pt x="0" y="21600"/>
                  </a:lnTo>
                  <a:lnTo>
                    <a:pt x="4505" y="21600"/>
                  </a:lnTo>
                  <a:lnTo>
                    <a:pt x="5499" y="14942"/>
                  </a:lnTo>
                  <a:lnTo>
                    <a:pt x="10170" y="14942"/>
                  </a:lnTo>
                  <a:lnTo>
                    <a:pt x="11231" y="8112"/>
                  </a:lnTo>
                  <a:lnTo>
                    <a:pt x="15868" y="8112"/>
                  </a:lnTo>
                  <a:lnTo>
                    <a:pt x="16961" y="1194"/>
                  </a:lnTo>
                  <a:lnTo>
                    <a:pt x="21600" y="1194"/>
                  </a:lnTo>
                  <a:lnTo>
                    <a:pt x="19778" y="0"/>
                  </a:lnTo>
                  <a:lnTo>
                    <a:pt x="15967" y="0"/>
                  </a:lnTo>
                  <a:lnTo>
                    <a:pt x="15074" y="5806"/>
                  </a:lnTo>
                  <a:lnTo>
                    <a:pt x="11164" y="5806"/>
                  </a:lnTo>
                  <a:lnTo>
                    <a:pt x="10204" y="11613"/>
                  </a:lnTo>
                  <a:lnTo>
                    <a:pt x="6393" y="11613"/>
                  </a:lnTo>
                  <a:lnTo>
                    <a:pt x="5565" y="14942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202"/>
            <p:cNvSpPr/>
            <p:nvPr/>
          </p:nvSpPr>
          <p:spPr>
            <a:xfrm>
              <a:off x="799200" y="1845720"/>
              <a:ext cx="7599960" cy="292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618"/>
                  </a:moveTo>
                  <a:lnTo>
                    <a:pt x="0" y="21600"/>
                  </a:lnTo>
                  <a:lnTo>
                    <a:pt x="4574" y="21600"/>
                  </a:lnTo>
                  <a:lnTo>
                    <a:pt x="5548" y="14727"/>
                  </a:lnTo>
                  <a:lnTo>
                    <a:pt x="10177" y="14727"/>
                  </a:lnTo>
                  <a:lnTo>
                    <a:pt x="11260" y="7644"/>
                  </a:lnTo>
                  <a:lnTo>
                    <a:pt x="15969" y="7644"/>
                  </a:lnTo>
                  <a:lnTo>
                    <a:pt x="17025" y="701"/>
                  </a:lnTo>
                  <a:lnTo>
                    <a:pt x="21600" y="701"/>
                  </a:lnTo>
                  <a:lnTo>
                    <a:pt x="21600" y="0"/>
                  </a:lnTo>
                  <a:lnTo>
                    <a:pt x="21572" y="0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6417000" y="1687680"/>
              <a:ext cx="349560" cy="1681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23560" y="2484000"/>
              <a:ext cx="18720" cy="311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3"/>
            <p:cNvSpPr/>
            <p:nvPr/>
          </p:nvSpPr>
          <p:spPr>
            <a:xfrm flipH="1">
              <a:off x="4381200" y="3273480"/>
              <a:ext cx="5040" cy="452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4"/>
            <p:cNvSpPr/>
            <p:nvPr/>
          </p:nvSpPr>
          <p:spPr>
            <a:xfrm>
              <a:off x="6103800" y="2493000"/>
              <a:ext cx="273960" cy="304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15"/>
          <p:cNvSpPr/>
          <p:nvPr/>
        </p:nvSpPr>
        <p:spPr>
          <a:xfrm>
            <a:off x="1405080" y="1486080"/>
            <a:ext cx="118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IFI3 86"/>
          <p:cNvSpPr/>
          <p:nvPr/>
        </p:nvSpPr>
        <p:spPr>
          <a:xfrm>
            <a:off x="2803680" y="1039680"/>
            <a:ext cx="431640" cy="1008360"/>
          </a:xfrm>
          <a:custGeom>
            <a:avLst/>
            <a:gdLst/>
            <a:ahLst/>
            <a:rect l="l" t="t" r="r" b="b"/>
            <a:pathLst>
              <a:path w="432042" h="375762">
                <a:moveTo>
                  <a:pt x="0" y="186826"/>
                </a:moveTo>
                <a:moveTo>
                  <a:pt x="216940" y="186826"/>
                </a:moveTo>
                <a:cubicBezTo>
                  <a:pt x="216940" y="239258"/>
                  <a:pt x="167301" y="286567"/>
                  <a:pt x="85489" y="319111"/>
                </a:cubicBezTo>
                <a:lnTo>
                  <a:pt x="0" y="291690"/>
                </a:lnTo>
                <a:cubicBezTo>
                  <a:pt x="69862" y="267583"/>
                  <a:pt x="113985" y="229615"/>
                  <a:pt x="113985" y="186826"/>
                </a:cubicBezTo>
                <a:cubicBezTo>
                  <a:pt x="113985" y="144037"/>
                  <a:pt x="69862" y="106069"/>
                  <a:pt x="0" y="81962"/>
                </a:cubicBezTo>
                <a:lnTo>
                  <a:pt x="85489" y="54541"/>
                </a:lnTo>
                <a:cubicBezTo>
                  <a:pt x="167301" y="87085"/>
                  <a:pt x="216940" y="134394"/>
                  <a:pt x="216940" y="186826"/>
                </a:cubicBezTo>
                <a:moveTo>
                  <a:pt x="432042" y="186826"/>
                </a:moveTo>
                <a:cubicBezTo>
                  <a:pt x="432042" y="259748"/>
                  <a:pt x="366776" y="326042"/>
                  <a:pt x="261982" y="375762"/>
                </a:cubicBezTo>
                <a:lnTo>
                  <a:pt x="172816" y="346532"/>
                </a:lnTo>
                <a:cubicBezTo>
                  <a:pt x="264740" y="305852"/>
                  <a:pt x="320814" y="249202"/>
                  <a:pt x="320814" y="186826"/>
                </a:cubicBezTo>
                <a:cubicBezTo>
                  <a:pt x="320814" y="124450"/>
                  <a:pt x="264740" y="67799"/>
                  <a:pt x="172816" y="27119"/>
                </a:cubicBezTo>
                <a:lnTo>
                  <a:pt x="261982" y="0"/>
                </a:lnTo>
                <a:cubicBezTo>
                  <a:pt x="366776" y="47610"/>
                  <a:pt x="432042" y="113903"/>
                  <a:pt x="432042" y="186826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1117440" y="4654440"/>
            <a:ext cx="1079640" cy="430200"/>
          </a:xfrm>
          <a:prstGeom prst="flowChartAlternateProcess">
            <a:avLst/>
          </a:prstGeom>
          <a:solidFill>
            <a:srgbClr val="1d324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2759040" y="3943440"/>
            <a:ext cx="1655640" cy="1861920"/>
          </a:xfrm>
          <a:prstGeom prst="flowChartAlternateProcess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9"/>
          <p:cNvSpPr/>
          <p:nvPr/>
        </p:nvSpPr>
        <p:spPr>
          <a:xfrm>
            <a:off x="4740120" y="3016080"/>
            <a:ext cx="1656000" cy="2068560"/>
          </a:xfrm>
          <a:prstGeom prst="flowChartAlternateProcess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0"/>
          <p:cNvSpPr/>
          <p:nvPr/>
        </p:nvSpPr>
        <p:spPr>
          <a:xfrm>
            <a:off x="6746760" y="2089080"/>
            <a:ext cx="1656000" cy="2131920"/>
          </a:xfrm>
          <a:prstGeom prst="flowChartAlternateProcess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1"/>
          <p:cNvSpPr/>
          <p:nvPr/>
        </p:nvSpPr>
        <p:spPr>
          <a:xfrm>
            <a:off x="3048120" y="3727440"/>
            <a:ext cx="1079280" cy="430200"/>
          </a:xfrm>
          <a:prstGeom prst="flowChartAlternateProcess">
            <a:avLst/>
          </a:prstGeom>
          <a:solidFill>
            <a:srgbClr val="1d324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2"/>
          <p:cNvSpPr/>
          <p:nvPr/>
        </p:nvSpPr>
        <p:spPr>
          <a:xfrm>
            <a:off x="5079960" y="2749680"/>
            <a:ext cx="1079640" cy="430200"/>
          </a:xfrm>
          <a:prstGeom prst="flowChartAlternateProcess">
            <a:avLst/>
          </a:prstGeom>
          <a:solidFill>
            <a:srgbClr val="1d324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3"/>
          <p:cNvSpPr/>
          <p:nvPr/>
        </p:nvSpPr>
        <p:spPr>
          <a:xfrm>
            <a:off x="6997680" y="1835280"/>
            <a:ext cx="1079640" cy="430200"/>
          </a:xfrm>
          <a:prstGeom prst="flowChartAlternateProcess">
            <a:avLst/>
          </a:prstGeom>
          <a:solidFill>
            <a:srgbClr val="1d324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4"/>
          <p:cNvSpPr/>
          <p:nvPr/>
        </p:nvSpPr>
        <p:spPr>
          <a:xfrm rot="10800000">
            <a:off x="6873480" y="906120"/>
            <a:ext cx="865080" cy="865080"/>
          </a:xfrm>
          <a:prstGeom prst="ellipse">
            <a:avLst/>
          </a:prstGeom>
          <a:solidFill>
            <a:srgbClr val="1d3245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5"/>
          <p:cNvSpPr/>
          <p:nvPr/>
        </p:nvSpPr>
        <p:spPr>
          <a:xfrm rot="10800000">
            <a:off x="1260360" y="3139920"/>
            <a:ext cx="1222560" cy="1224000"/>
          </a:xfrm>
          <a:prstGeom prst="ellipse">
            <a:avLst/>
          </a:prstGeom>
          <a:solidFill>
            <a:srgbClr val="1d3245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6"/>
          <p:cNvSpPr/>
          <p:nvPr/>
        </p:nvSpPr>
        <p:spPr>
          <a:xfrm rot="10800000">
            <a:off x="5003280" y="1628280"/>
            <a:ext cx="1040040" cy="1040040"/>
          </a:xfrm>
          <a:prstGeom prst="ellipse">
            <a:avLst/>
          </a:prstGeom>
          <a:solidFill>
            <a:srgbClr val="1d3245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7"/>
          <p:cNvSpPr/>
          <p:nvPr/>
        </p:nvSpPr>
        <p:spPr>
          <a:xfrm rot="10800000">
            <a:off x="3058920" y="2420640"/>
            <a:ext cx="1152360" cy="1152360"/>
          </a:xfrm>
          <a:prstGeom prst="ellipse">
            <a:avLst/>
          </a:prstGeom>
          <a:solidFill>
            <a:srgbClr val="1d3245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822240" y="5143680"/>
            <a:ext cx="16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2790720" y="4267080"/>
            <a:ext cx="16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0"/>
          <p:cNvSpPr/>
          <p:nvPr/>
        </p:nvSpPr>
        <p:spPr>
          <a:xfrm>
            <a:off x="4797360" y="3505320"/>
            <a:ext cx="16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1"/>
          <p:cNvSpPr/>
          <p:nvPr/>
        </p:nvSpPr>
        <p:spPr>
          <a:xfrm>
            <a:off x="6765840" y="2629080"/>
            <a:ext cx="16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2"/>
          <p:cNvSpPr/>
          <p:nvPr/>
        </p:nvSpPr>
        <p:spPr>
          <a:xfrm>
            <a:off x="1260360" y="6180120"/>
            <a:ext cx="7561440" cy="1440"/>
          </a:xfrm>
          <a:prstGeom prst="line">
            <a:avLst/>
          </a:prstGeom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252360" y="836640"/>
            <a:ext cx="8712360" cy="527040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2070000" y="127008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396720" y="1270080"/>
            <a:ext cx="158436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Your Text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-1187640" y="1288800"/>
            <a:ext cx="158436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1d3245"/>
                    </a:gs>
                  </a:gsLst>
                  <a:lin ang="5400000"/>
                </a:gradFill>
                <a:latin typeface="Times New Roman"/>
              </a:rPr>
              <a:t>Your Text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1d3245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2144880" y="1428840"/>
            <a:ext cx="887400" cy="2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Your Text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WordArt 8"/>
          <p:cNvSpPr txBox="1"/>
          <p:nvPr/>
        </p:nvSpPr>
        <p:spPr>
          <a:xfrm>
            <a:off x="1257480" y="1442880"/>
            <a:ext cx="887400" cy="2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1d3245"/>
                    </a:gs>
                  </a:gsLst>
                  <a:lin ang="5400000"/>
                </a:gradFill>
                <a:latin typeface="Times New Roman"/>
              </a:rPr>
              <a:t>Your Text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1d3245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396720" y="776160"/>
            <a:ext cx="7561440" cy="1800"/>
          </a:xfrm>
          <a:prstGeom prst="line">
            <a:avLst/>
          </a:prstGeom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0"/>
          <p:cNvSpPr/>
          <p:nvPr/>
        </p:nvSpPr>
        <p:spPr>
          <a:xfrm>
            <a:off x="1547640" y="2276640"/>
            <a:ext cx="792360" cy="7934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1158840" y="3141720"/>
            <a:ext cx="1549440" cy="2232000"/>
          </a:xfrm>
          <a:custGeom>
            <a:avLst/>
            <a:gdLst>
              <a:gd name="textAreaLeft" fmla="*/ 75600 w 1549440"/>
              <a:gd name="textAreaRight" fmla="*/ 1473840 w 1549440"/>
              <a:gd name="textAreaTop" fmla="*/ 75600 h 2232000"/>
              <a:gd name="textAreaBottom" fmla="*/ 2156400 h 2232000"/>
            </a:gdLst>
            <a:ahLst/>
            <a:rect l="textAreaLeft" t="textAreaTop" r="textAreaRight" b="textAreaBottom"/>
            <a:pathLst>
              <a:path w="21600" h="31113">
                <a:moveTo>
                  <a:pt x="3600" y="0"/>
                </a:moveTo>
                <a:arcTo wR="3600" hR="3600" stAng="16200000" swAng="-5400000"/>
                <a:lnTo>
                  <a:pt x="0" y="27513"/>
                </a:lnTo>
                <a:arcTo wR="3600" hR="3600" stAng="10800000" swAng="-5400000"/>
                <a:lnTo>
                  <a:pt x="18000" y="311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3419640" y="2924280"/>
            <a:ext cx="793440" cy="7938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3"/>
          <p:cNvSpPr/>
          <p:nvPr/>
        </p:nvSpPr>
        <p:spPr>
          <a:xfrm>
            <a:off x="5364000" y="2276640"/>
            <a:ext cx="792360" cy="7934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4"/>
          <p:cNvSpPr/>
          <p:nvPr/>
        </p:nvSpPr>
        <p:spPr>
          <a:xfrm>
            <a:off x="7380360" y="1486080"/>
            <a:ext cx="792000" cy="792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5"/>
          <p:cNvSpPr/>
          <p:nvPr/>
        </p:nvSpPr>
        <p:spPr>
          <a:xfrm>
            <a:off x="2341440" y="2854440"/>
            <a:ext cx="935280" cy="2854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6"/>
          <p:cNvSpPr/>
          <p:nvPr/>
        </p:nvSpPr>
        <p:spPr>
          <a:xfrm flipV="1">
            <a:off x="4282920" y="2852280"/>
            <a:ext cx="1081080" cy="3603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"/>
          <p:cNvSpPr/>
          <p:nvPr/>
        </p:nvSpPr>
        <p:spPr>
          <a:xfrm flipV="1">
            <a:off x="6202440" y="2072880"/>
            <a:ext cx="1131840" cy="4669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8"/>
          <p:cNvSpPr/>
          <p:nvPr/>
        </p:nvSpPr>
        <p:spPr>
          <a:xfrm>
            <a:off x="3033720" y="3763800"/>
            <a:ext cx="1550880" cy="2232360"/>
          </a:xfrm>
          <a:custGeom>
            <a:avLst/>
            <a:gdLst>
              <a:gd name="textAreaLeft" fmla="*/ 75600 w 1550880"/>
              <a:gd name="textAreaRight" fmla="*/ 1475280 w 1550880"/>
              <a:gd name="textAreaTop" fmla="*/ 75600 h 2232360"/>
              <a:gd name="textAreaBottom" fmla="*/ 2156760 h 2232360"/>
            </a:gdLst>
            <a:ahLst/>
            <a:rect l="textAreaLeft" t="textAreaTop" r="textAreaRight" b="textAreaBottom"/>
            <a:pathLst>
              <a:path w="21600" h="31089">
                <a:moveTo>
                  <a:pt x="3600" y="0"/>
                </a:moveTo>
                <a:arcTo wR="3600" hR="3600" stAng="16200000" swAng="-5400000"/>
                <a:lnTo>
                  <a:pt x="0" y="27489"/>
                </a:lnTo>
                <a:arcTo wR="3600" hR="3600" stAng="10800000" swAng="-5400000"/>
                <a:lnTo>
                  <a:pt x="18000" y="310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9"/>
          <p:cNvSpPr/>
          <p:nvPr/>
        </p:nvSpPr>
        <p:spPr>
          <a:xfrm>
            <a:off x="4976640" y="3154320"/>
            <a:ext cx="1551240" cy="2232000"/>
          </a:xfrm>
          <a:custGeom>
            <a:avLst/>
            <a:gdLst>
              <a:gd name="textAreaLeft" fmla="*/ 75600 w 1551240"/>
              <a:gd name="textAreaRight" fmla="*/ 1475640 w 1551240"/>
              <a:gd name="textAreaTop" fmla="*/ 75600 h 2232000"/>
              <a:gd name="textAreaBottom" fmla="*/ 2156400 h 2232000"/>
            </a:gdLst>
            <a:ahLst/>
            <a:rect l="textAreaLeft" t="textAreaTop" r="textAreaRight" b="textAreaBottom"/>
            <a:pathLst>
              <a:path w="21600" h="31077">
                <a:moveTo>
                  <a:pt x="3600" y="0"/>
                </a:moveTo>
                <a:arcTo wR="3600" hR="3600" stAng="16200000" swAng="-5400000"/>
                <a:lnTo>
                  <a:pt x="0" y="27477"/>
                </a:lnTo>
                <a:arcTo wR="3600" hR="3600" stAng="10800000" swAng="-5400000"/>
                <a:lnTo>
                  <a:pt x="18000" y="31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0"/>
          <p:cNvSpPr/>
          <p:nvPr/>
        </p:nvSpPr>
        <p:spPr>
          <a:xfrm>
            <a:off x="7008840" y="2354400"/>
            <a:ext cx="1550880" cy="2232000"/>
          </a:xfrm>
          <a:custGeom>
            <a:avLst/>
            <a:gdLst>
              <a:gd name="textAreaLeft" fmla="*/ 75600 w 1550880"/>
              <a:gd name="textAreaRight" fmla="*/ 1475280 w 1550880"/>
              <a:gd name="textAreaTop" fmla="*/ 75600 h 2232000"/>
              <a:gd name="textAreaBottom" fmla="*/ 2156400 h 2232000"/>
            </a:gdLst>
            <a:ahLst/>
            <a:rect l="textAreaLeft" t="textAreaTop" r="textAreaRight" b="textAreaBottom"/>
            <a:pathLst>
              <a:path w="21600" h="31084">
                <a:moveTo>
                  <a:pt x="3600" y="0"/>
                </a:moveTo>
                <a:arcTo wR="3600" hR="3600" stAng="16200000" swAng="-5400000"/>
                <a:lnTo>
                  <a:pt x="0" y="27484"/>
                </a:lnTo>
                <a:arcTo wR="3600" hR="3600" stAng="10800000" swAng="-5400000"/>
                <a:lnTo>
                  <a:pt x="18000" y="310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5580000" y="3319560"/>
            <a:ext cx="25146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Thank Your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grpSp>
        <p:nvGrpSpPr>
          <p:cNvPr id="137" name="中国 242"/>
          <p:cNvGrpSpPr/>
          <p:nvPr/>
        </p:nvGrpSpPr>
        <p:grpSpPr>
          <a:xfrm>
            <a:off x="3098880" y="2108160"/>
            <a:ext cx="1728720" cy="1511280"/>
            <a:chOff x="3098880" y="2108160"/>
            <a:chExt cx="1728720" cy="1511280"/>
          </a:xfrm>
        </p:grpSpPr>
        <p:sp>
          <p:nvSpPr>
            <p:cNvPr id="138" name="Freeform 4"/>
            <p:cNvSpPr/>
            <p:nvPr/>
          </p:nvSpPr>
          <p:spPr>
            <a:xfrm>
              <a:off x="3824640" y="2124720"/>
              <a:ext cx="757800" cy="683640"/>
            </a:xfrm>
            <a:custGeom>
              <a:avLst/>
              <a:gdLst/>
              <a:ahLst/>
              <a:rect l="l" t="t" r="r" b="b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"/>
            <p:cNvSpPr/>
            <p:nvPr/>
          </p:nvSpPr>
          <p:spPr>
            <a:xfrm>
              <a:off x="3679200" y="2587680"/>
              <a:ext cx="483840" cy="433440"/>
            </a:xfrm>
            <a:custGeom>
              <a:avLst/>
              <a:gdLst/>
              <a:ahLst/>
              <a:rect l="l" t="t" r="r" b="b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>
              <a:off x="4023360" y="2738160"/>
              <a:ext cx="97560" cy="170640"/>
            </a:xfrm>
            <a:custGeom>
              <a:avLst/>
              <a:gdLst/>
              <a:ahLst/>
              <a:rect l="l" t="t" r="r" b="b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"/>
            <p:cNvSpPr/>
            <p:nvPr/>
          </p:nvSpPr>
          <p:spPr>
            <a:xfrm>
              <a:off x="3098880" y="2288880"/>
              <a:ext cx="691920" cy="553320"/>
            </a:xfrm>
            <a:custGeom>
              <a:avLst/>
              <a:gdLst/>
              <a:ahLst/>
              <a:rect l="l" t="t" r="r" b="b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8"/>
            <p:cNvSpPr/>
            <p:nvPr/>
          </p:nvSpPr>
          <p:spPr>
            <a:xfrm>
              <a:off x="3547800" y="2723400"/>
              <a:ext cx="430920" cy="326520"/>
            </a:xfrm>
            <a:custGeom>
              <a:avLst/>
              <a:gdLst/>
              <a:ahLst/>
              <a:rect l="l" t="t" r="r" b="b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9"/>
            <p:cNvSpPr/>
            <p:nvPr/>
          </p:nvSpPr>
          <p:spPr>
            <a:xfrm>
              <a:off x="3795120" y="2952360"/>
              <a:ext cx="372240" cy="345600"/>
            </a:xfrm>
            <a:custGeom>
              <a:avLst/>
              <a:gdLst/>
              <a:ahLst/>
              <a:rect l="l" t="t" r="r" b="b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>
              <a:off x="3176280" y="2811960"/>
              <a:ext cx="666360" cy="428760"/>
            </a:xfrm>
            <a:custGeom>
              <a:avLst/>
              <a:gdLst/>
              <a:ahLst/>
              <a:rect l="l" t="t" r="r" b="b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"/>
            <p:cNvSpPr/>
            <p:nvPr/>
          </p:nvSpPr>
          <p:spPr>
            <a:xfrm>
              <a:off x="3783240" y="3169440"/>
              <a:ext cx="301320" cy="332280"/>
            </a:xfrm>
            <a:custGeom>
              <a:avLst/>
              <a:gdLst/>
              <a:ahLst/>
              <a:rect l="l" t="t" r="r" b="b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2"/>
            <p:cNvSpPr/>
            <p:nvPr/>
          </p:nvSpPr>
          <p:spPr>
            <a:xfrm>
              <a:off x="3999960" y="3164760"/>
              <a:ext cx="203760" cy="186120"/>
            </a:xfrm>
            <a:custGeom>
              <a:avLst/>
              <a:gdLst/>
              <a:ahLst/>
              <a:rect l="l" t="t" r="r" b="b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3"/>
            <p:cNvSpPr/>
            <p:nvPr/>
          </p:nvSpPr>
          <p:spPr>
            <a:xfrm>
              <a:off x="4032720" y="3279240"/>
              <a:ext cx="266400" cy="214200"/>
            </a:xfrm>
            <a:custGeom>
              <a:avLst/>
              <a:gdLst/>
              <a:ahLst/>
              <a:rect l="l" t="t" r="r" b="b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4"/>
            <p:cNvSpPr/>
            <p:nvPr/>
          </p:nvSpPr>
          <p:spPr>
            <a:xfrm>
              <a:off x="4069800" y="3043440"/>
              <a:ext cx="150480" cy="161640"/>
            </a:xfrm>
            <a:custGeom>
              <a:avLst/>
              <a:gdLst/>
              <a:ahLst/>
              <a:rect l="l" t="t" r="r" b="b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"/>
            <p:cNvSpPr/>
            <p:nvPr/>
          </p:nvSpPr>
          <p:spPr>
            <a:xfrm>
              <a:off x="4069800" y="2729160"/>
              <a:ext cx="171720" cy="324360"/>
            </a:xfrm>
            <a:custGeom>
              <a:avLst/>
              <a:gdLst/>
              <a:ahLst/>
              <a:rect l="l" t="t" r="r" b="b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4218480" y="2668320"/>
              <a:ext cx="114480" cy="266040"/>
            </a:xfrm>
            <a:custGeom>
              <a:avLst/>
              <a:gdLst/>
              <a:ahLst/>
              <a:rect l="l" t="t" r="r" b="b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7"/>
            <p:cNvSpPr/>
            <p:nvPr/>
          </p:nvSpPr>
          <p:spPr>
            <a:xfrm>
              <a:off x="4188960" y="3122280"/>
              <a:ext cx="182520" cy="224280"/>
            </a:xfrm>
            <a:custGeom>
              <a:avLst/>
              <a:gdLst/>
              <a:ahLst/>
              <a:rect l="l" t="t" r="r" b="b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8"/>
            <p:cNvSpPr/>
            <p:nvPr/>
          </p:nvSpPr>
          <p:spPr>
            <a:xfrm>
              <a:off x="4167720" y="2993040"/>
              <a:ext cx="258840" cy="171720"/>
            </a:xfrm>
            <a:custGeom>
              <a:avLst/>
              <a:gdLst/>
              <a:ahLst/>
              <a:rect l="l" t="t" r="r" b="b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9"/>
            <p:cNvSpPr/>
            <p:nvPr/>
          </p:nvSpPr>
          <p:spPr>
            <a:xfrm>
              <a:off x="4224960" y="3308400"/>
              <a:ext cx="269280" cy="225720"/>
            </a:xfrm>
            <a:custGeom>
              <a:avLst/>
              <a:gdLst/>
              <a:ahLst/>
              <a:rect l="l" t="t" r="r" b="b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0"/>
            <p:cNvSpPr/>
            <p:nvPr/>
          </p:nvSpPr>
          <p:spPr>
            <a:xfrm>
              <a:off x="4352400" y="3113280"/>
              <a:ext cx="161280" cy="232200"/>
            </a:xfrm>
            <a:custGeom>
              <a:avLst/>
              <a:gdLst/>
              <a:ahLst/>
              <a:rect l="l" t="t" r="r" b="b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1"/>
            <p:cNvSpPr/>
            <p:nvPr/>
          </p:nvSpPr>
          <p:spPr>
            <a:xfrm>
              <a:off x="4436280" y="3174840"/>
              <a:ext cx="149400" cy="192960"/>
            </a:xfrm>
            <a:custGeom>
              <a:avLst/>
              <a:gdLst/>
              <a:ahLst/>
              <a:rect l="l" t="t" r="r" b="b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2"/>
            <p:cNvSpPr/>
            <p:nvPr/>
          </p:nvSpPr>
          <p:spPr>
            <a:xfrm>
              <a:off x="4502880" y="3052440"/>
              <a:ext cx="128160" cy="156960"/>
            </a:xfrm>
            <a:custGeom>
              <a:avLst/>
              <a:gdLst/>
              <a:ahLst/>
              <a:rect l="l" t="t" r="r" b="b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3"/>
            <p:cNvSpPr/>
            <p:nvPr/>
          </p:nvSpPr>
          <p:spPr>
            <a:xfrm>
              <a:off x="4377600" y="2916720"/>
              <a:ext cx="162360" cy="209880"/>
            </a:xfrm>
            <a:custGeom>
              <a:avLst/>
              <a:gdLst/>
              <a:ahLst/>
              <a:rect l="l" t="t" r="r" b="b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4"/>
            <p:cNvSpPr/>
            <p:nvPr/>
          </p:nvSpPr>
          <p:spPr>
            <a:xfrm>
              <a:off x="4409640" y="2674080"/>
              <a:ext cx="42120" cy="64800"/>
            </a:xfrm>
            <a:custGeom>
              <a:avLst/>
              <a:gdLst/>
              <a:ahLst/>
              <a:rect l="l" t="t" r="r" b="b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5"/>
            <p:cNvSpPr/>
            <p:nvPr/>
          </p:nvSpPr>
          <p:spPr>
            <a:xfrm>
              <a:off x="4367160" y="2644920"/>
              <a:ext cx="56160" cy="63720"/>
            </a:xfrm>
            <a:custGeom>
              <a:avLst/>
              <a:gdLst/>
              <a:ahLst/>
              <a:rect l="l" t="t" r="r" b="b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6"/>
            <p:cNvSpPr/>
            <p:nvPr/>
          </p:nvSpPr>
          <p:spPr>
            <a:xfrm>
              <a:off x="4462560" y="2517840"/>
              <a:ext cx="199440" cy="200880"/>
            </a:xfrm>
            <a:custGeom>
              <a:avLst/>
              <a:gdLst/>
              <a:ahLst/>
              <a:rect l="l" t="t" r="r" b="b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7"/>
            <p:cNvSpPr/>
            <p:nvPr/>
          </p:nvSpPr>
          <p:spPr>
            <a:xfrm>
              <a:off x="4507200" y="2396520"/>
              <a:ext cx="284400" cy="204120"/>
            </a:xfrm>
            <a:custGeom>
              <a:avLst/>
              <a:gdLst/>
              <a:ahLst/>
              <a:rect l="l" t="t" r="r" b="b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>
              <a:off x="4446720" y="2108160"/>
              <a:ext cx="380880" cy="365760"/>
            </a:xfrm>
            <a:custGeom>
              <a:avLst/>
              <a:gdLst/>
              <a:ahLst/>
              <a:rect l="l" t="t" r="r" b="b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>
              <a:off x="4371480" y="2764800"/>
              <a:ext cx="230040" cy="152640"/>
            </a:xfrm>
            <a:custGeom>
              <a:avLst/>
              <a:gdLst/>
              <a:ahLst/>
              <a:rect l="l" t="t" r="r" b="b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4586760" y="3018960"/>
              <a:ext cx="36000" cy="33480"/>
            </a:xfrm>
            <a:custGeom>
              <a:avLst/>
              <a:gdLst/>
              <a:ahLst/>
              <a:rect l="l" t="t" r="r" b="b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4417920" y="2889720"/>
              <a:ext cx="200520" cy="163800"/>
            </a:xfrm>
            <a:custGeom>
              <a:avLst/>
              <a:gdLst/>
              <a:ahLst/>
              <a:rect l="l" t="t" r="r" b="b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2"/>
            <p:cNvSpPr/>
            <p:nvPr/>
          </p:nvSpPr>
          <p:spPr>
            <a:xfrm>
              <a:off x="4313160" y="2576160"/>
              <a:ext cx="186480" cy="281880"/>
            </a:xfrm>
            <a:custGeom>
              <a:avLst/>
              <a:gdLst/>
              <a:ahLst/>
              <a:rect l="l" t="t" r="r" b="b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4228200" y="2846880"/>
              <a:ext cx="196200" cy="205200"/>
            </a:xfrm>
            <a:custGeom>
              <a:avLst/>
              <a:gdLst/>
              <a:ahLst/>
              <a:rect l="l" t="t" r="r" b="b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4597560" y="3286080"/>
              <a:ext cx="56160" cy="143640"/>
            </a:xfrm>
            <a:custGeom>
              <a:avLst/>
              <a:gdLst/>
              <a:ahLst/>
              <a:rect l="l" t="t" r="r" b="b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4183560" y="3540960"/>
              <a:ext cx="84600" cy="78480"/>
            </a:xfrm>
            <a:custGeom>
              <a:avLst/>
              <a:gdLst/>
              <a:ahLst/>
              <a:rect l="l" t="t" r="r" b="b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Line 36"/>
          <p:cNvSpPr/>
          <p:nvPr/>
        </p:nvSpPr>
        <p:spPr>
          <a:xfrm>
            <a:off x="0" y="3862440"/>
            <a:ext cx="53964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7"/>
          <p:cNvSpPr/>
          <p:nvPr/>
        </p:nvSpPr>
        <p:spPr>
          <a:xfrm>
            <a:off x="539640" y="3860640"/>
            <a:ext cx="73080" cy="21600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8"/>
          <p:cNvSpPr/>
          <p:nvPr/>
        </p:nvSpPr>
        <p:spPr>
          <a:xfrm flipV="1">
            <a:off x="612720" y="3141360"/>
            <a:ext cx="432000" cy="93492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9"/>
          <p:cNvSpPr/>
          <p:nvPr/>
        </p:nvSpPr>
        <p:spPr>
          <a:xfrm>
            <a:off x="1044720" y="3141720"/>
            <a:ext cx="215640" cy="71892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0"/>
          <p:cNvSpPr/>
          <p:nvPr/>
        </p:nvSpPr>
        <p:spPr>
          <a:xfrm flipV="1">
            <a:off x="1260360" y="3644640"/>
            <a:ext cx="71640" cy="21564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1"/>
          <p:cNvSpPr/>
          <p:nvPr/>
        </p:nvSpPr>
        <p:spPr>
          <a:xfrm>
            <a:off x="1332000" y="3645000"/>
            <a:ext cx="217440" cy="57600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42"/>
          <p:cNvSpPr/>
          <p:nvPr/>
        </p:nvSpPr>
        <p:spPr>
          <a:xfrm flipV="1">
            <a:off x="1549440" y="3357720"/>
            <a:ext cx="287280" cy="86328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3"/>
          <p:cNvSpPr/>
          <p:nvPr/>
        </p:nvSpPr>
        <p:spPr>
          <a:xfrm>
            <a:off x="1835280" y="3357720"/>
            <a:ext cx="183960" cy="52380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4"/>
          <p:cNvSpPr/>
          <p:nvPr/>
        </p:nvSpPr>
        <p:spPr>
          <a:xfrm>
            <a:off x="1990800" y="3867120"/>
            <a:ext cx="709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5"/>
          <p:cNvSpPr/>
          <p:nvPr/>
        </p:nvSpPr>
        <p:spPr>
          <a:xfrm>
            <a:off x="2637000" y="2000160"/>
            <a:ext cx="2881080" cy="2016360"/>
          </a:xfrm>
          <a:custGeom>
            <a:avLst/>
            <a:gdLst>
              <a:gd name="textAreaLeft" fmla="*/ 671760 w 2881080"/>
              <a:gd name="textAreaRight" fmla="*/ 2208600 w 2881080"/>
              <a:gd name="textAreaTop" fmla="*/ 212400 h 2016360"/>
              <a:gd name="textAreaBottom" fmla="*/ 1276920 h 2016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6"/>
          <p:cNvSpPr/>
          <p:nvPr/>
        </p:nvSpPr>
        <p:spPr>
          <a:xfrm>
            <a:off x="3565440" y="3897360"/>
            <a:ext cx="1079640" cy="325440"/>
          </a:xfrm>
          <a:prstGeom prst="flowChartProcess">
            <a:avLst/>
          </a:prstGeom>
          <a:solidFill>
            <a:srgbClr val="1d32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47"/>
          <p:cNvGrpSpPr/>
          <p:nvPr/>
        </p:nvGrpSpPr>
        <p:grpSpPr>
          <a:xfrm>
            <a:off x="4202280" y="3765600"/>
            <a:ext cx="4825440" cy="216000"/>
            <a:chOff x="4202280" y="3765600"/>
            <a:chExt cx="4825440" cy="216000"/>
          </a:xfrm>
        </p:grpSpPr>
        <p:sp>
          <p:nvSpPr>
            <p:cNvPr id="182" name="燕尾形箭头3 234"/>
            <p:cNvSpPr/>
            <p:nvPr/>
          </p:nvSpPr>
          <p:spPr>
            <a:xfrm>
              <a:off x="8740440" y="3765600"/>
              <a:ext cx="287280" cy="21600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49"/>
            <p:cNvSpPr/>
            <p:nvPr/>
          </p:nvSpPr>
          <p:spPr>
            <a:xfrm>
              <a:off x="4202280" y="3873240"/>
              <a:ext cx="4680000" cy="216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Line 50"/>
          <p:cNvSpPr/>
          <p:nvPr/>
        </p:nvSpPr>
        <p:spPr>
          <a:xfrm flipV="1">
            <a:off x="2641680" y="3860280"/>
            <a:ext cx="1282680" cy="180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-27000" y="6164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1T02:38:55Z</dcterms:created>
  <dc:creator>Administrator</dc:creator>
  <dc:description/>
  <cp:keywords/>
  <dc:language>en-US</dc:language>
  <cp:lastModifiedBy>王玉清</cp:lastModifiedBy>
  <dcterms:modified xsi:type="dcterms:W3CDTF">2016-03-01T07:23:54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