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94B-96F6-4597-9BA5-85AD9E63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BCA-CD78-4DFD-9201-CC4E03FC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0EF-13F4-4CBC-8FF5-F4F24306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C57-D133-47A9-9B0E-B8C75FBD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9E6-F030-4B8C-B688-F0E72E69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EAD-873B-49D5-B128-420FE36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F82-A4AA-4CB3-893A-D8830367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8E4-D022-4195-8BFC-F75C7C10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C05-F93B-4DD5-9A30-FB69155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737-29AF-419A-AB8C-717421F8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09B-02C7-4D03-B8DB-00F6F5E1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A75-42D1-4FD3-8048-31E54681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C7056E-B578-4F7B-821C-C61962ECA0C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714480" y="947520"/>
            <a:ext cx="22863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931760" y="23976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焦虑的商务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圆角矩形 10"/>
          <p:cNvSpPr/>
          <p:nvPr/>
        </p:nvSpPr>
        <p:spPr>
          <a:xfrm>
            <a:off x="714240" y="1643040"/>
            <a:ext cx="3714480" cy="4071600"/>
          </a:xfrm>
          <a:prstGeom prst="roundRect">
            <a:avLst>
              <a:gd name="adj" fmla="val 11518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5" name="圆角矩形 11"/>
          <p:cNvSpPr/>
          <p:nvPr/>
        </p:nvSpPr>
        <p:spPr>
          <a:xfrm>
            <a:off x="4714920" y="1643040"/>
            <a:ext cx="3714480" cy="4071600"/>
          </a:xfrm>
          <a:prstGeom prst="roundRect">
            <a:avLst>
              <a:gd name="adj" fmla="val 11518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0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3"/>
          <p:cNvSpPr/>
          <p:nvPr/>
        </p:nvSpPr>
        <p:spPr>
          <a:xfrm>
            <a:off x="60706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4"/>
          <p:cNvSpPr/>
          <p:nvPr/>
        </p:nvSpPr>
        <p:spPr>
          <a:xfrm>
            <a:off x="2068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48920" y="61822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直接连接符​​ 6"/>
          <p:cNvCxnSpPr/>
          <p:nvPr/>
        </p:nvCxnSpPr>
        <p:spPr>
          <a:xfrm flipH="1" flipV="1">
            <a:off x="3574800" y="1860480"/>
            <a:ext cx="2215080" cy="1800"/>
          </a:xfrm>
          <a:prstGeom prst="straightConnector1">
            <a:avLst/>
          </a:prstGeom>
          <a:ln w="57150">
            <a:solidFill>
              <a:srgbClr val="70625e"/>
            </a:solidFill>
            <a:round/>
          </a:ln>
        </p:spPr>
      </p:cxnSp>
      <p:sp>
        <p:nvSpPr>
          <p:cNvPr id="46" name="六边形 32"/>
          <p:cNvSpPr/>
          <p:nvPr/>
        </p:nvSpPr>
        <p:spPr>
          <a:xfrm flipH="1" rot="5400000">
            <a:off x="2282040" y="1599840"/>
            <a:ext cx="1388880" cy="1196640"/>
          </a:xfrm>
          <a:prstGeom prst="hexagon">
            <a:avLst>
              <a:gd name="adj" fmla="val 28044"/>
              <a:gd name="vf" fmla="val 115470"/>
            </a:avLst>
          </a:prstGeom>
          <a:solidFill>
            <a:srgbClr val="efbea3"/>
          </a:solid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椭圆​​ 40"/>
          <p:cNvSpPr/>
          <p:nvPr/>
        </p:nvSpPr>
        <p:spPr>
          <a:xfrm flipH="1" rot="5400000">
            <a:off x="2437200" y="1658880"/>
            <a:ext cx="1078200" cy="1077840"/>
          </a:xfrm>
          <a:prstGeom prst="ellipse">
            <a:avLst/>
          </a:prstGeom>
          <a:solidFill>
            <a:srgbClr val="e59467"/>
          </a:solidFill>
          <a:ln w="38100">
            <a:solidFill>
              <a:srgbClr val="ffffff"/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8" name="直接连接符​​ 10"/>
          <p:cNvCxnSpPr/>
          <p:nvPr/>
        </p:nvCxnSpPr>
        <p:spPr>
          <a:xfrm flipH="1">
            <a:off x="2982600" y="2892240"/>
            <a:ext cx="3075480" cy="14760"/>
          </a:xfrm>
          <a:prstGeom prst="straightConnector1">
            <a:avLst/>
          </a:prstGeom>
          <a:ln w="57150">
            <a:solidFill>
              <a:srgbClr val="70625e"/>
            </a:solidFill>
            <a:round/>
          </a:ln>
        </p:spPr>
      </p:cxnSp>
      <p:sp>
        <p:nvSpPr>
          <p:cNvPr id="49" name="六边形 36"/>
          <p:cNvSpPr/>
          <p:nvPr/>
        </p:nvSpPr>
        <p:spPr>
          <a:xfrm flipH="1" rot="5400000">
            <a:off x="1689840" y="2655360"/>
            <a:ext cx="1388880" cy="1196640"/>
          </a:xfrm>
          <a:prstGeom prst="hexagon">
            <a:avLst>
              <a:gd name="adj" fmla="val 28044"/>
              <a:gd name="vf" fmla="val 115470"/>
            </a:avLst>
          </a:prstGeom>
          <a:solidFill>
            <a:srgbClr val="efbea3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椭圆​​ 38"/>
          <p:cNvSpPr/>
          <p:nvPr/>
        </p:nvSpPr>
        <p:spPr>
          <a:xfrm flipH="1" rot="5400000">
            <a:off x="1843920" y="2714760"/>
            <a:ext cx="1079280" cy="1076760"/>
          </a:xfrm>
          <a:prstGeom prst="ellipse">
            <a:avLst/>
          </a:prstGeom>
          <a:solidFill>
            <a:srgbClr val="e59467"/>
          </a:solidFill>
          <a:ln w="38100">
            <a:solidFill>
              <a:srgbClr val="ffffff"/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1" name="直接连接符​​ 14"/>
          <p:cNvCxnSpPr/>
          <p:nvPr/>
        </p:nvCxnSpPr>
        <p:spPr>
          <a:xfrm flipH="1" flipV="1">
            <a:off x="3571560" y="3968640"/>
            <a:ext cx="2215080" cy="3600"/>
          </a:xfrm>
          <a:prstGeom prst="straightConnector1">
            <a:avLst/>
          </a:prstGeom>
          <a:ln w="57150">
            <a:solidFill>
              <a:srgbClr val="70625e"/>
            </a:solidFill>
            <a:round/>
          </a:ln>
        </p:spPr>
      </p:cxnSp>
      <p:sp>
        <p:nvSpPr>
          <p:cNvPr id="52" name="六边形 40"/>
          <p:cNvSpPr/>
          <p:nvPr/>
        </p:nvSpPr>
        <p:spPr>
          <a:xfrm flipH="1" rot="5400000">
            <a:off x="2278800" y="3708000"/>
            <a:ext cx="1388880" cy="1196640"/>
          </a:xfrm>
          <a:prstGeom prst="hexagon">
            <a:avLst>
              <a:gd name="adj" fmla="val 28044"/>
              <a:gd name="vf" fmla="val 115470"/>
            </a:avLst>
          </a:prstGeom>
          <a:solidFill>
            <a:srgbClr val="efbea3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椭圆​​ 36"/>
          <p:cNvSpPr/>
          <p:nvPr/>
        </p:nvSpPr>
        <p:spPr>
          <a:xfrm flipH="1" rot="5400000">
            <a:off x="2432520" y="3767760"/>
            <a:ext cx="1079280" cy="1076760"/>
          </a:xfrm>
          <a:prstGeom prst="ellipse">
            <a:avLst/>
          </a:prstGeom>
          <a:solidFill>
            <a:srgbClr val="e59467"/>
          </a:solidFill>
          <a:ln w="38100">
            <a:solidFill>
              <a:srgbClr val="ffffff"/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6354720" y="264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6283440" y="3860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6140520" y="171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五边形 10"/>
          <p:cNvSpPr/>
          <p:nvPr/>
        </p:nvSpPr>
        <p:spPr>
          <a:xfrm rot="5400000">
            <a:off x="6533640" y="2478960"/>
            <a:ext cx="1847160" cy="1337760"/>
          </a:xfrm>
          <a:prstGeom prst="homePlate">
            <a:avLst>
              <a:gd name="adj" fmla="val 55800"/>
            </a:avLst>
          </a:prstGeom>
          <a:solidFill>
            <a:srgbClr val="e59467"/>
          </a:solidFill>
          <a:ln>
            <a:noFill/>
          </a:ln>
          <a:effectLst>
            <a:innerShdw blurRad="114300">
              <a:srgbClr val="000000"/>
            </a:inn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五边形 7"/>
          <p:cNvSpPr/>
          <p:nvPr/>
        </p:nvSpPr>
        <p:spPr>
          <a:xfrm rot="5400000">
            <a:off x="6619320" y="2507400"/>
            <a:ext cx="1666440" cy="1204560"/>
          </a:xfrm>
          <a:custGeom>
            <a:avLst/>
            <a:gdLst>
              <a:gd name="textAreaLeft" fmla="*/ 0 w 1666440"/>
              <a:gd name="textAreaRight" fmla="*/ 1666800 w 1666440"/>
              <a:gd name="textAreaTop" fmla="*/ 0 h 1204560"/>
              <a:gd name="textAreaBottom" fmla="*/ 1204920 h 1204560"/>
            </a:gdLst>
            <a:ahLst/>
            <a:rect l="textAreaLeft" t="textAreaTop" r="textAreaRight" b="textAreaBottom"/>
            <a:pathLst>
              <a:path w="1510572" h="1092511">
                <a:moveTo>
                  <a:pt x="2342" y="0"/>
                </a:moveTo>
                <a:lnTo>
                  <a:pt x="900951" y="0"/>
                </a:lnTo>
                <a:lnTo>
                  <a:pt x="1510572" y="546256"/>
                </a:lnTo>
                <a:lnTo>
                  <a:pt x="900951" y="1092511"/>
                </a:lnTo>
                <a:lnTo>
                  <a:pt x="0" y="1084017"/>
                </a:lnTo>
              </a:path>
            </a:pathLst>
          </a:custGeom>
          <a:noFill/>
          <a:ln w="19050">
            <a:solidFill>
              <a:srgbClr val="70625e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椭圆 3"/>
          <p:cNvSpPr/>
          <p:nvPr/>
        </p:nvSpPr>
        <p:spPr>
          <a:xfrm>
            <a:off x="581400" y="2050560"/>
            <a:ext cx="2527200" cy="15120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0">
                <a:srgbClr val="cacaca">
                  <a:alpha val="36078"/>
                </a:srgbClr>
              </a:gs>
              <a:gs pos="100000">
                <a:srgbClr val="bfbfb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五边形 13"/>
          <p:cNvSpPr/>
          <p:nvPr/>
        </p:nvSpPr>
        <p:spPr>
          <a:xfrm rot="5400000">
            <a:off x="964440" y="2478960"/>
            <a:ext cx="1847160" cy="1337760"/>
          </a:xfrm>
          <a:prstGeom prst="homePlate">
            <a:avLst>
              <a:gd name="adj" fmla="val 55800"/>
            </a:avLst>
          </a:prstGeom>
          <a:solidFill>
            <a:srgbClr val="e59467"/>
          </a:solidFill>
          <a:ln>
            <a:noFill/>
          </a:ln>
          <a:effectLst>
            <a:innerShdw blurRad="114300">
              <a:srgbClr val="000000"/>
            </a:inn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500040" y="2211480"/>
            <a:ext cx="2690280" cy="172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五边形 7"/>
          <p:cNvSpPr/>
          <p:nvPr/>
        </p:nvSpPr>
        <p:spPr>
          <a:xfrm rot="5400000">
            <a:off x="1049760" y="2506680"/>
            <a:ext cx="1666440" cy="1206000"/>
          </a:xfrm>
          <a:custGeom>
            <a:avLst/>
            <a:gdLst>
              <a:gd name="textAreaLeft" fmla="*/ 0 w 1666440"/>
              <a:gd name="textAreaRight" fmla="*/ 1666800 w 1666440"/>
              <a:gd name="textAreaTop" fmla="*/ 0 h 1206000"/>
              <a:gd name="textAreaBottom" fmla="*/ 1206360 h 1206000"/>
            </a:gdLst>
            <a:ahLst/>
            <a:rect l="textAreaLeft" t="textAreaTop" r="textAreaRight" b="textAreaBottom"/>
            <a:pathLst>
              <a:path w="1510572" h="1093882">
                <a:moveTo>
                  <a:pt x="2342" y="0"/>
                </a:moveTo>
                <a:lnTo>
                  <a:pt x="900951" y="0"/>
                </a:lnTo>
                <a:lnTo>
                  <a:pt x="1510572" y="546256"/>
                </a:lnTo>
                <a:lnTo>
                  <a:pt x="900951" y="1092511"/>
                </a:lnTo>
                <a:lnTo>
                  <a:pt x="0" y="1093882"/>
                </a:lnTo>
              </a:path>
            </a:pathLst>
          </a:custGeom>
          <a:noFill/>
          <a:ln w="19050">
            <a:solidFill>
              <a:srgbClr val="70625e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椭圆 3"/>
          <p:cNvSpPr/>
          <p:nvPr/>
        </p:nvSpPr>
        <p:spPr>
          <a:xfrm>
            <a:off x="3366000" y="2050560"/>
            <a:ext cx="2527200" cy="15120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0">
                <a:srgbClr val="cacaca">
                  <a:alpha val="36078"/>
                </a:srgbClr>
              </a:gs>
              <a:gs pos="100000">
                <a:srgbClr val="bfbfb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五边形 17"/>
          <p:cNvSpPr/>
          <p:nvPr/>
        </p:nvSpPr>
        <p:spPr>
          <a:xfrm rot="5400000">
            <a:off x="3749040" y="2478960"/>
            <a:ext cx="1847160" cy="1337760"/>
          </a:xfrm>
          <a:prstGeom prst="homePlate">
            <a:avLst>
              <a:gd name="adj" fmla="val 55800"/>
            </a:avLst>
          </a:prstGeom>
          <a:solidFill>
            <a:srgbClr val="9d7b71"/>
          </a:solidFill>
          <a:ln>
            <a:noFill/>
          </a:ln>
          <a:effectLst>
            <a:innerShdw>
              <a:srgbClr val="ff0000"/>
            </a:innerShdw>
            <a:reflection algn="bl" blurRad="6350" dir="5400000" endA="300" endPos="35000" rotWithShape="0" stA="52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矩形 18"/>
          <p:cNvSpPr/>
          <p:nvPr/>
        </p:nvSpPr>
        <p:spPr>
          <a:xfrm>
            <a:off x="3284640" y="2211480"/>
            <a:ext cx="2690280" cy="172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五边形 7"/>
          <p:cNvSpPr/>
          <p:nvPr/>
        </p:nvSpPr>
        <p:spPr>
          <a:xfrm rot="5400000">
            <a:off x="3828600" y="2501280"/>
            <a:ext cx="1666440" cy="1217160"/>
          </a:xfrm>
          <a:custGeom>
            <a:avLst/>
            <a:gdLst>
              <a:gd name="textAreaLeft" fmla="*/ 0 w 1666440"/>
              <a:gd name="textAreaRight" fmla="*/ 1666800 w 1666440"/>
              <a:gd name="textAreaTop" fmla="*/ 0 h 1217160"/>
              <a:gd name="textAreaBottom" fmla="*/ 1217520 h 1217160"/>
            </a:gdLst>
            <a:ahLst/>
            <a:rect l="textAreaLeft" t="textAreaTop" r="textAreaRight" b="textAreaBottom"/>
            <a:pathLst>
              <a:path w="1510572" h="1103747">
                <a:moveTo>
                  <a:pt x="2342" y="0"/>
                </a:moveTo>
                <a:lnTo>
                  <a:pt x="900951" y="0"/>
                </a:lnTo>
                <a:lnTo>
                  <a:pt x="1510572" y="546256"/>
                </a:lnTo>
                <a:lnTo>
                  <a:pt x="900951" y="1092511"/>
                </a:lnTo>
                <a:cubicBezTo>
                  <a:pt x="601415" y="1092511"/>
                  <a:pt x="0" y="1103747"/>
                  <a:pt x="0" y="1103747"/>
                </a:cubicBezTo>
              </a:path>
            </a:pathLst>
          </a:custGeom>
          <a:noFill/>
          <a:ln w="19050">
            <a:solidFill>
              <a:srgbClr val="e59467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椭圆 3"/>
          <p:cNvSpPr/>
          <p:nvPr/>
        </p:nvSpPr>
        <p:spPr>
          <a:xfrm>
            <a:off x="6150600" y="2050560"/>
            <a:ext cx="2527200" cy="15120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151200"/>
              <a:gd name="textAreaBottom" fmla="*/ 151560 h 15120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0">
                <a:srgbClr val="cacaca">
                  <a:alpha val="36078"/>
                </a:srgbClr>
              </a:gs>
              <a:gs pos="100000">
                <a:srgbClr val="bfbfb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矩形 21"/>
          <p:cNvSpPr/>
          <p:nvPr/>
        </p:nvSpPr>
        <p:spPr>
          <a:xfrm>
            <a:off x="6068880" y="2211480"/>
            <a:ext cx="2690280" cy="172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1714680" y="2259000"/>
            <a:ext cx="3567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4500720" y="2214720"/>
            <a:ext cx="3567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7286760" y="2286000"/>
            <a:ext cx="3567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 flipH="1">
            <a:off x="826920" y="2855880"/>
            <a:ext cx="3576240" cy="1282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70625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4427640" y="1536840"/>
            <a:ext cx="3673080" cy="128232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70625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427640" y="4138560"/>
            <a:ext cx="3673080" cy="128376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70625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五边形 14"/>
          <p:cNvSpPr/>
          <p:nvPr/>
        </p:nvSpPr>
        <p:spPr>
          <a:xfrm>
            <a:off x="4325760" y="3892680"/>
            <a:ext cx="2698560" cy="493200"/>
          </a:xfrm>
          <a:prstGeom prst="homePlat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五边形 15"/>
          <p:cNvSpPr/>
          <p:nvPr/>
        </p:nvSpPr>
        <p:spPr>
          <a:xfrm>
            <a:off x="4448160" y="3952800"/>
            <a:ext cx="2491920" cy="380520"/>
          </a:xfrm>
          <a:prstGeom prst="homePlat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五边形 17"/>
          <p:cNvSpPr/>
          <p:nvPr/>
        </p:nvSpPr>
        <p:spPr>
          <a:xfrm flipH="1">
            <a:off x="1841400" y="2610000"/>
            <a:ext cx="2698560" cy="491760"/>
          </a:xfrm>
          <a:prstGeom prst="homePlat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五边形 18"/>
          <p:cNvSpPr/>
          <p:nvPr/>
        </p:nvSpPr>
        <p:spPr>
          <a:xfrm flipH="1">
            <a:off x="1923480" y="2670120"/>
            <a:ext cx="2493720" cy="379080"/>
          </a:xfrm>
          <a:prstGeom prst="homePlat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五边形 20"/>
          <p:cNvSpPr/>
          <p:nvPr/>
        </p:nvSpPr>
        <p:spPr>
          <a:xfrm>
            <a:off x="4349880" y="1289160"/>
            <a:ext cx="2698560" cy="493200"/>
          </a:xfrm>
          <a:prstGeom prst="homePlat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五边形 21"/>
          <p:cNvSpPr/>
          <p:nvPr/>
        </p:nvSpPr>
        <p:spPr>
          <a:xfrm>
            <a:off x="4470480" y="1351080"/>
            <a:ext cx="2493720" cy="379080"/>
          </a:xfrm>
          <a:prstGeom prst="homePlat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矩形 22"/>
          <p:cNvSpPr/>
          <p:nvPr/>
        </p:nvSpPr>
        <p:spPr>
          <a:xfrm>
            <a:off x="4381560" y="857160"/>
            <a:ext cx="99720" cy="5113080"/>
          </a:xfrm>
          <a:prstGeom prst="rect">
            <a:avLst/>
          </a:prstGeom>
          <a:gradFill rotWithShape="0">
            <a:gsLst>
              <a:gs pos="0">
                <a:srgbClr val="70625e"/>
              </a:gs>
              <a:gs pos="100000">
                <a:srgbClr val="808080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等腰三角形 23"/>
          <p:cNvSpPr/>
          <p:nvPr/>
        </p:nvSpPr>
        <p:spPr>
          <a:xfrm rot="5400000">
            <a:off x="4267440" y="1371600"/>
            <a:ext cx="493200" cy="328320"/>
          </a:xfrm>
          <a:prstGeom prst="triangl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等腰三角形 25"/>
          <p:cNvSpPr/>
          <p:nvPr/>
        </p:nvSpPr>
        <p:spPr>
          <a:xfrm rot="5400000">
            <a:off x="4232520" y="3975120"/>
            <a:ext cx="493200" cy="328320"/>
          </a:xfrm>
          <a:prstGeom prst="triangl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等腰三角形 26"/>
          <p:cNvSpPr/>
          <p:nvPr/>
        </p:nvSpPr>
        <p:spPr>
          <a:xfrm flipH="1" rot="16200000">
            <a:off x="4133520" y="2691720"/>
            <a:ext cx="491760" cy="328320"/>
          </a:xfrm>
          <a:prstGeom prst="triangle">
            <a:avLst>
              <a:gd name="adj" fmla="val 50000"/>
            </a:avLst>
          </a:prstGeom>
          <a:solidFill>
            <a:srgbClr val="e59467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54262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571176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19972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5"/>
          <p:cNvSpPr/>
          <p:nvPr/>
        </p:nvSpPr>
        <p:spPr>
          <a:xfrm flipH="1">
            <a:off x="3608280" y="5794200"/>
            <a:ext cx="1747440" cy="35064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1"/>
          <p:cNvSpPr/>
          <p:nvPr/>
        </p:nvSpPr>
        <p:spPr>
          <a:xfrm rot="3153000">
            <a:off x="-363960" y="3802680"/>
            <a:ext cx="4281120" cy="154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39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椭圆 3"/>
          <p:cNvSpPr/>
          <p:nvPr/>
        </p:nvSpPr>
        <p:spPr>
          <a:xfrm rot="3153000">
            <a:off x="-125640" y="3596040"/>
            <a:ext cx="4022640" cy="26208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26000">
                <a:srgbClr val="f2f2f2">
                  <a:alpha val="0"/>
                </a:srgbClr>
              </a:gs>
              <a:gs pos="100000">
                <a:srgbClr val="808080">
                  <a:alpha val="27058"/>
                </a:srgbClr>
              </a:gs>
            </a:gsLst>
            <a:lin ang="85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椭圆 6"/>
          <p:cNvSpPr/>
          <p:nvPr/>
        </p:nvSpPr>
        <p:spPr>
          <a:xfrm rot="3153000">
            <a:off x="1288440" y="2310480"/>
            <a:ext cx="2206440" cy="1734840"/>
          </a:xfrm>
          <a:custGeom>
            <a:avLst/>
            <a:gdLst>
              <a:gd name="textAreaLeft" fmla="*/ 0 w 2206440"/>
              <a:gd name="textAreaRight" fmla="*/ 2206800 w 2206440"/>
              <a:gd name="textAreaTop" fmla="*/ 0 h 1734840"/>
              <a:gd name="textAreaBottom" fmla="*/ 1735200 h 173484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blurRad="50760" dir="16200000" dist="38160" rotWithShape="0" sx="101000" sy="101000">
              <a:srgbClr val="000000">
                <a:alpha val="2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椭圆 6"/>
          <p:cNvSpPr/>
          <p:nvPr/>
        </p:nvSpPr>
        <p:spPr>
          <a:xfrm rot="3153000">
            <a:off x="1315800" y="2390040"/>
            <a:ext cx="2080080" cy="1635480"/>
          </a:xfrm>
          <a:custGeom>
            <a:avLst/>
            <a:gdLst>
              <a:gd name="textAreaLeft" fmla="*/ 0 w 2080080"/>
              <a:gd name="textAreaRight" fmla="*/ 2080440 w 2080080"/>
              <a:gd name="textAreaTop" fmla="*/ 0 h 1635480"/>
              <a:gd name="textAreaBottom" fmla="*/ 1635840 h 1635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70625e"/>
          </a:solidFill>
          <a:ln>
            <a:noFill/>
          </a:ln>
          <a:effectLst>
            <a:innerShdw>
              <a:srgbClr val="000000">
                <a:alpha val="43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矩形 16"/>
          <p:cNvSpPr/>
          <p:nvPr/>
        </p:nvSpPr>
        <p:spPr>
          <a:xfrm rot="3153000">
            <a:off x="2104200" y="3802680"/>
            <a:ext cx="4281120" cy="154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39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椭圆 3"/>
          <p:cNvSpPr/>
          <p:nvPr/>
        </p:nvSpPr>
        <p:spPr>
          <a:xfrm rot="3153000">
            <a:off x="2342160" y="3596040"/>
            <a:ext cx="4022640" cy="26208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26000">
                <a:srgbClr val="f2f2f2">
                  <a:alpha val="0"/>
                </a:srgbClr>
              </a:gs>
              <a:gs pos="100000">
                <a:srgbClr val="808080">
                  <a:alpha val="27058"/>
                </a:srgbClr>
              </a:gs>
            </a:gsLst>
            <a:lin ang="85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椭圆 6"/>
          <p:cNvSpPr/>
          <p:nvPr/>
        </p:nvSpPr>
        <p:spPr>
          <a:xfrm rot="3153000">
            <a:off x="3756960" y="2310480"/>
            <a:ext cx="2206440" cy="1734840"/>
          </a:xfrm>
          <a:custGeom>
            <a:avLst/>
            <a:gdLst>
              <a:gd name="textAreaLeft" fmla="*/ 0 w 2206440"/>
              <a:gd name="textAreaRight" fmla="*/ 2206800 w 2206440"/>
              <a:gd name="textAreaTop" fmla="*/ 0 h 1734840"/>
              <a:gd name="textAreaBottom" fmla="*/ 1735200 h 173484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blurRad="50760" dir="16200000" dist="38160" rotWithShape="0" sx="101000" sy="101000">
              <a:srgbClr val="000000">
                <a:alpha val="2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椭圆 6"/>
          <p:cNvSpPr/>
          <p:nvPr/>
        </p:nvSpPr>
        <p:spPr>
          <a:xfrm rot="3153000">
            <a:off x="3783960" y="2390040"/>
            <a:ext cx="2080080" cy="1635480"/>
          </a:xfrm>
          <a:custGeom>
            <a:avLst/>
            <a:gdLst>
              <a:gd name="textAreaLeft" fmla="*/ 0 w 2080080"/>
              <a:gd name="textAreaRight" fmla="*/ 2080440 w 2080080"/>
              <a:gd name="textAreaTop" fmla="*/ 0 h 1635480"/>
              <a:gd name="textAreaBottom" fmla="*/ 1635840 h 1635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e59467"/>
          </a:solidFill>
          <a:ln>
            <a:noFill/>
          </a:ln>
          <a:effectLst>
            <a:innerShdw>
              <a:srgbClr val="7c3b06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矩形 21"/>
          <p:cNvSpPr/>
          <p:nvPr/>
        </p:nvSpPr>
        <p:spPr>
          <a:xfrm rot="3153000">
            <a:off x="4572720" y="3802680"/>
            <a:ext cx="4281120" cy="1548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f2f2f2"/>
              </a:gs>
            </a:gsLst>
            <a:lin ang="139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椭圆 3"/>
          <p:cNvSpPr/>
          <p:nvPr/>
        </p:nvSpPr>
        <p:spPr>
          <a:xfrm rot="3153000">
            <a:off x="4809960" y="3596040"/>
            <a:ext cx="4022640" cy="26208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967726" h="372256">
                <a:moveTo>
                  <a:pt x="2983863" y="0"/>
                </a:moveTo>
                <a:cubicBezTo>
                  <a:pt x="4505610" y="0"/>
                  <a:pt x="5763890" y="161740"/>
                  <a:pt x="5967726" y="372256"/>
                </a:cubicBezTo>
                <a:lnTo>
                  <a:pt x="0" y="372256"/>
                </a:lnTo>
                <a:cubicBezTo>
                  <a:pt x="203837" y="161740"/>
                  <a:pt x="1462116" y="0"/>
                  <a:pt x="2983863" y="0"/>
                </a:cubicBezTo>
                <a:close/>
              </a:path>
            </a:pathLst>
          </a:custGeom>
          <a:gradFill rotWithShape="0">
            <a:gsLst>
              <a:gs pos="26000">
                <a:srgbClr val="f2f2f2">
                  <a:alpha val="0"/>
                </a:srgbClr>
              </a:gs>
              <a:gs pos="100000">
                <a:srgbClr val="808080">
                  <a:alpha val="27058"/>
                </a:srgbClr>
              </a:gs>
            </a:gsLst>
            <a:lin ang="855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椭圆 6"/>
          <p:cNvSpPr/>
          <p:nvPr/>
        </p:nvSpPr>
        <p:spPr>
          <a:xfrm rot="3153000">
            <a:off x="6224760" y="2311200"/>
            <a:ext cx="2206440" cy="1733040"/>
          </a:xfrm>
          <a:custGeom>
            <a:avLst/>
            <a:gdLst>
              <a:gd name="textAreaLeft" fmla="*/ 0 w 2206440"/>
              <a:gd name="textAreaRight" fmla="*/ 2206800 w 2206440"/>
              <a:gd name="textAreaTop" fmla="*/ 0 h 1733040"/>
              <a:gd name="textAreaBottom" fmla="*/ 1733400 h 173304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chemeClr val="bg1"/>
          </a:solidFill>
          <a:ln>
            <a:noFill/>
          </a:ln>
          <a:effectLst>
            <a:outerShdw blurRad="50760" dir="16200000" dist="38160" rotWithShape="0" sx="101000" sy="101000">
              <a:srgbClr val="000000">
                <a:alpha val="2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椭圆 6"/>
          <p:cNvSpPr/>
          <p:nvPr/>
        </p:nvSpPr>
        <p:spPr>
          <a:xfrm rot="3153000">
            <a:off x="6252120" y="2390040"/>
            <a:ext cx="2080080" cy="1635480"/>
          </a:xfrm>
          <a:custGeom>
            <a:avLst/>
            <a:gdLst>
              <a:gd name="textAreaLeft" fmla="*/ 0 w 2080080"/>
              <a:gd name="textAreaRight" fmla="*/ 2080440 w 2080080"/>
              <a:gd name="textAreaTop" fmla="*/ 0 h 1635480"/>
              <a:gd name="textAreaBottom" fmla="*/ 1635840 h 1635480"/>
            </a:gdLst>
            <a:ahLst/>
            <a:rect l="textAreaLeft" t="textAreaTop" r="textAreaRight" b="textAreaBottom"/>
            <a:pathLst>
              <a:path w="2448272" h="1925181">
                <a:moveTo>
                  <a:pt x="1224136" y="0"/>
                </a:moveTo>
                <a:cubicBezTo>
                  <a:pt x="1900208" y="0"/>
                  <a:pt x="2448272" y="548064"/>
                  <a:pt x="2448272" y="1224136"/>
                </a:cubicBezTo>
                <a:cubicBezTo>
                  <a:pt x="2448272" y="1485100"/>
                  <a:pt x="2366613" y="1726991"/>
                  <a:pt x="2226782" y="1925181"/>
                </a:cubicBezTo>
                <a:lnTo>
                  <a:pt x="221490" y="1925181"/>
                </a:lnTo>
                <a:cubicBezTo>
                  <a:pt x="81659" y="1726991"/>
                  <a:pt x="0" y="1485100"/>
                  <a:pt x="0" y="1224136"/>
                </a:cubicBezTo>
                <a:cubicBezTo>
                  <a:pt x="0" y="548064"/>
                  <a:pt x="548064" y="0"/>
                  <a:pt x="1224136" y="0"/>
                </a:cubicBezTo>
                <a:close/>
              </a:path>
            </a:pathLst>
          </a:custGeom>
          <a:solidFill>
            <a:srgbClr val="70625e"/>
          </a:solidFill>
          <a:ln>
            <a:noFill/>
          </a:ln>
          <a:effectLst>
            <a:innerShdw>
              <a:srgbClr val="000000">
                <a:alpha val="43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25"/>
          <p:cNvSpPr/>
          <p:nvPr/>
        </p:nvSpPr>
        <p:spPr>
          <a:xfrm rot="5400000">
            <a:off x="1208160" y="3132000"/>
            <a:ext cx="1007640" cy="1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TextBox 28"/>
          <p:cNvSpPr/>
          <p:nvPr/>
        </p:nvSpPr>
        <p:spPr>
          <a:xfrm>
            <a:off x="1187280" y="2884320"/>
            <a:ext cx="533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9"/>
          <p:cNvSpPr/>
          <p:nvPr/>
        </p:nvSpPr>
        <p:spPr>
          <a:xfrm rot="5400000">
            <a:off x="3691080" y="3132000"/>
            <a:ext cx="1007640" cy="1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3670200" y="2884320"/>
            <a:ext cx="533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3"/>
          <p:cNvSpPr/>
          <p:nvPr/>
        </p:nvSpPr>
        <p:spPr>
          <a:xfrm rot="5400000">
            <a:off x="6151320" y="3132000"/>
            <a:ext cx="1007640" cy="17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000" bIns="-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6130800" y="2884320"/>
            <a:ext cx="533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44258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926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1925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48920" y="61822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11"/>
          <p:cNvSpPr/>
          <p:nvPr/>
        </p:nvSpPr>
        <p:spPr>
          <a:xfrm>
            <a:off x="1428840" y="1643040"/>
            <a:ext cx="1450440" cy="3557160"/>
          </a:xfrm>
          <a:prstGeom prst="roundRect">
            <a:avLst>
              <a:gd name="adj" fmla="val 50000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椭圆 12"/>
          <p:cNvSpPr/>
          <p:nvPr/>
        </p:nvSpPr>
        <p:spPr>
          <a:xfrm>
            <a:off x="1501920" y="1760400"/>
            <a:ext cx="1302840" cy="1299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677960" y="3375000"/>
            <a:ext cx="98244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4" name="圆角矩形 15"/>
          <p:cNvSpPr/>
          <p:nvPr/>
        </p:nvSpPr>
        <p:spPr>
          <a:xfrm>
            <a:off x="3049560" y="1657440"/>
            <a:ext cx="1450440" cy="3557160"/>
          </a:xfrm>
          <a:prstGeom prst="roundRect">
            <a:avLst>
              <a:gd name="adj" fmla="val 50000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5" name="椭圆 16"/>
          <p:cNvSpPr/>
          <p:nvPr/>
        </p:nvSpPr>
        <p:spPr>
          <a:xfrm>
            <a:off x="3124080" y="1774800"/>
            <a:ext cx="1302840" cy="1299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3300480" y="3389400"/>
            <a:ext cx="98064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7" name="圆角矩形 18"/>
          <p:cNvSpPr/>
          <p:nvPr/>
        </p:nvSpPr>
        <p:spPr>
          <a:xfrm>
            <a:off x="4643280" y="1643040"/>
            <a:ext cx="1450440" cy="3557160"/>
          </a:xfrm>
          <a:prstGeom prst="roundRect">
            <a:avLst>
              <a:gd name="adj" fmla="val 50000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椭圆 19"/>
          <p:cNvSpPr/>
          <p:nvPr/>
        </p:nvSpPr>
        <p:spPr>
          <a:xfrm>
            <a:off x="4716360" y="1760400"/>
            <a:ext cx="1302840" cy="1299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4894200" y="3375000"/>
            <a:ext cx="98064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0" name="圆角矩形 21"/>
          <p:cNvSpPr/>
          <p:nvPr/>
        </p:nvSpPr>
        <p:spPr>
          <a:xfrm>
            <a:off x="6264360" y="1657440"/>
            <a:ext cx="1450440" cy="3557160"/>
          </a:xfrm>
          <a:prstGeom prst="roundRect">
            <a:avLst>
              <a:gd name="adj" fmla="val 50000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椭圆 22"/>
          <p:cNvSpPr/>
          <p:nvPr/>
        </p:nvSpPr>
        <p:spPr>
          <a:xfrm>
            <a:off x="6338880" y="1774800"/>
            <a:ext cx="1302840" cy="1299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515280" y="3389400"/>
            <a:ext cx="980640" cy="39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282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4976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9258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711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2570040" y="3059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578340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42116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92556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直接连接符 10"/>
          <p:cNvCxnSpPr/>
          <p:nvPr/>
        </p:nvCxnSpPr>
        <p:spPr>
          <a:xfrm>
            <a:off x="0" y="3516120"/>
            <a:ext cx="82728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2" name="直接连接符 11"/>
          <p:cNvCxnSpPr/>
          <p:nvPr/>
        </p:nvCxnSpPr>
        <p:spPr>
          <a:xfrm>
            <a:off x="2124000" y="3516120"/>
            <a:ext cx="28764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3" name="直接连接符 12"/>
          <p:cNvCxnSpPr/>
          <p:nvPr/>
        </p:nvCxnSpPr>
        <p:spPr>
          <a:xfrm>
            <a:off x="3647880" y="3516120"/>
            <a:ext cx="36072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4" name="直接连接符 13"/>
          <p:cNvCxnSpPr/>
          <p:nvPr/>
        </p:nvCxnSpPr>
        <p:spPr>
          <a:xfrm>
            <a:off x="5292720" y="3516120"/>
            <a:ext cx="35892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5" name="直接连接符 14"/>
          <p:cNvCxnSpPr/>
          <p:nvPr/>
        </p:nvCxnSpPr>
        <p:spPr>
          <a:xfrm>
            <a:off x="6816600" y="3516120"/>
            <a:ext cx="35892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cxnSp>
        <p:nvCxnSpPr>
          <p:cNvPr id="166" name="直接连接符 15"/>
          <p:cNvCxnSpPr/>
          <p:nvPr/>
        </p:nvCxnSpPr>
        <p:spPr>
          <a:xfrm>
            <a:off x="8448480" y="3516120"/>
            <a:ext cx="684720" cy="360"/>
          </a:xfrm>
          <a:prstGeom prst="straightConnector1">
            <a:avLst/>
          </a:prstGeom>
          <a:ln w="57150">
            <a:solidFill>
              <a:srgbClr val="000000">
                <a:lumMod val="50000"/>
                <a:lumOff val="50000"/>
              </a:srgbClr>
            </a:solidFill>
            <a:round/>
            <a:tailEnd len="med" type="triangle" w="med"/>
          </a:ln>
        </p:spPr>
      </p:cxnSp>
      <p:sp>
        <p:nvSpPr>
          <p:cNvPr id="167" name="等腰三角形 5"/>
          <p:cNvSpPr/>
          <p:nvPr/>
        </p:nvSpPr>
        <p:spPr>
          <a:xfrm>
            <a:off x="826920" y="2357280"/>
            <a:ext cx="1296720" cy="133632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e59467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等腰三角形 5"/>
          <p:cNvSpPr/>
          <p:nvPr/>
        </p:nvSpPr>
        <p:spPr>
          <a:xfrm flipV="1">
            <a:off x="2411280" y="3260880"/>
            <a:ext cx="1296720" cy="1336320"/>
          </a:xfrm>
          <a:custGeom>
            <a:avLst/>
            <a:gdLst>
              <a:gd name="textAreaLeft" fmla="*/ 0 w 1296720"/>
              <a:gd name="textAreaRight" fmla="*/ 1297080 w 1296720"/>
              <a:gd name="textAreaTop" fmla="*/ 360 h 1336320"/>
              <a:gd name="textAreaBottom" fmla="*/ 133704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70625e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9" name="等腰三角形 5"/>
          <p:cNvSpPr/>
          <p:nvPr/>
        </p:nvSpPr>
        <p:spPr>
          <a:xfrm>
            <a:off x="3995640" y="2357280"/>
            <a:ext cx="1296720" cy="1336320"/>
          </a:xfrm>
          <a:custGeom>
            <a:avLst/>
            <a:gdLst>
              <a:gd name="textAreaLeft" fmla="*/ 0 w 1296720"/>
              <a:gd name="textAreaRight" fmla="*/ 1297080 w 129672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e59467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0" name="等腰三角形 5"/>
          <p:cNvSpPr/>
          <p:nvPr/>
        </p:nvSpPr>
        <p:spPr>
          <a:xfrm flipV="1">
            <a:off x="5580000" y="3260880"/>
            <a:ext cx="1294920" cy="1336320"/>
          </a:xfrm>
          <a:custGeom>
            <a:avLst/>
            <a:gdLst>
              <a:gd name="textAreaLeft" fmla="*/ 0 w 1294920"/>
              <a:gd name="textAreaRight" fmla="*/ 1295280 w 1294920"/>
              <a:gd name="textAreaTop" fmla="*/ 360 h 1336320"/>
              <a:gd name="textAreaBottom" fmla="*/ 133704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70625e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1" name="等腰三角形 5"/>
          <p:cNvSpPr/>
          <p:nvPr/>
        </p:nvSpPr>
        <p:spPr>
          <a:xfrm>
            <a:off x="7164360" y="2357280"/>
            <a:ext cx="1294920" cy="1336320"/>
          </a:xfrm>
          <a:custGeom>
            <a:avLst/>
            <a:gdLst>
              <a:gd name="textAreaLeft" fmla="*/ 0 w 1294920"/>
              <a:gd name="textAreaRight" fmla="*/ 1295280 w 129492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w="1152128" h="1188410">
                <a:moveTo>
                  <a:pt x="576064" y="0"/>
                </a:moveTo>
                <a:lnTo>
                  <a:pt x="720080" y="288032"/>
                </a:lnTo>
                <a:lnTo>
                  <a:pt x="647834" y="288032"/>
                </a:lnTo>
                <a:lnTo>
                  <a:pt x="783406" y="604369"/>
                </a:lnTo>
                <a:cubicBezTo>
                  <a:pt x="999361" y="686373"/>
                  <a:pt x="1152128" y="895549"/>
                  <a:pt x="1152128" y="1140405"/>
                </a:cubicBezTo>
                <a:lnTo>
                  <a:pt x="1149704" y="1188410"/>
                </a:lnTo>
                <a:cubicBezTo>
                  <a:pt x="1125742" y="892701"/>
                  <a:pt x="878037" y="660352"/>
                  <a:pt x="576064" y="660352"/>
                </a:cubicBezTo>
                <a:cubicBezTo>
                  <a:pt x="274091" y="660352"/>
                  <a:pt x="26386" y="892701"/>
                  <a:pt x="2424" y="1188410"/>
                </a:cubicBezTo>
                <a:cubicBezTo>
                  <a:pt x="667" y="1172607"/>
                  <a:pt x="0" y="1156583"/>
                  <a:pt x="0" y="1140405"/>
                </a:cubicBezTo>
                <a:cubicBezTo>
                  <a:pt x="0" y="895549"/>
                  <a:pt x="152767" y="686373"/>
                  <a:pt x="368722" y="604369"/>
                </a:cubicBezTo>
                <a:lnTo>
                  <a:pt x="504295" y="288032"/>
                </a:lnTo>
                <a:lnTo>
                  <a:pt x="432048" y="288032"/>
                </a:lnTo>
                <a:close/>
              </a:path>
            </a:pathLst>
          </a:custGeom>
          <a:solidFill>
            <a:srgbClr val="e59467"/>
          </a:solidFill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72835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5"/>
          <p:cNvGrpSpPr/>
          <p:nvPr/>
        </p:nvGrpSpPr>
        <p:grpSpPr>
          <a:xfrm>
            <a:off x="571320" y="1379880"/>
            <a:ext cx="6531120" cy="4406040"/>
            <a:chOff x="571320" y="1379880"/>
            <a:chExt cx="6531120" cy="4406040"/>
          </a:xfrm>
        </p:grpSpPr>
        <p:sp>
          <p:nvSpPr>
            <p:cNvPr id="174" name="圆角矩形 11"/>
            <p:cNvSpPr/>
            <p:nvPr/>
          </p:nvSpPr>
          <p:spPr>
            <a:xfrm>
              <a:off x="571320" y="3317760"/>
              <a:ext cx="2839680" cy="1509480"/>
            </a:xfrm>
            <a:prstGeom prst="roundRect">
              <a:avLst>
                <a:gd name="adj" fmla="val 11859"/>
              </a:avLst>
            </a:prstGeom>
            <a:solidFill>
              <a:srgbClr val="7062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环形箭头 12"/>
            <p:cNvSpPr/>
            <p:nvPr/>
          </p:nvSpPr>
          <p:spPr>
            <a:xfrm rot="18256800">
              <a:off x="3347640" y="1855800"/>
              <a:ext cx="2977920" cy="3454200"/>
            </a:xfrm>
            <a:prstGeom prst="circularArrow">
              <a:avLst>
                <a:gd name="adj1" fmla="val 2688"/>
                <a:gd name="adj2" fmla="val 799817"/>
                <a:gd name="adj3" fmla="val 20557041"/>
                <a:gd name="adj4" fmla="val 14258760"/>
                <a:gd name="adj5" fmla="val 5834"/>
              </a:avLst>
            </a:prstGeom>
            <a:solidFill>
              <a:srgbClr val="7062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76" name="组合 6"/>
          <p:cNvGrpSpPr/>
          <p:nvPr/>
        </p:nvGrpSpPr>
        <p:grpSpPr>
          <a:xfrm>
            <a:off x="2015280" y="908640"/>
            <a:ext cx="6530040" cy="4406040"/>
            <a:chOff x="2015280" y="908640"/>
            <a:chExt cx="6530040" cy="4406040"/>
          </a:xfrm>
        </p:grpSpPr>
        <p:sp>
          <p:nvSpPr>
            <p:cNvPr id="177" name="圆角矩形 14"/>
            <p:cNvSpPr/>
            <p:nvPr/>
          </p:nvSpPr>
          <p:spPr>
            <a:xfrm rot="10800000">
              <a:off x="5706000" y="1866600"/>
              <a:ext cx="2839320" cy="1509120"/>
            </a:xfrm>
            <a:prstGeom prst="roundRect">
              <a:avLst>
                <a:gd name="adj" fmla="val 12821"/>
              </a:avLst>
            </a:prstGeom>
            <a:solidFill>
              <a:srgbClr val="e5946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环形箭头 15"/>
            <p:cNvSpPr/>
            <p:nvPr/>
          </p:nvSpPr>
          <p:spPr>
            <a:xfrm rot="7456800">
              <a:off x="2791800" y="1384200"/>
              <a:ext cx="2977920" cy="3454200"/>
            </a:xfrm>
            <a:prstGeom prst="circularArrow">
              <a:avLst>
                <a:gd name="adj1" fmla="val 2688"/>
                <a:gd name="adj2" fmla="val 799817"/>
                <a:gd name="adj3" fmla="val 20557041"/>
                <a:gd name="adj4" fmla="val 14258760"/>
                <a:gd name="adj5" fmla="val 5834"/>
              </a:avLst>
            </a:prstGeom>
            <a:solidFill>
              <a:srgbClr val="e5946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9" name="椭圆 16"/>
          <p:cNvSpPr/>
          <p:nvPr/>
        </p:nvSpPr>
        <p:spPr>
          <a:xfrm>
            <a:off x="3836880" y="2506680"/>
            <a:ext cx="1553760" cy="1552320"/>
          </a:xfrm>
          <a:prstGeom prst="ellipse">
            <a:avLst/>
          </a:prstGeom>
          <a:noFill/>
          <a:ln w="76200">
            <a:solidFill>
              <a:srgbClr val="e594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0" name="圆角矩形 17"/>
          <p:cNvSpPr/>
          <p:nvPr/>
        </p:nvSpPr>
        <p:spPr>
          <a:xfrm>
            <a:off x="760320" y="1824120"/>
            <a:ext cx="2482560" cy="420480"/>
          </a:xfrm>
          <a:prstGeom prst="roundRect">
            <a:avLst>
              <a:gd name="adj" fmla="val 50000"/>
            </a:avLst>
          </a:prstGeom>
          <a:noFill/>
          <a:ln w="76200">
            <a:solidFill>
              <a:srgbClr val="70625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1" name="圆角矩形 18"/>
          <p:cNvSpPr/>
          <p:nvPr/>
        </p:nvSpPr>
        <p:spPr>
          <a:xfrm>
            <a:off x="5905440" y="3500280"/>
            <a:ext cx="2482560" cy="420480"/>
          </a:xfrm>
          <a:prstGeom prst="roundRect">
            <a:avLst>
              <a:gd name="adj" fmla="val 50000"/>
            </a:avLst>
          </a:prstGeom>
          <a:noFill/>
          <a:ln w="76200">
            <a:solidFill>
              <a:srgbClr val="e594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14968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6570720" y="241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6405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5"/>
          <p:cNvSpPr/>
          <p:nvPr/>
        </p:nvSpPr>
        <p:spPr>
          <a:xfrm>
            <a:off x="1568520" y="1844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上箭头 16"/>
          <p:cNvSpPr/>
          <p:nvPr/>
        </p:nvSpPr>
        <p:spPr>
          <a:xfrm>
            <a:off x="6715080" y="4357800"/>
            <a:ext cx="1785600" cy="1285560"/>
          </a:xfrm>
          <a:prstGeom prst="upArrow">
            <a:avLst>
              <a:gd name="adj1" fmla="val 82926"/>
              <a:gd name="adj2" fmla="val 50000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2" name="上箭头 22"/>
          <p:cNvSpPr/>
          <p:nvPr/>
        </p:nvSpPr>
        <p:spPr>
          <a:xfrm>
            <a:off x="4643280" y="3786120"/>
            <a:ext cx="1928520" cy="1856880"/>
          </a:xfrm>
          <a:prstGeom prst="upArrow">
            <a:avLst>
              <a:gd name="adj1" fmla="val 81058"/>
              <a:gd name="adj2" fmla="val 50000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3" name="上箭头 28"/>
          <p:cNvSpPr/>
          <p:nvPr/>
        </p:nvSpPr>
        <p:spPr>
          <a:xfrm>
            <a:off x="2643120" y="3143160"/>
            <a:ext cx="1928520" cy="2499840"/>
          </a:xfrm>
          <a:prstGeom prst="upArrow">
            <a:avLst>
              <a:gd name="adj1" fmla="val 76813"/>
              <a:gd name="adj2" fmla="val 50000"/>
            </a:avLst>
          </a:prstGeom>
          <a:solidFill>
            <a:srgbClr val="e594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4" name="上箭头 34"/>
          <p:cNvSpPr/>
          <p:nvPr/>
        </p:nvSpPr>
        <p:spPr>
          <a:xfrm>
            <a:off x="714240" y="1928880"/>
            <a:ext cx="1928520" cy="3714480"/>
          </a:xfrm>
          <a:prstGeom prst="upArrow">
            <a:avLst>
              <a:gd name="adj1" fmla="val 76813"/>
              <a:gd name="adj2" fmla="val 50000"/>
            </a:avLst>
          </a:prstGeom>
          <a:solidFill>
            <a:srgbClr val="70625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3141720" y="4916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7140600" y="513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5213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1212840" y="4702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  <Words>280</Words>
  <Paragraphs>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47:37Z</dcterms:modified>
  <cp:revision>2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