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44F-27ED-429B-B2E6-D1B34F38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268-228D-4CCD-BB6F-F5D7D045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0F0-F4D7-4DDC-9A63-F8C2662B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505D-2207-4D21-ABFD-C1CA9653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1055-2149-42B8-89EF-47697B4E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0C14-5900-49D4-BE0C-BFFB2AD7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00A-E9B5-476C-90C9-F3C893C7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22BF-C8AE-42C0-8678-58037EBE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6AC3-B298-4ADD-B8EE-83F07C24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B510-7E38-4C92-B2EE-2A9CA916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D1FF-CB90-4556-8481-E19122C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B6B-EEA0-4986-B957-B9C14D27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9697-B7C0-495D-B5B0-ED56749E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3AB7-88BB-4BCF-9F0C-A8D000C2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B064-C3AF-4AF7-9A4B-FA65B897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78D3-8B23-415B-A806-94E2C1C8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423F-DFBD-40B7-A89D-0CE167DB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688-9EC2-4073-ADF1-141156C4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D98-32F4-4D64-95E3-E08BD905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09D-22EE-4061-8149-5C89DE9F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1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3FC-1DFF-4F87-9C50-EDFBAEE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AF94-D21E-4237-B2B9-9BAC3968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454-D731-44EB-945D-618D743B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1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1930-5160-458F-9440-4DFADB51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4280" y="0"/>
            <a:ext cx="3250800" cy="6843240"/>
            <a:chOff x="44280" y="0"/>
            <a:chExt cx="3250800" cy="6843240"/>
          </a:xfrm>
        </p:grpSpPr>
        <p:grpSp>
          <p:nvGrpSpPr>
            <p:cNvPr id="1" name=""/>
            <p:cNvGrpSpPr/>
            <p:nvPr/>
          </p:nvGrpSpPr>
          <p:grpSpPr>
            <a:xfrm>
              <a:off x="107640" y="9360"/>
              <a:ext cx="3187440" cy="6833880"/>
              <a:chOff x="107640" y="9360"/>
              <a:chExt cx="3187440" cy="6833880"/>
            </a:xfrm>
          </p:grpSpPr>
          <p:sp>
            <p:nvSpPr>
              <p:cNvPr id="2" name=""/>
              <p:cNvSpPr/>
              <p:nvPr/>
            </p:nvSpPr>
            <p:spPr>
              <a:xfrm>
                <a:off x="1329120" y="1377360"/>
                <a:ext cx="85680" cy="950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778040" y="996480"/>
                <a:ext cx="21960" cy="248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216240" y="9360"/>
                <a:ext cx="78840" cy="9324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568880" y="6732720"/>
                <a:ext cx="871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60480" y="459720"/>
                <a:ext cx="72720" cy="82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107640" y="288360"/>
                <a:ext cx="88560" cy="6336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56640" y="123480"/>
                <a:ext cx="88560" cy="63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224360" y="43920"/>
                <a:ext cx="83880" cy="950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94320" y="6675480"/>
                <a:ext cx="853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257560" y="678024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32840" y="678024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381400" y="6675480"/>
                <a:ext cx="871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" name=""/>
            <p:cNvGrpSpPr/>
            <p:nvPr/>
          </p:nvGrpSpPr>
          <p:grpSpPr>
            <a:xfrm>
              <a:off x="69840" y="0"/>
              <a:ext cx="2974320" cy="6843240"/>
              <a:chOff x="69840" y="0"/>
              <a:chExt cx="2974320" cy="6843240"/>
            </a:xfrm>
          </p:grpSpPr>
          <p:sp>
            <p:nvSpPr>
              <p:cNvPr id="15" name=""/>
              <p:cNvSpPr/>
              <p:nvPr/>
            </p:nvSpPr>
            <p:spPr>
              <a:xfrm>
                <a:off x="1724400" y="1599480"/>
                <a:ext cx="80640" cy="932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017000" y="1168200"/>
                <a:ext cx="83520" cy="94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963520" y="307440"/>
                <a:ext cx="80640" cy="936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036080" y="1623240"/>
                <a:ext cx="8532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6760" y="642456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63320" y="169488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77560" y="1448640"/>
                <a:ext cx="21600" cy="6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04040" y="245880"/>
                <a:ext cx="88560" cy="644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69560" y="672840"/>
                <a:ext cx="88560" cy="6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60080" y="0"/>
                <a:ext cx="88560" cy="6480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019600" y="120240"/>
                <a:ext cx="83520" cy="95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769040" y="596520"/>
                <a:ext cx="83880" cy="95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251720" y="6634080"/>
                <a:ext cx="871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505520" y="665316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52160" y="6775200"/>
                <a:ext cx="8676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69840" y="3594600"/>
                <a:ext cx="48960" cy="680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639880" y="663408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44280" y="73080"/>
              <a:ext cx="2787120" cy="6770160"/>
              <a:chOff x="44280" y="73080"/>
              <a:chExt cx="2787120" cy="6770160"/>
            </a:xfrm>
          </p:grpSpPr>
          <p:sp>
            <p:nvSpPr>
              <p:cNvPr id="33" name=""/>
              <p:cNvSpPr/>
              <p:nvPr/>
            </p:nvSpPr>
            <p:spPr>
              <a:xfrm>
                <a:off x="1922400" y="1204560"/>
                <a:ext cx="85320" cy="68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96600" y="969480"/>
                <a:ext cx="88560" cy="666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963800" y="786960"/>
                <a:ext cx="3456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524240" y="109188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53600" y="2515680"/>
                <a:ext cx="82080" cy="914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373400" y="174240"/>
                <a:ext cx="7920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11800" y="1824840"/>
                <a:ext cx="83880" cy="694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283680" y="387000"/>
                <a:ext cx="88560" cy="64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03800" y="390240"/>
                <a:ext cx="37800" cy="2664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643400" y="631980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335880" y="14256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905400" y="7308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92720" y="1249200"/>
                <a:ext cx="87120" cy="644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45400" y="1426680"/>
                <a:ext cx="88560" cy="6336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3280" y="626760"/>
                <a:ext cx="8712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154240" y="463320"/>
                <a:ext cx="34560" cy="3780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476080" y="310680"/>
                <a:ext cx="83880" cy="95040"/>
              </a:xfrm>
              <a:prstGeom prst="rect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94000" y="310680"/>
                <a:ext cx="856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765440" y="348840"/>
                <a:ext cx="8352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48440" y="596736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088280" y="6710040"/>
                <a:ext cx="8532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359360" y="6748200"/>
                <a:ext cx="8352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4280" y="675324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18280" y="667224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689480" y="6732360"/>
                <a:ext cx="115560" cy="1108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0840" y="6748200"/>
                <a:ext cx="856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97200" y="6554520"/>
                <a:ext cx="8028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40920" y="6597360"/>
                <a:ext cx="113760" cy="9360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476080" y="671004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47520" y="6748200"/>
                <a:ext cx="83880" cy="950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05000" y="6672240"/>
                <a:ext cx="8532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080" y="1368000"/>
                <a:ext cx="85320" cy="694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39680" y="25560"/>
              <a:ext cx="2302920" cy="6789240"/>
              <a:chOff x="139680" y="25560"/>
              <a:chExt cx="2302920" cy="6789240"/>
            </a:xfrm>
          </p:grpSpPr>
          <p:sp>
            <p:nvSpPr>
              <p:cNvPr id="66" name=""/>
              <p:cNvSpPr/>
              <p:nvPr/>
            </p:nvSpPr>
            <p:spPr>
              <a:xfrm>
                <a:off x="786600" y="1491840"/>
                <a:ext cx="83880" cy="9468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151000" y="939600"/>
                <a:ext cx="8352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34320" y="2851920"/>
                <a:ext cx="80640" cy="93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1760" y="3058200"/>
                <a:ext cx="80640" cy="932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9680" y="2045880"/>
                <a:ext cx="83880" cy="662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85760" y="317160"/>
                <a:ext cx="86760" cy="666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18760" y="701640"/>
                <a:ext cx="86760" cy="630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14080" y="249120"/>
                <a:ext cx="86760" cy="64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6640" y="971280"/>
                <a:ext cx="88560" cy="662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77000" y="615600"/>
                <a:ext cx="8352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41440" y="615600"/>
                <a:ext cx="83520" cy="950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364040" y="6018120"/>
                <a:ext cx="806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88320" y="6742080"/>
                <a:ext cx="7884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15360" y="5484600"/>
                <a:ext cx="806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74560" y="25560"/>
                <a:ext cx="68040" cy="7596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7320" y="6332400"/>
                <a:ext cx="806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09600" y="6494400"/>
                <a:ext cx="78840" cy="9180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856440" y="65898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33200" y="82440"/>
              <a:ext cx="2854080" cy="6760800"/>
              <a:chOff x="133200" y="82440"/>
              <a:chExt cx="2854080" cy="676080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140760" y="82440"/>
                <a:ext cx="2722320" cy="6694200"/>
                <a:chOff x="140760" y="82440"/>
                <a:chExt cx="2722320" cy="66942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563760" y="3605040"/>
                  <a:ext cx="80640" cy="932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7920" y="4425120"/>
                  <a:ext cx="8532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47800" y="783720"/>
                  <a:ext cx="88560" cy="6480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40760" y="992880"/>
                  <a:ext cx="88560" cy="6336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172880" y="348840"/>
                  <a:ext cx="83520" cy="9468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746080" y="82440"/>
                  <a:ext cx="83880" cy="950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391760" y="6441840"/>
                  <a:ext cx="85320" cy="950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099160" y="6710040"/>
                  <a:ext cx="85320" cy="666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320" bIns="-133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48320" y="6638760"/>
                  <a:ext cx="52200" cy="10440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779560" y="6441840"/>
                  <a:ext cx="83520" cy="95040"/>
                </a:xfrm>
                <a:prstGeom prst="diamond">
                  <a:avLst/>
                </a:pr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1158120" y="6310440"/>
                <a:ext cx="8532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05720" y="1148760"/>
                <a:ext cx="88560" cy="666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94640" y="536040"/>
                <a:ext cx="88560" cy="6480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12000" y="120240"/>
                <a:ext cx="50400" cy="56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427760" y="66913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994320" y="6750000"/>
                <a:ext cx="79200" cy="932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2960" y="66769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59920" y="5934240"/>
                <a:ext cx="8676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3200" y="649116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00520" y="6775560"/>
                <a:ext cx="8676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81400" y="6750000"/>
                <a:ext cx="80280" cy="932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640" y="25560"/>
              <a:ext cx="2624040" cy="6779520"/>
              <a:chOff x="53640" y="25560"/>
              <a:chExt cx="2624040" cy="677952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1920" y="1545840"/>
                <a:ext cx="72720" cy="82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9360" y="4191480"/>
                <a:ext cx="39240" cy="439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92120" y="326880"/>
                <a:ext cx="87120" cy="69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246680" y="1825200"/>
                <a:ext cx="87120" cy="6768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8560" y="653760"/>
                <a:ext cx="88560" cy="662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00600" y="6700680"/>
                <a:ext cx="8856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640" y="61560"/>
                <a:ext cx="87120" cy="648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902160" y="406080"/>
                <a:ext cx="83880" cy="95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765440" y="25560"/>
                <a:ext cx="83880" cy="95040"/>
              </a:xfrm>
              <a:prstGeom prst="diamond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06920" y="6526080"/>
                <a:ext cx="5544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8800" y="6734160"/>
                <a:ext cx="83880" cy="68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2120" y="6757920"/>
                <a:ext cx="74160" cy="4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5840" y="6262560"/>
                <a:ext cx="32760" cy="96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71720" y="6062760"/>
                <a:ext cx="21960" cy="72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9120" y="6700680"/>
                <a:ext cx="88560" cy="63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93640" y="6526080"/>
                <a:ext cx="568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45240" y="993600"/>
                <a:ext cx="67680" cy="69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2B4185-3E91-4BA0-BCE0-5EE51E2EE4DA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44280" y="0"/>
            <a:ext cx="9096120" cy="6854400"/>
            <a:chOff x="44280" y="0"/>
            <a:chExt cx="9096120" cy="6854400"/>
          </a:xfrm>
        </p:grpSpPr>
        <p:sp>
          <p:nvSpPr>
            <p:cNvPr id="167" name=""/>
            <p:cNvSpPr/>
            <p:nvPr/>
          </p:nvSpPr>
          <p:spPr>
            <a:xfrm>
              <a:off x="1329840" y="1377360"/>
              <a:ext cx="85320" cy="9468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79120" y="996480"/>
              <a:ext cx="2484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16960" y="9000"/>
              <a:ext cx="7920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1200" y="460080"/>
              <a:ext cx="72720" cy="8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280" y="288720"/>
              <a:ext cx="88560" cy="63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6640" y="123480"/>
              <a:ext cx="88560" cy="630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25080" y="43920"/>
              <a:ext cx="8388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25120" y="1599480"/>
              <a:ext cx="8064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17000" y="1168200"/>
              <a:ext cx="83880" cy="94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64600" y="307440"/>
              <a:ext cx="8064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6080" y="1623240"/>
              <a:ext cx="8532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960" y="1694880"/>
              <a:ext cx="8712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7200" y="1448640"/>
              <a:ext cx="2520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04400" y="245880"/>
              <a:ext cx="88560" cy="644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9200" y="67284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9720" y="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20320" y="12024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69400" y="59652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80" y="3594600"/>
              <a:ext cx="4860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3480" y="1204560"/>
              <a:ext cx="85320" cy="68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97680" y="969480"/>
              <a:ext cx="88560" cy="666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4880" y="786960"/>
              <a:ext cx="3456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24960" y="109188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600" y="2515320"/>
              <a:ext cx="82080" cy="91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74120" y="174240"/>
              <a:ext cx="79200" cy="93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160" y="1824840"/>
              <a:ext cx="8388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680" y="387000"/>
              <a:ext cx="8856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4160" y="390240"/>
              <a:ext cx="37800" cy="266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44120" y="6319800"/>
              <a:ext cx="8856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880" y="142560"/>
              <a:ext cx="8856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05760" y="72720"/>
              <a:ext cx="8856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080" y="1248840"/>
              <a:ext cx="87120" cy="64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5400" y="1426320"/>
              <a:ext cx="8856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80" y="62676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55320" y="46332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7160" y="310680"/>
              <a:ext cx="8388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94720" y="310680"/>
              <a:ext cx="856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66520" y="348840"/>
              <a:ext cx="8352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800" y="596736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080" y="136800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86960" y="1491480"/>
              <a:ext cx="8352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080" y="939600"/>
              <a:ext cx="8388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4320" y="2851560"/>
              <a:ext cx="8064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1760" y="3058200"/>
              <a:ext cx="80640" cy="93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320" y="2045520"/>
              <a:ext cx="83520" cy="6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87200" y="317160"/>
              <a:ext cx="867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760" y="701280"/>
              <a:ext cx="86760" cy="6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720" y="248760"/>
              <a:ext cx="87120" cy="64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640" y="971280"/>
              <a:ext cx="885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736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4216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4760" y="6018120"/>
              <a:ext cx="80640" cy="914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5360" y="5484600"/>
              <a:ext cx="80640" cy="918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75640" y="25200"/>
              <a:ext cx="6804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480" y="3605760"/>
              <a:ext cx="80640" cy="932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8280" y="4426200"/>
              <a:ext cx="85320" cy="662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880" y="783720"/>
              <a:ext cx="88560" cy="64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760" y="9932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74320" y="348840"/>
              <a:ext cx="8352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8600" y="82080"/>
              <a:ext cx="83880" cy="950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58480" y="6310080"/>
              <a:ext cx="85320" cy="6804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5720" y="114912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640" y="536040"/>
              <a:ext cx="88560" cy="648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12360" y="120240"/>
              <a:ext cx="50400" cy="56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9920" y="5933880"/>
              <a:ext cx="86760" cy="6804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000" y="1545480"/>
              <a:ext cx="72720" cy="8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9720" y="4191120"/>
              <a:ext cx="39240" cy="44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3560" y="326520"/>
              <a:ext cx="8676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47400" y="1824840"/>
              <a:ext cx="86760" cy="68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8920" y="653760"/>
              <a:ext cx="88560" cy="662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280" y="61560"/>
              <a:ext cx="87120" cy="648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02880" y="406080"/>
              <a:ext cx="83520" cy="9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66520" y="25200"/>
              <a:ext cx="83520" cy="9468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5840" y="6262560"/>
              <a:ext cx="33120" cy="9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2800" y="6062400"/>
              <a:ext cx="21960" cy="72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44280" y="6332400"/>
              <a:ext cx="2942280" cy="508680"/>
              <a:chOff x="44280" y="6332400"/>
              <a:chExt cx="2942280" cy="508680"/>
            </a:xfrm>
          </p:grpSpPr>
          <p:sp>
            <p:nvSpPr>
              <p:cNvPr id="243" name=""/>
              <p:cNvSpPr/>
              <p:nvPr/>
            </p:nvSpPr>
            <p:spPr>
              <a:xfrm>
                <a:off x="1568520" y="6730560"/>
                <a:ext cx="8676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94320" y="6673680"/>
                <a:ext cx="8568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257200" y="677808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2840" y="677808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1040" y="6673680"/>
                <a:ext cx="8676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26040" y="64238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51360" y="663264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5160" y="6651720"/>
                <a:ext cx="871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51800" y="6773040"/>
                <a:ext cx="8712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39160" y="66326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87920" y="67086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359360" y="6746400"/>
                <a:ext cx="8352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4280" y="675144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18280" y="66708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689120" y="6730560"/>
                <a:ext cx="115560" cy="1105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0840" y="6746400"/>
                <a:ext cx="856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897200" y="6553440"/>
                <a:ext cx="8028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0920" y="6595920"/>
                <a:ext cx="11376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76080" y="67086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47160" y="674640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204640" y="66708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7960" y="67402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46960" y="63324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09240" y="6493680"/>
                <a:ext cx="7920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56440" y="65880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392480" y="6442920"/>
                <a:ext cx="853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99880" y="6710040"/>
                <a:ext cx="85320" cy="6624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8680" y="6638760"/>
                <a:ext cx="52200" cy="104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780640" y="6442920"/>
                <a:ext cx="835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427400" y="6689520"/>
                <a:ext cx="8712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994320" y="6748200"/>
                <a:ext cx="7920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62960" y="66751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32840" y="6490440"/>
                <a:ext cx="8676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99800" y="6773040"/>
                <a:ext cx="8676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81040" y="6748200"/>
                <a:ext cx="8028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0060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07280" y="6525000"/>
                <a:ext cx="550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828800" y="6732360"/>
                <a:ext cx="83880" cy="67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120" y="6756120"/>
                <a:ext cx="74520" cy="4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58840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393640" y="6525000"/>
                <a:ext cx="568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245600" y="993240"/>
              <a:ext cx="6804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29880" y="1377360"/>
              <a:ext cx="85320" cy="9468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78800" y="996480"/>
              <a:ext cx="2484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07320" y="288720"/>
              <a:ext cx="88560" cy="63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24800" y="1599480"/>
              <a:ext cx="8064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7040" y="1168200"/>
              <a:ext cx="83880" cy="94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36120" y="1623240"/>
              <a:ext cx="8532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63000" y="1694880"/>
              <a:ext cx="8712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77240" y="1448640"/>
              <a:ext cx="2520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69240" y="67284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69080" y="59652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24640" y="109188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483720" y="387000"/>
              <a:ext cx="8856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04200" y="390240"/>
              <a:ext cx="37800" cy="266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93120" y="1248840"/>
              <a:ext cx="87120" cy="64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45440" y="1426320"/>
              <a:ext cx="8856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3320" y="62676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94400" y="310680"/>
              <a:ext cx="856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66200" y="348840"/>
              <a:ext cx="8352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55120" y="136800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87000" y="1491480"/>
              <a:ext cx="8352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18800" y="701280"/>
              <a:ext cx="86760" cy="6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6680" y="971280"/>
              <a:ext cx="885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740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48920" y="783720"/>
              <a:ext cx="88560" cy="64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40800" y="9932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74360" y="348840"/>
              <a:ext cx="8352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605760" y="114912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694680" y="536040"/>
              <a:ext cx="88560" cy="648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78960" y="653760"/>
              <a:ext cx="88560" cy="662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02920" y="406080"/>
              <a:ext cx="83520" cy="9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45640" y="993240"/>
              <a:ext cx="6804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7160" y="1263240"/>
              <a:ext cx="8388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2160" y="160596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34360" y="1453320"/>
              <a:ext cx="8388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44040" y="1459800"/>
              <a:ext cx="867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99360" y="175824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32840" y="1168200"/>
              <a:ext cx="6804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0400" y="1469160"/>
              <a:ext cx="8676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26440" y="806040"/>
              <a:ext cx="8388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91600" y="18720"/>
              <a:ext cx="8388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70920" y="220320"/>
              <a:ext cx="8856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6480" y="95040"/>
              <a:ext cx="83880" cy="9468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41000" y="149040"/>
              <a:ext cx="78840" cy="93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2640" y="47160"/>
              <a:ext cx="8856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78880" y="95040"/>
              <a:ext cx="50400" cy="5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3040" y="0"/>
              <a:ext cx="8388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3360" y="996480"/>
              <a:ext cx="25200" cy="25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21920" y="9000"/>
              <a:ext cx="7884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66160" y="460080"/>
              <a:ext cx="72720" cy="82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29720" y="1599480"/>
              <a:ext cx="8028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69560" y="307440"/>
              <a:ext cx="80280" cy="936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4920" y="120240"/>
              <a:ext cx="8352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74000" y="59652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28080" y="1204560"/>
              <a:ext cx="85320" cy="68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02640" y="969480"/>
              <a:ext cx="88560" cy="666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9120" y="786960"/>
              <a:ext cx="3456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59920" y="46332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82120" y="310680"/>
              <a:ext cx="8352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70760" y="34884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56680" y="939600"/>
              <a:ext cx="8352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91440" y="317160"/>
              <a:ext cx="8712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4712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80600" y="25200"/>
              <a:ext cx="6768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53560" y="82080"/>
              <a:ext cx="83880" cy="950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37600" y="1545480"/>
              <a:ext cx="72720" cy="82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97800" y="326520"/>
              <a:ext cx="8712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70760" y="25200"/>
              <a:ext cx="83880" cy="9468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034480" y="1377360"/>
              <a:ext cx="85320" cy="9468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864640" y="2291760"/>
              <a:ext cx="24840" cy="248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12280" y="288720"/>
              <a:ext cx="88560" cy="630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429760" y="1599480"/>
              <a:ext cx="80280" cy="932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1640" y="1168200"/>
              <a:ext cx="83880" cy="94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40720" y="1623240"/>
              <a:ext cx="85320" cy="68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167600" y="1694880"/>
              <a:ext cx="8676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81840" y="1448640"/>
              <a:ext cx="2484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73840" y="67284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854920" y="1891440"/>
              <a:ext cx="83880" cy="95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29600" y="1091880"/>
              <a:ext cx="83880" cy="946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988320" y="387000"/>
              <a:ext cx="8820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08800" y="390240"/>
              <a:ext cx="37800" cy="266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97720" y="1248840"/>
              <a:ext cx="87120" cy="64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50040" y="1426320"/>
              <a:ext cx="88560" cy="6336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58280" y="62676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99360" y="310680"/>
              <a:ext cx="8532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04320" y="2100960"/>
              <a:ext cx="83880" cy="950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60080" y="136800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491240" y="149148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23040" y="701280"/>
              <a:ext cx="87120" cy="630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61280" y="971280"/>
              <a:ext cx="8856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82000" y="61560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3160" y="783720"/>
              <a:ext cx="88560" cy="648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845760" y="9932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878600" y="348840"/>
              <a:ext cx="8388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10360" y="114912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99280" y="536040"/>
              <a:ext cx="88560" cy="64800"/>
            </a:xfrm>
            <a:prstGeom prst="diamond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83560" y="653760"/>
              <a:ext cx="88560" cy="662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07160" y="406080"/>
              <a:ext cx="83880" cy="946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950240" y="993240"/>
              <a:ext cx="67680" cy="698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82120" y="1263240"/>
              <a:ext cx="83520" cy="9504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17120" y="1605960"/>
              <a:ext cx="34560" cy="374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439320" y="1453320"/>
              <a:ext cx="8352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8640" y="1459800"/>
              <a:ext cx="87120" cy="66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04320" y="1758240"/>
              <a:ext cx="83880" cy="950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7800" y="1168200"/>
              <a:ext cx="6768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5000" y="1469160"/>
              <a:ext cx="8712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31400" y="806040"/>
              <a:ext cx="8352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96200" y="18720"/>
              <a:ext cx="83880" cy="950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5520" y="220320"/>
              <a:ext cx="88560" cy="648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91440" y="95040"/>
              <a:ext cx="83880" cy="9468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545240" y="149040"/>
              <a:ext cx="79200" cy="93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6880" y="47160"/>
              <a:ext cx="88560" cy="666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83480" y="95040"/>
              <a:ext cx="50400" cy="56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37640" y="0"/>
              <a:ext cx="83520" cy="95040"/>
            </a:xfrm>
            <a:prstGeom prst="diamond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899560" y="85320"/>
              <a:ext cx="78840" cy="9324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443800" y="536040"/>
              <a:ext cx="72720" cy="82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647200" y="383760"/>
              <a:ext cx="80640" cy="932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431200" y="158400"/>
              <a:ext cx="83880" cy="950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989920" y="364680"/>
              <a:ext cx="88560" cy="6336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051840" y="74880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935920" y="70308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937720" y="1443960"/>
              <a:ext cx="85320" cy="6948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023400" y="106956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294760" y="1681920"/>
              <a:ext cx="34560" cy="37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616960" y="1529640"/>
              <a:ext cx="83880" cy="9504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81960" y="1834560"/>
              <a:ext cx="8388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515440" y="1244160"/>
              <a:ext cx="67680" cy="7596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813880" y="2840400"/>
              <a:ext cx="86760" cy="69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09040" y="882360"/>
              <a:ext cx="83880" cy="94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674200" y="122184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97880" y="213588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145360" y="4127760"/>
              <a:ext cx="48960" cy="6768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29480" y="3048480"/>
              <a:ext cx="82440" cy="918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10560" y="3385080"/>
              <a:ext cx="8064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98000" y="3591360"/>
              <a:ext cx="80280" cy="9324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40720" y="4138920"/>
              <a:ext cx="80640" cy="9324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4520" y="4959360"/>
              <a:ext cx="85320" cy="6660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5960" y="4724640"/>
              <a:ext cx="39240" cy="43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137640" y="6332400"/>
              <a:ext cx="2942280" cy="508680"/>
              <a:chOff x="6137640" y="6332400"/>
              <a:chExt cx="2942280" cy="508680"/>
            </a:xfrm>
          </p:grpSpPr>
          <p:sp>
            <p:nvSpPr>
              <p:cNvPr id="423" name=""/>
              <p:cNvSpPr/>
              <p:nvPr/>
            </p:nvSpPr>
            <p:spPr>
              <a:xfrm>
                <a:off x="7468560" y="6730560"/>
                <a:ext cx="8676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044200" y="6673680"/>
                <a:ext cx="8568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778440" y="6778080"/>
                <a:ext cx="8820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902440" y="6778080"/>
                <a:ext cx="88560" cy="63000"/>
              </a:xfrm>
              <a:prstGeom prst="diamond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56040" y="6673680"/>
                <a:ext cx="87120" cy="662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412480" y="64238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785720" y="6632640"/>
                <a:ext cx="8676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31920" y="6651720"/>
                <a:ext cx="871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85280" y="6773040"/>
                <a:ext cx="87120" cy="68040"/>
              </a:xfrm>
              <a:prstGeom prst="diamond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99360" y="6632640"/>
                <a:ext cx="85320" cy="676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950600" y="67086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80960" y="6746400"/>
                <a:ext cx="8352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991360" y="6751440"/>
                <a:ext cx="88560" cy="66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21680" y="66708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319160" y="6730560"/>
                <a:ext cx="115560" cy="1105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087680" y="6746400"/>
                <a:ext cx="856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46360" y="6553440"/>
                <a:ext cx="8028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669160" y="6595920"/>
                <a:ext cx="113760" cy="9324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564240" y="6708600"/>
                <a:ext cx="8388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92800" y="6746400"/>
                <a:ext cx="83880" cy="9468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33880" y="6670800"/>
                <a:ext cx="85320" cy="94320"/>
              </a:xfrm>
              <a:prstGeom prst="diamond">
                <a:avLst/>
              </a:prstGeom>
              <a:solidFill>
                <a:srgbClr val="f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356680" y="6740280"/>
                <a:ext cx="79200" cy="7272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796240" y="63324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935400" y="6493680"/>
                <a:ext cx="7920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186760" y="6588000"/>
                <a:ext cx="80640" cy="91440"/>
              </a:xfrm>
              <a:prstGeom prst="diamond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46040" y="6442920"/>
                <a:ext cx="853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938640" y="6710040"/>
                <a:ext cx="85320" cy="6624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922960" y="6638760"/>
                <a:ext cx="52200" cy="10440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59680" y="6442920"/>
                <a:ext cx="83520" cy="94320"/>
              </a:xfrm>
              <a:prstGeom prst="diamond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609320" y="6689520"/>
                <a:ext cx="87120" cy="676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050680" y="6748200"/>
                <a:ext cx="7920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74120" y="667512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904240" y="6490440"/>
                <a:ext cx="8676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37640" y="6773040"/>
                <a:ext cx="87120" cy="6804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662520" y="6748200"/>
                <a:ext cx="80640" cy="92880"/>
              </a:xfrm>
              <a:prstGeom prst="diamond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83468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061840" y="6525000"/>
                <a:ext cx="550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211160" y="6732360"/>
                <a:ext cx="83880" cy="67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737560" y="6756120"/>
                <a:ext cx="74160" cy="471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446880" y="6698880"/>
                <a:ext cx="88560" cy="630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673320" y="6525000"/>
                <a:ext cx="56880" cy="662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5001120" y="6690960"/>
              <a:ext cx="8028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312440" y="6715080"/>
              <a:ext cx="85320" cy="6768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39320" y="6786360"/>
              <a:ext cx="86760" cy="6804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53560" y="6540120"/>
              <a:ext cx="2484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21760" y="6518160"/>
              <a:ext cx="88560" cy="6300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62960" y="6583320"/>
              <a:ext cx="83880" cy="9468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10680" y="6545160"/>
              <a:ext cx="83520" cy="9468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05680" y="6690960"/>
              <a:ext cx="80640" cy="93600"/>
            </a:xfrm>
            <a:prstGeom prst="diamond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3920" y="6636960"/>
              <a:ext cx="72360" cy="8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24960" y="6551280"/>
              <a:ext cx="86760" cy="66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74040" y="4579920"/>
              <a:ext cx="79200" cy="93600"/>
            </a:xfrm>
            <a:prstGeom prst="diamond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626320" y="5472360"/>
              <a:ext cx="88560" cy="6480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740800" y="5186520"/>
              <a:ext cx="88560" cy="64800"/>
            </a:xfrm>
            <a:prstGeom prst="rect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510400" y="5426280"/>
              <a:ext cx="87120" cy="66240"/>
            </a:xfrm>
            <a:prstGeom prst="diamond">
              <a:avLst/>
            </a:prstGeom>
            <a:solidFill>
              <a:srgbClr val="f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597880" y="5792400"/>
              <a:ext cx="88560" cy="63360"/>
            </a:xfrm>
            <a:prstGeom prst="diamond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862840" y="5948280"/>
              <a:ext cx="88560" cy="66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89920" y="5967360"/>
              <a:ext cx="68040" cy="75600"/>
            </a:xfrm>
            <a:prstGeom prst="diamond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183520" y="5605200"/>
              <a:ext cx="83880" cy="9504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i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105BCFB-7750-41DD-A2D3-15224AA4DBF8}" type="slidenum"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1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796000" y="4508640"/>
            <a:ext cx="197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姓       名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专       业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求职意向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76280" y="5950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193840" y="207972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简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完整版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856960" y="1123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基本信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733120" y="126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教育背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896560" y="1341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工作经验及专业技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567880" y="1339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自我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511280" y="500364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2484360" y="2852640"/>
            <a:ext cx="4572000" cy="735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期待您的回复，谢谢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4400" spc="-1" strike="noStrike">
                <a:solidFill>
                  <a:srgbClr val="ffff00"/>
                </a:solidFill>
                <a:latin typeface="Arial"/>
              </a:rPr>
              <a:t>使用规范说明</a:t>
            </a:r>
            <a:endParaRPr b="1" i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i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i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i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i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i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i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i="1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i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7DEF-0D95-4AB4-BAE8-BAA5792BD0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3:19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