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D2F-07BE-4ED4-A9C3-75EB0F65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E11-E8AA-413E-ABC3-A6D0B97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F84-3DC3-4248-9DE8-3D7AEA83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DB3-3EC8-463C-8F71-9E972797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1CE-6CB9-4485-A5E1-2F544BFC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C4F-13F7-4034-9A32-9956FF2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B78-C861-4C5B-AE64-F8F00A44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11C-42D1-4258-A02A-BCB99F0D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282-49A8-4B80-81DB-08D72BF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933-24F2-4DD2-B930-E7FC5F3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705-0FF4-4112-B253-107C9601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C7A-1394-4A3D-B22F-ADB5D289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A024-6A96-4AD6-9B81-24244B478D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1995480" y="229068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细黑"/>
                <a:ea typeface="华文细黑"/>
              </a:rPr>
              <a:t>极其简单美观大气的通用</a:t>
            </a:r>
            <a:r>
              <a:rPr b="0" lang="en-US" sz="4000" spc="-1" strike="noStrike">
                <a:solidFill>
                  <a:srgbClr val="c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华文细黑"/>
                <a:ea typeface="华文细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2343240" y="3143160"/>
            <a:ext cx="260964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849920" y="29494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输入演示者的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8"/>
          <p:cNvSpPr/>
          <p:nvPr/>
        </p:nvSpPr>
        <p:spPr>
          <a:xfrm>
            <a:off x="7362720" y="3143160"/>
            <a:ext cx="2610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5443560" y="3317760"/>
            <a:ext cx="1419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386F-48DC-448C-86EA-FD846527FAE5}" type="datetime"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5700600" y="4249800"/>
            <a:ext cx="9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同心圆 12"/>
          <p:cNvSpPr/>
          <p:nvPr/>
        </p:nvSpPr>
        <p:spPr>
          <a:xfrm>
            <a:off x="5703840" y="3973680"/>
            <a:ext cx="898560" cy="900000"/>
          </a:xfrm>
          <a:custGeom>
            <a:avLst/>
            <a:gdLst/>
            <a:ahLst/>
            <a:rect l="l" t="t" r="r" b="b"/>
            <a:pathLst>
              <a:path w="984250" h="985838">
                <a:moveTo>
                  <a:pt x="0" y="492919"/>
                </a:moveTo>
                <a:cubicBezTo>
                  <a:pt x="0" y="220687"/>
                  <a:pt x="220332" y="0"/>
                  <a:pt x="492125" y="0"/>
                </a:cubicBezTo>
                <a:cubicBezTo>
                  <a:pt x="763918" y="0"/>
                  <a:pt x="984250" y="220687"/>
                  <a:pt x="984250" y="492919"/>
                </a:cubicBezTo>
                <a:cubicBezTo>
                  <a:pt x="984250" y="765151"/>
                  <a:pt x="763918" y="985838"/>
                  <a:pt x="492125" y="985838"/>
                </a:cubicBezTo>
                <a:cubicBezTo>
                  <a:pt x="220332" y="985838"/>
                  <a:pt x="0" y="765151"/>
                  <a:pt x="0" y="492919"/>
                </a:cubicBezTo>
                <a:close/>
                <a:moveTo>
                  <a:pt x="0" y="492919"/>
                </a:moveTo>
                <a:cubicBezTo>
                  <a:pt x="0" y="765151"/>
                  <a:pt x="220332" y="985838"/>
                  <a:pt x="492125" y="985838"/>
                </a:cubicBezTo>
                <a:cubicBezTo>
                  <a:pt x="763918" y="985838"/>
                  <a:pt x="984250" y="765151"/>
                  <a:pt x="984250" y="492919"/>
                </a:cubicBezTo>
                <a:cubicBezTo>
                  <a:pt x="984250" y="220687"/>
                  <a:pt x="763918" y="0"/>
                  <a:pt x="492125" y="0"/>
                </a:cubicBezTo>
                <a:cubicBezTo>
                  <a:pt x="220332" y="0"/>
                  <a:pt x="0" y="220687"/>
                  <a:pt x="0" y="492919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27"/>
          <p:cNvSpPr/>
          <p:nvPr/>
        </p:nvSpPr>
        <p:spPr>
          <a:xfrm>
            <a:off x="5295960" y="2641680"/>
            <a:ext cx="19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细黑"/>
                <a:ea typeface="华文细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12"/>
          <p:cNvSpPr/>
          <p:nvPr/>
        </p:nvSpPr>
        <p:spPr>
          <a:xfrm>
            <a:off x="2411280" y="3494160"/>
            <a:ext cx="2610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12"/>
          <p:cNvSpPr/>
          <p:nvPr/>
        </p:nvSpPr>
        <p:spPr>
          <a:xfrm>
            <a:off x="4917960" y="3298680"/>
            <a:ext cx="26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输入演示者的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14"/>
          <p:cNvSpPr/>
          <p:nvPr/>
        </p:nvSpPr>
        <p:spPr>
          <a:xfrm>
            <a:off x="7431120" y="3494160"/>
            <a:ext cx="260964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15"/>
          <p:cNvSpPr/>
          <p:nvPr/>
        </p:nvSpPr>
        <p:spPr>
          <a:xfrm>
            <a:off x="5432400" y="3684600"/>
            <a:ext cx="1419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6D63-BAF4-4584-A799-0E6CA9D9246F}" type="datetime"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5313240" y="2708280"/>
            <a:ext cx="13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华文细黑"/>
                <a:ea typeface="华文细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6"/>
          <p:cNvSpPr/>
          <p:nvPr/>
        </p:nvSpPr>
        <p:spPr>
          <a:xfrm flipV="1">
            <a:off x="6222960" y="1815840"/>
            <a:ext cx="2289240" cy="20523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8"/>
          <p:cNvSpPr/>
          <p:nvPr/>
        </p:nvSpPr>
        <p:spPr>
          <a:xfrm flipV="1">
            <a:off x="3178080" y="2442960"/>
            <a:ext cx="2622600" cy="22510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38"/>
          <p:cNvSpPr/>
          <p:nvPr/>
        </p:nvSpPr>
        <p:spPr>
          <a:xfrm>
            <a:off x="7273800" y="3389400"/>
            <a:ext cx="29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8"/>
          <p:cNvSpPr/>
          <p:nvPr/>
        </p:nvSpPr>
        <p:spPr>
          <a:xfrm>
            <a:off x="7262640" y="2967120"/>
            <a:ext cx="22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华文细黑"/>
                <a:ea typeface="华文细黑"/>
              </a:rPr>
              <a:t>在这里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8"/>
          <p:cNvSpPr/>
          <p:nvPr/>
        </p:nvSpPr>
        <p:spPr>
          <a:xfrm>
            <a:off x="1936800" y="2641680"/>
            <a:ext cx="28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18"/>
          <p:cNvSpPr/>
          <p:nvPr/>
        </p:nvSpPr>
        <p:spPr>
          <a:xfrm>
            <a:off x="1925640" y="2241720"/>
            <a:ext cx="22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华文细黑"/>
                <a:ea typeface="华文细黑"/>
              </a:rPr>
              <a:t>在这里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4"/>
          <p:cNvSpPr/>
          <p:nvPr/>
        </p:nvSpPr>
        <p:spPr>
          <a:xfrm flipH="1" flipV="1">
            <a:off x="4919400" y="2315880"/>
            <a:ext cx="880920" cy="127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6"/>
          <p:cNvSpPr/>
          <p:nvPr/>
        </p:nvSpPr>
        <p:spPr>
          <a:xfrm>
            <a:off x="4919760" y="2316240"/>
            <a:ext cx="0" cy="909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31"/>
          <p:cNvSpPr/>
          <p:nvPr/>
        </p:nvSpPr>
        <p:spPr>
          <a:xfrm>
            <a:off x="6222960" y="3868560"/>
            <a:ext cx="893880" cy="127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2"/>
          <p:cNvSpPr/>
          <p:nvPr/>
        </p:nvSpPr>
        <p:spPr>
          <a:xfrm flipV="1">
            <a:off x="7116840" y="3094200"/>
            <a:ext cx="0" cy="90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41"/>
          <p:cNvSpPr/>
          <p:nvPr/>
        </p:nvSpPr>
        <p:spPr>
          <a:xfrm>
            <a:off x="4970520" y="23511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42"/>
          <p:cNvSpPr/>
          <p:nvPr/>
        </p:nvSpPr>
        <p:spPr>
          <a:xfrm flipV="1">
            <a:off x="3216240" y="2487240"/>
            <a:ext cx="2622600" cy="225108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43"/>
          <p:cNvSpPr/>
          <p:nvPr/>
        </p:nvSpPr>
        <p:spPr>
          <a:xfrm>
            <a:off x="6640560" y="3368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44"/>
          <p:cNvSpPr/>
          <p:nvPr/>
        </p:nvSpPr>
        <p:spPr>
          <a:xfrm flipV="1">
            <a:off x="6157800" y="1771560"/>
            <a:ext cx="2333880" cy="20829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8"/>
          <p:cNvSpPr/>
          <p:nvPr/>
        </p:nvSpPr>
        <p:spPr>
          <a:xfrm>
            <a:off x="5018040" y="3559320"/>
            <a:ext cx="20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华文细黑"/>
                <a:ea typeface="华文细黑"/>
              </a:rPr>
              <a:t>在这里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5018040" y="2486160"/>
            <a:ext cx="1932120" cy="1004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5040360" y="2608200"/>
            <a:ext cx="197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Part 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4"/>
          <p:cNvSpPr/>
          <p:nvPr/>
        </p:nvSpPr>
        <p:spPr>
          <a:xfrm>
            <a:off x="3440160" y="1793880"/>
            <a:ext cx="5052960" cy="149400"/>
          </a:xfrm>
          <a:custGeom>
            <a:avLst/>
            <a:gdLst/>
            <a:ahLst/>
            <a:rect l="l" t="t" r="r" b="b"/>
            <a:pathLst>
              <a:path w="4140199" h="217321">
                <a:moveTo>
                  <a:pt x="0" y="171465"/>
                </a:moveTo>
                <a:cubicBezTo>
                  <a:pt x="288607" y="190515"/>
                  <a:pt x="260985" y="-1890"/>
                  <a:pt x="400050" y="15"/>
                </a:cubicBezTo>
                <a:cubicBezTo>
                  <a:pt x="539115" y="1920"/>
                  <a:pt x="689610" y="180990"/>
                  <a:pt x="834390" y="182895"/>
                </a:cubicBezTo>
                <a:cubicBezTo>
                  <a:pt x="979170" y="184800"/>
                  <a:pt x="1116330" y="5730"/>
                  <a:pt x="1268730" y="11445"/>
                </a:cubicBezTo>
                <a:cubicBezTo>
                  <a:pt x="1421130" y="17160"/>
                  <a:pt x="1602105" y="211470"/>
                  <a:pt x="1748790" y="217185"/>
                </a:cubicBezTo>
                <a:cubicBezTo>
                  <a:pt x="1895475" y="222900"/>
                  <a:pt x="2015490" y="47640"/>
                  <a:pt x="2148840" y="45735"/>
                </a:cubicBezTo>
                <a:cubicBezTo>
                  <a:pt x="2282190" y="43830"/>
                  <a:pt x="2430780" y="211470"/>
                  <a:pt x="2548890" y="205755"/>
                </a:cubicBezTo>
                <a:cubicBezTo>
                  <a:pt x="2667000" y="200040"/>
                  <a:pt x="2733675" y="9540"/>
                  <a:pt x="2857500" y="11445"/>
                </a:cubicBezTo>
                <a:cubicBezTo>
                  <a:pt x="2981325" y="13350"/>
                  <a:pt x="3171825" y="213375"/>
                  <a:pt x="3291840" y="217185"/>
                </a:cubicBezTo>
                <a:cubicBezTo>
                  <a:pt x="3411855" y="220995"/>
                  <a:pt x="3482340" y="36210"/>
                  <a:pt x="3577590" y="34305"/>
                </a:cubicBezTo>
                <a:cubicBezTo>
                  <a:pt x="3672840" y="32400"/>
                  <a:pt x="3775710" y="196230"/>
                  <a:pt x="3863340" y="205755"/>
                </a:cubicBezTo>
                <a:cubicBezTo>
                  <a:pt x="3950970" y="215280"/>
                  <a:pt x="4057650" y="114315"/>
                  <a:pt x="4103370" y="91455"/>
                </a:cubicBezTo>
                <a:cubicBezTo>
                  <a:pt x="4149090" y="68595"/>
                  <a:pt x="4140517" y="79072"/>
                  <a:pt x="4137660" y="68595"/>
                </a:cubicBezTo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727440" y="119052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4495680" y="2543040"/>
            <a:ext cx="2941920" cy="22050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38"/>
          <p:cNvSpPr/>
          <p:nvPr/>
        </p:nvSpPr>
        <p:spPr>
          <a:xfrm>
            <a:off x="4037040" y="4989600"/>
            <a:ext cx="38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流程图: 过程 8"/>
          <p:cNvSpPr/>
          <p:nvPr/>
        </p:nvSpPr>
        <p:spPr>
          <a:xfrm>
            <a:off x="4495680" y="4330800"/>
            <a:ext cx="2941920" cy="358560"/>
          </a:xfrm>
          <a:prstGeom prst="flowChartProcess">
            <a:avLst/>
          </a:prstGeom>
          <a:solidFill>
            <a:srgbClr val="c55a1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5156280" y="429264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这里添加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任意多边形 4"/>
          <p:cNvSpPr/>
          <p:nvPr/>
        </p:nvSpPr>
        <p:spPr>
          <a:xfrm>
            <a:off x="3440160" y="1901880"/>
            <a:ext cx="5052960" cy="149040"/>
          </a:xfrm>
          <a:custGeom>
            <a:avLst/>
            <a:gdLst/>
            <a:ahLst/>
            <a:rect l="l" t="t" r="r" b="b"/>
            <a:pathLst>
              <a:path w="4140199" h="217321">
                <a:moveTo>
                  <a:pt x="0" y="171465"/>
                </a:moveTo>
                <a:cubicBezTo>
                  <a:pt x="288607" y="190515"/>
                  <a:pt x="260985" y="-1890"/>
                  <a:pt x="400050" y="15"/>
                </a:cubicBezTo>
                <a:cubicBezTo>
                  <a:pt x="539115" y="1920"/>
                  <a:pt x="689610" y="180990"/>
                  <a:pt x="834390" y="182895"/>
                </a:cubicBezTo>
                <a:cubicBezTo>
                  <a:pt x="979170" y="184800"/>
                  <a:pt x="1116330" y="5730"/>
                  <a:pt x="1268730" y="11445"/>
                </a:cubicBezTo>
                <a:cubicBezTo>
                  <a:pt x="1421130" y="17160"/>
                  <a:pt x="1602105" y="211470"/>
                  <a:pt x="1748790" y="217185"/>
                </a:cubicBezTo>
                <a:cubicBezTo>
                  <a:pt x="1895475" y="222900"/>
                  <a:pt x="2015490" y="47640"/>
                  <a:pt x="2148840" y="45735"/>
                </a:cubicBezTo>
                <a:cubicBezTo>
                  <a:pt x="2282190" y="43830"/>
                  <a:pt x="2430780" y="211470"/>
                  <a:pt x="2548890" y="205755"/>
                </a:cubicBezTo>
                <a:cubicBezTo>
                  <a:pt x="2667000" y="200040"/>
                  <a:pt x="2733675" y="9540"/>
                  <a:pt x="2857500" y="11445"/>
                </a:cubicBezTo>
                <a:cubicBezTo>
                  <a:pt x="2981325" y="13350"/>
                  <a:pt x="3171825" y="213375"/>
                  <a:pt x="3291840" y="217185"/>
                </a:cubicBezTo>
                <a:cubicBezTo>
                  <a:pt x="3411855" y="220995"/>
                  <a:pt x="3482340" y="36210"/>
                  <a:pt x="3577590" y="34305"/>
                </a:cubicBezTo>
                <a:cubicBezTo>
                  <a:pt x="3672840" y="32400"/>
                  <a:pt x="3775710" y="196230"/>
                  <a:pt x="3863340" y="205755"/>
                </a:cubicBezTo>
                <a:cubicBezTo>
                  <a:pt x="3950970" y="215280"/>
                  <a:pt x="4057650" y="114315"/>
                  <a:pt x="4103370" y="91455"/>
                </a:cubicBezTo>
                <a:cubicBezTo>
                  <a:pt x="4149090" y="68595"/>
                  <a:pt x="4140517" y="79072"/>
                  <a:pt x="4137660" y="68595"/>
                </a:cubicBezTo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5"/>
          <p:cNvSpPr/>
          <p:nvPr/>
        </p:nvSpPr>
        <p:spPr>
          <a:xfrm>
            <a:off x="3762360" y="122724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同心圆 11"/>
          <p:cNvSpPr/>
          <p:nvPr/>
        </p:nvSpPr>
        <p:spPr>
          <a:xfrm>
            <a:off x="2362320" y="2719440"/>
            <a:ext cx="1471320" cy="1471680"/>
          </a:xfrm>
          <a:custGeom>
            <a:avLst/>
            <a:gdLst/>
            <a:ahLst/>
            <a:rect l="l" t="t" r="r" b="b"/>
            <a:pathLst>
              <a:path w="1471729" h="1471729">
                <a:moveTo>
                  <a:pt x="0" y="735865"/>
                </a:moveTo>
                <a:cubicBezTo>
                  <a:pt x="0" y="329458"/>
                  <a:pt x="329458" y="0"/>
                  <a:pt x="735865" y="0"/>
                </a:cubicBezTo>
                <a:cubicBezTo>
                  <a:pt x="1142272" y="0"/>
                  <a:pt x="1471730" y="329458"/>
                  <a:pt x="1471730" y="735865"/>
                </a:cubicBezTo>
                <a:cubicBezTo>
                  <a:pt x="1471730" y="1142272"/>
                  <a:pt x="1142272" y="1471730"/>
                  <a:pt x="735865" y="1471730"/>
                </a:cubicBezTo>
                <a:cubicBezTo>
                  <a:pt x="329458" y="1471730"/>
                  <a:pt x="0" y="1142272"/>
                  <a:pt x="0" y="735865"/>
                </a:cubicBezTo>
                <a:close/>
                <a:moveTo>
                  <a:pt x="0" y="735865"/>
                </a:moveTo>
                <a:cubicBezTo>
                  <a:pt x="0" y="1142272"/>
                  <a:pt x="329458" y="1471730"/>
                  <a:pt x="735865" y="1471730"/>
                </a:cubicBezTo>
                <a:cubicBezTo>
                  <a:pt x="1142272" y="1471730"/>
                  <a:pt x="1471730" y="1142272"/>
                  <a:pt x="1471730" y="735865"/>
                </a:cubicBezTo>
                <a:cubicBezTo>
                  <a:pt x="1471730" y="329458"/>
                  <a:pt x="1142272" y="0"/>
                  <a:pt x="735865" y="0"/>
                </a:cubicBezTo>
                <a:cubicBezTo>
                  <a:pt x="329458" y="0"/>
                  <a:pt x="0" y="329458"/>
                  <a:pt x="0" y="735865"/>
                </a:cubicBezTo>
                <a:close/>
              </a:path>
            </a:pathLst>
          </a:custGeom>
          <a:solidFill>
            <a:srgbClr val="ffc000"/>
          </a:solidFill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空心弧 12"/>
          <p:cNvSpPr/>
          <p:nvPr/>
        </p:nvSpPr>
        <p:spPr>
          <a:xfrm rot="12240000">
            <a:off x="2406240" y="2765160"/>
            <a:ext cx="1381320" cy="1377720"/>
          </a:xfrm>
          <a:custGeom>
            <a:avLst/>
            <a:gdLst/>
            <a:ahLst/>
            <a:rect l="l" t="t" r="r" b="b"/>
            <a:pathLst>
              <a:path w="1379646" h="1379648">
                <a:moveTo>
                  <a:pt x="0" y="689824"/>
                </a:moveTo>
                <a:cubicBezTo>
                  <a:pt x="0" y="390829"/>
                  <a:pt x="192617" y="125873"/>
                  <a:pt x="477031" y="33641"/>
                </a:cubicBezTo>
                <a:cubicBezTo>
                  <a:pt x="761445" y="-58591"/>
                  <a:pt x="1072897" y="42902"/>
                  <a:pt x="1248365" y="284995"/>
                </a:cubicBezTo>
                <a:cubicBezTo>
                  <a:pt x="1423832" y="527088"/>
                  <a:pt x="1423364" y="854659"/>
                  <a:pt x="1247205" y="1096249"/>
                </a:cubicBezTo>
                <a:lnTo>
                  <a:pt x="1093624" y="984263"/>
                </a:lnTo>
                <a:cubicBezTo>
                  <a:pt x="1221244" y="809241"/>
                  <a:pt x="1221584" y="571928"/>
                  <a:pt x="1094465" y="396542"/>
                </a:cubicBezTo>
                <a:cubicBezTo>
                  <a:pt x="967346" y="221155"/>
                  <a:pt x="741711" y="147627"/>
                  <a:pt x="535664" y="214446"/>
                </a:cubicBezTo>
                <a:cubicBezTo>
                  <a:pt x="329618" y="281264"/>
                  <a:pt x="190074" y="473215"/>
                  <a:pt x="190074" y="689825"/>
                </a:cubicBezTo>
                <a:lnTo>
                  <a:pt x="0" y="689824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同心圆 14"/>
          <p:cNvSpPr/>
          <p:nvPr/>
        </p:nvSpPr>
        <p:spPr>
          <a:xfrm>
            <a:off x="5508720" y="2719440"/>
            <a:ext cx="1471680" cy="1471680"/>
          </a:xfrm>
          <a:custGeom>
            <a:avLst/>
            <a:gdLst/>
            <a:ahLst/>
            <a:rect l="l" t="t" r="r" b="b"/>
            <a:pathLst>
              <a:path w="1471729" h="1471729">
                <a:moveTo>
                  <a:pt x="0" y="735865"/>
                </a:moveTo>
                <a:cubicBezTo>
                  <a:pt x="0" y="329458"/>
                  <a:pt x="329458" y="0"/>
                  <a:pt x="735865" y="0"/>
                </a:cubicBezTo>
                <a:cubicBezTo>
                  <a:pt x="1142272" y="0"/>
                  <a:pt x="1471730" y="329458"/>
                  <a:pt x="1471730" y="735865"/>
                </a:cubicBezTo>
                <a:cubicBezTo>
                  <a:pt x="1471730" y="1142272"/>
                  <a:pt x="1142272" y="1471730"/>
                  <a:pt x="735865" y="1471730"/>
                </a:cubicBezTo>
                <a:cubicBezTo>
                  <a:pt x="329458" y="1471730"/>
                  <a:pt x="0" y="1142272"/>
                  <a:pt x="0" y="735865"/>
                </a:cubicBezTo>
                <a:close/>
                <a:moveTo>
                  <a:pt x="0" y="735865"/>
                </a:moveTo>
                <a:cubicBezTo>
                  <a:pt x="0" y="1142272"/>
                  <a:pt x="329458" y="1471730"/>
                  <a:pt x="735865" y="1471730"/>
                </a:cubicBezTo>
                <a:cubicBezTo>
                  <a:pt x="1142272" y="1471730"/>
                  <a:pt x="1471730" y="1142272"/>
                  <a:pt x="1471730" y="735865"/>
                </a:cubicBezTo>
                <a:cubicBezTo>
                  <a:pt x="1471730" y="329458"/>
                  <a:pt x="1142272" y="0"/>
                  <a:pt x="735865" y="0"/>
                </a:cubicBezTo>
                <a:cubicBezTo>
                  <a:pt x="329458" y="0"/>
                  <a:pt x="0" y="329458"/>
                  <a:pt x="0" y="735865"/>
                </a:cubicBezTo>
                <a:close/>
              </a:path>
            </a:pathLst>
          </a:custGeom>
          <a:solidFill>
            <a:srgbClr val="ffc000"/>
          </a:solidFill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空心弧 15"/>
          <p:cNvSpPr/>
          <p:nvPr/>
        </p:nvSpPr>
        <p:spPr>
          <a:xfrm rot="12240000">
            <a:off x="5552640" y="2768400"/>
            <a:ext cx="1381320" cy="1379520"/>
          </a:xfrm>
          <a:custGeom>
            <a:avLst/>
            <a:gdLst/>
            <a:ahLst/>
            <a:rect l="l" t="t" r="r" b="b"/>
            <a:pathLst>
              <a:path w="1379646" h="1379647">
                <a:moveTo>
                  <a:pt x="149057" y="1118108"/>
                </a:moveTo>
                <a:cubicBezTo>
                  <a:pt x="-72511" y="838349"/>
                  <a:pt x="-44122" y="435780"/>
                  <a:pt x="214515" y="189884"/>
                </a:cubicBezTo>
                <a:cubicBezTo>
                  <a:pt x="473152" y="-56012"/>
                  <a:pt x="876641" y="-64044"/>
                  <a:pt x="1144860" y="171365"/>
                </a:cubicBezTo>
                <a:cubicBezTo>
                  <a:pt x="1413078" y="406773"/>
                  <a:pt x="1457465" y="807893"/>
                  <a:pt x="1247206" y="1096248"/>
                </a:cubicBezTo>
                <a:lnTo>
                  <a:pt x="1093624" y="984262"/>
                </a:lnTo>
                <a:cubicBezTo>
                  <a:pt x="1245948" y="775360"/>
                  <a:pt x="1213791" y="484765"/>
                  <a:pt x="1019479" y="314221"/>
                </a:cubicBezTo>
                <a:cubicBezTo>
                  <a:pt x="825166" y="143677"/>
                  <a:pt x="532854" y="149496"/>
                  <a:pt x="345482" y="327638"/>
                </a:cubicBezTo>
                <a:cubicBezTo>
                  <a:pt x="158110" y="505779"/>
                  <a:pt x="137543" y="797424"/>
                  <a:pt x="298060" y="1000099"/>
                </a:cubicBezTo>
                <a:lnTo>
                  <a:pt x="149057" y="1118108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同心圆 17"/>
          <p:cNvSpPr/>
          <p:nvPr/>
        </p:nvSpPr>
        <p:spPr>
          <a:xfrm>
            <a:off x="8618400" y="2719440"/>
            <a:ext cx="1471680" cy="1471680"/>
          </a:xfrm>
          <a:custGeom>
            <a:avLst/>
            <a:gdLst/>
            <a:ahLst/>
            <a:rect l="l" t="t" r="r" b="b"/>
            <a:pathLst>
              <a:path w="1471729" h="1471729">
                <a:moveTo>
                  <a:pt x="0" y="735865"/>
                </a:moveTo>
                <a:cubicBezTo>
                  <a:pt x="0" y="329458"/>
                  <a:pt x="329458" y="0"/>
                  <a:pt x="735865" y="0"/>
                </a:cubicBezTo>
                <a:cubicBezTo>
                  <a:pt x="1142272" y="0"/>
                  <a:pt x="1471730" y="329458"/>
                  <a:pt x="1471730" y="735865"/>
                </a:cubicBezTo>
                <a:cubicBezTo>
                  <a:pt x="1471730" y="1142272"/>
                  <a:pt x="1142272" y="1471730"/>
                  <a:pt x="735865" y="1471730"/>
                </a:cubicBezTo>
                <a:cubicBezTo>
                  <a:pt x="329458" y="1471730"/>
                  <a:pt x="0" y="1142272"/>
                  <a:pt x="0" y="735865"/>
                </a:cubicBezTo>
                <a:close/>
                <a:moveTo>
                  <a:pt x="0" y="735865"/>
                </a:moveTo>
                <a:cubicBezTo>
                  <a:pt x="0" y="1142272"/>
                  <a:pt x="329458" y="1471730"/>
                  <a:pt x="735865" y="1471730"/>
                </a:cubicBezTo>
                <a:cubicBezTo>
                  <a:pt x="1142272" y="1471730"/>
                  <a:pt x="1471730" y="1142272"/>
                  <a:pt x="1471730" y="735865"/>
                </a:cubicBezTo>
                <a:cubicBezTo>
                  <a:pt x="1471730" y="329458"/>
                  <a:pt x="1142272" y="0"/>
                  <a:pt x="735865" y="0"/>
                </a:cubicBezTo>
                <a:cubicBezTo>
                  <a:pt x="329458" y="0"/>
                  <a:pt x="0" y="329458"/>
                  <a:pt x="0" y="735865"/>
                </a:cubicBezTo>
                <a:close/>
              </a:path>
            </a:pathLst>
          </a:custGeom>
          <a:solidFill>
            <a:srgbClr val="2e75b6"/>
          </a:solidFill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空心弧 18"/>
          <p:cNvSpPr/>
          <p:nvPr/>
        </p:nvSpPr>
        <p:spPr>
          <a:xfrm rot="12240000">
            <a:off x="8658000" y="2765520"/>
            <a:ext cx="1379520" cy="1379520"/>
          </a:xfrm>
          <a:custGeom>
            <a:avLst/>
            <a:gdLst/>
            <a:ahLst/>
            <a:rect l="l" t="t" r="r" b="b"/>
            <a:pathLst>
              <a:path w="1379648" h="1379648">
                <a:moveTo>
                  <a:pt x="580498" y="8718"/>
                </a:moveTo>
                <a:cubicBezTo>
                  <a:pt x="856450" y="-35575"/>
                  <a:pt x="1131858" y="91013"/>
                  <a:pt x="1277931" y="329287"/>
                </a:cubicBezTo>
                <a:cubicBezTo>
                  <a:pt x="1424004" y="567560"/>
                  <a:pt x="1411871" y="870425"/>
                  <a:pt x="1247206" y="1096250"/>
                </a:cubicBezTo>
                <a:lnTo>
                  <a:pt x="1093625" y="984263"/>
                </a:lnTo>
                <a:cubicBezTo>
                  <a:pt x="1212918" y="820662"/>
                  <a:pt x="1221707" y="601248"/>
                  <a:pt x="1115884" y="428629"/>
                </a:cubicBezTo>
                <a:cubicBezTo>
                  <a:pt x="1010060" y="256010"/>
                  <a:pt x="810538" y="164301"/>
                  <a:pt x="610622" y="196390"/>
                </a:cubicBezTo>
                <a:lnTo>
                  <a:pt x="580498" y="8718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2687760" y="313200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17"/>
          <p:cNvSpPr/>
          <p:nvPr/>
        </p:nvSpPr>
        <p:spPr>
          <a:xfrm>
            <a:off x="5748480" y="313200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19"/>
          <p:cNvSpPr/>
          <p:nvPr/>
        </p:nvSpPr>
        <p:spPr>
          <a:xfrm>
            <a:off x="8958240" y="313200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2"/>
          <p:cNvSpPr/>
          <p:nvPr/>
        </p:nvSpPr>
        <p:spPr>
          <a:xfrm>
            <a:off x="1941480" y="440388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12"/>
          <p:cNvSpPr/>
          <p:nvPr/>
        </p:nvSpPr>
        <p:spPr>
          <a:xfrm>
            <a:off x="5224320" y="440388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8339040" y="440388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任意多边形 4"/>
          <p:cNvSpPr/>
          <p:nvPr/>
        </p:nvSpPr>
        <p:spPr>
          <a:xfrm>
            <a:off x="3440160" y="1793880"/>
            <a:ext cx="5052960" cy="149400"/>
          </a:xfrm>
          <a:custGeom>
            <a:avLst/>
            <a:gdLst/>
            <a:ahLst/>
            <a:rect l="l" t="t" r="r" b="b"/>
            <a:pathLst>
              <a:path w="4140199" h="217321">
                <a:moveTo>
                  <a:pt x="0" y="171465"/>
                </a:moveTo>
                <a:cubicBezTo>
                  <a:pt x="288607" y="190515"/>
                  <a:pt x="260985" y="-1890"/>
                  <a:pt x="400050" y="15"/>
                </a:cubicBezTo>
                <a:cubicBezTo>
                  <a:pt x="539115" y="1920"/>
                  <a:pt x="689610" y="180990"/>
                  <a:pt x="834390" y="182895"/>
                </a:cubicBezTo>
                <a:cubicBezTo>
                  <a:pt x="979170" y="184800"/>
                  <a:pt x="1116330" y="5730"/>
                  <a:pt x="1268730" y="11445"/>
                </a:cubicBezTo>
                <a:cubicBezTo>
                  <a:pt x="1421130" y="17160"/>
                  <a:pt x="1602105" y="211470"/>
                  <a:pt x="1748790" y="217185"/>
                </a:cubicBezTo>
                <a:cubicBezTo>
                  <a:pt x="1895475" y="222900"/>
                  <a:pt x="2015490" y="47640"/>
                  <a:pt x="2148840" y="45735"/>
                </a:cubicBezTo>
                <a:cubicBezTo>
                  <a:pt x="2282190" y="43830"/>
                  <a:pt x="2430780" y="211470"/>
                  <a:pt x="2548890" y="205755"/>
                </a:cubicBezTo>
                <a:cubicBezTo>
                  <a:pt x="2667000" y="200040"/>
                  <a:pt x="2733675" y="9540"/>
                  <a:pt x="2857500" y="11445"/>
                </a:cubicBezTo>
                <a:cubicBezTo>
                  <a:pt x="2981325" y="13350"/>
                  <a:pt x="3171825" y="213375"/>
                  <a:pt x="3291840" y="217185"/>
                </a:cubicBezTo>
                <a:cubicBezTo>
                  <a:pt x="3411855" y="220995"/>
                  <a:pt x="3482340" y="36210"/>
                  <a:pt x="3577590" y="34305"/>
                </a:cubicBezTo>
                <a:cubicBezTo>
                  <a:pt x="3672840" y="32400"/>
                  <a:pt x="3775710" y="196230"/>
                  <a:pt x="3863340" y="205755"/>
                </a:cubicBezTo>
                <a:cubicBezTo>
                  <a:pt x="3950970" y="215280"/>
                  <a:pt x="4057650" y="114315"/>
                  <a:pt x="4103370" y="91455"/>
                </a:cubicBezTo>
                <a:cubicBezTo>
                  <a:pt x="4149090" y="68595"/>
                  <a:pt x="4140517" y="79072"/>
                  <a:pt x="4137660" y="68595"/>
                </a:cubicBezTo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3727440" y="119052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12"/>
          <p:cNvSpPr/>
          <p:nvPr/>
        </p:nvSpPr>
        <p:spPr>
          <a:xfrm>
            <a:off x="2378160" y="491796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饼形 1"/>
          <p:cNvSpPr/>
          <p:nvPr/>
        </p:nvSpPr>
        <p:spPr>
          <a:xfrm>
            <a:off x="4767120" y="2948040"/>
            <a:ext cx="2457720" cy="2457360"/>
          </a:xfrm>
          <a:custGeom>
            <a:avLst/>
            <a:gdLst/>
            <a:ahLst/>
            <a:rect l="l" t="t" r="r" b="b"/>
            <a:pathLst>
              <a:path w="2457450" h="2457450">
                <a:moveTo>
                  <a:pt x="2409773" y="1567681"/>
                </a:moveTo>
                <a:cubicBezTo>
                  <a:pt x="2234789" y="2177390"/>
                  <a:pt x="1624451" y="2553690"/>
                  <a:pt x="1001108" y="2436184"/>
                </a:cubicBezTo>
                <a:cubicBezTo>
                  <a:pt x="377765" y="2318678"/>
                  <a:pt x="-53681" y="1745993"/>
                  <a:pt x="5328" y="1114422"/>
                </a:cubicBezTo>
                <a:cubicBezTo>
                  <a:pt x="64337" y="482851"/>
                  <a:pt x="594403" y="1"/>
                  <a:pt x="1228725" y="1"/>
                </a:cubicBezTo>
                <a:lnTo>
                  <a:pt x="1228725" y="1228725"/>
                </a:lnTo>
                <a:lnTo>
                  <a:pt x="2409773" y="1567681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饼形 25"/>
          <p:cNvSpPr/>
          <p:nvPr/>
        </p:nvSpPr>
        <p:spPr>
          <a:xfrm rot="5981400">
            <a:off x="5048280" y="2757240"/>
            <a:ext cx="2457360" cy="2457360"/>
          </a:xfrm>
          <a:custGeom>
            <a:avLst/>
            <a:gdLst/>
            <a:ahLst/>
            <a:rect l="l" t="t" r="r" b="b"/>
            <a:pathLst>
              <a:path w="2457450" h="2457450">
                <a:moveTo>
                  <a:pt x="15808" y="1425185"/>
                </a:moveTo>
                <a:cubicBezTo>
                  <a:pt x="-45187" y="1048610"/>
                  <a:pt x="72187" y="665065"/>
                  <a:pt x="333481" y="387118"/>
                </a:cubicBezTo>
                <a:cubicBezTo>
                  <a:pt x="594775" y="109171"/>
                  <a:pt x="970347" y="-31646"/>
                  <a:pt x="1349968" y="5997"/>
                </a:cubicBezTo>
                <a:lnTo>
                  <a:pt x="1228725" y="1228725"/>
                </a:lnTo>
                <a:lnTo>
                  <a:pt x="15808" y="1425185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4973760" y="417672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8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5"/>
          <p:cNvSpPr/>
          <p:nvPr/>
        </p:nvSpPr>
        <p:spPr>
          <a:xfrm>
            <a:off x="6346800" y="334008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2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7470720" y="2692440"/>
            <a:ext cx="24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8"/>
          <p:cNvSpPr/>
          <p:nvPr/>
        </p:nvSpPr>
        <p:spPr>
          <a:xfrm>
            <a:off x="5018040" y="3559320"/>
            <a:ext cx="20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华文细黑"/>
                <a:ea typeface="华文细黑"/>
              </a:rPr>
              <a:t>在这里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5018040" y="2486160"/>
            <a:ext cx="1932120" cy="1004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"/>
          <p:cNvSpPr/>
          <p:nvPr/>
        </p:nvSpPr>
        <p:spPr>
          <a:xfrm>
            <a:off x="5040360" y="2608200"/>
            <a:ext cx="197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Part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直接连接符 4"/>
          <p:cNvSpPr/>
          <p:nvPr/>
        </p:nvSpPr>
        <p:spPr>
          <a:xfrm>
            <a:off x="2446200" y="4960800"/>
            <a:ext cx="725832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等腰三角形 5"/>
          <p:cNvSpPr/>
          <p:nvPr/>
        </p:nvSpPr>
        <p:spPr>
          <a:xfrm>
            <a:off x="2930400" y="2811600"/>
            <a:ext cx="1874880" cy="2149200"/>
          </a:xfrm>
          <a:prstGeom prst="triangle">
            <a:avLst>
              <a:gd name="adj" fmla="val 4085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等腰三角形 7"/>
          <p:cNvSpPr/>
          <p:nvPr/>
        </p:nvSpPr>
        <p:spPr>
          <a:xfrm>
            <a:off x="4159080" y="1782720"/>
            <a:ext cx="1874880" cy="3178080"/>
          </a:xfrm>
          <a:prstGeom prst="triangle">
            <a:avLst>
              <a:gd name="adj" fmla="val 58537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等腰三角形 8"/>
          <p:cNvSpPr/>
          <p:nvPr/>
        </p:nvSpPr>
        <p:spPr>
          <a:xfrm>
            <a:off x="5619600" y="3268800"/>
            <a:ext cx="1409760" cy="1692000"/>
          </a:xfrm>
          <a:prstGeom prst="triangle">
            <a:avLst>
              <a:gd name="adj" fmla="val 43903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等腰三角形 9"/>
          <p:cNvSpPr/>
          <p:nvPr/>
        </p:nvSpPr>
        <p:spPr>
          <a:xfrm>
            <a:off x="6816600" y="2446200"/>
            <a:ext cx="1150920" cy="2514600"/>
          </a:xfrm>
          <a:prstGeom prst="triangle">
            <a:avLst>
              <a:gd name="adj" fmla="val 4390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等腰三角形 6"/>
          <p:cNvSpPr/>
          <p:nvPr/>
        </p:nvSpPr>
        <p:spPr>
          <a:xfrm>
            <a:off x="7840800" y="2811600"/>
            <a:ext cx="1325520" cy="2149200"/>
          </a:xfrm>
          <a:prstGeom prst="triangle">
            <a:avLst>
              <a:gd name="adj" fmla="val 56032"/>
            </a:avLst>
          </a:prstGeom>
          <a:solidFill>
            <a:srgbClr val="386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3030480" y="504972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4397400" y="505152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4"/>
          <p:cNvSpPr/>
          <p:nvPr/>
        </p:nvSpPr>
        <p:spPr>
          <a:xfrm>
            <a:off x="5707080" y="504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5"/>
          <p:cNvSpPr/>
          <p:nvPr/>
        </p:nvSpPr>
        <p:spPr>
          <a:xfrm>
            <a:off x="6864480" y="5049720"/>
            <a:ext cx="11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6"/>
          <p:cNvSpPr/>
          <p:nvPr/>
        </p:nvSpPr>
        <p:spPr>
          <a:xfrm>
            <a:off x="8096400" y="502128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标注 12"/>
          <p:cNvSpPr/>
          <p:nvPr/>
        </p:nvSpPr>
        <p:spPr>
          <a:xfrm>
            <a:off x="2593800" y="1508040"/>
            <a:ext cx="1040040" cy="549360"/>
          </a:xfrm>
          <a:prstGeom prst="wedgeRectCallout">
            <a:avLst>
              <a:gd name="adj1" fmla="val 49240"/>
              <a:gd name="adj2" fmla="val 17362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7"/>
          <p:cNvSpPr/>
          <p:nvPr/>
        </p:nvSpPr>
        <p:spPr>
          <a:xfrm>
            <a:off x="2741760" y="1552680"/>
            <a:ext cx="8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标注 19"/>
          <p:cNvSpPr/>
          <p:nvPr/>
        </p:nvSpPr>
        <p:spPr>
          <a:xfrm>
            <a:off x="4471920" y="730080"/>
            <a:ext cx="1038240" cy="549360"/>
          </a:xfrm>
          <a:prstGeom prst="wedgeRectCallout">
            <a:avLst>
              <a:gd name="adj1" fmla="val 21745"/>
              <a:gd name="adj2" fmla="val 10904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4619520" y="760320"/>
            <a:ext cx="8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标注 21"/>
          <p:cNvSpPr/>
          <p:nvPr/>
        </p:nvSpPr>
        <p:spPr>
          <a:xfrm>
            <a:off x="5952960" y="2092320"/>
            <a:ext cx="1040040" cy="549360"/>
          </a:xfrm>
          <a:prstGeom prst="wedgeRectCallout">
            <a:avLst>
              <a:gd name="adj1" fmla="val -24449"/>
              <a:gd name="adj2" fmla="val 12362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6114960" y="21304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标注 23"/>
          <p:cNvSpPr/>
          <p:nvPr/>
        </p:nvSpPr>
        <p:spPr>
          <a:xfrm>
            <a:off x="7056360" y="1352520"/>
            <a:ext cx="1040040" cy="549360"/>
          </a:xfrm>
          <a:prstGeom prst="wedgeRectCallout">
            <a:avLst>
              <a:gd name="adj1" fmla="val -24449"/>
              <a:gd name="adj2" fmla="val 12362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24"/>
          <p:cNvSpPr/>
          <p:nvPr/>
        </p:nvSpPr>
        <p:spPr>
          <a:xfrm>
            <a:off x="7203960" y="13953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标注 25"/>
          <p:cNvSpPr/>
          <p:nvPr/>
        </p:nvSpPr>
        <p:spPr>
          <a:xfrm>
            <a:off x="8315280" y="1833480"/>
            <a:ext cx="1039680" cy="547920"/>
          </a:xfrm>
          <a:prstGeom prst="wedgeRectCallout">
            <a:avLst>
              <a:gd name="adj1" fmla="val -24449"/>
              <a:gd name="adj2" fmla="val 12362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26"/>
          <p:cNvSpPr/>
          <p:nvPr/>
        </p:nvSpPr>
        <p:spPr>
          <a:xfrm>
            <a:off x="8462880" y="1878120"/>
            <a:ext cx="8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27"/>
          <p:cNvSpPr/>
          <p:nvPr/>
        </p:nvSpPr>
        <p:spPr>
          <a:xfrm>
            <a:off x="3844800" y="558792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5760" y="6397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27"/>
          <p:cNvSpPr/>
          <p:nvPr/>
        </p:nvSpPr>
        <p:spPr>
          <a:xfrm>
            <a:off x="3844800" y="1351080"/>
            <a:ext cx="47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8"/>
          <p:cNvSpPr/>
          <p:nvPr/>
        </p:nvSpPr>
        <p:spPr>
          <a:xfrm>
            <a:off x="2603520" y="3814920"/>
            <a:ext cx="21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椭圆 30"/>
          <p:cNvSpPr/>
          <p:nvPr/>
        </p:nvSpPr>
        <p:spPr>
          <a:xfrm>
            <a:off x="5694480" y="2754360"/>
            <a:ext cx="828720" cy="82872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31" descr=""/>
          <p:cNvPicPr/>
          <p:nvPr/>
        </p:nvPicPr>
        <p:blipFill>
          <a:blip r:embed="rId1"/>
          <a:stretch/>
        </p:blipFill>
        <p:spPr>
          <a:xfrm>
            <a:off x="5881680" y="294624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125" name="椭圆 33"/>
          <p:cNvSpPr/>
          <p:nvPr/>
        </p:nvSpPr>
        <p:spPr>
          <a:xfrm>
            <a:off x="3244680" y="2741760"/>
            <a:ext cx="828720" cy="82836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图片 34" descr=""/>
          <p:cNvPicPr/>
          <p:nvPr/>
        </p:nvPicPr>
        <p:blipFill>
          <a:blip r:embed="rId2"/>
          <a:stretch/>
        </p:blipFill>
        <p:spPr>
          <a:xfrm>
            <a:off x="3448080" y="2986200"/>
            <a:ext cx="377640" cy="377640"/>
          </a:xfrm>
          <a:prstGeom prst="rect">
            <a:avLst/>
          </a:prstGeom>
          <a:ln w="0">
            <a:noFill/>
          </a:ln>
        </p:spPr>
      </p:pic>
      <p:sp>
        <p:nvSpPr>
          <p:cNvPr id="127" name="椭圆 36"/>
          <p:cNvSpPr/>
          <p:nvPr/>
        </p:nvSpPr>
        <p:spPr>
          <a:xfrm>
            <a:off x="8213760" y="2741760"/>
            <a:ext cx="852480" cy="85392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37" descr=""/>
          <p:cNvPicPr/>
          <p:nvPr/>
        </p:nvPicPr>
        <p:blipFill>
          <a:blip r:embed="rId3"/>
          <a:stretch/>
        </p:blipFill>
        <p:spPr>
          <a:xfrm>
            <a:off x="8443800" y="297324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8"/>
          <p:cNvSpPr/>
          <p:nvPr/>
        </p:nvSpPr>
        <p:spPr>
          <a:xfrm>
            <a:off x="5094360" y="3814920"/>
            <a:ext cx="21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38"/>
          <p:cNvSpPr/>
          <p:nvPr/>
        </p:nvSpPr>
        <p:spPr>
          <a:xfrm>
            <a:off x="7585200" y="3814920"/>
            <a:ext cx="21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40"/>
          <p:cNvSpPr/>
          <p:nvPr/>
        </p:nvSpPr>
        <p:spPr>
          <a:xfrm>
            <a:off x="3508200" y="1965240"/>
            <a:ext cx="5054760" cy="149400"/>
          </a:xfrm>
          <a:custGeom>
            <a:avLst/>
            <a:gdLst/>
            <a:ahLst/>
            <a:rect l="l" t="t" r="r" b="b"/>
            <a:pathLst>
              <a:path w="4140199" h="217321">
                <a:moveTo>
                  <a:pt x="0" y="171465"/>
                </a:moveTo>
                <a:cubicBezTo>
                  <a:pt x="288607" y="190515"/>
                  <a:pt x="260985" y="-1890"/>
                  <a:pt x="400050" y="15"/>
                </a:cubicBezTo>
                <a:cubicBezTo>
                  <a:pt x="539115" y="1920"/>
                  <a:pt x="689610" y="180990"/>
                  <a:pt x="834390" y="182895"/>
                </a:cubicBezTo>
                <a:cubicBezTo>
                  <a:pt x="979170" y="184800"/>
                  <a:pt x="1116330" y="5730"/>
                  <a:pt x="1268730" y="11445"/>
                </a:cubicBezTo>
                <a:cubicBezTo>
                  <a:pt x="1421130" y="17160"/>
                  <a:pt x="1602105" y="211470"/>
                  <a:pt x="1748790" y="217185"/>
                </a:cubicBezTo>
                <a:cubicBezTo>
                  <a:pt x="1895475" y="222900"/>
                  <a:pt x="2015490" y="47640"/>
                  <a:pt x="2148840" y="45735"/>
                </a:cubicBezTo>
                <a:cubicBezTo>
                  <a:pt x="2282190" y="43830"/>
                  <a:pt x="2430780" y="211470"/>
                  <a:pt x="2548890" y="205755"/>
                </a:cubicBezTo>
                <a:cubicBezTo>
                  <a:pt x="2667000" y="200040"/>
                  <a:pt x="2733675" y="9540"/>
                  <a:pt x="2857500" y="11445"/>
                </a:cubicBezTo>
                <a:cubicBezTo>
                  <a:pt x="2981325" y="13350"/>
                  <a:pt x="3171825" y="213375"/>
                  <a:pt x="3291840" y="217185"/>
                </a:cubicBezTo>
                <a:cubicBezTo>
                  <a:pt x="3411855" y="220995"/>
                  <a:pt x="3482340" y="36210"/>
                  <a:pt x="3577590" y="34305"/>
                </a:cubicBezTo>
                <a:cubicBezTo>
                  <a:pt x="3672840" y="32400"/>
                  <a:pt x="3775710" y="196230"/>
                  <a:pt x="3863340" y="205755"/>
                </a:cubicBezTo>
                <a:cubicBezTo>
                  <a:pt x="3950970" y="215280"/>
                  <a:pt x="4057650" y="114315"/>
                  <a:pt x="4103370" y="91455"/>
                </a:cubicBezTo>
                <a:cubicBezTo>
                  <a:pt x="4149090" y="68595"/>
                  <a:pt x="4140517" y="79072"/>
                  <a:pt x="4137660" y="68595"/>
                </a:cubicBezTo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8:12:46Z</dcterms:created>
  <dc:creator>D13001</dc:creator>
  <dc:description/>
  <cp:keywords/>
  <dc:language>en-US</dc:language>
  <cp:lastModifiedBy>王玉清</cp:lastModifiedBy>
  <dcterms:modified xsi:type="dcterms:W3CDTF">2016-03-01T07:19:36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