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D857-C08E-4F2F-8E6E-E8B5564AF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5CD1-D845-47DF-9A8C-965A7E0F8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E5B7-BDD5-4675-8DA0-8A9A634F5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76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468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76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468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E739-360A-41D7-AAC0-2D48EFD89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62000" y="151920"/>
            <a:ext cx="6095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42F0-C514-4167-9B62-74D59B16C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76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4680" y="15235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684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76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4680" y="4030920"/>
            <a:ext cx="2698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4BA6-9128-4A0E-B39A-E32467698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07C05-1E3B-4052-8FEF-CAEC32AE8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D04E-E11A-4F3F-BD74-53183A6CB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862000" y="151920"/>
            <a:ext cx="6095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0EFAA-F1C1-46F8-86C8-F99B1A8E3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29A8-0F2F-41E5-A1A1-7EA49FFCB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52000" y="4030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0A49-A7C6-447A-80A3-635D427EE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5235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30920"/>
            <a:ext cx="8381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E3CA-C565-48B0-B021-DD14D7734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708360" y="3024360"/>
            <a:ext cx="5435640" cy="38336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1d5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25360"/>
            <a:ext cx="2843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95480"/>
            <a:ext cx="9144000" cy="7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907920"/>
            <a:ext cx="9143640" cy="144360"/>
            <a:chOff x="0" y="907920"/>
            <a:chExt cx="9143640" cy="144360"/>
          </a:xfrm>
        </p:grpSpPr>
        <p:sp>
          <p:nvSpPr>
            <p:cNvPr id="5" name=""/>
            <p:cNvSpPr/>
            <p:nvPr/>
          </p:nvSpPr>
          <p:spPr>
            <a:xfrm>
              <a:off x="0" y="90792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97920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522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-9360" y="-9360"/>
            <a:ext cx="2852640" cy="11048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c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6358-A80B-4DD5-B7E9-162322993B4B}" type="slidenum">
              <a:rPr b="1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0760"/>
            <a:ext cx="9144000" cy="1206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741760"/>
            <a:ext cx="7308720" cy="657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353160" y="304920"/>
            <a:ext cx="1204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dddd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828800" y="2666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040" y="7650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计算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269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1167480" y="3525480"/>
                <a:ext cx="1526760" cy="2425680"/>
                <a:chOff x="1167480" y="3525480"/>
                <a:chExt cx="1526760" cy="2425680"/>
              </a:xfrm>
            </p:grpSpPr>
            <p:grpSp>
              <p:nvGrpSpPr>
                <p:cNvPr id="274" name=""/>
                <p:cNvGrpSpPr/>
                <p:nvPr/>
              </p:nvGrpSpPr>
              <p:grpSpPr>
                <a:xfrm>
                  <a:off x="1167480" y="3683520"/>
                  <a:ext cx="1420920" cy="2267640"/>
                  <a:chOff x="1167480" y="3683520"/>
                  <a:chExt cx="1420920" cy="22676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3876600">
                    <a:off x="739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3876600">
                    <a:off x="2107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1603800" y="3525480"/>
                  <a:ext cx="1090440" cy="1740240"/>
                  <a:chOff x="1603800" y="3525480"/>
                  <a:chExt cx="1090440" cy="174024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flipV="1" rot="3876600">
                    <a:off x="127548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V="1" rot="3876600">
                    <a:off x="230904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1" name="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3925800">
                <a:off x="158976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913480" y="3525840"/>
                <a:ext cx="1526760" cy="2425320"/>
                <a:chOff x="2913480" y="3525840"/>
                <a:chExt cx="1526760" cy="242532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2913480" y="3683520"/>
                  <a:ext cx="1420920" cy="2267640"/>
                  <a:chOff x="2913480" y="3683520"/>
                  <a:chExt cx="1420920" cy="22676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 rot="3876600">
                    <a:off x="2485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rot="3876600">
                    <a:off x="3853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3350160" y="3525840"/>
                  <a:ext cx="1090080" cy="1739880"/>
                  <a:chOff x="3350160" y="3525840"/>
                  <a:chExt cx="1090080" cy="173988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V="1" rot="3876600">
                    <a:off x="3021840" y="42062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V="1" rot="3876600">
                    <a:off x="4055400" y="48877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925800">
                <a:off x="33314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4718520" y="3525480"/>
                <a:ext cx="1526760" cy="2425680"/>
                <a:chOff x="4718520" y="3525480"/>
                <a:chExt cx="1526760" cy="242568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4718520" y="3683520"/>
                  <a:ext cx="1420920" cy="2267640"/>
                  <a:chOff x="4718520" y="3683520"/>
                  <a:chExt cx="1420920" cy="22676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rot="3876600">
                    <a:off x="429084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3876600">
                    <a:off x="565848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5154840" y="3525480"/>
                  <a:ext cx="1090440" cy="1740240"/>
                  <a:chOff x="5154840" y="3525480"/>
                  <a:chExt cx="1090440" cy="174024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 flipV="1" rot="3876600">
                    <a:off x="482652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V="1" rot="3876600">
                    <a:off x="586008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2" name="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328" name="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3" name="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3925800">
                <a:off x="51440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3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d528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356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cxnSp>
            <p:nvCxnSpPr>
              <p:cNvPr id="360" name=""/>
              <p:cNvCxnSpPr>
                <a:stCxn id="356" idx="3"/>
                <a:endCxn id="357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1" name=""/>
              <p:cNvCxnSpPr>
                <a:stCxn id="357" idx="3"/>
                <a:endCxn id="358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2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369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371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377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383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846000" y="2498760"/>
          <a:ext cx="7604280" cy="2919240"/>
        </p:xfrm>
        <a:graphic>
          <a:graphicData uri="http://schemas.openxmlformats.org/drawingml/2006/table">
            <a:tbl>
              <a:tblPr/>
              <a:tblGrid>
                <a:gridCol w="1714680"/>
                <a:gridCol w="1196640"/>
                <a:gridCol w="1173240"/>
                <a:gridCol w="1170000"/>
                <a:gridCol w="1179720"/>
                <a:gridCol w="1170000"/>
              </a:tblGrid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72b143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48000"/>
                      </a:srgbClr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80000"/>
                      </a:srgbClr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528d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1d528d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1d528d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401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fea7a9"/>
                </a:gs>
                <a:gs pos="100000">
                  <a:srgbClr val="ff7c8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56b28"/>
                </a:gs>
                <a:gs pos="100000">
                  <a:srgbClr val="72b14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00536e"/>
                </a:gs>
                <a:gs pos="100000">
                  <a:srgbClr val="0099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413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a5a5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1d528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914400" y="1863720"/>
            <a:ext cx="7391520" cy="4156200"/>
            <a:chOff x="914400" y="1863720"/>
            <a:chExt cx="7391520" cy="4156200"/>
          </a:xfrm>
        </p:grpSpPr>
        <p:sp>
          <p:nvSpPr>
            <p:cNvPr id="422" name=""/>
            <p:cNvSpPr/>
            <p:nvPr/>
          </p:nvSpPr>
          <p:spPr>
            <a:xfrm>
              <a:off x="1905120" y="26258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38280" y="18637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143"/>
                </a:gs>
                <a:gs pos="50000">
                  <a:srgbClr val="dbebd0"/>
                </a:gs>
                <a:gs pos="100000">
                  <a:srgbClr val="72b14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42480" y="32353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914400" y="4498920"/>
              <a:ext cx="1486080" cy="1514520"/>
              <a:chOff x="914400" y="4498920"/>
              <a:chExt cx="1486080" cy="151452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914400" y="4498920"/>
                <a:ext cx="1486080" cy="1514520"/>
                <a:chOff x="914400" y="4498920"/>
                <a:chExt cx="1486080" cy="15145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914400" y="44989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0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084320" y="45237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1072440" y="52700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6781680" y="4454640"/>
              <a:ext cx="1524240" cy="1531800"/>
              <a:chOff x="6781680" y="4454640"/>
              <a:chExt cx="1524240" cy="153180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6781680" y="4454640"/>
                <a:ext cx="1524240" cy="1531800"/>
                <a:chOff x="6781680" y="4454640"/>
                <a:chExt cx="1524240" cy="15318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781680" y="44546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955920" y="447984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>
                <a:off x="6924600" y="516852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819520" y="4498920"/>
              <a:ext cx="1523880" cy="1521000"/>
              <a:chOff x="2819520" y="4498920"/>
              <a:chExt cx="1523880" cy="152100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2819520" y="4498920"/>
                <a:ext cx="1523880" cy="1521000"/>
                <a:chOff x="2819520" y="4498920"/>
                <a:chExt cx="1523880" cy="15210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819520" y="44989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23f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993760" y="45241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2895840" y="52290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4876920" y="4454640"/>
              <a:ext cx="1523880" cy="1520640"/>
              <a:chOff x="4876920" y="4454640"/>
              <a:chExt cx="1523880" cy="152064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4876920" y="4454640"/>
                <a:ext cx="1523880" cy="1520640"/>
                <a:chOff x="4876920" y="4454640"/>
                <a:chExt cx="1523880" cy="15206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876920" y="445464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3a5a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051160" y="447984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4953240" y="5184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438280" y="2743200"/>
            <a:ext cx="4953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528d"/>
                    </a:gs>
                    <a:gs pos="100000">
                      <a:srgbClr val="0099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528d"/>
                  </a:gs>
                  <a:gs pos="100000">
                    <a:srgbClr val="0099cc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828800" y="1981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zh-CN" sz="2400" spc="-1" strike="noStrike">
              <a:solidFill>
                <a:srgbClr val="dddddd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7c8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cc"/>
              </a:solidFill>
              <a:latin typeface="Verdan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528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2FF1-9EB8-45B2-BFE6-2FFCD4BEE7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5600" y="163440"/>
            <a:ext cx="6002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7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c8e8f3"/>
                </a:gs>
                <a:gs pos="100000">
                  <a:srgbClr val="0099c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2b143"/>
                </a:gs>
                <a:gs pos="50000">
                  <a:srgbClr val="e0edd6"/>
                </a:gs>
                <a:gs pos="100000">
                  <a:srgbClr val="72b14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72b14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7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7c80"/>
                </a:gs>
                <a:gs pos="50000">
                  <a:srgbClr val="fee2e3"/>
                </a:gs>
                <a:gs pos="100000">
                  <a:srgbClr val="ff7c8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ff7c8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2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20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572a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2b143"/>
                </a:gs>
                <a:gs pos="100000">
                  <a:srgbClr val="2337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6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33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3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57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58" name="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ff7c8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894245"/>
                  </a:gs>
                  <a:gs pos="50000">
                    <a:srgbClr val="ff7c80"/>
                  </a:gs>
                  <a:gs pos="100000">
                    <a:srgbClr val="89424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83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d528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197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65e"/>
                  </a:gs>
                  <a:gs pos="50000">
                    <a:srgbClr val="0099cc"/>
                  </a:gs>
                  <a:gs pos="100000">
                    <a:srgbClr val="0046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5393b"/>
                  </a:gs>
                  <a:gs pos="50000">
                    <a:srgbClr val="ff7c80"/>
                  </a:gs>
                  <a:gs pos="100000">
                    <a:srgbClr val="75393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4511e"/>
                  </a:gs>
                  <a:gs pos="50000">
                    <a:srgbClr val="72b143"/>
                  </a:gs>
                  <a:gs pos="100000">
                    <a:srgbClr val="34511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006e93"/>
                  </a:gs>
                  <a:gs pos="50000">
                    <a:srgbClr val="0099cc"/>
                  </a:gs>
                  <a:gs pos="100000">
                    <a:srgbClr val="006e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b8595c"/>
                  </a:gs>
                  <a:gs pos="50000">
                    <a:srgbClr val="ff7c80"/>
                  </a:gs>
                  <a:gs pos="100000">
                    <a:srgbClr val="b8595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969696"/>
                  </a:gs>
                  <a:gs pos="100000">
                    <a:srgbClr val="6c6c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527f30"/>
                  </a:gs>
                  <a:gs pos="50000">
                    <a:srgbClr val="72b143"/>
                  </a:gs>
                  <a:gs pos="100000">
                    <a:srgbClr val="527f3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447920" y="1406520"/>
            <a:ext cx="5715000" cy="4842000"/>
            <a:chOff x="1447920" y="1406520"/>
            <a:chExt cx="5715000" cy="4842000"/>
          </a:xfrm>
        </p:grpSpPr>
        <p:sp>
          <p:nvSpPr>
            <p:cNvPr id="211" name=""/>
            <p:cNvSpPr/>
            <p:nvPr/>
          </p:nvSpPr>
          <p:spPr>
            <a:xfrm rot="13770000">
              <a:off x="4783320" y="399384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856000">
              <a:off x="2755800" y="351108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394200">
              <a:off x="4918320" y="235548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719520" y="2389320"/>
              <a:ext cx="1652760" cy="1684080"/>
              <a:chOff x="3719520" y="2389320"/>
              <a:chExt cx="1652760" cy="16840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719520" y="2389320"/>
                <a:ext cx="1652760" cy="1684080"/>
                <a:chOff x="3719520" y="2389320"/>
                <a:chExt cx="1652760" cy="1684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719520" y="238932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8160" y="241704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3826440" y="3121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166000" y="1406520"/>
              <a:ext cx="925200" cy="912960"/>
              <a:chOff x="5166000" y="1406520"/>
              <a:chExt cx="925200" cy="91296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5166000" y="1406520"/>
                <a:ext cx="894600" cy="912960"/>
                <a:chOff x="5166000" y="1406520"/>
                <a:chExt cx="894600" cy="9129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166000" y="140652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1b2a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68240" y="142164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5181840" y="17571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447920" y="2739960"/>
              <a:ext cx="1790640" cy="1895400"/>
              <a:chOff x="1447920" y="2739960"/>
              <a:chExt cx="1790640" cy="18954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1447920" y="2739960"/>
                <a:ext cx="1790640" cy="1895400"/>
                <a:chOff x="1447920" y="2739960"/>
                <a:chExt cx="1790640" cy="18954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447920" y="273996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0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52400" y="277128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1564200" y="3582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097600" y="4143240"/>
              <a:ext cx="2065320" cy="2105280"/>
              <a:chOff x="5097600" y="4143240"/>
              <a:chExt cx="2065320" cy="210528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5097600" y="4143240"/>
                <a:ext cx="2065320" cy="2105280"/>
                <a:chOff x="5097600" y="4143240"/>
                <a:chExt cx="2065320" cy="21052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097600" y="414324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c80"/>
                    </a:gs>
                    <a:gs pos="100000">
                      <a:srgbClr val="823f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333400" y="41781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7c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5412600" y="50554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62000" y="1519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43560" y="1944720"/>
            <a:ext cx="7282440" cy="3770280"/>
            <a:chOff x="943560" y="1944720"/>
            <a:chExt cx="7282440" cy="3770280"/>
          </a:xfrm>
        </p:grpSpPr>
        <p:sp>
          <p:nvSpPr>
            <p:cNvPr id="237" name=""/>
            <p:cNvSpPr/>
            <p:nvPr/>
          </p:nvSpPr>
          <p:spPr>
            <a:xfrm rot="17973000">
              <a:off x="4750560" y="2648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3465600">
              <a:off x="4801320" y="47584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4368800">
              <a:off x="3582000" y="267084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7534800">
              <a:off x="3543840" y="47250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84880" y="372744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0800000">
              <a:off x="2974680" y="372060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72b14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95680" y="197028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1944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57960" y="1944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61440" y="36972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47040" y="52974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43560" y="36972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81640" y="5235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2760" y="37479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67160" y="209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72280" y="209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91200" y="52974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72280" y="529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86680" y="3735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ce5"/>
                </a:gs>
                <a:gs pos="100000">
                  <a:srgbClr val="0099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5720" y="30002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7c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40400" y="299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7c8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46600" y="3110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4245"/>
                </a:gs>
                <a:gs pos="50000">
                  <a:srgbClr val="ff7c80"/>
                </a:gs>
                <a:gs pos="100000">
                  <a:srgbClr val="8942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43360" y="311328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ff7c80">
                    <a:alpha val="0"/>
                  </a:srgbClr>
                </a:gs>
                <a:gs pos="100000">
                  <a:srgbClr val="a14e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21120" y="318456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942000" y="3203640"/>
              <a:ext cx="1290600" cy="1278000"/>
              <a:chOff x="3942000" y="3203640"/>
              <a:chExt cx="1290600" cy="1278000"/>
            </a:xfrm>
          </p:grpSpPr>
          <p:sp>
            <p:nvSpPr>
              <p:cNvPr id="262" name=""/>
              <p:cNvSpPr/>
              <p:nvPr/>
            </p:nvSpPr>
            <p:spPr>
              <a:xfrm>
                <a:off x="3942000" y="32036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58560" y="32104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71880" y="32230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41720" y="32554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4205160" y="3676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4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3:4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