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3ABB27-9783-495E-BAED-E57577BED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C774B6-2008-4163-852B-E7E0EA93C70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A34-115D-4041-98B5-116B1064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950-3829-4005-87DE-29A7B197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71DF-D843-4304-9214-30E69627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2A59-D0A1-40CC-884E-D6BCB1866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6EE6-63AF-42AD-8145-D64E5DD23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3F64-7ABC-4039-9D69-19162D4D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E696-3042-45AB-8730-C38B6674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9FE2-30FC-497D-A98D-0A41A3FC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DA57-559D-4A1F-9118-A6D90AD1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1342-58C2-4FC1-B68A-FCFC341C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5448-3D18-4C3D-B76D-6EEC8FE7C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3876-A1CF-4F66-A6F2-5687C9A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E88C2-020C-4C36-AFA5-2EF41EEE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CF79-7569-4DAE-8A72-3746F97E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364F-8F01-45DC-A5B4-770E64E4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DF13-0A4C-4CFB-B49B-1BCBF7239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79EB4-003C-4F88-A20F-8F708059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2015-BC4F-41BB-B432-B6A43441F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02D0-C168-4F30-9A97-A876446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52B-1721-4865-B306-0E4C2D5B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F94-DED2-40BA-9431-2786591B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CC81-FCCF-4E90-AF6B-896D6B9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D42-752E-4D77-A2C0-C2D01849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18B-B31E-4D9F-9559-563178D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Users\Administrator\Desktop\新建文件夹\bg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Administrator\Desktop\新建文件夹\bg1.jpg"/>
          <p:cNvPicPr/>
          <p:nvPr/>
        </p:nvPicPr>
        <p:blipFill>
          <a:blip r:embed="rId3"/>
          <a:stretch/>
        </p:blipFill>
        <p:spPr>
          <a:xfrm>
            <a:off x="0" y="2448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395640" y="178812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BCEE42-53C3-41EB-B990-40CDEC1AE4C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Administrator\Desktop\新建文件夹\bg3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F78A27-340C-4531-BE4E-EC12C312BCF2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78812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金属质感卷页喜庆红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3120" y="2925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 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 www.1ppt.com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  <Words>24</Words>
  <Paragraphs>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TP</cp:category>
  <dcterms:created xsi:type="dcterms:W3CDTF">2010-10-13T12:51:22Z</dcterms:created>
  <dc:creator>第一PPT模板网：www.1ppt.com</dc:creator>
  <dc:description>第一PPT模板网：www.1ppt.com</dc:description>
  <cp:keywords>第一PPT模板网：www.1ppt.com</cp:keywords>
  <dc:language>en-US</dc:language>
  <cp:lastModifiedBy>王玉清</cp:lastModifiedBy>
  <dcterms:modified xsi:type="dcterms:W3CDTF">2016-02-23T02:41:24Z</dcterms:modified>
  <cp:revision>45</cp:revision>
  <dc:subject/>
  <dc:title>第一PPT模板网：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