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349-76CA-4712-B272-255EED42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195-FA2E-41B4-8641-0A2203BA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567-C823-4E94-A8D6-42298CAD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376-21C6-4EEF-915B-13964FF1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DF2-3E4D-4FB9-B07E-4A2FE5DB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0EA-F544-41A7-ACEE-C5331731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C96-CF92-477F-8170-BC0BA9A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2B5-C0A8-4B39-854E-F5D2F9EC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C77-B8EA-4A0B-9CBC-9BC573DD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47E-410B-4F2B-8695-BB05DFB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CD0-47CA-4E91-9A9A-22C33C2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333-347E-45DA-B234-410B2F35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FC1-EE1D-4DFF-A7AE-A77C1142B4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AE4-FB93-466D-BD59-6B1A82666C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教课件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2279520" y="885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类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7920" y="4749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2556000" y="144936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556000" y="281772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556000" y="350820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492360" y="281952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492360" y="35082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492360" y="14508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菱形 1"/>
          <p:cNvSpPr/>
          <p:nvPr/>
        </p:nvSpPr>
        <p:spPr>
          <a:xfrm>
            <a:off x="2762280" y="693720"/>
            <a:ext cx="3676680" cy="3678120"/>
          </a:xfrm>
          <a:prstGeom prst="diamond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154260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663048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54260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663048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流程图: 可选过程 2"/>
          <p:cNvSpPr/>
          <p:nvPr/>
        </p:nvSpPr>
        <p:spPr>
          <a:xfrm>
            <a:off x="3168720" y="1527120"/>
            <a:ext cx="5256000" cy="2890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可选过程 3"/>
          <p:cNvSpPr/>
          <p:nvPr/>
        </p:nvSpPr>
        <p:spPr>
          <a:xfrm>
            <a:off x="3168720" y="1546200"/>
            <a:ext cx="3666960" cy="250920"/>
          </a:xfrm>
          <a:prstGeom prst="flowChartAlternateProcess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4"/>
          <p:cNvSpPr/>
          <p:nvPr/>
        </p:nvSpPr>
        <p:spPr>
          <a:xfrm>
            <a:off x="5651640" y="199548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可选过程 5"/>
          <p:cNvSpPr/>
          <p:nvPr/>
        </p:nvSpPr>
        <p:spPr>
          <a:xfrm>
            <a:off x="3168720" y="2319480"/>
            <a:ext cx="5256000" cy="28872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可选过程 6"/>
          <p:cNvSpPr/>
          <p:nvPr/>
        </p:nvSpPr>
        <p:spPr>
          <a:xfrm>
            <a:off x="3168720" y="2336760"/>
            <a:ext cx="2627280" cy="252360"/>
          </a:xfrm>
          <a:prstGeom prst="flowChartAlternateProcess">
            <a:avLst/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可选过程 7"/>
          <p:cNvSpPr/>
          <p:nvPr/>
        </p:nvSpPr>
        <p:spPr>
          <a:xfrm>
            <a:off x="3203640" y="3040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可选过程 8"/>
          <p:cNvSpPr/>
          <p:nvPr/>
        </p:nvSpPr>
        <p:spPr>
          <a:xfrm>
            <a:off x="3203640" y="3057480"/>
            <a:ext cx="1797120" cy="252360"/>
          </a:xfrm>
          <a:prstGeom prst="flowChartAlternateProcess">
            <a:avLst/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可选过程 9"/>
          <p:cNvSpPr/>
          <p:nvPr/>
        </p:nvSpPr>
        <p:spPr>
          <a:xfrm>
            <a:off x="3203640" y="3832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可选过程 10"/>
          <p:cNvSpPr/>
          <p:nvPr/>
        </p:nvSpPr>
        <p:spPr>
          <a:xfrm>
            <a:off x="3203640" y="3849840"/>
            <a:ext cx="4464000" cy="252360"/>
          </a:xfrm>
          <a:prstGeom prst="flowChartAlternateProcess">
            <a:avLst/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标注 11"/>
          <p:cNvSpPr/>
          <p:nvPr/>
        </p:nvSpPr>
        <p:spPr>
          <a:xfrm>
            <a:off x="4861080" y="2716200"/>
            <a:ext cx="5029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12"/>
          <p:cNvSpPr/>
          <p:nvPr/>
        </p:nvSpPr>
        <p:spPr>
          <a:xfrm>
            <a:off x="6661080" y="120348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标注 13"/>
          <p:cNvSpPr/>
          <p:nvPr/>
        </p:nvSpPr>
        <p:spPr>
          <a:xfrm>
            <a:off x="7524720" y="347184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4"/>
          <p:cNvSpPr/>
          <p:nvPr/>
        </p:nvSpPr>
        <p:spPr>
          <a:xfrm>
            <a:off x="2987640" y="141912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539640" y="1735200"/>
            <a:ext cx="2232000" cy="2123280"/>
            <a:chOff x="539640" y="1735200"/>
            <a:chExt cx="2232000" cy="2123280"/>
          </a:xfrm>
        </p:grpSpPr>
        <p:sp>
          <p:nvSpPr>
            <p:cNvPr id="79" name="TextBox 16"/>
            <p:cNvSpPr/>
            <p:nvPr/>
          </p:nvSpPr>
          <p:spPr>
            <a:xfrm>
              <a:off x="539640" y="173520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7"/>
            <p:cNvSpPr/>
            <p:nvPr/>
          </p:nvSpPr>
          <p:spPr>
            <a:xfrm>
              <a:off x="539640" y="294372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8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480" y="463860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1:20:00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1T03:52:15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