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5C63C7-68C7-4B4E-9354-3C16AD1CB616}" type="doc">
      <dgm:prSet loTypeId="urn:microsoft.com/office/officeart/2005/8/layout/vList5" loCatId="list" qsTypeId="urn:microsoft.com/office/officeart/2005/8/quickstyle/simple1" qsCatId="simple" csTypeId="urn:microsoft.com/office/officeart/2005/8/colors/accent1_1" csCatId="accent1" phldr="1"/>
      <dgm:spPr/>
      <dgm:t>
        <a:bodyPr/>
        <a:lstStyle/>
        <a:p>
          <a:endParaRPr lang="zh-CN" altLang="en-US"/>
        </a:p>
      </dgm:t>
    </dgm:pt>
    <dgm:pt modelId="{58EC1E95-5601-4AF4-A396-9E50BF3D77FE}">
      <dgm:prSet phldrT="[文本]"/>
      <dgm:spPr>
        <a:solidFill>
          <a:schemeClr val="accent1">
            <a:lumMod val="40000"/>
            <a:lumOff val="60000"/>
          </a:schemeClr>
        </a:solidFill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b="1" dirty="0" smtClean="0">
              <a:solidFill>
                <a:srgbClr val="27536B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具体</a:t>
          </a:r>
          <a:endParaRPr lang="zh-CN" altLang="en-US" b="1" dirty="0">
            <a:solidFill>
              <a:srgbClr val="27536B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307C9C9-9A8B-4648-84A3-713A4D4157A1}" type="parTrans" cxnId="{6492B534-24A6-47E2-8C9F-E752E34E3645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73E6C15B-B6B2-4217-A75F-0E0857FBF1B7}" type="sibTrans" cxnId="{6492B534-24A6-47E2-8C9F-E752E34E3645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E66A5D4-B38F-4A05-BA5D-A18B66BBC2C7}">
      <dgm:prSet phldrT="[文本]" custT="1"/>
      <dgm:spPr>
        <a:noFill/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sz="28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不能太高也不能太低</a:t>
          </a:r>
          <a:endParaRPr lang="zh-CN" altLang="en-US" sz="28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961D417F-9BDF-4850-87DC-CAA4DD07A312}" type="parTrans" cxnId="{85E35838-7420-4B69-B06F-31C4765620D6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AFCE0C9-7B85-4F91-BCC8-9B3AD4FBD1AA}" type="sibTrans" cxnId="{85E35838-7420-4B69-B06F-31C4765620D6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F7D0249-2D17-4792-A416-928F6428118F}">
      <dgm:prSet phldrT="[文本]"/>
      <dgm:spPr>
        <a:solidFill>
          <a:schemeClr val="accent1">
            <a:lumMod val="40000"/>
            <a:lumOff val="60000"/>
          </a:schemeClr>
        </a:solidFill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b="1" dirty="0" smtClean="0">
              <a:solidFill>
                <a:srgbClr val="27536B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搭配</a:t>
          </a:r>
          <a:endParaRPr lang="zh-CN" altLang="en-US" b="1" dirty="0">
            <a:solidFill>
              <a:srgbClr val="27536B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986F9748-D700-4A7E-A2B9-BA277D638544}" type="parTrans" cxnId="{FBCC65C2-BCB7-4819-9521-C73E29D6BC09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BD8CE408-824A-4D83-A3CF-18C88F847AC8}" type="sibTrans" cxnId="{FBCC65C2-BCB7-4819-9521-C73E29D6BC09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7E58A94D-69FD-418A-BCEF-EE80B4E7DAD6}">
      <dgm:prSet phldrT="[文本]" custT="1"/>
      <dgm:spPr>
        <a:noFill/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sz="28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长期目标搭配短期目标</a:t>
          </a:r>
          <a:endParaRPr lang="zh-CN" altLang="en-US" sz="28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61A6FC7-D24C-483F-9187-FD88B3B79582}" type="parTrans" cxnId="{160BD984-C4C0-4943-8533-E75705798CD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2C233F3F-A22B-4000-B477-FFB227572B31}" type="sibTrans" cxnId="{160BD984-C4C0-4943-8533-E75705798CD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1A6C69D-6A3D-486B-B2ED-1994755419BA}">
      <dgm:prSet phldrT="[文本]"/>
      <dgm:spPr>
        <a:solidFill>
          <a:schemeClr val="accent1">
            <a:lumMod val="40000"/>
            <a:lumOff val="60000"/>
          </a:schemeClr>
        </a:solidFill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b="1" dirty="0" smtClean="0">
              <a:solidFill>
                <a:srgbClr val="27536B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限量</a:t>
          </a:r>
          <a:endParaRPr lang="zh-CN" altLang="en-US" b="1" dirty="0">
            <a:solidFill>
              <a:srgbClr val="27536B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CA52D4C-7DCC-4FCD-AA2A-C0691D74FD80}" type="parTrans" cxnId="{EA355A70-7CFC-44C0-BCCE-119CEC58A807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72FBDCC0-668F-4C65-BC7D-C8AB317826A8}" type="sibTrans" cxnId="{EA355A70-7CFC-44C0-BCCE-119CEC58A807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9CF9C44F-AF1C-4958-B6FD-AFAD14C1D419}">
      <dgm:prSet phldrT="[文本]" custT="1"/>
      <dgm:spPr>
        <a:noFill/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sz="28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每次仅限三件事</a:t>
          </a:r>
          <a:endParaRPr lang="zh-CN" altLang="en-US" sz="28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3002AC2-67DE-41FF-9E56-152B88EFA0B6}" type="parTrans" cxnId="{CA157A58-724E-4A60-B9D9-026789CB833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98515C6-61F9-4299-8281-17957CD15866}" type="sibTrans" cxnId="{CA157A58-724E-4A60-B9D9-026789CB833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B85E922-87F6-490E-AA1D-C17F37E2087D}">
      <dgm:prSet/>
      <dgm:spPr>
        <a:solidFill>
          <a:schemeClr val="accent1">
            <a:lumMod val="40000"/>
            <a:lumOff val="60000"/>
          </a:schemeClr>
        </a:solidFill>
        <a:ln w="31750">
          <a:solidFill>
            <a:schemeClr val="bg1"/>
          </a:solidFill>
          <a:prstDash val="sysDash"/>
        </a:ln>
      </dgm:spPr>
      <dgm:t>
        <a:bodyPr/>
        <a:lstStyle/>
        <a:p>
          <a:r>
            <a:rPr lang="zh-CN" altLang="en-US" b="1" dirty="0" smtClean="0">
              <a:solidFill>
                <a:srgbClr val="27536B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渐进</a:t>
          </a:r>
          <a:endParaRPr lang="zh-CN" altLang="en-US" b="1" dirty="0">
            <a:solidFill>
              <a:srgbClr val="27536B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5245B38-5964-4C61-8564-D00084D29342}" type="parTrans" cxnId="{F26CA684-3EED-43D1-94DD-012BDE0DF762}">
      <dgm:prSet/>
      <dgm:spPr/>
      <dgm:t>
        <a:bodyPr/>
        <a:lstStyle/>
        <a:p>
          <a:endParaRPr lang="zh-CN" altLang="en-US"/>
        </a:p>
      </dgm:t>
    </dgm:pt>
    <dgm:pt modelId="{2E925A8B-EFEB-4E64-974D-4F1C1620CE7B}" type="sibTrans" cxnId="{F26CA684-3EED-43D1-94DD-012BDE0DF762}">
      <dgm:prSet/>
      <dgm:spPr/>
      <dgm:t>
        <a:bodyPr/>
        <a:lstStyle/>
        <a:p>
          <a:endParaRPr lang="zh-CN" altLang="en-US"/>
        </a:p>
      </dgm:t>
    </dgm:pt>
    <dgm:pt modelId="{56D193C7-F2FE-4493-92BF-85BD9AE7299F}" type="pres">
      <dgm:prSet presAssocID="{945C63C7-68C7-4B4E-9354-3C16AD1CB616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30B9969F-E071-4514-952D-C7FB1251D239}" type="pres">
      <dgm:prSet presAssocID="{58EC1E95-5601-4AF4-A396-9E50BF3D77FE}" presName="linNode" presStyleCnt="0"/>
      <dgm:spPr/>
    </dgm:pt>
    <dgm:pt modelId="{55CC62F2-6793-4145-A1D3-9023B3E76E50}" type="pres">
      <dgm:prSet presAssocID="{58EC1E95-5601-4AF4-A396-9E50BF3D77FE}" presName="parentText" presStyleLbl="node1" presStyleIdx="0" presStyleCnt="4" custLinFactNeighborX="-19159" custLinFactNeighborY="-42808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421E1A1-D50F-4EB9-8B9B-A8A8F5833160}" type="pres">
      <dgm:prSet presAssocID="{58EC1E95-5601-4AF4-A396-9E50BF3D77FE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0A02BDB-BD79-4EDA-B380-88822573AB00}" type="pres">
      <dgm:prSet presAssocID="{73E6C15B-B6B2-4217-A75F-0E0857FBF1B7}" presName="sp" presStyleCnt="0"/>
      <dgm:spPr/>
    </dgm:pt>
    <dgm:pt modelId="{C30DB427-475B-403D-A632-5CC7A0F6FF35}" type="pres">
      <dgm:prSet presAssocID="{1F7D0249-2D17-4792-A416-928F6428118F}" presName="linNode" presStyleCnt="0"/>
      <dgm:spPr/>
    </dgm:pt>
    <dgm:pt modelId="{FF6A1C04-1AA7-473A-A853-E6AD711ECD93}" type="pres">
      <dgm:prSet presAssocID="{1F7D0249-2D17-4792-A416-928F6428118F}" presName="parentText" presStyleLbl="node1" presStyleIdx="1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5A2A188-3F3A-4E21-8A16-7541B900CCD9}" type="pres">
      <dgm:prSet presAssocID="{1F7D0249-2D17-4792-A416-928F6428118F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F8E56DC-B9CB-4800-ABFD-CC37909FA738}" type="pres">
      <dgm:prSet presAssocID="{BD8CE408-824A-4D83-A3CF-18C88F847AC8}" presName="sp" presStyleCnt="0"/>
      <dgm:spPr/>
    </dgm:pt>
    <dgm:pt modelId="{DC4BA2A5-3C37-41EA-B7BE-E97BDB6D943B}" type="pres">
      <dgm:prSet presAssocID="{81A6C69D-6A3D-486B-B2ED-1994755419BA}" presName="linNode" presStyleCnt="0"/>
      <dgm:spPr/>
    </dgm:pt>
    <dgm:pt modelId="{E4565775-8E8E-4740-B0C3-CE27023F3B2D}" type="pres">
      <dgm:prSet presAssocID="{81A6C69D-6A3D-486B-B2ED-1994755419BA}" presName="parentText" presStyleLbl="node1" presStyleIdx="2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441F7B6-1D18-455E-A6FF-AE5114E03832}" type="pres">
      <dgm:prSet presAssocID="{81A6C69D-6A3D-486B-B2ED-1994755419BA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1C1416C-FF26-43A3-94FC-E374D305D33A}" type="pres">
      <dgm:prSet presAssocID="{72FBDCC0-668F-4C65-BC7D-C8AB317826A8}" presName="sp" presStyleCnt="0"/>
      <dgm:spPr/>
    </dgm:pt>
    <dgm:pt modelId="{E8F7774A-357A-4569-843F-7C513D294118}" type="pres">
      <dgm:prSet presAssocID="{8B85E922-87F6-490E-AA1D-C17F37E2087D}" presName="linNode" presStyleCnt="0"/>
      <dgm:spPr/>
    </dgm:pt>
    <dgm:pt modelId="{A0E6ED44-A3B7-4EF9-961A-6A7C1E6A8DC0}" type="pres">
      <dgm:prSet presAssocID="{8B85E922-87F6-490E-AA1D-C17F37E2087D}" presName="parentText" presStyleLbl="node1" presStyleIdx="3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FBCC65C2-BCB7-4819-9521-C73E29D6BC09}" srcId="{945C63C7-68C7-4B4E-9354-3C16AD1CB616}" destId="{1F7D0249-2D17-4792-A416-928F6428118F}" srcOrd="1" destOrd="0" parTransId="{986F9748-D700-4A7E-A2B9-BA277D638544}" sibTransId="{BD8CE408-824A-4D83-A3CF-18C88F847AC8}"/>
    <dgm:cxn modelId="{01CD81BA-B1E4-41B3-9F0A-D611488B8117}" type="presOf" srcId="{EE66A5D4-B38F-4A05-BA5D-A18B66BBC2C7}" destId="{3421E1A1-D50F-4EB9-8B9B-A8A8F5833160}" srcOrd="0" destOrd="0" presId="urn:microsoft.com/office/officeart/2005/8/layout/vList5"/>
    <dgm:cxn modelId="{BB1213BA-2C7E-4DD3-985D-EA84195F8535}" type="presOf" srcId="{945C63C7-68C7-4B4E-9354-3C16AD1CB616}" destId="{56D193C7-F2FE-4493-92BF-85BD9AE7299F}" srcOrd="0" destOrd="0" presId="urn:microsoft.com/office/officeart/2005/8/layout/vList5"/>
    <dgm:cxn modelId="{F26CA684-3EED-43D1-94DD-012BDE0DF762}" srcId="{945C63C7-68C7-4B4E-9354-3C16AD1CB616}" destId="{8B85E922-87F6-490E-AA1D-C17F37E2087D}" srcOrd="3" destOrd="0" parTransId="{85245B38-5964-4C61-8564-D00084D29342}" sibTransId="{2E925A8B-EFEB-4E64-974D-4F1C1620CE7B}"/>
    <dgm:cxn modelId="{85E35838-7420-4B69-B06F-31C4765620D6}" srcId="{58EC1E95-5601-4AF4-A396-9E50BF3D77FE}" destId="{EE66A5D4-B38F-4A05-BA5D-A18B66BBC2C7}" srcOrd="0" destOrd="0" parTransId="{961D417F-9BDF-4850-87DC-CAA4DD07A312}" sibTransId="{AAFCE0C9-7B85-4F91-BCC8-9B3AD4FBD1AA}"/>
    <dgm:cxn modelId="{3E72184C-80BD-472C-9195-7D2174127687}" type="presOf" srcId="{58EC1E95-5601-4AF4-A396-9E50BF3D77FE}" destId="{55CC62F2-6793-4145-A1D3-9023B3E76E50}" srcOrd="0" destOrd="0" presId="urn:microsoft.com/office/officeart/2005/8/layout/vList5"/>
    <dgm:cxn modelId="{2785BAE3-76BD-4CDB-9EDA-BFF0E0B7BE26}" type="presOf" srcId="{81A6C69D-6A3D-486B-B2ED-1994755419BA}" destId="{E4565775-8E8E-4740-B0C3-CE27023F3B2D}" srcOrd="0" destOrd="0" presId="urn:microsoft.com/office/officeart/2005/8/layout/vList5"/>
    <dgm:cxn modelId="{CA157A58-724E-4A60-B9D9-026789CB833F}" srcId="{81A6C69D-6A3D-486B-B2ED-1994755419BA}" destId="{9CF9C44F-AF1C-4958-B6FD-AFAD14C1D419}" srcOrd="0" destOrd="0" parTransId="{53002AC2-67DE-41FF-9E56-152B88EFA0B6}" sibTransId="{C98515C6-61F9-4299-8281-17957CD15866}"/>
    <dgm:cxn modelId="{8ED74C1F-55DD-40AC-AA40-A1018ADC37B7}" type="presOf" srcId="{8B85E922-87F6-490E-AA1D-C17F37E2087D}" destId="{A0E6ED44-A3B7-4EF9-961A-6A7C1E6A8DC0}" srcOrd="0" destOrd="0" presId="urn:microsoft.com/office/officeart/2005/8/layout/vList5"/>
    <dgm:cxn modelId="{6492B534-24A6-47E2-8C9F-E752E34E3645}" srcId="{945C63C7-68C7-4B4E-9354-3C16AD1CB616}" destId="{58EC1E95-5601-4AF4-A396-9E50BF3D77FE}" srcOrd="0" destOrd="0" parTransId="{A307C9C9-9A8B-4648-84A3-713A4D4157A1}" sibTransId="{73E6C15B-B6B2-4217-A75F-0E0857FBF1B7}"/>
    <dgm:cxn modelId="{EA355A70-7CFC-44C0-BCCE-119CEC58A807}" srcId="{945C63C7-68C7-4B4E-9354-3C16AD1CB616}" destId="{81A6C69D-6A3D-486B-B2ED-1994755419BA}" srcOrd="2" destOrd="0" parTransId="{8CA52D4C-7DCC-4FCD-AA2A-C0691D74FD80}" sibTransId="{72FBDCC0-668F-4C65-BC7D-C8AB317826A8}"/>
    <dgm:cxn modelId="{09A3BAAB-3021-449F-B630-E1B7AFF49E98}" type="presOf" srcId="{1F7D0249-2D17-4792-A416-928F6428118F}" destId="{FF6A1C04-1AA7-473A-A853-E6AD711ECD93}" srcOrd="0" destOrd="0" presId="urn:microsoft.com/office/officeart/2005/8/layout/vList5"/>
    <dgm:cxn modelId="{D8A8F6CF-D876-4CF8-8B86-B45405B0E50F}" type="presOf" srcId="{7E58A94D-69FD-418A-BCEF-EE80B4E7DAD6}" destId="{85A2A188-3F3A-4E21-8A16-7541B900CCD9}" srcOrd="0" destOrd="0" presId="urn:microsoft.com/office/officeart/2005/8/layout/vList5"/>
    <dgm:cxn modelId="{029FEFEE-6F3C-4D66-BE14-7AAC06BB36E2}" type="presOf" srcId="{9CF9C44F-AF1C-4958-B6FD-AFAD14C1D419}" destId="{2441F7B6-1D18-455E-A6FF-AE5114E03832}" srcOrd="0" destOrd="0" presId="urn:microsoft.com/office/officeart/2005/8/layout/vList5"/>
    <dgm:cxn modelId="{160BD984-C4C0-4943-8533-E75705798CDF}" srcId="{1F7D0249-2D17-4792-A416-928F6428118F}" destId="{7E58A94D-69FD-418A-BCEF-EE80B4E7DAD6}" srcOrd="0" destOrd="0" parTransId="{861A6FC7-D24C-483F-9187-FD88B3B79582}" sibTransId="{2C233F3F-A22B-4000-B477-FFB227572B31}"/>
    <dgm:cxn modelId="{3AC13458-38BF-4150-98C2-328A8DBD0AD8}" type="presParOf" srcId="{56D193C7-F2FE-4493-92BF-85BD9AE7299F}" destId="{30B9969F-E071-4514-952D-C7FB1251D239}" srcOrd="0" destOrd="0" presId="urn:microsoft.com/office/officeart/2005/8/layout/vList5"/>
    <dgm:cxn modelId="{EDA1B280-3252-4A8D-A782-8BF7E9CE206C}" type="presParOf" srcId="{30B9969F-E071-4514-952D-C7FB1251D239}" destId="{55CC62F2-6793-4145-A1D3-9023B3E76E50}" srcOrd="0" destOrd="0" presId="urn:microsoft.com/office/officeart/2005/8/layout/vList5"/>
    <dgm:cxn modelId="{691B99E2-FE4F-4741-B8C0-D90B86CF1E0F}" type="presParOf" srcId="{30B9969F-E071-4514-952D-C7FB1251D239}" destId="{3421E1A1-D50F-4EB9-8B9B-A8A8F5833160}" srcOrd="1" destOrd="0" presId="urn:microsoft.com/office/officeart/2005/8/layout/vList5"/>
    <dgm:cxn modelId="{9DCC3093-5DBD-497E-80C1-2B3C583AC8FB}" type="presParOf" srcId="{56D193C7-F2FE-4493-92BF-85BD9AE7299F}" destId="{90A02BDB-BD79-4EDA-B380-88822573AB00}" srcOrd="1" destOrd="0" presId="urn:microsoft.com/office/officeart/2005/8/layout/vList5"/>
    <dgm:cxn modelId="{A09E551A-801F-4F50-8274-3D938305B91C}" type="presParOf" srcId="{56D193C7-F2FE-4493-92BF-85BD9AE7299F}" destId="{C30DB427-475B-403D-A632-5CC7A0F6FF35}" srcOrd="2" destOrd="0" presId="urn:microsoft.com/office/officeart/2005/8/layout/vList5"/>
    <dgm:cxn modelId="{746A8D91-DEB9-4C13-9BD8-AB561FE226DE}" type="presParOf" srcId="{C30DB427-475B-403D-A632-5CC7A0F6FF35}" destId="{FF6A1C04-1AA7-473A-A853-E6AD711ECD93}" srcOrd="0" destOrd="0" presId="urn:microsoft.com/office/officeart/2005/8/layout/vList5"/>
    <dgm:cxn modelId="{BEB8493F-3545-4394-92F5-001956E8282F}" type="presParOf" srcId="{C30DB427-475B-403D-A632-5CC7A0F6FF35}" destId="{85A2A188-3F3A-4E21-8A16-7541B900CCD9}" srcOrd="1" destOrd="0" presId="urn:microsoft.com/office/officeart/2005/8/layout/vList5"/>
    <dgm:cxn modelId="{9347DA0C-141F-41A4-B3DC-791A0D52539B}" type="presParOf" srcId="{56D193C7-F2FE-4493-92BF-85BD9AE7299F}" destId="{BF8E56DC-B9CB-4800-ABFD-CC37909FA738}" srcOrd="3" destOrd="0" presId="urn:microsoft.com/office/officeart/2005/8/layout/vList5"/>
    <dgm:cxn modelId="{6C127A16-AB10-4938-93C4-CA39A479F9B2}" type="presParOf" srcId="{56D193C7-F2FE-4493-92BF-85BD9AE7299F}" destId="{DC4BA2A5-3C37-41EA-B7BE-E97BDB6D943B}" srcOrd="4" destOrd="0" presId="urn:microsoft.com/office/officeart/2005/8/layout/vList5"/>
    <dgm:cxn modelId="{5B39CB06-BB09-4259-8D2F-277FD97CCC2C}" type="presParOf" srcId="{DC4BA2A5-3C37-41EA-B7BE-E97BDB6D943B}" destId="{E4565775-8E8E-4740-B0C3-CE27023F3B2D}" srcOrd="0" destOrd="0" presId="urn:microsoft.com/office/officeart/2005/8/layout/vList5"/>
    <dgm:cxn modelId="{350D1542-47FD-482A-A1C6-A762D5E7D976}" type="presParOf" srcId="{DC4BA2A5-3C37-41EA-B7BE-E97BDB6D943B}" destId="{2441F7B6-1D18-455E-A6FF-AE5114E03832}" srcOrd="1" destOrd="0" presId="urn:microsoft.com/office/officeart/2005/8/layout/vList5"/>
    <dgm:cxn modelId="{E8305C15-393C-4995-859B-4364EB30BDA2}" type="presParOf" srcId="{56D193C7-F2FE-4493-92BF-85BD9AE7299F}" destId="{01C1416C-FF26-43A3-94FC-E374D305D33A}" srcOrd="5" destOrd="0" presId="urn:microsoft.com/office/officeart/2005/8/layout/vList5"/>
    <dgm:cxn modelId="{BD5FDB7B-8477-4A80-8CDC-84C50C25EEF6}" type="presParOf" srcId="{56D193C7-F2FE-4493-92BF-85BD9AE7299F}" destId="{E8F7774A-357A-4569-843F-7C513D294118}" srcOrd="6" destOrd="0" presId="urn:microsoft.com/office/officeart/2005/8/layout/vList5"/>
    <dgm:cxn modelId="{CCD10807-135B-4EDC-8106-F470E86E8BEB}" type="presParOf" srcId="{E8F7774A-357A-4569-843F-7C513D294118}" destId="{A0E6ED44-A3B7-4EF9-961A-6A7C1E6A8DC0}" srcOrd="0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AD7-EEDE-43CF-83F7-1D01C61E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FEC-6A8F-4D03-9A00-2971977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1FB-3E4B-4FD0-9434-DF18FC57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989-4B7C-4DCD-B1F3-5A04C31A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38BB-5C72-4C80-9855-D2FC0686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8F05-8BA1-4231-B8C7-23F2FC9F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BDC-7FC8-4925-8969-89742DA1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0CA-4323-4F4F-BCCC-BB284EC0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165-1974-44FC-B335-65A9D2A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3FC-58C5-46E3-AF55-C0D944A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A17-2F7A-408D-B679-65A057B5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21C-0034-41A7-967F-B10F055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65DA-00EC-490F-A871-074E70A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18F-90E6-4F6E-ABFA-05425E4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334C-44CA-4B7A-9D4F-D8C23B2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71DD-B0CF-4FEA-9100-4BCAA1AD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2D88-EC3B-4AFD-AF0A-C7E8F5A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B55-5A05-4181-99E4-7AB1F77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0B4-3069-4546-AEF4-EEA46F1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57C-8B37-4121-A5ED-A26676D7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EDC-E10A-4ABE-B126-298C47D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349-6A58-4642-8ED1-0A6A33B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ABD-9C45-4F64-A96C-E1CE40F2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E26-EECB-4FC6-BFD4-278A2D2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B6393-37B3-4FEA-9542-0C53E80E94C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-1209960"/>
            <a:ext cx="3580920" cy="43376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txBody>
          <a:bodyPr lIns="360000" rIns="288000" tIns="180000" bIns="1800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  <a:ea typeface="华康俪金黑W8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A1E307-CB2D-491F-8972-C05E96E28D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直接连接符 5"/>
          <p:cNvCxnSpPr/>
          <p:nvPr/>
        </p:nvCxnSpPr>
        <p:spPr>
          <a:xfrm>
            <a:off x="849960" y="-156240"/>
            <a:ext cx="360" cy="7219080"/>
          </a:xfrm>
          <a:prstGeom prst="straightConnector1">
            <a:avLst/>
          </a:prstGeom>
          <a:ln w="31750">
            <a:solidFill>
              <a:srgbClr val="ffffff"/>
            </a:solidFill>
            <a:prstDash val="sysDash"/>
          </a:ln>
        </p:spPr>
      </p:cxn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1"/>
          <p:cNvSpPr/>
          <p:nvPr/>
        </p:nvSpPr>
        <p:spPr>
          <a:xfrm>
            <a:off x="-150120" y="2251800"/>
            <a:ext cx="12341880" cy="271548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图片 9" descr=""/>
          <p:cNvPicPr/>
          <p:nvPr/>
        </p:nvPicPr>
        <p:blipFill>
          <a:blip r:embed="rId1"/>
          <a:stretch/>
        </p:blipFill>
        <p:spPr>
          <a:xfrm>
            <a:off x="466200" y="863640"/>
            <a:ext cx="5130000" cy="5130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85" name="文本框 10"/>
          <p:cNvSpPr/>
          <p:nvPr/>
        </p:nvSpPr>
        <p:spPr>
          <a:xfrm>
            <a:off x="5241600" y="2732400"/>
            <a:ext cx="5605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教下属成材的八个必须通用</a:t>
            </a:r>
            <a:r>
              <a:rPr b="0" lang="en-US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5581800" y="4012560"/>
            <a:ext cx="406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石田淳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著    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趁早同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51"/>
          <p:cNvGrpSpPr/>
          <p:nvPr/>
        </p:nvGrpSpPr>
        <p:grpSpPr>
          <a:xfrm>
            <a:off x="9626760" y="330120"/>
            <a:ext cx="693720" cy="641880"/>
            <a:chOff x="9626760" y="330120"/>
            <a:chExt cx="693720" cy="641880"/>
          </a:xfrm>
        </p:grpSpPr>
        <p:sp>
          <p:nvSpPr>
            <p:cNvPr id="88" name="任意多边形 37"/>
            <p:cNvSpPr/>
            <p:nvPr/>
          </p:nvSpPr>
          <p:spPr>
            <a:xfrm rot="16200000">
              <a:off x="9498600" y="457920"/>
              <a:ext cx="641880" cy="38592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532239" h="2123819">
                  <a:moveTo>
                    <a:pt x="2152631" y="989874"/>
                  </a:moveTo>
                  <a:cubicBezTo>
                    <a:pt x="2156866" y="1055905"/>
                    <a:pt x="2128601" y="1121625"/>
                    <a:pt x="2073996" y="1163779"/>
                  </a:cubicBezTo>
                  <a:cubicBezTo>
                    <a:pt x="2001188" y="1219985"/>
                    <a:pt x="1899706" y="1220282"/>
                    <a:pt x="1826573" y="1164501"/>
                  </a:cubicBezTo>
                  <a:cubicBezTo>
                    <a:pt x="1771722" y="1122667"/>
                    <a:pt x="1743074" y="1057113"/>
                    <a:pt x="1746923" y="991058"/>
                  </a:cubicBezTo>
                  <a:lnTo>
                    <a:pt x="1757673" y="943948"/>
                  </a:lnTo>
                  <a:lnTo>
                    <a:pt x="2141870" y="943948"/>
                  </a:lnTo>
                  <a:close/>
                  <a:moveTo>
                    <a:pt x="2344994" y="1051369"/>
                  </a:moveTo>
                  <a:lnTo>
                    <a:pt x="2319139" y="941033"/>
                  </a:lnTo>
                  <a:lnTo>
                    <a:pt x="2319139" y="752990"/>
                  </a:lnTo>
                  <a:lnTo>
                    <a:pt x="1165720" y="752990"/>
                  </a:lnTo>
                  <a:lnTo>
                    <a:pt x="1165720" y="943948"/>
                  </a:lnTo>
                  <a:lnTo>
                    <a:pt x="1594271" y="943948"/>
                  </a:lnTo>
                  <a:lnTo>
                    <a:pt x="1569243" y="1053635"/>
                  </a:lnTo>
                  <a:cubicBezTo>
                    <a:pt x="1561884" y="1179938"/>
                    <a:pt x="1616661" y="1305283"/>
                    <a:pt x="1721541" y="1385275"/>
                  </a:cubicBezTo>
                  <a:cubicBezTo>
                    <a:pt x="1861380" y="1491929"/>
                    <a:pt x="2055422" y="1491363"/>
                    <a:pt x="2194636" y="1383893"/>
                  </a:cubicBezTo>
                  <a:cubicBezTo>
                    <a:pt x="2299046" y="1303289"/>
                    <a:pt x="2353090" y="1177627"/>
                    <a:pt x="2344994" y="1051369"/>
                  </a:cubicBezTo>
                  <a:close/>
                  <a:moveTo>
                    <a:pt x="3532239" y="2123819"/>
                  </a:moveTo>
                  <a:lnTo>
                    <a:pt x="0" y="2123819"/>
                  </a:lnTo>
                  <a:lnTo>
                    <a:pt x="319635" y="0"/>
                  </a:lnTo>
                  <a:lnTo>
                    <a:pt x="3212604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任意多边形 54"/>
            <p:cNvSpPr/>
            <p:nvPr/>
          </p:nvSpPr>
          <p:spPr>
            <a:xfrm>
              <a:off x="10036440" y="493200"/>
              <a:ext cx="231480" cy="3546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275737" h="1951630">
                  <a:moveTo>
                    <a:pt x="259720" y="122696"/>
                  </a:moveTo>
                  <a:lnTo>
                    <a:pt x="259720" y="590566"/>
                  </a:lnTo>
                  <a:cubicBezTo>
                    <a:pt x="415677" y="590566"/>
                    <a:pt x="571634" y="590567"/>
                    <a:pt x="727591" y="590567"/>
                  </a:cubicBezTo>
                  <a:cubicBezTo>
                    <a:pt x="727591" y="466480"/>
                    <a:pt x="678298" y="347475"/>
                    <a:pt x="590555" y="259732"/>
                  </a:cubicBezTo>
                  <a:cubicBezTo>
                    <a:pt x="502812" y="171989"/>
                    <a:pt x="383807" y="122696"/>
                    <a:pt x="259720" y="122696"/>
                  </a:cubicBezTo>
                  <a:close/>
                  <a:moveTo>
                    <a:pt x="0" y="0"/>
                  </a:moveTo>
                  <a:lnTo>
                    <a:pt x="1275737" y="0"/>
                  </a:lnTo>
                  <a:lnTo>
                    <a:pt x="1275737" y="1951630"/>
                  </a:lnTo>
                  <a:lnTo>
                    <a:pt x="0" y="1951630"/>
                  </a:lnTo>
                  <a:lnTo>
                    <a:pt x="0" y="1743301"/>
                  </a:lnTo>
                  <a:lnTo>
                    <a:pt x="855407" y="1743301"/>
                  </a:lnTo>
                  <a:lnTo>
                    <a:pt x="855407" y="1601835"/>
                  </a:lnTo>
                  <a:lnTo>
                    <a:pt x="0" y="1601835"/>
                  </a:lnTo>
                  <a:lnTo>
                    <a:pt x="0" y="1432665"/>
                  </a:lnTo>
                  <a:lnTo>
                    <a:pt x="855407" y="1432665"/>
                  </a:lnTo>
                  <a:lnTo>
                    <a:pt x="855407" y="1291199"/>
                  </a:lnTo>
                  <a:lnTo>
                    <a:pt x="0" y="1291199"/>
                  </a:lnTo>
                  <a:lnTo>
                    <a:pt x="0" y="1091136"/>
                  </a:lnTo>
                  <a:lnTo>
                    <a:pt x="14963" y="1099257"/>
                  </a:lnTo>
                  <a:cubicBezTo>
                    <a:pt x="70938" y="1122933"/>
                    <a:pt x="132480" y="1136025"/>
                    <a:pt x="197079" y="1136025"/>
                  </a:cubicBezTo>
                  <a:cubicBezTo>
                    <a:pt x="455477" y="1136025"/>
                    <a:pt x="664950" y="926552"/>
                    <a:pt x="664950" y="668154"/>
                  </a:cubicBezTo>
                  <a:lnTo>
                    <a:pt x="197080" y="668154"/>
                  </a:lnTo>
                  <a:cubicBezTo>
                    <a:pt x="197080" y="512197"/>
                    <a:pt x="197079" y="356240"/>
                    <a:pt x="197079" y="200283"/>
                  </a:cubicBezTo>
                  <a:cubicBezTo>
                    <a:pt x="132480" y="200283"/>
                    <a:pt x="70938" y="213375"/>
                    <a:pt x="14963" y="237051"/>
                  </a:cubicBezTo>
                  <a:lnTo>
                    <a:pt x="0" y="245172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任意多边形 53"/>
            <p:cNvSpPr/>
            <p:nvPr/>
          </p:nvSpPr>
          <p:spPr>
            <a:xfrm>
              <a:off x="10037520" y="443160"/>
              <a:ext cx="282960" cy="33264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558102" h="1830842">
                  <a:moveTo>
                    <a:pt x="0" y="0"/>
                  </a:moveTo>
                  <a:lnTo>
                    <a:pt x="1558102" y="0"/>
                  </a:lnTo>
                  <a:lnTo>
                    <a:pt x="1558102" y="1830842"/>
                  </a:lnTo>
                  <a:lnTo>
                    <a:pt x="1374615" y="1830842"/>
                  </a:lnTo>
                  <a:lnTo>
                    <a:pt x="1374615" y="185080"/>
                  </a:lnTo>
                  <a:lnTo>
                    <a:pt x="0" y="18508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矩形 14"/>
            <p:cNvSpPr/>
            <p:nvPr/>
          </p:nvSpPr>
          <p:spPr>
            <a:xfrm>
              <a:off x="10036440" y="497160"/>
              <a:ext cx="227880" cy="35460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2" name="文本框 55"/>
          <p:cNvSpPr/>
          <p:nvPr/>
        </p:nvSpPr>
        <p:spPr>
          <a:xfrm>
            <a:off x="10492920" y="466200"/>
            <a:ext cx="124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笔记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连接符 3"/>
          <p:cNvCxnSpPr/>
          <p:nvPr/>
        </p:nvCxnSpPr>
        <p:spPr>
          <a:xfrm>
            <a:off x="851760" y="4967640"/>
            <a:ext cx="360" cy="1890720"/>
          </a:xfrm>
          <a:prstGeom prst="straightConnector1">
            <a:avLst/>
          </a:prstGeom>
          <a:ln w="31750">
            <a:solidFill>
              <a:srgbClr val="ffffff"/>
            </a:solidFill>
            <a:prstDash val="sysDash"/>
          </a:ln>
        </p:spPr>
      </p:cxn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7"/>
          <p:cNvSpPr/>
          <p:nvPr/>
        </p:nvSpPr>
        <p:spPr>
          <a:xfrm>
            <a:off x="326160" y="505080"/>
            <a:ext cx="702612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8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对不同员工必须因人而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表格 3"/>
          <p:cNvGraphicFramePr/>
          <p:nvPr/>
        </p:nvGraphicFramePr>
        <p:xfrm>
          <a:off x="1164960" y="2100960"/>
          <a:ext cx="10622160" cy="4211280"/>
        </p:xfrm>
        <a:graphic>
          <a:graphicData uri="http://schemas.openxmlformats.org/drawingml/2006/table">
            <a:tbl>
              <a:tblPr/>
              <a:tblGrid>
                <a:gridCol w="2889360"/>
                <a:gridCol w="7732800"/>
              </a:tblGrid>
              <a:tr h="363240">
                <a:tc>
                  <a:txBody>
                    <a:bodyPr lIns="90000" anchor="ctr">
                      <a:noAutofit/>
                    </a:bodyPr>
                    <a:p>
                      <a:pPr marL="263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员工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处理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81216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年长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摆正位置，勿以主从身份判断，应持“二人只是分工不同，但立场一致”的态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将年长的人视为前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二度就业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确认有无基本知识和技术，清楚告诉他们该做什么和不该做什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把有经验的员工当作咨询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有心理落差的新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说明企业理念与日常业务之间的关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优秀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给予充分信赖，但不能放任不管，要不定期的抽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兼职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详细说明工作全貌和人员定位，让他感受工作的价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派遣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充分沟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外籍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沟通最重要，但不要过度依赖语言，重点放在行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122120" y="3810240"/>
            <a:ext cx="3809520" cy="2619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3"/>
          <p:cNvSpPr/>
          <p:nvPr/>
        </p:nvSpPr>
        <p:spPr>
          <a:xfrm>
            <a:off x="3535920" y="466920"/>
            <a:ext cx="5484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下属成材的 </a:t>
            </a: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必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连接符 5"/>
          <p:cNvCxnSpPr/>
          <p:nvPr/>
        </p:nvCxnSpPr>
        <p:spPr>
          <a:xfrm>
            <a:off x="839520" y="2492640"/>
            <a:ext cx="9550080" cy="360"/>
          </a:xfrm>
          <a:prstGeom prst="straightConnector1">
            <a:avLst/>
          </a:prstGeom>
          <a:ln w="31750">
            <a:solidFill>
              <a:srgbClr val="ffffff"/>
            </a:solidFill>
            <a:prstDash val="sysDash"/>
          </a:ln>
        </p:spPr>
      </p:cxnSp>
      <p:sp>
        <p:nvSpPr>
          <p:cNvPr id="98" name="文本框 8"/>
          <p:cNvSpPr/>
          <p:nvPr/>
        </p:nvSpPr>
        <p:spPr>
          <a:xfrm>
            <a:off x="3816720" y="2683080"/>
            <a:ext cx="492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懂带人你就自己做到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7"/>
          <p:cNvSpPr/>
          <p:nvPr/>
        </p:nvSpPr>
        <p:spPr>
          <a:xfrm>
            <a:off x="329040" y="505080"/>
            <a:ext cx="636444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导下属必须关注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3"/>
          <p:cNvGrpSpPr/>
          <p:nvPr/>
        </p:nvGrpSpPr>
        <p:grpSpPr>
          <a:xfrm>
            <a:off x="4241520" y="3293280"/>
            <a:ext cx="4144680" cy="2936520"/>
            <a:chOff x="4241520" y="3293280"/>
            <a:chExt cx="4144680" cy="2936520"/>
          </a:xfrm>
        </p:grpSpPr>
        <p:sp>
          <p:nvSpPr>
            <p:cNvPr id="101" name="矩形 4"/>
            <p:cNvSpPr/>
            <p:nvPr/>
          </p:nvSpPr>
          <p:spPr>
            <a:xfrm>
              <a:off x="4241520" y="3293280"/>
              <a:ext cx="4144680" cy="29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5"/>
            <p:cNvSpPr/>
            <p:nvPr/>
          </p:nvSpPr>
          <p:spPr>
            <a:xfrm>
              <a:off x="5675400" y="3293640"/>
              <a:ext cx="1276920" cy="1276920"/>
            </a:xfrm>
            <a:custGeom>
              <a:avLst/>
              <a:gdLst>
                <a:gd name="textAreaLeft" fmla="*/ 0 w 1276920"/>
                <a:gd name="textAreaRight" fmla="*/ 1277280 w 127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1277155" h="1277155">
                  <a:moveTo>
                    <a:pt x="0" y="638578"/>
                  </a:moveTo>
                  <a:cubicBezTo>
                    <a:pt x="0" y="285901"/>
                    <a:pt x="285901" y="0"/>
                    <a:pt x="638578" y="0"/>
                  </a:cubicBezTo>
                  <a:cubicBezTo>
                    <a:pt x="991255" y="0"/>
                    <a:pt x="1277156" y="285901"/>
                    <a:pt x="1277156" y="638578"/>
                  </a:cubicBezTo>
                  <a:cubicBezTo>
                    <a:pt x="1277156" y="991255"/>
                    <a:pt x="991255" y="1277156"/>
                    <a:pt x="638578" y="1277156"/>
                  </a:cubicBezTo>
                  <a:cubicBezTo>
                    <a:pt x="285901" y="1277156"/>
                    <a:pt x="0" y="991255"/>
                    <a:pt x="0" y="638578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31750">
              <a:solidFill>
                <a:srgbClr val="ffffff"/>
              </a:solidFill>
              <a:prstDash val="sysDash"/>
              <a:round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0"/>
                <a:satOff val="0"/>
                <a:lumOff val="0"/>
                <a:alphaOff val="0"/>
              </a:schemeClr>
            </a:fillRef>
            <a:effectRef idx="3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"/>
            <p:cNvSpPr/>
            <p:nvPr/>
          </p:nvSpPr>
          <p:spPr>
            <a:xfrm rot="3600000">
              <a:off x="6619320" y="4537800"/>
              <a:ext cx="338040" cy="4305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338546" h="431039">
                  <a:moveTo>
                    <a:pt x="0" y="86208"/>
                  </a:moveTo>
                  <a:lnTo>
                    <a:pt x="169273" y="86208"/>
                  </a:lnTo>
                  <a:lnTo>
                    <a:pt x="169273" y="0"/>
                  </a:lnTo>
                  <a:lnTo>
                    <a:pt x="338546" y="215520"/>
                  </a:lnTo>
                  <a:lnTo>
                    <a:pt x="169273" y="431039"/>
                  </a:lnTo>
                  <a:lnTo>
                    <a:pt x="169273" y="344831"/>
                  </a:lnTo>
                  <a:lnTo>
                    <a:pt x="0" y="344831"/>
                  </a:lnTo>
                  <a:lnTo>
                    <a:pt x="0" y="86208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0"/>
                <a:satOff val="0"/>
                <a:lumOff val="0"/>
                <a:alphaOff val="0"/>
              </a:schemeClr>
            </a:fillRef>
            <a:effectRef idx="3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10152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任意多边形 7"/>
            <p:cNvSpPr/>
            <p:nvPr/>
          </p:nvSpPr>
          <p:spPr>
            <a:xfrm>
              <a:off x="6633360" y="4952880"/>
              <a:ext cx="1276920" cy="1276920"/>
            </a:xfrm>
            <a:custGeom>
              <a:avLst/>
              <a:gdLst>
                <a:gd name="textAreaLeft" fmla="*/ 0 w 1276920"/>
                <a:gd name="textAreaRight" fmla="*/ 1277280 w 127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1277155" h="1277155">
                  <a:moveTo>
                    <a:pt x="0" y="638578"/>
                  </a:moveTo>
                  <a:cubicBezTo>
                    <a:pt x="0" y="285901"/>
                    <a:pt x="285901" y="0"/>
                    <a:pt x="638578" y="0"/>
                  </a:cubicBezTo>
                  <a:cubicBezTo>
                    <a:pt x="991255" y="0"/>
                    <a:pt x="1277156" y="285901"/>
                    <a:pt x="1277156" y="638578"/>
                  </a:cubicBezTo>
                  <a:cubicBezTo>
                    <a:pt x="1277156" y="991255"/>
                    <a:pt x="991255" y="1277156"/>
                    <a:pt x="638578" y="1277156"/>
                  </a:cubicBezTo>
                  <a:cubicBezTo>
                    <a:pt x="285901" y="1277156"/>
                    <a:pt x="0" y="991255"/>
                    <a:pt x="0" y="638578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31750">
              <a:solidFill>
                <a:srgbClr val="ffffff"/>
              </a:solidFill>
              <a:prstDash val="sysDash"/>
              <a:round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-944198"/>
                <a:satOff val="17568"/>
                <a:lumOff val="2352"/>
                <a:alphaOff val="0"/>
              </a:schemeClr>
            </a:fillRef>
            <a:effectRef idx="3">
              <a:schemeClr val="accent2">
                <a:hueOff val="-944198"/>
                <a:satOff val="17568"/>
                <a:lumOff val="2352"/>
                <a:alphaOff val="0"/>
              </a:schemeClr>
            </a:effectRef>
            <a:fontRef idx="minor"/>
          </p:style>
          <p:txBody>
            <a:bodyPr numCol="1" spcCol="1440"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行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8"/>
            <p:cNvSpPr/>
            <p:nvPr/>
          </p:nvSpPr>
          <p:spPr>
            <a:xfrm>
              <a:off x="6154200" y="5375880"/>
              <a:ext cx="338040" cy="4305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338546" h="431039">
                  <a:moveTo>
                    <a:pt x="338546" y="344831"/>
                  </a:moveTo>
                  <a:lnTo>
                    <a:pt x="169273" y="344831"/>
                  </a:lnTo>
                  <a:lnTo>
                    <a:pt x="169273" y="431039"/>
                  </a:lnTo>
                  <a:lnTo>
                    <a:pt x="0" y="215519"/>
                  </a:lnTo>
                  <a:lnTo>
                    <a:pt x="169273" y="0"/>
                  </a:lnTo>
                  <a:lnTo>
                    <a:pt x="169273" y="86208"/>
                  </a:lnTo>
                  <a:lnTo>
                    <a:pt x="338546" y="86208"/>
                  </a:lnTo>
                  <a:lnTo>
                    <a:pt x="338546" y="344831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-944198"/>
                <a:satOff val="17568"/>
                <a:lumOff val="2352"/>
                <a:alphaOff val="0"/>
              </a:schemeClr>
            </a:fillRef>
            <a:effectRef idx="3">
              <a:schemeClr val="accent2">
                <a:hueOff val="-944198"/>
                <a:satOff val="17568"/>
                <a:lumOff val="2352"/>
                <a:alphaOff val="0"/>
              </a:schemeClr>
            </a:effectRef>
            <a:fontRef idx="minor"/>
          </p:style>
          <p:txBody>
            <a:bodyPr numCol="1" spcCol="1440" lIns="101520" rIns="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任意多边形 9"/>
            <p:cNvSpPr/>
            <p:nvPr/>
          </p:nvSpPr>
          <p:spPr>
            <a:xfrm>
              <a:off x="4717440" y="4952880"/>
              <a:ext cx="1276920" cy="1276920"/>
            </a:xfrm>
            <a:custGeom>
              <a:avLst/>
              <a:gdLst>
                <a:gd name="textAreaLeft" fmla="*/ 0 w 1276920"/>
                <a:gd name="textAreaRight" fmla="*/ 1277280 w 127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1277155" h="1277155">
                  <a:moveTo>
                    <a:pt x="0" y="638578"/>
                  </a:moveTo>
                  <a:cubicBezTo>
                    <a:pt x="0" y="285901"/>
                    <a:pt x="285901" y="0"/>
                    <a:pt x="638578" y="0"/>
                  </a:cubicBezTo>
                  <a:cubicBezTo>
                    <a:pt x="991255" y="0"/>
                    <a:pt x="1277156" y="285901"/>
                    <a:pt x="1277156" y="638578"/>
                  </a:cubicBezTo>
                  <a:cubicBezTo>
                    <a:pt x="1277156" y="991255"/>
                    <a:pt x="991255" y="1277156"/>
                    <a:pt x="638578" y="1277156"/>
                  </a:cubicBezTo>
                  <a:cubicBezTo>
                    <a:pt x="285901" y="1277156"/>
                    <a:pt x="0" y="991255"/>
                    <a:pt x="0" y="638578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31750">
              <a:solidFill>
                <a:srgbClr val="ffffff"/>
              </a:solidFill>
              <a:prstDash val="sysDash"/>
              <a:round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-1888395"/>
                <a:satOff val="35136"/>
                <a:lumOff val="4705"/>
                <a:alphaOff val="0"/>
              </a:schemeClr>
            </a:fillRef>
            <a:effectRef idx="3">
              <a:schemeClr val="accent2">
                <a:hueOff val="-1888395"/>
                <a:satOff val="35136"/>
                <a:lumOff val="4705"/>
                <a:alphaOff val="0"/>
              </a:schemeClr>
            </a:effectRef>
            <a:fontRef idx="minor"/>
          </p:style>
          <p:txBody>
            <a:bodyPr numCol="1" spcCol="1440"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981"/>
                </a:spcAf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0"/>
            <p:cNvSpPr/>
            <p:nvPr/>
          </p:nvSpPr>
          <p:spPr>
            <a:xfrm rot="18000000">
              <a:off x="5661000" y="4554720"/>
              <a:ext cx="338040" cy="4305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338546" h="431039">
                  <a:moveTo>
                    <a:pt x="0" y="86208"/>
                  </a:moveTo>
                  <a:lnTo>
                    <a:pt x="169273" y="86208"/>
                  </a:lnTo>
                  <a:lnTo>
                    <a:pt x="169273" y="0"/>
                  </a:lnTo>
                  <a:lnTo>
                    <a:pt x="338546" y="215520"/>
                  </a:lnTo>
                  <a:lnTo>
                    <a:pt x="169273" y="431039"/>
                  </a:lnTo>
                  <a:lnTo>
                    <a:pt x="169273" y="344831"/>
                  </a:lnTo>
                  <a:lnTo>
                    <a:pt x="0" y="344831"/>
                  </a:lnTo>
                  <a:lnTo>
                    <a:pt x="0" y="86208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  <a:effectLst>
              <a:outerShdw algn="ctr" blurRad="57240" dir="5400000" dist="19080" rotWithShape="0">
                <a:srgbClr val="000000">
                  <a:alpha val="63000"/>
                </a:srgbClr>
              </a:outerShdw>
            </a:effectLst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2">
                <a:hueOff val="-1888395"/>
                <a:satOff val="35136"/>
                <a:lumOff val="4705"/>
                <a:alphaOff val="0"/>
              </a:schemeClr>
            </a:fillRef>
            <a:effectRef idx="3">
              <a:schemeClr val="accent2">
                <a:hueOff val="-1888395"/>
                <a:satOff val="35136"/>
                <a:lumOff val="4705"/>
                <a:alphaOff val="0"/>
              </a:schemeClr>
            </a:effectRef>
            <a:fontRef idx="minor"/>
          </p:style>
          <p:txBody>
            <a:bodyPr numCol="1" spcCol="1440" lIns="0" rIns="10152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文本框 11"/>
          <p:cNvSpPr/>
          <p:nvPr/>
        </p:nvSpPr>
        <p:spPr>
          <a:xfrm>
            <a:off x="5456880" y="4355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直接连接符 12"/>
          <p:cNvCxnSpPr/>
          <p:nvPr/>
        </p:nvCxnSpPr>
        <p:spPr>
          <a:xfrm>
            <a:off x="6961680" y="3879000"/>
            <a:ext cx="762120" cy="360"/>
          </a:xfrm>
          <a:prstGeom prst="straightConnector1">
            <a:avLst/>
          </a:prstGeom>
          <a:ln w="38100">
            <a:solidFill>
              <a:srgbClr val="418ab3">
                <a:lumMod val="40000"/>
                <a:lumOff val="60000"/>
              </a:srgbClr>
            </a:solidFill>
            <a:prstDash val="sysDash"/>
          </a:ln>
        </p:spPr>
      </p:cxnSp>
      <p:cxnSp>
        <p:nvCxnSpPr>
          <p:cNvPr id="110" name="直接连接符 13"/>
          <p:cNvCxnSpPr/>
          <p:nvPr/>
        </p:nvCxnSpPr>
        <p:spPr>
          <a:xfrm>
            <a:off x="7914240" y="5631480"/>
            <a:ext cx="762120" cy="360"/>
          </a:xfrm>
          <a:prstGeom prst="straightConnector1">
            <a:avLst/>
          </a:prstGeom>
          <a:ln w="38100">
            <a:solidFill>
              <a:srgbClr val="418ab3">
                <a:lumMod val="40000"/>
                <a:lumOff val="60000"/>
              </a:srgbClr>
            </a:solidFill>
            <a:prstDash val="sysDash"/>
          </a:ln>
        </p:spPr>
      </p:cxnSp>
      <p:cxnSp>
        <p:nvCxnSpPr>
          <p:cNvPr id="111" name="直接连接符 14"/>
          <p:cNvCxnSpPr/>
          <p:nvPr/>
        </p:nvCxnSpPr>
        <p:spPr>
          <a:xfrm>
            <a:off x="3989880" y="5631480"/>
            <a:ext cx="762120" cy="360"/>
          </a:xfrm>
          <a:prstGeom prst="straightConnector1">
            <a:avLst/>
          </a:prstGeom>
          <a:ln w="38100">
            <a:solidFill>
              <a:srgbClr val="418ab3">
                <a:lumMod val="40000"/>
                <a:lumOff val="60000"/>
              </a:srgbClr>
            </a:solidFill>
            <a:prstDash val="sysDash"/>
          </a:ln>
        </p:spPr>
      </p:cxnSp>
      <p:sp>
        <p:nvSpPr>
          <p:cNvPr id="112" name="矩形 15"/>
          <p:cNvSpPr/>
          <p:nvPr/>
        </p:nvSpPr>
        <p:spPr>
          <a:xfrm>
            <a:off x="8268120" y="3437280"/>
            <a:ext cx="1857600" cy="8211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采取行为之前的环境以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行为的目的、目标和期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9550080" y="5382720"/>
            <a:ext cx="412560" cy="4554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行为、发言、举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2372040" y="5216400"/>
            <a:ext cx="1247760" cy="8211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采取了行动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环境产生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8"/>
          <p:cNvSpPr/>
          <p:nvPr/>
        </p:nvSpPr>
        <p:spPr>
          <a:xfrm>
            <a:off x="3231000" y="2085840"/>
            <a:ext cx="5765040" cy="60624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类行为的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 —— 控制结果可以强化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7"/>
          <p:cNvSpPr/>
          <p:nvPr/>
        </p:nvSpPr>
        <p:spPr>
          <a:xfrm>
            <a:off x="326160" y="505080"/>
            <a:ext cx="588312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2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之前必须先沟通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1254600" y="2630520"/>
            <a:ext cx="3054960" cy="6062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4822560" y="2630520"/>
            <a:ext cx="3049920" cy="6062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什么时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直接连接符 6"/>
          <p:cNvCxnSpPr>
            <a:stCxn id="118" idx="1"/>
            <a:endCxn id="117" idx="3"/>
          </p:cNvCxnSpPr>
          <p:nvPr/>
        </p:nvCxnSpPr>
        <p:spPr>
          <a:xfrm flipH="1">
            <a:off x="4309560" y="2936520"/>
            <a:ext cx="513360" cy="360"/>
          </a:xfrm>
          <a:prstGeom prst="straightConnector1">
            <a:avLst/>
          </a:prstGeom>
          <a:ln w="31750">
            <a:solidFill>
              <a:srgbClr val="ffffff"/>
            </a:solidFill>
            <a:prstDash val="sysDash"/>
          </a:ln>
        </p:spPr>
      </p:cxnSp>
      <p:sp>
        <p:nvSpPr>
          <p:cNvPr id="120" name="文本框 7"/>
          <p:cNvSpPr/>
          <p:nvPr/>
        </p:nvSpPr>
        <p:spPr>
          <a:xfrm>
            <a:off x="8385840" y="2630520"/>
            <a:ext cx="3049920" cy="6062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直接连接符 8"/>
          <p:cNvCxnSpPr>
            <a:stCxn id="120" idx="1"/>
            <a:endCxn id="118" idx="3"/>
          </p:cNvCxnSpPr>
          <p:nvPr/>
        </p:nvCxnSpPr>
        <p:spPr>
          <a:xfrm flipH="1">
            <a:off x="7872480" y="2936520"/>
            <a:ext cx="513360" cy="360"/>
          </a:xfrm>
          <a:prstGeom prst="straightConnector1">
            <a:avLst/>
          </a:prstGeom>
          <a:ln w="31750">
            <a:solidFill>
              <a:srgbClr val="ffffff"/>
            </a:solidFill>
            <a:prstDash val="sysDash"/>
          </a:ln>
        </p:spPr>
      </p:cxnSp>
      <p:sp>
        <p:nvSpPr>
          <p:cNvPr id="122" name="文本框 12"/>
          <p:cNvSpPr/>
          <p:nvPr/>
        </p:nvSpPr>
        <p:spPr>
          <a:xfrm>
            <a:off x="1254600" y="3243240"/>
            <a:ext cx="3054960" cy="200700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程度与离职率成反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下属的工作动机和目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互信，敞开心扉聊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3"/>
          <p:cNvSpPr/>
          <p:nvPr/>
        </p:nvSpPr>
        <p:spPr>
          <a:xfrm>
            <a:off x="4822560" y="3243240"/>
            <a:ext cx="3049920" cy="200700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~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谈话，充分聆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月几次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谈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4"/>
          <p:cNvSpPr/>
          <p:nvPr/>
        </p:nvSpPr>
        <p:spPr>
          <a:xfrm>
            <a:off x="8385840" y="3243240"/>
            <a:ext cx="3049920" cy="200700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营造气氛，不要一开口就谈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下属了解你人性化的一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谈自己的失败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弧形 11"/>
          <p:cNvSpPr/>
          <p:nvPr/>
        </p:nvSpPr>
        <p:spPr>
          <a:xfrm>
            <a:off x="-1067400" y="2155680"/>
            <a:ext cx="3739320" cy="3998520"/>
          </a:xfrm>
          <a:prstGeom prst="arc">
            <a:avLst>
              <a:gd name="adj1" fmla="val 16244425"/>
              <a:gd name="adj2" fmla="val 5348811"/>
            </a:avLst>
          </a:prstGeom>
          <a:noFill/>
          <a:ln w="31750">
            <a:solidFill>
              <a:srgbClr val="ffffff"/>
            </a:solidFill>
            <a:prstDash val="sys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内容占位符 7"/>
          <p:cNvSpPr/>
          <p:nvPr/>
        </p:nvSpPr>
        <p:spPr>
          <a:xfrm>
            <a:off x="317880" y="505080"/>
            <a:ext cx="589500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3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必须准备好教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5"/>
          <p:cNvSpPr/>
          <p:nvPr/>
        </p:nvSpPr>
        <p:spPr>
          <a:xfrm>
            <a:off x="2368080" y="2753280"/>
            <a:ext cx="8078400" cy="700560"/>
          </a:xfrm>
          <a:custGeom>
            <a:avLst/>
            <a:gdLst>
              <a:gd name="textAreaLeft" fmla="*/ 0 w 8078400"/>
              <a:gd name="textAreaRight" fmla="*/ 8078760 w 8078400"/>
              <a:gd name="textAreaTop" fmla="*/ 0 h 700560"/>
              <a:gd name="textAreaBottom" fmla="*/ 700920 h 700560"/>
            </a:gdLst>
            <a:ahLst/>
            <a:rect l="textAreaLeft" t="textAreaTop" r="textAreaRight" b="textAreaBottom"/>
            <a:pathLst>
              <a:path w="6076548" h="700798">
                <a:moveTo>
                  <a:pt x="0" y="0"/>
                </a:moveTo>
                <a:lnTo>
                  <a:pt x="6076548" y="0"/>
                </a:lnTo>
                <a:lnTo>
                  <a:pt x="6076548" y="700798"/>
                </a:lnTo>
                <a:lnTo>
                  <a:pt x="0" y="700798"/>
                </a:lnTo>
                <a:lnTo>
                  <a:pt x="0" y="0"/>
                </a:lnTo>
                <a:close/>
              </a:path>
            </a:pathLst>
          </a:custGeom>
          <a:solidFill>
            <a:srgbClr val="418ab3"/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981"/>
              </a:spcAft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将教的内容分为知识和技术，列出详细清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6"/>
          <p:cNvSpPr/>
          <p:nvPr/>
        </p:nvSpPr>
        <p:spPr>
          <a:xfrm>
            <a:off x="1929960" y="2665800"/>
            <a:ext cx="875520" cy="87552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7"/>
          <p:cNvSpPr/>
          <p:nvPr/>
        </p:nvSpPr>
        <p:spPr>
          <a:xfrm>
            <a:off x="2622600" y="3804480"/>
            <a:ext cx="7823520" cy="700560"/>
          </a:xfrm>
          <a:custGeom>
            <a:avLst/>
            <a:gdLst>
              <a:gd name="textAreaLeft" fmla="*/ 0 w 7823520"/>
              <a:gd name="textAreaRight" fmla="*/ 7823880 w 7823520"/>
              <a:gd name="textAreaTop" fmla="*/ 0 h 700560"/>
              <a:gd name="textAreaBottom" fmla="*/ 700920 h 700560"/>
            </a:gdLst>
            <a:ahLst/>
            <a:rect l="textAreaLeft" t="textAreaTop" r="textAreaRight" b="textAreaBottom"/>
            <a:pathLst>
              <a:path w="5821808" h="700798">
                <a:moveTo>
                  <a:pt x="0" y="0"/>
                </a:moveTo>
                <a:lnTo>
                  <a:pt x="5821808" y="0"/>
                </a:lnTo>
                <a:lnTo>
                  <a:pt x="5821808" y="700798"/>
                </a:lnTo>
                <a:lnTo>
                  <a:pt x="0" y="700798"/>
                </a:lnTo>
                <a:lnTo>
                  <a:pt x="0" y="0"/>
                </a:lnTo>
                <a:close/>
              </a:path>
            </a:pathLst>
          </a:custGeom>
          <a:solidFill>
            <a:srgbClr val="418ab3"/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981"/>
              </a:spcAft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归纳优秀员工行为的共同点，列出清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8"/>
          <p:cNvSpPr/>
          <p:nvPr/>
        </p:nvSpPr>
        <p:spPr>
          <a:xfrm>
            <a:off x="2184840" y="3717000"/>
            <a:ext cx="875520" cy="87552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9"/>
          <p:cNvSpPr/>
          <p:nvPr/>
        </p:nvSpPr>
        <p:spPr>
          <a:xfrm>
            <a:off x="2368080" y="4855680"/>
            <a:ext cx="8078400" cy="700560"/>
          </a:xfrm>
          <a:custGeom>
            <a:avLst/>
            <a:gdLst>
              <a:gd name="textAreaLeft" fmla="*/ 0 w 8078400"/>
              <a:gd name="textAreaRight" fmla="*/ 8078760 w 8078400"/>
              <a:gd name="textAreaTop" fmla="*/ 0 h 700560"/>
              <a:gd name="textAreaBottom" fmla="*/ 700920 h 700560"/>
            </a:gdLst>
            <a:ahLst/>
            <a:rect l="textAreaLeft" t="textAreaTop" r="textAreaRight" b="textAreaBottom"/>
            <a:pathLst>
              <a:path w="6076548" h="700798">
                <a:moveTo>
                  <a:pt x="0" y="0"/>
                </a:moveTo>
                <a:lnTo>
                  <a:pt x="6076548" y="0"/>
                </a:lnTo>
                <a:lnTo>
                  <a:pt x="6076548" y="700798"/>
                </a:lnTo>
                <a:lnTo>
                  <a:pt x="0" y="700798"/>
                </a:lnTo>
                <a:lnTo>
                  <a:pt x="0" y="0"/>
                </a:lnTo>
                <a:close/>
              </a:path>
            </a:pathLst>
          </a:custGeom>
          <a:solidFill>
            <a:srgbClr val="418ab3"/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981"/>
              </a:spcAft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对照清单，注意确认，检查下属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0"/>
          <p:cNvSpPr/>
          <p:nvPr/>
        </p:nvSpPr>
        <p:spPr>
          <a:xfrm>
            <a:off x="1929960" y="4768200"/>
            <a:ext cx="875520" cy="87552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2"/>
          <p:cNvSpPr/>
          <p:nvPr/>
        </p:nvSpPr>
        <p:spPr>
          <a:xfrm>
            <a:off x="2148840" y="2780640"/>
            <a:ext cx="4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3"/>
          <p:cNvSpPr/>
          <p:nvPr/>
        </p:nvSpPr>
        <p:spPr>
          <a:xfrm>
            <a:off x="2367000" y="3831840"/>
            <a:ext cx="4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4"/>
          <p:cNvSpPr/>
          <p:nvPr/>
        </p:nvSpPr>
        <p:spPr>
          <a:xfrm>
            <a:off x="2139840" y="4883040"/>
            <a:ext cx="4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7"/>
          <p:cNvSpPr/>
          <p:nvPr/>
        </p:nvSpPr>
        <p:spPr>
          <a:xfrm>
            <a:off x="326160" y="505080"/>
            <a:ext cx="434304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目标必须合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56574680"/>
              </p:ext>
            </p:extLst>
          </p:nvPr>
        </p:nvGraphicFramePr>
        <p:xfrm>
          <a:off x="2347560" y="2310840"/>
          <a:ext cx="7096320" cy="339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37" name="组合 16"/>
          <p:cNvGrpSpPr/>
          <p:nvPr/>
        </p:nvGrpSpPr>
        <p:grpSpPr>
          <a:xfrm>
            <a:off x="4889160" y="4968360"/>
            <a:ext cx="4518000" cy="653400"/>
            <a:chOff x="4889160" y="4968360"/>
            <a:chExt cx="4518000" cy="653400"/>
          </a:xfrm>
        </p:grpSpPr>
        <p:sp>
          <p:nvSpPr>
            <p:cNvPr id="138" name="同侧圆角矩形 17"/>
            <p:cNvSpPr/>
            <p:nvPr/>
          </p:nvSpPr>
          <p:spPr>
            <a:xfrm rot="5400000">
              <a:off x="6821280" y="3035880"/>
              <a:ext cx="653400" cy="4518000"/>
            </a:xfrm>
            <a:prstGeom prst="round2SameRect">
              <a:avLst>
                <a:gd name="adj1" fmla="val 16667"/>
                <a:gd name="adj2" fmla="val 0"/>
              </a:avLst>
            </a:prstGeom>
            <a:noFill/>
            <a:ln w="31750">
              <a:solidFill>
                <a:srgbClr val="ffffff"/>
              </a:solidFill>
              <a:prstDash val="sysDash"/>
            </a:ln>
          </p:spPr>
          <p:style>
            <a:lnRef idx="2"/>
            <a:fillRef idx="0"/>
            <a:effectRef idx="0">
              <a:schemeClr val="l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同侧圆角矩形 4"/>
            <p:cNvSpPr/>
            <p:nvPr/>
          </p:nvSpPr>
          <p:spPr>
            <a:xfrm>
              <a:off x="4889160" y="5000400"/>
              <a:ext cx="44859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47680" rIns="247680" tIns="123840" bIns="1238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420"/>
                </a:spcAft>
                <a:buClr>
                  <a:srgbClr val="ffffff"/>
                </a:buClr>
                <a:buFont typeface="Symbol" charset="2"/>
                <a:buChar char=""/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循序渐进地增加难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内容占位符 7"/>
          <p:cNvSpPr/>
          <p:nvPr/>
        </p:nvSpPr>
        <p:spPr>
          <a:xfrm>
            <a:off x="326160" y="505080"/>
            <a:ext cx="434304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导必须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2316240" y="2276640"/>
            <a:ext cx="7127640" cy="33066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63600">
              <a:lnSpc>
                <a:spcPct val="150000"/>
              </a:lnSpc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1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以具体的语言指示或指导下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具体告知下属应该采取的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3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将上级抽象的指示具体传达给下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4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经常说的话要能转化成具体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7"/>
          <p:cNvSpPr/>
          <p:nvPr/>
        </p:nvSpPr>
        <p:spPr>
          <a:xfrm>
            <a:off x="326160" y="505080"/>
            <a:ext cx="434304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6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结果必须落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"/>
          <p:cNvSpPr/>
          <p:nvPr/>
        </p:nvSpPr>
        <p:spPr>
          <a:xfrm>
            <a:off x="2497680" y="2972160"/>
            <a:ext cx="7835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解 ≠ 实际做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7"/>
          <p:cNvSpPr/>
          <p:nvPr/>
        </p:nvSpPr>
        <p:spPr>
          <a:xfrm>
            <a:off x="326160" y="505080"/>
            <a:ext cx="8942760" cy="907560"/>
          </a:xfrm>
          <a:prstGeom prst="rect">
            <a:avLst/>
          </a:prstGeom>
          <a:solidFill>
            <a:srgbClr val="27536b"/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7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必须及时给予反馈——称赞和训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1536120" y="2276640"/>
            <a:ext cx="4319640" cy="6062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6344280" y="2276640"/>
            <a:ext cx="4319640" cy="6062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如何反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"/>
          <p:cNvSpPr/>
          <p:nvPr/>
        </p:nvSpPr>
        <p:spPr>
          <a:xfrm>
            <a:off x="1536120" y="2889000"/>
            <a:ext cx="4319640" cy="266004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称赞：人人都希望得到认可，认可能强化正确行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训斥：训斥但不能生气，训斥可以纠正错误行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是负责称赞（训斥）的人是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9"/>
          <p:cNvSpPr/>
          <p:nvPr/>
        </p:nvSpPr>
        <p:spPr>
          <a:xfrm>
            <a:off x="6344280" y="2889000"/>
            <a:ext cx="4319640" cy="2660040"/>
          </a:xfrm>
          <a:prstGeom prst="rect">
            <a:avLst/>
          </a:prstGeom>
          <a:noFill/>
          <a:ln w="3175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事论事，莫论品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称赞：循序渐进地增加工作难度，利用成功经验增强员工自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训斥：着眼于行为，不要贬损员工的品性，并提供诚恳的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37160" y="62694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59e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418ab3"/>
      </a:accent1>
      <a:accent2>
        <a:srgbClr val="a6b727"/>
      </a:accent2>
      <a:accent3>
        <a:srgbClr val="f69200"/>
      </a:accent3>
      <a:accent4>
        <a:srgbClr val="838383"/>
      </a:accent4>
      <a:accent5>
        <a:srgbClr val="fec306"/>
      </a:accent5>
      <a:accent6>
        <a:srgbClr val="df5327"/>
      </a:accent6>
      <a:hlink>
        <a:srgbClr val="f59e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418ab3"/>
      </a:accent1>
      <a:accent2>
        <a:srgbClr val="a6b727"/>
      </a:accent2>
      <a:accent3>
        <a:srgbClr val="f69200"/>
      </a:accent3>
      <a:accent4>
        <a:srgbClr val="838383"/>
      </a:accent4>
      <a:accent5>
        <a:srgbClr val="fec306"/>
      </a:accent5>
      <a:accent6>
        <a:srgbClr val="df5327"/>
      </a:accent6>
      <a:hlink>
        <a:srgbClr val="f59e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  <Words>534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39:46Z</dcterms:created>
  <dc:creator>cui runze</dc:creator>
  <dc:description/>
  <dc:language>en-US</dc:language>
  <cp:lastModifiedBy>王玉清</cp:lastModifiedBy>
  <dcterms:modified xsi:type="dcterms:W3CDTF">2016-03-01T07:28:17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