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EE7-0AD5-46C3-ADAA-37EDA96B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8DB-0539-41FE-B9B1-12ACB0FD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520-94B0-4013-8EAF-78F5DDC7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378-1C54-4500-BE60-67B2DB96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47F4-38CA-4F64-9F9D-3A795E4C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B352-B232-4C21-A1A1-F44C68A5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6D95-75A1-4489-A76E-FCAFFF1C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4825-1697-45A9-AF7D-0329BDA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20EA-5ED6-4457-91C7-FA4F8D9A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7E78-EF16-4A78-BB38-96425564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7105-F906-4A62-AD6E-D720F1D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03C-7691-41A9-94A8-58E30AC6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F3F6-0C64-48F4-A970-A6781698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51FA-5550-4789-9D8E-BAF3D625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BFF6-D18A-4A77-8AC8-EB3F6F16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BE3B-8E58-4D10-84E1-B0A9DB41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F4DD-2C35-4B98-8528-5A805146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469F-BE10-46FF-A0A6-D60D47BF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B9B3-54DF-468B-BE17-D302009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A658-E28A-43F2-B9E5-D6E73E09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1B4E-742D-48EF-854B-3B9648CF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93A7-5101-4D04-9BAE-4882256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DAE-34DC-40DA-839D-522480B5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BFB1-ECA0-4107-8BDF-07FDE07E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046A-B823-494C-9254-8F12A37C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E012-AC16-4F0B-9376-6CF463D3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53D5-562F-4A80-9067-C3AE2838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2825-59D0-4E67-85DF-56F29B97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598E-081F-4138-94C6-42CA9CBF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E1E3-F006-4727-A05A-184E6C87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9EA-4571-48C6-B59C-0B8D091A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598-1470-49EA-B585-6C84C854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438-F168-4079-BEC5-D7C45BD9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A59-B279-41F3-BBFE-60FCCDE1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87D-DD71-4A85-B47F-A42A3EB6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CB4-F066-4C8E-862D-28C563E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rbeil"/>
          <p:cNvPicPr/>
          <p:nvPr/>
        </p:nvPicPr>
        <p:blipFill>
          <a:blip r:embed="rId2">
            <a:lum bright="6000"/>
          </a:blip>
          <a:srcRect l="0" t="0" r="0" b="72674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CABE-32BA-4C10-978D-50FE6E66448A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orbeil"/>
          <p:cNvPicPr/>
          <p:nvPr/>
        </p:nvPicPr>
        <p:blipFill>
          <a:blip r:embed="rId4"/>
          <a:srcRect l="32999" t="32000" r="0" b="0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71E4-AD68-4367-A61A-36BE74D05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rbeil"/>
          <p:cNvPicPr/>
          <p:nvPr/>
        </p:nvPicPr>
        <p:blipFill>
          <a:blip r:embed="rId2">
            <a:lum bright="6000"/>
          </a:blip>
          <a:srcRect l="0" t="0" r="0" b="6667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9" name="Picture 4" descr="corbeil"/>
          <p:cNvPicPr/>
          <p:nvPr/>
        </p:nvPicPr>
        <p:blipFill>
          <a:blip r:embed="rId3"/>
          <a:srcRect l="0" t="36000" r="42004" b="0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27"/>
          <p:cNvSpPr/>
          <p:nvPr/>
        </p:nvSpPr>
        <p:spPr>
          <a:xfrm rot="16200000">
            <a:off x="566640" y="-567000"/>
            <a:ext cx="1152360" cy="22860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Freeform 27"/>
          <p:cNvSpPr/>
          <p:nvPr/>
        </p:nvSpPr>
        <p:spPr>
          <a:xfrm rot="5400000">
            <a:off x="5705280" y="3419280"/>
            <a:ext cx="2305080" cy="457200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F15C-515B-49F8-9AB9-BD9C0BF600D0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899172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icrosoft JhengHei"/>
              </a:rPr>
              <a:t>静怡淡雅绿背景通用</a:t>
            </a:r>
            <a:r>
              <a:rPr b="1" lang="en-US" sz="4000" spc="-1" strike="noStrike">
                <a:solidFill>
                  <a:srgbClr val="000000"/>
                </a:solidFill>
                <a:latin typeface="Microsoft JhengHe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724280" y="6095520"/>
            <a:ext cx="4191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ea</a:t>
            </a:r>
            <a:endParaRPr b="0" lang="en-US" sz="1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DACB-9BD4-43EC-B42E-C9D43EFFC94E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054080" y="3382920"/>
            <a:ext cx="7276680" cy="356040"/>
            <a:chOff x="1054080" y="3382920"/>
            <a:chExt cx="7276680" cy="356040"/>
          </a:xfrm>
        </p:grpSpPr>
        <p:sp>
          <p:nvSpPr>
            <p:cNvPr id="141" name="Text Box 3"/>
            <p:cNvSpPr/>
            <p:nvPr/>
          </p:nvSpPr>
          <p:spPr>
            <a:xfrm>
              <a:off x="1164600" y="3444120"/>
              <a:ext cx="701028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作品进行署名</a:t>
              </a:r>
              <a:r>
                <a:rPr b="0" lang="en-US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;</a:t>
              </a:r>
              <a:r>
                <a:rPr b="0" lang="zh-CN" sz="1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不得以盈利为目的对本模板进行出售、收费下载或者做非实质性改动之后进行类似的行为。</a:t>
              </a:r>
              <a:endParaRPr b="0" lang="en-US" sz="11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>
              <a:off x="1054080" y="338292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43" name="Text Box 5"/>
          <p:cNvSpPr/>
          <p:nvPr/>
        </p:nvSpPr>
        <p:spPr>
          <a:xfrm>
            <a:off x="34920" y="298440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作者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Rhea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玉清</cp:lastModifiedBy>
  <dcterms:modified xsi:type="dcterms:W3CDTF">2016-02-24T02:56:56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