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2BC-9789-4D18-BA38-4889B87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508-EDD5-418F-999E-2D4A3E35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489-9AC1-41F0-A4A0-D15753FA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B2A-5A59-4B03-9E28-0987603B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748-844A-4D9F-A0A3-FEA54514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96A-77BD-4A77-A2B3-E8DE14F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B9E-384B-4B4C-84BE-D78586AB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0E3-3DD6-464F-932B-4C93EB4C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B01-BF82-4380-9FB3-B8E1E381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262-A3E4-4B3C-9E7F-BD4D0B8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AC3-69B9-4EDE-AD8D-70E7C84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285-D1C7-4C92-99AD-97F5E90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E609-06E0-4455-94EC-2DAEF9327E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D21A-B538-490D-A2E4-14DDDA1513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2597040" y="1763640"/>
            <a:ext cx="5991480" cy="9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437000" y="4462560"/>
            <a:ext cx="4151520" cy="120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111480" y="2625840"/>
            <a:ext cx="549288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697200" y="3559320"/>
            <a:ext cx="4891320" cy="90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28960" y="2627280"/>
            <a:ext cx="5659560" cy="360"/>
            <a:chOff x="2928960" y="2627280"/>
            <a:chExt cx="5659560" cy="360"/>
          </a:xfrm>
        </p:grpSpPr>
        <p:sp>
          <p:nvSpPr>
            <p:cNvPr id="47" name="Line 6"/>
            <p:cNvSpPr/>
            <p:nvPr/>
          </p:nvSpPr>
          <p:spPr>
            <a:xfrm>
              <a:off x="2928960" y="2627280"/>
              <a:ext cx="565956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928960" y="2627280"/>
              <a:ext cx="5659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97200" y="3559320"/>
            <a:ext cx="4891320" cy="360"/>
            <a:chOff x="3697200" y="3559320"/>
            <a:chExt cx="4891320" cy="360"/>
          </a:xfrm>
        </p:grpSpPr>
        <p:sp>
          <p:nvSpPr>
            <p:cNvPr id="50" name="Line 7"/>
            <p:cNvSpPr/>
            <p:nvPr/>
          </p:nvSpPr>
          <p:spPr>
            <a:xfrm>
              <a:off x="3697200" y="3559320"/>
              <a:ext cx="489132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697200" y="3559320"/>
              <a:ext cx="4891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286160" y="4464000"/>
            <a:ext cx="4302360" cy="360"/>
            <a:chOff x="4286160" y="4464000"/>
            <a:chExt cx="4302360" cy="360"/>
          </a:xfrm>
        </p:grpSpPr>
        <p:sp>
          <p:nvSpPr>
            <p:cNvPr id="53" name="Line 8"/>
            <p:cNvSpPr/>
            <p:nvPr/>
          </p:nvSpPr>
          <p:spPr>
            <a:xfrm>
              <a:off x="4286160" y="4464000"/>
              <a:ext cx="430236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286160" y="4464000"/>
              <a:ext cx="430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9760" y="5668920"/>
            <a:ext cx="8078760" cy="360"/>
            <a:chOff x="509760" y="5668920"/>
            <a:chExt cx="8078760" cy="360"/>
          </a:xfrm>
        </p:grpSpPr>
        <p:sp>
          <p:nvSpPr>
            <p:cNvPr id="56" name="Line 9"/>
            <p:cNvSpPr/>
            <p:nvPr/>
          </p:nvSpPr>
          <p:spPr>
            <a:xfrm>
              <a:off x="509760" y="5668920"/>
              <a:ext cx="807876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509760" y="5668920"/>
              <a:ext cx="8078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0"/>
          <p:cNvSpPr/>
          <p:nvPr/>
        </p:nvSpPr>
        <p:spPr>
          <a:xfrm>
            <a:off x="4244400" y="4819680"/>
            <a:ext cx="51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661560" y="3765600"/>
            <a:ext cx="497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127680" y="2932200"/>
            <a:ext cx="51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464200" y="1965240"/>
            <a:ext cx="510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509760" y="1197000"/>
            <a:ext cx="4677840" cy="4476240"/>
            <a:chOff x="509760" y="1197000"/>
            <a:chExt cx="4677840" cy="4476240"/>
          </a:xfrm>
        </p:grpSpPr>
        <p:grpSp>
          <p:nvGrpSpPr>
            <p:cNvPr id="63" name="Group 15"/>
            <p:cNvGrpSpPr/>
            <p:nvPr/>
          </p:nvGrpSpPr>
          <p:grpSpPr>
            <a:xfrm>
              <a:off x="509760" y="4169160"/>
              <a:ext cx="4677840" cy="1504080"/>
              <a:chOff x="509760" y="4169160"/>
              <a:chExt cx="4677840" cy="1504080"/>
            </a:xfrm>
          </p:grpSpPr>
          <p:sp>
            <p:nvSpPr>
              <p:cNvPr id="64" name="Freeform 16"/>
              <p:cNvSpPr/>
              <p:nvPr/>
            </p:nvSpPr>
            <p:spPr>
              <a:xfrm>
                <a:off x="975600" y="4169160"/>
                <a:ext cx="3601440" cy="540360"/>
              </a:xfrm>
              <a:prstGeom prst="pie">
                <a:avLst/>
              </a:prstGeom>
              <a:solidFill>
                <a:srgbClr val="538cd5"/>
              </a:solidFill>
              <a:ln cap="rnd" w="3240">
                <a:solidFill>
                  <a:srgbClr val="c5d8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509760" y="4704840"/>
                <a:ext cx="4172040" cy="963360"/>
              </a:xfrm>
              <a:prstGeom prst="pie">
                <a:avLst/>
              </a:prstGeom>
              <a:solidFill>
                <a:srgbClr val="538cd5"/>
              </a:solidFill>
              <a:ln cap="rnd" w="3240">
                <a:solidFill>
                  <a:srgbClr val="c5d8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4190400" y="4178160"/>
                <a:ext cx="997200" cy="1495080"/>
              </a:xfrm>
              <a:prstGeom prst="pie">
                <a:avLst/>
              </a:prstGeom>
              <a:solidFill>
                <a:srgbClr val="538cd5"/>
              </a:solidFill>
              <a:ln cap="rnd" w="3240">
                <a:solidFill>
                  <a:srgbClr val="c5d8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9"/>
            <p:cNvGrpSpPr/>
            <p:nvPr/>
          </p:nvGrpSpPr>
          <p:grpSpPr>
            <a:xfrm>
              <a:off x="1011600" y="3365640"/>
              <a:ext cx="3480840" cy="1193040"/>
              <a:chOff x="1011600" y="3365640"/>
              <a:chExt cx="3480840" cy="1193040"/>
            </a:xfrm>
          </p:grpSpPr>
          <p:sp>
            <p:nvSpPr>
              <p:cNvPr id="68" name="Freeform 20"/>
              <p:cNvSpPr/>
              <p:nvPr/>
            </p:nvSpPr>
            <p:spPr>
              <a:xfrm>
                <a:off x="1358280" y="3365640"/>
                <a:ext cx="267984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1"/>
              <p:cNvSpPr/>
              <p:nvPr/>
            </p:nvSpPr>
            <p:spPr>
              <a:xfrm>
                <a:off x="1011600" y="3790800"/>
                <a:ext cx="3104640" cy="764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2"/>
              <p:cNvSpPr/>
              <p:nvPr/>
            </p:nvSpPr>
            <p:spPr>
              <a:xfrm>
                <a:off x="3750480" y="3372840"/>
                <a:ext cx="741960" cy="118584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1406160" y="2649240"/>
              <a:ext cx="2570040" cy="1038600"/>
              <a:chOff x="1406160" y="2649240"/>
              <a:chExt cx="2570040" cy="1038600"/>
            </a:xfrm>
          </p:grpSpPr>
          <p:sp>
            <p:nvSpPr>
              <p:cNvPr id="72" name="Freeform 24"/>
              <p:cNvSpPr/>
              <p:nvPr/>
            </p:nvSpPr>
            <p:spPr>
              <a:xfrm>
                <a:off x="3349800" y="2649240"/>
                <a:ext cx="626400" cy="1038600"/>
              </a:xfrm>
              <a:prstGeom prst="pie">
                <a:avLst/>
              </a:pr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5"/>
              <p:cNvSpPr/>
              <p:nvPr/>
            </p:nvSpPr>
            <p:spPr>
              <a:xfrm>
                <a:off x="1740960" y="2649240"/>
                <a:ext cx="1797840" cy="28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1406160" y="2929320"/>
                <a:ext cx="2313360" cy="752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27"/>
            <p:cNvGrpSpPr/>
            <p:nvPr/>
          </p:nvGrpSpPr>
          <p:grpSpPr>
            <a:xfrm>
              <a:off x="1788840" y="1917000"/>
              <a:ext cx="1678320" cy="912960"/>
              <a:chOff x="1788840" y="1917000"/>
              <a:chExt cx="1678320" cy="912960"/>
            </a:xfrm>
          </p:grpSpPr>
          <p:sp>
            <p:nvSpPr>
              <p:cNvPr id="76" name="Freeform 28"/>
              <p:cNvSpPr/>
              <p:nvPr/>
            </p:nvSpPr>
            <p:spPr>
              <a:xfrm>
                <a:off x="2141280" y="1923120"/>
                <a:ext cx="887040" cy="14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9"/>
              <p:cNvSpPr/>
              <p:nvPr/>
            </p:nvSpPr>
            <p:spPr>
              <a:xfrm>
                <a:off x="1788840" y="2065320"/>
                <a:ext cx="1504080" cy="76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0"/>
              <p:cNvSpPr/>
              <p:nvPr/>
            </p:nvSpPr>
            <p:spPr>
              <a:xfrm>
                <a:off x="2935440" y="1917000"/>
                <a:ext cx="531720" cy="907200"/>
              </a:xfrm>
              <a:prstGeom prst="pie">
                <a:avLst/>
              </a:pr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1"/>
            <p:cNvGrpSpPr/>
            <p:nvPr/>
          </p:nvGrpSpPr>
          <p:grpSpPr>
            <a:xfrm>
              <a:off x="2182320" y="1197000"/>
              <a:ext cx="780840" cy="763200"/>
              <a:chOff x="2182320" y="1197000"/>
              <a:chExt cx="780840" cy="763200"/>
            </a:xfrm>
          </p:grpSpPr>
          <p:sp>
            <p:nvSpPr>
              <p:cNvPr id="80" name="Freeform 32"/>
              <p:cNvSpPr/>
              <p:nvPr/>
            </p:nvSpPr>
            <p:spPr>
              <a:xfrm>
                <a:off x="2182320" y="1197000"/>
                <a:ext cx="714960" cy="763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3"/>
              <p:cNvSpPr/>
              <p:nvPr/>
            </p:nvSpPr>
            <p:spPr>
              <a:xfrm>
                <a:off x="2521800" y="1197000"/>
                <a:ext cx="441360" cy="759600"/>
              </a:xfrm>
              <a:prstGeom prst="pie">
                <a:avLst/>
              </a:pr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 Box 34"/>
          <p:cNvSpPr/>
          <p:nvPr/>
        </p:nvSpPr>
        <p:spPr>
          <a:xfrm>
            <a:off x="877320" y="3141720"/>
            <a:ext cx="3417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1111680" y="2162160"/>
            <a:ext cx="2908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1244520" y="5048280"/>
            <a:ext cx="2741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1244520" y="4024440"/>
            <a:ext cx="259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6360" y="44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字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470-B28A-4882-B939-27A65408DD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0:38Z</dcterms:modified>
  <cp:revision>7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