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6D60-FB4C-40E6-8EB9-C8A2B097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3391-1EE8-4D65-9AFE-184C1611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BDA8-A0A2-47FD-B7DB-8F6DDC27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C253-3320-4C28-8154-1BC6ED25C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8C8-E3C5-4240-B56A-5EEE3B4E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29D-CC12-4709-B732-3FC058F9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FCF6-D321-46E9-B85F-B762F0B3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6C88-4B10-43D6-A917-2D6A8655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2B2C-8B5B-4463-8BEC-B6CDFB09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675-6AE3-4A44-BD4F-7EEFFF60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2E1-032D-4624-8792-91B25B99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3DB-83E4-42F8-8374-32835677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1B70-B562-4B39-8E92-A088A925B60A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24000" y="764640"/>
            <a:ext cx="946800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61645"/>
                </a:solidFill>
                <a:latin typeface="Arial"/>
                <a:ea typeface="宋体"/>
              </a:rPr>
              <a:t>可爱的矢量卡通猪通用</a:t>
            </a:r>
            <a:r>
              <a:rPr b="1" lang="en-US" sz="4000" spc="-1" strike="noStrike">
                <a:solidFill>
                  <a:srgbClr val="161645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161645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2"/>
          <p:cNvSpPr/>
          <p:nvPr/>
        </p:nvSpPr>
        <p:spPr>
          <a:xfrm>
            <a:off x="5076720" y="1557360"/>
            <a:ext cx="367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161645"/>
                </a:solidFill>
                <a:latin typeface="Arial"/>
                <a:ea typeface="宋体"/>
              </a:rPr>
              <a:t>Subheading goes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王玉清</cp:lastModifiedBy>
  <dcterms:modified xsi:type="dcterms:W3CDTF">2016-03-02T10:27:26Z</dcterms:modified>
  <cp:revision>711</cp:revision>
  <dc:subject/>
  <dc:title>Diapositiva 1</dc:title>
</cp:coreProperties>
</file>