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8EA8-BE7B-4885-B8A2-DFBBAEDD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A42B-2321-48BC-8CEE-5FFB298D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5A38-2705-4D36-AD48-21D3C09B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3252-DF51-4E4B-9BB6-A737CA402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B2DD-4113-4F72-88A1-063FF9775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CE41-E3CC-4D6E-A0AC-5A251009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BD75-A2F3-4316-A797-303B126A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8D6F-7056-46C8-8EEC-37486EA2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ADAB-A8D5-4797-8E9A-C668FFE5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6192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F29E-10F4-41DC-9C09-AE208D5A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C14E-7B2D-4122-B6FE-F0A1747C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87A7-7451-4751-935D-9FADAB9B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4E33-4574-48CB-977C-47BFA227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5840-DD68-4BEF-8569-6AAB8F36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5D70-C895-40CC-B329-7034B432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448B-FD04-4443-BEB9-0325AA96F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9247-BE2E-4BBE-99B9-CAF3BFF2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C1E6-15C6-40EF-8DE9-C47F4D4D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29B9-5F8B-4385-A2DD-027E725E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B02E-B5DD-4D51-8899-1831FF2A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6192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541D-02CF-4308-AD77-BAF06748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E6A0-367F-483D-84D4-1F33CCFE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F23F-A2F4-4382-8F8B-F8D2FC64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3A43-2223-4F27-A9B6-D0FCAAD9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59640" y="260280"/>
            <a:ext cx="2232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0920" y="6337440"/>
            <a:ext cx="504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08360" y="6341760"/>
            <a:ext cx="158436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A2EA-2D0B-45CF-98D8-DAFCCFFC142C}" type="slidenum"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68000" y="188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700000" y="188640"/>
            <a:ext cx="453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308720" y="188640"/>
            <a:ext cx="1486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E00B-CAA4-4EDD-B295-9A7D9D3CB881}" type="slidenum"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468360" y="1341360"/>
            <a:ext cx="9360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汉真广标"/>
                <a:ea typeface="汉真广标"/>
              </a:rPr>
              <a:t>可爱维尼小熊玩具通用</a:t>
            </a:r>
            <a:r>
              <a:rPr b="0" lang="en-US" sz="4000" spc="-1" strike="noStrike">
                <a:solidFill>
                  <a:srgbClr val="800000"/>
                </a:solidFill>
                <a:latin typeface="汉真广标"/>
                <a:ea typeface="汉真广标"/>
              </a:rPr>
              <a:t>PPT</a:t>
            </a:r>
            <a:r>
              <a:rPr b="0" lang="zh-CN" sz="4000" spc="-1" strike="noStrike">
                <a:solidFill>
                  <a:srgbClr val="800000"/>
                </a:solidFill>
                <a:latin typeface="汉真广标"/>
                <a:ea typeface="汉真广标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755640" y="6627960"/>
            <a:ext cx="690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4:18:59Z</dcterms:created>
  <dc:creator>Alexey</dc:creator>
  <dc:description/>
  <dc:language>en-US</dc:language>
  <cp:lastModifiedBy>王玉清</cp:lastModifiedBy>
  <dcterms:modified xsi:type="dcterms:W3CDTF">2016-02-20T03:19:53Z</dcterms:modified>
  <cp:revision>15</cp:revision>
  <dc:subject/>
  <dc:title>Слайд 1</dc:title>
</cp:coreProperties>
</file>