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092-591A-41BF-9B22-2E4FD07D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9228-9293-4DCC-A7BF-AC2C97AD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80D-7CE0-4962-872C-CD354AA8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8A10-E620-44CC-A0BF-D78EFA27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003-3C54-4BB0-AD78-AC6CD7FD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F57B-A643-41BD-B517-B8CCA8F1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08A2-8758-4630-A974-FB6FA97D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2E6-2804-4FBB-A5B7-A72C97EF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2C8-52D2-4430-B3C3-C289A24E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52D-A417-4593-81EA-DD7C20F0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54FE-B13C-43CD-9A90-C2BF51C6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EC2E-3E93-4E10-8948-AED1F5BD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CE86-294C-442C-A212-37EE02B78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7560" y="121932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科技创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426708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86200" y="3098880"/>
            <a:ext cx="20574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谢谢！</a:t>
            </a:r>
            <a:endParaRPr b="0" lang="en-US" sz="5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7A76-CFF0-4BAF-B2D4-3663F440C5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1T09:03:5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3:21:04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e601000000000001024140</vt:lpwstr>
  </property>
  <property fmtid="{D5CDD505-2E9C-101B-9397-08002B2CF9AE}" pid="4" name="Version">
    <vt:r8>1</vt:r8>
  </property>
</Properties>
</file>