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BBB-0B90-41FE-A3C2-C53D538D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E854-55F0-486A-94FB-5D43AC46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8A5-D620-4C7A-B57E-61686EC3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444-52BE-47AB-86C7-EDBC811E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DB3-7DB2-4C87-8DB6-9D06CF4D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CE8E-92A2-462A-85F6-884C9F8F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BD4-FE50-4666-B1A9-ABA96AFF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4471-144C-4CF8-B22D-B192BA0CD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D50-9F38-4CDE-BD02-3573FDF1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910-F2DD-42E3-8340-3CC5738A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43D-ACF6-4289-8254-B1F4DB22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DD9-D0A0-4B12-8495-C9330868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B1DB-1DD4-475B-8B24-1E0EF70EB5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64c6c50c7f21dd78d543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755640" y="323532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Arial"/>
                <a:ea typeface="微软雅黑"/>
              </a:rPr>
              <a:t>卡通小熊通用</a:t>
            </a:r>
            <a:r>
              <a:rPr b="0" lang="en-US" sz="4000" spc="-1" strike="noStrike">
                <a:solidFill>
                  <a:srgbClr val="006699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6699"/>
                </a:solidFill>
                <a:latin typeface="Arial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"/>
          <p:cNvSpPr/>
          <p:nvPr/>
        </p:nvSpPr>
        <p:spPr>
          <a:xfrm>
            <a:off x="2968560" y="3259080"/>
            <a:ext cx="32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064c6c50c7f21dd78d543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66cc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064c6c50c7f21dd78d543059"/>
          <p:cNvPicPr/>
          <p:nvPr/>
        </p:nvPicPr>
        <p:blipFill>
          <a:blip r:embed="rId1"/>
          <a:stretch/>
        </p:blipFill>
        <p:spPr>
          <a:xfrm>
            <a:off x="0" y="-20520"/>
            <a:ext cx="9142560" cy="6851520"/>
          </a:xfrm>
          <a:prstGeom prst="rect">
            <a:avLst/>
          </a:prstGeom>
          <a:ln w="0">
            <a:noFill/>
          </a:ln>
        </p:spPr>
      </p:pic>
      <p:sp>
        <p:nvSpPr>
          <p:cNvPr id="51" name="WordArt 3"/>
          <p:cNvSpPr txBox="1"/>
          <p:nvPr/>
        </p:nvSpPr>
        <p:spPr>
          <a:xfrm>
            <a:off x="3348000" y="1844640"/>
            <a:ext cx="2305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The End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4:50:21Z</dcterms:created>
  <dc:creator>Administrator</dc:creator>
  <dc:description/>
  <dc:language>en-US</dc:language>
  <cp:lastModifiedBy>王玉清</cp:lastModifiedBy>
  <cp:lastPrinted>1899-12-30T00:00:00Z</cp:lastPrinted>
  <dcterms:modified xsi:type="dcterms:W3CDTF">2016-02-20T04:00:5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