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24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24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24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24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24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24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24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24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24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0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240" cy="24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新建文件夹 (9)\4.jpg"/>
          <p:cNvPicPr/>
          <p:nvPr/>
        </p:nvPicPr>
        <p:blipFill>
          <a:blip r:embed="rId2"/>
          <a:stretch/>
        </p:blipFill>
        <p:spPr>
          <a:xfrm>
            <a:off x="-10080" y="0"/>
            <a:ext cx="9153720" cy="686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Administrator\Desktop\新建文件夹 (9)\3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5640" y="1484640"/>
            <a:ext cx="835272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808080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C:\Users\Administrator\Desktop\新建文件夹 (9)\4.jpg"/>
          <p:cNvPicPr/>
          <p:nvPr/>
        </p:nvPicPr>
        <p:blipFill>
          <a:blip r:embed="rId2"/>
          <a:stretch/>
        </p:blipFill>
        <p:spPr>
          <a:xfrm>
            <a:off x="-10080" y="0"/>
            <a:ext cx="9153720" cy="6865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404040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240" cy="50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404040"/>
                </a:solidFill>
                <a:latin typeface="Verdana"/>
              </a:rPr>
              <a:t>单击此处编辑母版文本样式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404040"/>
                </a:solidFill>
                <a:latin typeface="Verdana"/>
              </a:rPr>
              <a:t>第二级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404040"/>
                </a:solidFill>
                <a:latin typeface="Verdana"/>
              </a:rPr>
              <a:t>第三级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404040"/>
                </a:solidFill>
                <a:latin typeface="Verdana"/>
              </a:rPr>
              <a:t>第四级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404040"/>
                </a:solidFill>
                <a:latin typeface="Verdana"/>
              </a:rPr>
              <a:t>第五级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1484640"/>
            <a:ext cx="835272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92d050"/>
                </a:solidFill>
                <a:latin typeface="Verdana"/>
              </a:rPr>
              <a:t>卡通植物</a:t>
            </a:r>
            <a:r>
              <a:rPr b="1" lang="en-US" sz="4000" spc="-1" strike="noStrike">
                <a:solidFill>
                  <a:srgbClr val="92d050"/>
                </a:solidFill>
                <a:latin typeface="Verdana"/>
              </a:rPr>
              <a:t>PPT</a:t>
            </a:r>
            <a:r>
              <a:rPr b="1" lang="zh-CN" sz="4000" spc="-1" strike="noStrike">
                <a:solidFill>
                  <a:srgbClr val="92d050"/>
                </a:solidFill>
                <a:latin typeface="Verdana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93120" y="2709000"/>
            <a:ext cx="83574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buNone/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240" cy="50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404040"/>
                </a:solidFill>
                <a:latin typeface="Verdana"/>
              </a:rPr>
              <a:t>点击此处添加文本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4"/>
          <p:cNvSpPr/>
          <p:nvPr/>
        </p:nvSpPr>
        <p:spPr>
          <a:xfrm>
            <a:off x="251640" y="501120"/>
            <a:ext cx="863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aoan/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n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第一PPT，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，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  <Words>104</Words>
  <Paragraphs>12</Paragraphs>
  <Company>第一PPT模板网：www.1ppt.c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TP</cp:category>
  <dcterms:created xsi:type="dcterms:W3CDTF">2010-10-13T12:51:22Z</dcterms:created>
  <dc:creator>第一PPT模板网：www.1ppt.com</dc:creator>
  <dc:description>第一PPT模板网：www.1ppt.com</dc:description>
  <cp:keywords>第一PPT模板网：www.1ppt.com</cp:keywords>
  <dc:language>en-US</dc:language>
  <cp:lastModifiedBy>王玉清</cp:lastModifiedBy>
  <dcterms:modified xsi:type="dcterms:W3CDTF">2016-02-21T03:29:06Z</dcterms:modified>
  <cp:revision>19</cp:revision>
  <dc:subject/>
  <dc:title>第一PPT模板网：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