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FFAC-D18F-4CC5-BF5B-D8EDC13C5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0B3E-FEF0-4A8D-953B-EF6FAE4CD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2A22-B87C-42FD-AF71-D964D66A9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98A4-5DE1-45C0-AA59-9D7E41715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8F9D-D5B8-4B0F-A8FC-37971EB28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5705-00AA-4A50-8E83-5D6397EB3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2EE5-9F47-49F9-804B-E8E2B3AF2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AA04-535B-4D86-9245-9011095B6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B592-9ED6-4B71-8C00-A92DC6942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8F6-A5DC-4F45-B11D-964ACC85A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F853-F11E-4ED5-9BE7-1B255A0EC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20B6-8E95-42A8-BCB5-C4D13E18E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red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31464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17640" y="476280"/>
            <a:ext cx="917280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098960" y="6518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FC5-7743-4D1E-89A9-2EA893CDCC6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cc0000">
                  <a:alpha val="80000"/>
                </a:srgbClr>
              </a:gs>
              <a:gs pos="100000">
                <a:srgbClr val="521b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4"/>
          <p:cNvSpPr/>
          <p:nvPr/>
        </p:nvSpPr>
        <p:spPr>
          <a:xfrm>
            <a:off x="-17640" y="3429000"/>
            <a:ext cx="9172800" cy="172728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Freeform 25"/>
          <p:cNvSpPr/>
          <p:nvPr/>
        </p:nvSpPr>
        <p:spPr>
          <a:xfrm>
            <a:off x="-19080" y="1168560"/>
            <a:ext cx="9163080" cy="2965320"/>
          </a:xfrm>
          <a:custGeom>
            <a:avLst/>
            <a:gdLst/>
            <a:ahLst/>
            <a:rect l="l" t="t" r="r" b="b"/>
            <a:pathLst>
              <a:path w="5790" h="1868">
                <a:moveTo>
                  <a:pt x="12" y="50"/>
                </a:moveTo>
                <a:lnTo>
                  <a:pt x="1632" y="44"/>
                </a:lnTo>
                <a:lnTo>
                  <a:pt x="1632" y="0"/>
                </a:lnTo>
                <a:lnTo>
                  <a:pt x="5790" y="0"/>
                </a:lnTo>
                <a:lnTo>
                  <a:pt x="5790" y="1820"/>
                </a:lnTo>
                <a:lnTo>
                  <a:pt x="4194" y="1820"/>
                </a:lnTo>
                <a:lnTo>
                  <a:pt x="4194" y="1868"/>
                </a:lnTo>
                <a:lnTo>
                  <a:pt x="0" y="1856"/>
                </a:lnTo>
                <a:lnTo>
                  <a:pt x="12" y="50"/>
                </a:ln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-7920" y="1844640"/>
            <a:ext cx="9151920" cy="1571760"/>
          </a:xfrm>
          <a:prstGeom prst="rect">
            <a:avLst/>
          </a:prstGeom>
          <a:gradFill rotWithShape="0">
            <a:gsLst>
              <a:gs pos="0">
                <a:srgbClr val="cc0000">
                  <a:alpha val="80000"/>
                </a:srgbClr>
              </a:gs>
              <a:gs pos="100000">
                <a:srgbClr val="521b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27"/>
          <p:cNvGrpSpPr/>
          <p:nvPr/>
        </p:nvGrpSpPr>
        <p:grpSpPr>
          <a:xfrm>
            <a:off x="895320" y="-6480"/>
            <a:ext cx="7327800" cy="6864480"/>
            <a:chOff x="895320" y="-6480"/>
            <a:chExt cx="7327800" cy="6864480"/>
          </a:xfrm>
        </p:grpSpPr>
        <p:sp>
          <p:nvSpPr>
            <p:cNvPr id="55" name="Line 28"/>
            <p:cNvSpPr/>
            <p:nvPr/>
          </p:nvSpPr>
          <p:spPr>
            <a:xfrm>
              <a:off x="8953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Line 29"/>
            <p:cNvSpPr/>
            <p:nvPr/>
          </p:nvSpPr>
          <p:spPr>
            <a:xfrm>
              <a:off x="2577960" y="-324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66326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>
              <a:off x="70135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>
              <a:off x="73184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>
              <a:off x="82231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" name="Line 34"/>
          <p:cNvSpPr/>
          <p:nvPr/>
        </p:nvSpPr>
        <p:spPr>
          <a:xfrm>
            <a:off x="0" y="3108240"/>
            <a:ext cx="9144000" cy="0"/>
          </a:xfrm>
          <a:prstGeom prst="line">
            <a:avLst/>
          </a:prstGeom>
          <a:ln w="9360">
            <a:solidFill>
              <a:srgbClr val="dddddd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Line 35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Group 36"/>
          <p:cNvGrpSpPr/>
          <p:nvPr/>
        </p:nvGrpSpPr>
        <p:grpSpPr>
          <a:xfrm>
            <a:off x="0" y="-39600"/>
            <a:ext cx="9144000" cy="4068720"/>
            <a:chOff x="0" y="-39600"/>
            <a:chExt cx="9144000" cy="4068720"/>
          </a:xfrm>
        </p:grpSpPr>
        <p:sp>
          <p:nvSpPr>
            <p:cNvPr id="64" name="Oval 37"/>
            <p:cNvSpPr/>
            <p:nvPr/>
          </p:nvSpPr>
          <p:spPr>
            <a:xfrm>
              <a:off x="1085760" y="3032280"/>
              <a:ext cx="978120" cy="9777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Oval 38"/>
            <p:cNvSpPr/>
            <p:nvPr/>
          </p:nvSpPr>
          <p:spPr>
            <a:xfrm>
              <a:off x="1816200" y="1203480"/>
              <a:ext cx="2793960" cy="27939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0" y="-360"/>
              <a:ext cx="7456320" cy="40100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4324320" y="-39600"/>
              <a:ext cx="4811760" cy="4019400"/>
            </a:xfrm>
            <a:custGeom>
              <a:avLst/>
              <a:gdLst/>
              <a:ahLst/>
              <a:rect l="l" t="t" r="r" b="b"/>
              <a:pathLst>
                <a:path fill="none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</a:path>
                <a:path stroke="0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  <a:lnTo>
                    <a:pt x="21600" y="7652"/>
                  </a:lnTo>
                  <a:lnTo>
                    <a:pt x="35010" y="2458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Oval 42"/>
            <p:cNvSpPr/>
            <p:nvPr/>
          </p:nvSpPr>
          <p:spPr>
            <a:xfrm>
              <a:off x="619200" y="3505320"/>
              <a:ext cx="523800" cy="5238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2572920"/>
            <a:ext cx="77817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酷炫线条圆通用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635280" y="623736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4098960" y="651924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9F3-5960-4DBA-B617-0BA2CE84FCEE}" type="slidenum">
              <a:rPr b="0" lang="en-US" sz="8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50200" y="227160"/>
            <a:ext cx="695304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,WWW.1PPT.COM </a:t>
            </a:r>
            <a:endParaRPr b="1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20480" y="213372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헤드라인M"/>
              </a:rPr>
              <a:t>Click here to add header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90560" y="278136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6481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1:07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7:28:09Z</dcterms:modified>
  <cp:revision>22</cp:revision>
  <dc:subject/>
  <dc:title>슬라이드 1</dc:title>
</cp:coreProperties>
</file>