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9D0-06CF-4B14-8477-27B09B62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741-759B-4689-A6CA-1825FA27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8FC-723B-4F6E-BFE3-5E01AE81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663-5FA7-4B2A-AB03-3E30CD9B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477-AF08-4EF8-AEF0-83346084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AF32-4F0E-407D-AF8C-386ED700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21B-4141-4BD2-A47B-3B63260C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962-CE40-4EEA-89DA-39B89461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C65-2415-48F0-96E9-6D102429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7096-EA79-45FB-92F0-7CD3D6B8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9CFD-2FAF-4D61-B2B7-1856E849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D69-201D-4AD0-884F-EC01636F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938E58-4ED8-49FF-B002-F2D8FEDB124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-1656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" name="矩形 5"/>
          <p:cNvSpPr/>
          <p:nvPr/>
        </p:nvSpPr>
        <p:spPr>
          <a:xfrm>
            <a:off x="2021400" y="1628640"/>
            <a:ext cx="50533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浪漫爱情通用</a:t>
            </a:r>
            <a:r>
              <a:rPr b="0" lang="en-US" sz="40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"/>
          <p:cNvSpPr/>
          <p:nvPr/>
        </p:nvSpPr>
        <p:spPr>
          <a:xfrm>
            <a:off x="2856600" y="1917000"/>
            <a:ext cx="33818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谢谢观看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105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04:44:56Z</dcterms:created>
  <dc:creator>lenovo</dc:creator>
  <dc:description/>
  <dc:language>en-US</dc:language>
  <cp:lastModifiedBy>王玉清</cp:lastModifiedBy>
  <dcterms:modified xsi:type="dcterms:W3CDTF">2016-02-20T03:26:16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