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BFC-D558-4FCF-B648-CD5A7BEF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2E47-C025-451B-B9D3-3CEBCDBA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9B3B-9BDE-4AEE-91F8-1CDD74D9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D0E8-1989-4D73-B225-3656E727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BFA3-40ED-4FB5-B07F-C31A4650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AC8C-A80E-400D-A36D-04BA705C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2386-1481-42AC-909F-AF829895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ED8F-843C-4E48-AC7F-1453FE9E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5A79-98CD-4379-B9FD-5EAAC484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BD96-32C2-474D-BF05-82A62C5D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DCBF-6A70-45B9-A0DB-0B39E4E6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D2F-B4BC-4D96-BB7D-1AC93522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44FC-82CA-4919-A08E-F15A5033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7F72-6E5F-4619-ACBD-BF6073DD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65DE-CAFD-458F-B93B-441B60DC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F749-B9C8-4425-BEC4-5359E918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ED24-CDEC-410B-B741-FB0FED8A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11B-4D05-4B24-B371-09FC18E5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41E-815C-4AD6-9A5B-D3583EE6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71F-D76B-489D-A04F-7C6068BE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B2A-23E0-4F77-9888-5CF4BF34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D39-5544-459A-82CB-E044E1B8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379-8CB6-4391-B64C-68CBC79C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E38-587C-47A4-AFAF-F9C6AF36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3608-6BCD-481F-BD77-AD887A1CEC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663B-63DB-43FE-ADE9-9F14FF486D3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ectangle 9"/>
          <p:cNvGrpSpPr/>
          <p:nvPr/>
        </p:nvGrpSpPr>
        <p:grpSpPr>
          <a:xfrm>
            <a:off x="609480" y="1450800"/>
            <a:ext cx="7772400" cy="4340520"/>
            <a:chOff x="609480" y="1450800"/>
            <a:chExt cx="7772400" cy="4340520"/>
          </a:xfrm>
        </p:grpSpPr>
        <p:pic>
          <p:nvPicPr>
            <p:cNvPr id="89" name="Rectangle 9" descr=""/>
            <p:cNvPicPr/>
            <p:nvPr/>
          </p:nvPicPr>
          <p:blipFill>
            <a:blip r:embed="rId1"/>
            <a:stretch/>
          </p:blipFill>
          <p:spPr>
            <a:xfrm>
              <a:off x="609480" y="1453320"/>
              <a:ext cx="7772400" cy="433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09480" y="1450800"/>
              <a:ext cx="7772400" cy="43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WordArt 4"/>
          <p:cNvSpPr txBox="1"/>
          <p:nvPr/>
        </p:nvSpPr>
        <p:spPr>
          <a:xfrm>
            <a:off x="914400" y="3048120"/>
            <a:ext cx="770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92" name="Picture 10" descr="2"/>
          <p:cNvPicPr/>
          <p:nvPr/>
        </p:nvPicPr>
        <p:blipFill>
          <a:blip r:embed="rId2"/>
          <a:stretch/>
        </p:blipFill>
        <p:spPr>
          <a:xfrm>
            <a:off x="8369280" y="1143000"/>
            <a:ext cx="546120" cy="4876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3"/>
          <p:cNvPicPr/>
          <p:nvPr/>
        </p:nvPicPr>
        <p:blipFill>
          <a:blip r:embed="rId3"/>
          <a:stretch/>
        </p:blipFill>
        <p:spPr>
          <a:xfrm>
            <a:off x="169920" y="1143000"/>
            <a:ext cx="515880" cy="4898880"/>
          </a:xfrm>
          <a:prstGeom prst="rect">
            <a:avLst/>
          </a:prstGeom>
          <a:ln w="0">
            <a:noFill/>
          </a:ln>
        </p:spPr>
      </p:pic>
      <p:sp>
        <p:nvSpPr>
          <p:cNvPr id="94" name="矩形 1"/>
          <p:cNvSpPr/>
          <p:nvPr/>
        </p:nvSpPr>
        <p:spPr>
          <a:xfrm>
            <a:off x="2001240" y="80172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61616"/>
                </a:solidFill>
                <a:latin typeface="Tahoma"/>
              </a:rPr>
              <a:t>浪漫玫瑰通用</a:t>
            </a:r>
            <a:r>
              <a:rPr b="0" lang="zh-CN" sz="4000" spc="-1" strike="noStrike">
                <a:solidFill>
                  <a:srgbClr val="161616"/>
                </a:solidFill>
                <a:latin typeface="Tahoma"/>
              </a:rPr>
              <a:t>PPT</a:t>
            </a:r>
            <a:r>
              <a:rPr b="0" lang="zh-CN" sz="4000" spc="-1" strike="noStrike">
                <a:solidFill>
                  <a:srgbClr val="161616"/>
                </a:solidFill>
                <a:latin typeface="Tahoma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0T04:40:0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