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A41-4B9F-49C2-8736-1D43C23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B39-A56F-40DD-BDE9-F7653A2C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593-170A-4C2D-A513-73F3EB16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CF8-A2EC-4125-933B-9AAD775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B34-DB6F-4EE4-A837-CED5A3E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17E-91E4-498E-86AC-D350E02A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B4E-C43B-40FF-A358-5BF39080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FD5-BB09-4EE8-9F1B-7B5D67B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8A9-7B95-4496-87E4-9DAAF58A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4E8-2773-4CFF-BB2C-A36505F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1E4-72FF-4992-95E2-85AB04C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2B8-5250-4965-8A88-CD5BAED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739-33EE-4416-98A9-866F459773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Love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通用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32763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2800" spc="-1" strike="noStrike">
              <a:solidFill>
                <a:srgbClr val="ff7c80"/>
              </a:solidFill>
              <a:latin typeface="Times New Roman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Love…a Feelin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ve is being able to show someone how much you care for them each day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6:34:51Z</dcterms:created>
  <dc:creator>keke</dc:creator>
  <dc:description/>
  <dc:language>en-US</dc:language>
  <cp:lastModifiedBy>xinxing</cp:lastModifiedBy>
  <dcterms:modified xsi:type="dcterms:W3CDTF">2017-04-13T07:17:46Z</dcterms:modified>
  <cp:revision>5</cp:revision>
  <dc:subject/>
  <dc:title>Lov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