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8DB-A26B-4900-9457-3E2E90FC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A4E-F807-45F2-A42F-47091B46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077-7F84-41A5-8DCF-354E83DA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840-8EA0-46C8-BE61-F599D551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D896-489F-4953-8F55-F18F2AAF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004B-F2A2-4823-8E73-9C797E22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228B-5BE6-49C6-8DB7-56A0B0B5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26A6-A750-4DA4-ABC4-12ECF488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FF10-D4CD-4679-896D-60400DF5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F453-B6C5-4877-B96B-9800224D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6933-2A11-4C1E-BCA9-8A166ED8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731-DC81-4862-B694-D49C4612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ACB6-B396-43AE-92AD-EA3F80FA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648E-FC51-4191-BB70-442655A1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E804-D3FB-4135-A27A-5EF1F13E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84D0-BE4B-40BF-A508-614DB905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E66D-0A99-4341-9BF7-7DB62EDA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972-EC27-4B0D-A112-3175FA34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DDF-6FFD-4700-94F6-3CCF162A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05B-CEB3-41DC-BEFB-D4E1A4F0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5F7-B851-45B9-8A50-CE9C00CC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251-582D-4971-905D-97F6CD37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5FD-711B-4554-A349-D8DB556C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350C-BA92-4BBE-98D2-6E104E55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9" descr=""/>
          <p:cNvPicPr/>
          <p:nvPr/>
        </p:nvPicPr>
        <p:blipFill>
          <a:blip r:embed="rId2"/>
          <a:srcRect l="0" t="0" r="-15" b="-1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D2CB-B196-4070-A817-D9C9AEF0D1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rcRect l="0" t="11501" r="-15" b="72701"/>
          <a:stretch/>
        </p:blipFill>
        <p:spPr>
          <a:xfrm>
            <a:off x="0" y="0"/>
            <a:ext cx="9144000" cy="1082520"/>
          </a:xfrm>
          <a:prstGeom prst="rect">
            <a:avLst/>
          </a:prstGeom>
          <a:ln w="0">
            <a:noFill/>
          </a:ln>
        </p:spPr>
      </p:pic>
      <p:grpSp>
        <p:nvGrpSpPr>
          <p:cNvPr id="43" name="矩形 8"/>
          <p:cNvGrpSpPr/>
          <p:nvPr/>
        </p:nvGrpSpPr>
        <p:grpSpPr>
          <a:xfrm>
            <a:off x="-6480" y="1047600"/>
            <a:ext cx="9156600" cy="5810400"/>
            <a:chOff x="-6480" y="1047600"/>
            <a:chExt cx="9156600" cy="5810400"/>
          </a:xfrm>
        </p:grpSpPr>
        <p:pic>
          <p:nvPicPr>
            <p:cNvPr id="44" name="矩形 8" descr=""/>
            <p:cNvPicPr/>
            <p:nvPr/>
          </p:nvPicPr>
          <p:blipFill>
            <a:blip r:embed="rId3"/>
            <a:stretch/>
          </p:blipFill>
          <p:spPr>
            <a:xfrm>
              <a:off x="-6480" y="1047600"/>
              <a:ext cx="9156600" cy="581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052280"/>
              <a:ext cx="9144000" cy="58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" name="图片 9" descr=""/>
          <p:cNvPicPr/>
          <p:nvPr/>
        </p:nvPicPr>
        <p:blipFill>
          <a:blip r:embed="rId4"/>
          <a:stretch/>
        </p:blipFill>
        <p:spPr>
          <a:xfrm>
            <a:off x="7634160" y="5105520"/>
            <a:ext cx="1185840" cy="175248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2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6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9463-C48D-4A16-8B0D-E3FCB7A0E8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800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2684160" y="260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绿色公益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1160" y="225360"/>
            <a:ext cx="8497800" cy="927000"/>
            <a:chOff x="281160" y="225360"/>
            <a:chExt cx="8497800" cy="927000"/>
          </a:xfrm>
        </p:grpSpPr>
        <p:pic>
          <p:nvPicPr>
            <p:cNvPr id="92" name="标题 1" descr=""/>
            <p:cNvPicPr/>
            <p:nvPr/>
          </p:nvPicPr>
          <p:blipFill>
            <a:blip r:embed="rId1"/>
            <a:stretch/>
          </p:blipFill>
          <p:spPr>
            <a:xfrm>
              <a:off x="281160" y="225360"/>
              <a:ext cx="849780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 txBox="1"/>
            <p:nvPr/>
          </p:nvSpPr>
          <p:spPr>
            <a:xfrm>
              <a:off x="281160" y="225360"/>
              <a:ext cx="8497800" cy="92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TextBox 3"/>
          <p:cNvSpPr/>
          <p:nvPr/>
        </p:nvSpPr>
        <p:spPr>
          <a:xfrm>
            <a:off x="684360" y="198612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</a:rPr>
              <a:t>模板很是简洁，欢迎交流学习，对不足之处可提出修改意见，互相提高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281160" y="225360"/>
            <a:ext cx="8497800" cy="927000"/>
            <a:chOff x="281160" y="225360"/>
            <a:chExt cx="8497800" cy="927000"/>
          </a:xfrm>
        </p:grpSpPr>
        <p:pic>
          <p:nvPicPr>
            <p:cNvPr id="96" name="标题 1" descr=""/>
            <p:cNvPicPr/>
            <p:nvPr/>
          </p:nvPicPr>
          <p:blipFill>
            <a:blip r:embed="rId1"/>
            <a:stretch/>
          </p:blipFill>
          <p:spPr>
            <a:xfrm>
              <a:off x="281160" y="225360"/>
              <a:ext cx="849780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 txBox="1"/>
            <p:nvPr/>
          </p:nvSpPr>
          <p:spPr>
            <a:xfrm>
              <a:off x="281160" y="225360"/>
              <a:ext cx="8497800" cy="92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组合 7"/>
          <p:cNvGrpSpPr/>
          <p:nvPr/>
        </p:nvGrpSpPr>
        <p:grpSpPr>
          <a:xfrm>
            <a:off x="3070080" y="2421000"/>
            <a:ext cx="3446640" cy="503280"/>
            <a:chOff x="3070080" y="2421000"/>
            <a:chExt cx="3446640" cy="503280"/>
          </a:xfrm>
        </p:grpSpPr>
        <p:sp>
          <p:nvSpPr>
            <p:cNvPr id="99" name="矩形 3"/>
            <p:cNvSpPr/>
            <p:nvPr/>
          </p:nvSpPr>
          <p:spPr>
            <a:xfrm>
              <a:off x="3070080" y="2421000"/>
              <a:ext cx="504000" cy="503280"/>
            </a:xfrm>
            <a:prstGeom prst="rect">
              <a:avLst/>
            </a:prstGeom>
            <a:gradFill rotWithShape="0">
              <a:gsLst>
                <a:gs pos="0">
                  <a:srgbClr val="379d6d"/>
                </a:gs>
                <a:gs pos="100000">
                  <a:srgbClr val="0b8a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直接连接符 5"/>
            <p:cNvSpPr/>
            <p:nvPr/>
          </p:nvSpPr>
          <p:spPr>
            <a:xfrm>
              <a:off x="3070080" y="2899440"/>
              <a:ext cx="50400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6"/>
            <p:cNvSpPr/>
            <p:nvPr/>
          </p:nvSpPr>
          <p:spPr>
            <a:xfrm>
              <a:off x="3708000" y="2487960"/>
              <a:ext cx="280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组合 8"/>
          <p:cNvGrpSpPr/>
          <p:nvPr/>
        </p:nvGrpSpPr>
        <p:grpSpPr>
          <a:xfrm>
            <a:off x="3070080" y="3213000"/>
            <a:ext cx="3446640" cy="503280"/>
            <a:chOff x="3070080" y="3213000"/>
            <a:chExt cx="3446640" cy="503280"/>
          </a:xfrm>
        </p:grpSpPr>
        <p:sp>
          <p:nvSpPr>
            <p:cNvPr id="103" name="矩形 9"/>
            <p:cNvSpPr/>
            <p:nvPr/>
          </p:nvSpPr>
          <p:spPr>
            <a:xfrm>
              <a:off x="3070080" y="3213000"/>
              <a:ext cx="504000" cy="503280"/>
            </a:xfrm>
            <a:prstGeom prst="rect">
              <a:avLst/>
            </a:prstGeom>
            <a:gradFill rotWithShape="0">
              <a:gsLst>
                <a:gs pos="0">
                  <a:srgbClr val="379d6d"/>
                </a:gs>
                <a:gs pos="100000">
                  <a:srgbClr val="0b8a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直接连接符 10"/>
            <p:cNvSpPr/>
            <p:nvPr/>
          </p:nvSpPr>
          <p:spPr>
            <a:xfrm>
              <a:off x="3070080" y="3691440"/>
              <a:ext cx="50400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11"/>
            <p:cNvSpPr/>
            <p:nvPr/>
          </p:nvSpPr>
          <p:spPr>
            <a:xfrm>
              <a:off x="3708000" y="3279960"/>
              <a:ext cx="280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组合 12"/>
          <p:cNvGrpSpPr/>
          <p:nvPr/>
        </p:nvGrpSpPr>
        <p:grpSpPr>
          <a:xfrm>
            <a:off x="3070080" y="4005360"/>
            <a:ext cx="3446640" cy="503280"/>
            <a:chOff x="3070080" y="4005360"/>
            <a:chExt cx="3446640" cy="503280"/>
          </a:xfrm>
        </p:grpSpPr>
        <p:sp>
          <p:nvSpPr>
            <p:cNvPr id="107" name="矩形 13"/>
            <p:cNvSpPr/>
            <p:nvPr/>
          </p:nvSpPr>
          <p:spPr>
            <a:xfrm>
              <a:off x="3070080" y="4005360"/>
              <a:ext cx="504000" cy="503280"/>
            </a:xfrm>
            <a:prstGeom prst="rect">
              <a:avLst/>
            </a:prstGeom>
            <a:gradFill rotWithShape="0">
              <a:gsLst>
                <a:gs pos="0">
                  <a:srgbClr val="379d6d"/>
                </a:gs>
                <a:gs pos="100000">
                  <a:srgbClr val="0b8a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直接连接符 14"/>
            <p:cNvSpPr/>
            <p:nvPr/>
          </p:nvSpPr>
          <p:spPr>
            <a:xfrm>
              <a:off x="3070080" y="4483800"/>
              <a:ext cx="50400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Box 15"/>
            <p:cNvSpPr/>
            <p:nvPr/>
          </p:nvSpPr>
          <p:spPr>
            <a:xfrm>
              <a:off x="3708000" y="4072320"/>
              <a:ext cx="280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组合 16"/>
          <p:cNvGrpSpPr/>
          <p:nvPr/>
        </p:nvGrpSpPr>
        <p:grpSpPr>
          <a:xfrm>
            <a:off x="3070080" y="4797360"/>
            <a:ext cx="3446640" cy="503280"/>
            <a:chOff x="3070080" y="4797360"/>
            <a:chExt cx="3446640" cy="503280"/>
          </a:xfrm>
        </p:grpSpPr>
        <p:sp>
          <p:nvSpPr>
            <p:cNvPr id="111" name="矩形 17"/>
            <p:cNvSpPr/>
            <p:nvPr/>
          </p:nvSpPr>
          <p:spPr>
            <a:xfrm>
              <a:off x="3070080" y="4797360"/>
              <a:ext cx="504000" cy="503280"/>
            </a:xfrm>
            <a:prstGeom prst="rect">
              <a:avLst/>
            </a:prstGeom>
            <a:gradFill rotWithShape="0">
              <a:gsLst>
                <a:gs pos="0">
                  <a:srgbClr val="379d6d"/>
                </a:gs>
                <a:gs pos="100000">
                  <a:srgbClr val="0b8a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直接连接符 18"/>
            <p:cNvSpPr/>
            <p:nvPr/>
          </p:nvSpPr>
          <p:spPr>
            <a:xfrm>
              <a:off x="3070080" y="5275800"/>
              <a:ext cx="50400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Box 19"/>
            <p:cNvSpPr/>
            <p:nvPr/>
          </p:nvSpPr>
          <p:spPr>
            <a:xfrm>
              <a:off x="3708000" y="4864320"/>
              <a:ext cx="280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84360" y="119700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81160" y="225360"/>
            <a:ext cx="8497800" cy="927000"/>
            <a:chOff x="281160" y="225360"/>
            <a:chExt cx="8497800" cy="927000"/>
          </a:xfrm>
        </p:grpSpPr>
        <p:pic>
          <p:nvPicPr>
            <p:cNvPr id="116" name="标题 1" descr=""/>
            <p:cNvPicPr/>
            <p:nvPr/>
          </p:nvPicPr>
          <p:blipFill>
            <a:blip r:embed="rId1"/>
            <a:stretch/>
          </p:blipFill>
          <p:spPr>
            <a:xfrm>
              <a:off x="281160" y="225360"/>
              <a:ext cx="849780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 txBox="1"/>
            <p:nvPr/>
          </p:nvSpPr>
          <p:spPr>
            <a:xfrm>
              <a:off x="281160" y="225360"/>
              <a:ext cx="8497800" cy="92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a6a6a6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ED27-35EB-45CD-8539-3D0572F656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14:24:0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8:37:25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4605000000000001024140</vt:lpwstr>
  </property>
</Properties>
</file>