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AD6-C026-4554-B3DE-8C45A06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B2F-B441-4FA4-B0A5-85942DA4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18B-F986-4CDF-8C92-D8B47A4E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39B-6031-4D7C-B249-996D720F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9A3-D566-4C37-A28C-A19DF938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7F4-9DBD-40F5-B5C9-F32BAB5A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020-41B0-41BE-BF4F-78535B0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2FE-F761-4260-93BF-365271E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F08-C1DF-4617-A8DF-8AED747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87B-07D1-4AF3-A631-1D85BD5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204-418C-4B27-B9BB-E20D113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4BC-1A64-4239-8AD9-B577C81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77D7F7-299B-42BC-AEDE-9E4C48ECBA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128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1428480" y="371448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21320" y="28530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光晕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6"/>
          <p:cNvSpPr/>
          <p:nvPr/>
        </p:nvSpPr>
        <p:spPr>
          <a:xfrm>
            <a:off x="428760" y="2771640"/>
            <a:ext cx="1804680" cy="2003040"/>
          </a:xfrm>
          <a:prstGeom prst="roundRect">
            <a:avLst>
              <a:gd name="adj" fmla="val 4853"/>
            </a:avLst>
          </a:prstGeom>
          <a:solidFill>
            <a:srgbClr val="87bedc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2" name="椭圆 7"/>
          <p:cNvSpPr/>
          <p:nvPr/>
        </p:nvSpPr>
        <p:spPr>
          <a:xfrm>
            <a:off x="696960" y="2000160"/>
            <a:ext cx="1267920" cy="1269720"/>
          </a:xfrm>
          <a:prstGeom prst="ellipse">
            <a:avLst/>
          </a:prstGeom>
          <a:solidFill>
            <a:srgbClr val="87bed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3" name="圆角矩形 8"/>
          <p:cNvSpPr/>
          <p:nvPr/>
        </p:nvSpPr>
        <p:spPr>
          <a:xfrm>
            <a:off x="2579760" y="2771640"/>
            <a:ext cx="1806120" cy="2003040"/>
          </a:xfrm>
          <a:prstGeom prst="roundRect">
            <a:avLst>
              <a:gd name="adj" fmla="val 4853"/>
            </a:avLst>
          </a:prstGeom>
          <a:solidFill>
            <a:srgbClr val="125fa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4" name="椭圆 9"/>
          <p:cNvSpPr/>
          <p:nvPr/>
        </p:nvSpPr>
        <p:spPr>
          <a:xfrm>
            <a:off x="2857680" y="2000160"/>
            <a:ext cx="1269720" cy="1269720"/>
          </a:xfrm>
          <a:prstGeom prst="ellipse">
            <a:avLst/>
          </a:prstGeom>
          <a:solidFill>
            <a:srgbClr val="125fa8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5" name="圆角矩形 10"/>
          <p:cNvSpPr/>
          <p:nvPr/>
        </p:nvSpPr>
        <p:spPr>
          <a:xfrm>
            <a:off x="4732200" y="2771640"/>
            <a:ext cx="1804680" cy="2003040"/>
          </a:xfrm>
          <a:prstGeom prst="roundRect">
            <a:avLst>
              <a:gd name="adj" fmla="val 4853"/>
            </a:avLst>
          </a:prstGeom>
          <a:solidFill>
            <a:srgbClr val="87bedc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6" name="椭圆 11"/>
          <p:cNvSpPr/>
          <p:nvPr/>
        </p:nvSpPr>
        <p:spPr>
          <a:xfrm>
            <a:off x="5000760" y="2000160"/>
            <a:ext cx="1267920" cy="1269720"/>
          </a:xfrm>
          <a:prstGeom prst="ellipse">
            <a:avLst/>
          </a:prstGeom>
          <a:solidFill>
            <a:srgbClr val="87bed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7" name="圆角矩形 12"/>
          <p:cNvSpPr/>
          <p:nvPr/>
        </p:nvSpPr>
        <p:spPr>
          <a:xfrm>
            <a:off x="6883560" y="2771640"/>
            <a:ext cx="1806120" cy="2003040"/>
          </a:xfrm>
          <a:prstGeom prst="roundRect">
            <a:avLst>
              <a:gd name="adj" fmla="val 4853"/>
            </a:avLst>
          </a:prstGeom>
          <a:solidFill>
            <a:srgbClr val="125fa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椭圆 13"/>
          <p:cNvSpPr/>
          <p:nvPr/>
        </p:nvSpPr>
        <p:spPr>
          <a:xfrm>
            <a:off x="7151760" y="2000160"/>
            <a:ext cx="1269720" cy="1269720"/>
          </a:xfrm>
          <a:prstGeom prst="ellipse">
            <a:avLst/>
          </a:prstGeom>
          <a:solidFill>
            <a:srgbClr val="125fa8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9" name="矩形 12"/>
          <p:cNvSpPr/>
          <p:nvPr/>
        </p:nvSpPr>
        <p:spPr>
          <a:xfrm>
            <a:off x="2997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3"/>
          <p:cNvSpPr/>
          <p:nvPr/>
        </p:nvSpPr>
        <p:spPr>
          <a:xfrm>
            <a:off x="51418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4"/>
          <p:cNvSpPr/>
          <p:nvPr/>
        </p:nvSpPr>
        <p:spPr>
          <a:xfrm>
            <a:off x="7356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5"/>
          <p:cNvSpPr/>
          <p:nvPr/>
        </p:nvSpPr>
        <p:spPr>
          <a:xfrm>
            <a:off x="7840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417600" y="63597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571680" y="3152880"/>
            <a:ext cx="1642680" cy="175680"/>
          </a:xfrm>
          <a:custGeom>
            <a:avLst/>
            <a:gdLst>
              <a:gd name="textAreaLeft" fmla="*/ 0 w 1642680"/>
              <a:gd name="textAreaRight" fmla="*/ 1643040 w 1642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214720" y="3152880"/>
            <a:ext cx="1644120" cy="17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59200" y="3152880"/>
            <a:ext cx="1641240" cy="17568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Rectangle 45"/>
          <p:cNvSpPr/>
          <p:nvPr/>
        </p:nvSpPr>
        <p:spPr>
          <a:xfrm>
            <a:off x="4127400" y="3967200"/>
            <a:ext cx="1564920" cy="39024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5727600" y="2125800"/>
            <a:ext cx="1558440" cy="393480"/>
          </a:xfrm>
          <a:prstGeom prst="rect">
            <a:avLst/>
          </a:prstGeom>
          <a:solidFill>
            <a:srgbClr val="d3a68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Rectangle 89"/>
          <p:cNvSpPr/>
          <p:nvPr/>
        </p:nvSpPr>
        <p:spPr>
          <a:xfrm>
            <a:off x="7182000" y="3951360"/>
            <a:ext cx="1542600" cy="391680"/>
          </a:xfrm>
          <a:prstGeom prst="rect">
            <a:avLst/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56" name="直接连接符 16"/>
          <p:cNvCxnSpPr/>
          <p:nvPr/>
        </p:nvCxnSpPr>
        <p:spPr>
          <a:xfrm flipV="1">
            <a:off x="1029960" y="2322360"/>
            <a:ext cx="595800" cy="765360"/>
          </a:xfrm>
          <a:prstGeom prst="straightConnector1">
            <a:avLst/>
          </a:prstGeom>
          <a:ln w="28575">
            <a:solidFill>
              <a:srgbClr val="125fa8"/>
            </a:solidFill>
            <a:prstDash val="dash"/>
            <a:round/>
          </a:ln>
        </p:spPr>
      </p:cxnSp>
      <p:cxnSp>
        <p:nvCxnSpPr>
          <p:cNvPr id="57" name="直接连接符 17"/>
          <p:cNvCxnSpPr>
            <a:endCxn id="58" idx="1"/>
          </p:cNvCxnSpPr>
          <p:nvPr/>
        </p:nvCxnSpPr>
        <p:spPr>
          <a:xfrm flipV="1">
            <a:off x="1643040" y="2315880"/>
            <a:ext cx="571680" cy="29160"/>
          </a:xfrm>
          <a:prstGeom prst="straightConnector1">
            <a:avLst/>
          </a:prstGeom>
          <a:ln w="28575">
            <a:solidFill>
              <a:srgbClr val="125fa8"/>
            </a:solidFill>
            <a:prstDash val="dash"/>
            <a:round/>
          </a:ln>
        </p:spPr>
      </p:cxnSp>
      <p:sp>
        <p:nvSpPr>
          <p:cNvPr id="59" name="Rectangle 6"/>
          <p:cNvSpPr/>
          <p:nvPr/>
        </p:nvSpPr>
        <p:spPr>
          <a:xfrm>
            <a:off x="2143080" y="3152880"/>
            <a:ext cx="1644120" cy="17568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Freeform 5"/>
          <p:cNvSpPr/>
          <p:nvPr/>
        </p:nvSpPr>
        <p:spPr>
          <a:xfrm flipH="1">
            <a:off x="5493600" y="3152880"/>
            <a:ext cx="1642680" cy="175680"/>
          </a:xfrm>
          <a:custGeom>
            <a:avLst/>
            <a:gdLst>
              <a:gd name="textAreaLeft" fmla="*/ -360 w 1642680"/>
              <a:gd name="textAreaRight" fmla="*/ 1642680 w 1642680"/>
              <a:gd name="textAreaTop" fmla="*/ 0 h 175680"/>
              <a:gd name="textAreaBottom" fmla="*/ 176040 h 17568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1" name="组合 134"/>
          <p:cNvGrpSpPr/>
          <p:nvPr/>
        </p:nvGrpSpPr>
        <p:grpSpPr>
          <a:xfrm>
            <a:off x="4598640" y="2322360"/>
            <a:ext cx="1173240" cy="765000"/>
            <a:chOff x="4598640" y="2322360"/>
            <a:chExt cx="1173240" cy="765000"/>
          </a:xfrm>
        </p:grpSpPr>
        <p:cxnSp>
          <p:nvCxnSpPr>
            <p:cNvPr id="62" name="直接连接符 21"/>
            <p:cNvCxnSpPr/>
            <p:nvPr/>
          </p:nvCxnSpPr>
          <p:spPr>
            <a:xfrm flipV="1">
              <a:off x="4598640" y="2322360"/>
              <a:ext cx="595800" cy="765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3" name="直接连接符 22"/>
            <p:cNvCxnSpPr/>
            <p:nvPr/>
          </p:nvCxnSpPr>
          <p:spPr>
            <a:xfrm>
              <a:off x="5194080" y="232236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grpSp>
        <p:nvGrpSpPr>
          <p:cNvPr id="64" name="组合 137"/>
          <p:cNvGrpSpPr/>
          <p:nvPr/>
        </p:nvGrpSpPr>
        <p:grpSpPr>
          <a:xfrm>
            <a:off x="2990520" y="3396960"/>
            <a:ext cx="1173240" cy="765360"/>
            <a:chOff x="2990520" y="3396960"/>
            <a:chExt cx="1173240" cy="765360"/>
          </a:xfrm>
        </p:grpSpPr>
        <p:cxnSp>
          <p:nvCxnSpPr>
            <p:cNvPr id="65" name="直接连接符 24"/>
            <p:cNvCxnSpPr/>
            <p:nvPr/>
          </p:nvCxnSpPr>
          <p:spPr>
            <a:xfrm>
              <a:off x="2990520" y="3396960"/>
              <a:ext cx="595800" cy="76572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6" name="直接连接符 25"/>
            <p:cNvCxnSpPr/>
            <p:nvPr/>
          </p:nvCxnSpPr>
          <p:spPr>
            <a:xfrm>
              <a:off x="3585960" y="416232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grpSp>
        <p:nvGrpSpPr>
          <p:cNvPr id="67" name="组合 140"/>
          <p:cNvGrpSpPr/>
          <p:nvPr/>
        </p:nvGrpSpPr>
        <p:grpSpPr>
          <a:xfrm>
            <a:off x="6008400" y="3396960"/>
            <a:ext cx="1173240" cy="765360"/>
            <a:chOff x="6008400" y="3396960"/>
            <a:chExt cx="1173240" cy="765360"/>
          </a:xfrm>
        </p:grpSpPr>
        <p:cxnSp>
          <p:nvCxnSpPr>
            <p:cNvPr id="68" name="直接连接符 27"/>
            <p:cNvCxnSpPr/>
            <p:nvPr/>
          </p:nvCxnSpPr>
          <p:spPr>
            <a:xfrm>
              <a:off x="6008400" y="3396960"/>
              <a:ext cx="595800" cy="76572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  <p:cxnSp>
          <p:nvCxnSpPr>
            <p:cNvPr id="69" name="直接连接符 28"/>
            <p:cNvCxnSpPr/>
            <p:nvPr/>
          </p:nvCxnSpPr>
          <p:spPr>
            <a:xfrm>
              <a:off x="6603840" y="4162320"/>
              <a:ext cx="578160" cy="360"/>
            </a:xfrm>
            <a:prstGeom prst="straightConnector1">
              <a:avLst/>
            </a:prstGeom>
            <a:ln w="28575">
              <a:solidFill>
                <a:srgbClr val="125fa8"/>
              </a:solidFill>
              <a:prstDash val="dash"/>
              <a:round/>
            </a:ln>
          </p:spPr>
        </p:cxnSp>
      </p:grpSp>
      <p:sp>
        <p:nvSpPr>
          <p:cNvPr id="70" name="矩形 12"/>
          <p:cNvSpPr/>
          <p:nvPr/>
        </p:nvSpPr>
        <p:spPr>
          <a:xfrm>
            <a:off x="5997600" y="2143080"/>
            <a:ext cx="1004040" cy="363960"/>
          </a:xfrm>
          <a:prstGeom prst="rect">
            <a:avLst/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742644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44258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2497320" y="2130480"/>
            <a:ext cx="1004040" cy="363960"/>
          </a:xfrm>
          <a:prstGeom prst="rect">
            <a:avLst/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5513040" y="1643040"/>
            <a:ext cx="2246400" cy="360"/>
          </a:xfrm>
          <a:prstGeom prst="line">
            <a:avLst/>
          </a:prstGeom>
          <a:ln w="25400">
            <a:solidFill>
              <a:srgbClr val="125f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25f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87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87be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9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8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9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99" name="直接连接符 10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0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10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102" name="椭圆 16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3" name="直接连接符 17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0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105" name="椭圆 14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6" name="直接连接符 15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0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10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109" name="椭圆 23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0" name="直接连接符 24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1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112" name="椭圆 21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3" name="直接连接符 22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1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11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矩形 27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矩形 28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18" name="直接连接符 29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1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12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121" name="椭圆 35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2" name="直接连接符 36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2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124" name="椭圆 33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5" name="直接连接符 34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2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12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128" name="椭圆 42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9" name="直接连接符 43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3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131" name="椭圆 40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2" name="直接连接符 41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3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13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46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47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87bedc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37" name="直接连接符 48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3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13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140" name="椭圆 54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1" name="直接连接符 55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143" name="椭圆 52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4" name="直接连接符 53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4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14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147" name="椭圆 61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8" name="直接连接符 62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150" name="椭圆 59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51" name="直接连接符 60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5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15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矩形 65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矩形 66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125fa8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56" name="直接连接符 67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5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15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159" name="椭圆 73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6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162" name="椭圆 71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3" name="直接连接符 72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6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16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166" name="椭圆 80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67" name="直接连接符 81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6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16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7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171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1357200" y="1428840"/>
            <a:ext cx="1726920" cy="1026720"/>
            <a:chOff x="1357200" y="1428840"/>
            <a:chExt cx="1726920" cy="1026720"/>
          </a:xfrm>
        </p:grpSpPr>
        <p:sp>
          <p:nvSpPr>
            <p:cNvPr id="181" name="Oval 10"/>
            <p:cNvSpPr/>
            <p:nvPr/>
          </p:nvSpPr>
          <p:spPr>
            <a:xfrm>
              <a:off x="1357200" y="2206800"/>
              <a:ext cx="1723680" cy="241200"/>
            </a:xfrm>
            <a:prstGeom prst="ellipse">
              <a:avLst/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360440" y="1428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83" name="AutoShape 12"/>
          <p:cNvSpPr/>
          <p:nvPr/>
        </p:nvSpPr>
        <p:spPr>
          <a:xfrm>
            <a:off x="3125880" y="1623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3125880" y="1830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4349160" y="185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550160" y="191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1357200" y="2544840"/>
            <a:ext cx="1726920" cy="1026720"/>
            <a:chOff x="1357200" y="2544840"/>
            <a:chExt cx="1726920" cy="1026720"/>
          </a:xfrm>
        </p:grpSpPr>
        <p:sp>
          <p:nvSpPr>
            <p:cNvPr id="188" name="Oval 10"/>
            <p:cNvSpPr/>
            <p:nvPr/>
          </p:nvSpPr>
          <p:spPr>
            <a:xfrm>
              <a:off x="1357200" y="3322800"/>
              <a:ext cx="1723680" cy="241200"/>
            </a:xfrm>
            <a:prstGeom prst="ellipse">
              <a:avLst/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1360440" y="2544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0" name="AutoShape 12"/>
          <p:cNvSpPr/>
          <p:nvPr/>
        </p:nvSpPr>
        <p:spPr>
          <a:xfrm>
            <a:off x="3125880" y="2739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125880" y="2946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43491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1550160" y="30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1357200" y="3714840"/>
            <a:ext cx="1726920" cy="1026720"/>
            <a:chOff x="1357200" y="3714840"/>
            <a:chExt cx="1726920" cy="1026720"/>
          </a:xfrm>
        </p:grpSpPr>
        <p:sp>
          <p:nvSpPr>
            <p:cNvPr id="195" name="Oval 10"/>
            <p:cNvSpPr/>
            <p:nvPr/>
          </p:nvSpPr>
          <p:spPr>
            <a:xfrm>
              <a:off x="1357200" y="4492800"/>
              <a:ext cx="1723680" cy="241200"/>
            </a:xfrm>
            <a:prstGeom prst="ellipse">
              <a:avLst/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1360440" y="3714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125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7" name="AutoShape 12"/>
          <p:cNvSpPr/>
          <p:nvPr/>
        </p:nvSpPr>
        <p:spPr>
          <a:xfrm>
            <a:off x="3125880" y="3909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3125880" y="4116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4349160" y="414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1550160" y="419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1357200" y="4830840"/>
            <a:ext cx="1726920" cy="1026720"/>
            <a:chOff x="1357200" y="4830840"/>
            <a:chExt cx="1726920" cy="1026720"/>
          </a:xfrm>
        </p:grpSpPr>
        <p:sp>
          <p:nvSpPr>
            <p:cNvPr id="202" name="Oval 10"/>
            <p:cNvSpPr/>
            <p:nvPr/>
          </p:nvSpPr>
          <p:spPr>
            <a:xfrm>
              <a:off x="1357200" y="5608800"/>
              <a:ext cx="1723680" cy="241200"/>
            </a:xfrm>
            <a:prstGeom prst="ellipse">
              <a:avLst/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1360440" y="4830840"/>
              <a:ext cx="1723680" cy="1026720"/>
            </a:xfrm>
            <a:prstGeom prst="can">
              <a:avLst>
                <a:gd name="adj" fmla="val 33197"/>
              </a:avLst>
            </a:prstGeom>
            <a:solidFill>
              <a:srgbClr val="87b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04" name="AutoShape 12"/>
          <p:cNvSpPr/>
          <p:nvPr/>
        </p:nvSpPr>
        <p:spPr>
          <a:xfrm>
            <a:off x="3125880" y="5025960"/>
            <a:ext cx="5017680" cy="684000"/>
          </a:xfrm>
          <a:prstGeom prst="roundRect">
            <a:avLst>
              <a:gd name="adj" fmla="val 11505"/>
            </a:avLst>
          </a:pr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3125880" y="5232240"/>
            <a:ext cx="401400" cy="285480"/>
          </a:xfrm>
          <a:prstGeom prst="rightArrow">
            <a:avLst>
              <a:gd name="adj1" fmla="val 50000"/>
              <a:gd name="adj2" fmla="val 58565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43491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>
            <a:off x="1550160" y="531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17600" y="63597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 flipH="1">
            <a:off x="3370320" y="1428840"/>
            <a:ext cx="2623680" cy="1530000"/>
          </a:xfrm>
          <a:prstGeom prst="rect">
            <a:avLst/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 flipH="1">
            <a:off x="3370320" y="3838680"/>
            <a:ext cx="2592000" cy="1294920"/>
          </a:xfrm>
          <a:prstGeom prst="rect">
            <a:avLst/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8"/>
          <p:cNvCxnSpPr/>
          <p:nvPr/>
        </p:nvCxnSpPr>
        <p:spPr>
          <a:xfrm flipH="1">
            <a:off x="1944360" y="3369960"/>
            <a:ext cx="57060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  <a:tailEnd len="med" type="triangle" w="med"/>
          </a:ln>
        </p:spPr>
      </p:cxnSp>
      <p:cxnSp>
        <p:nvCxnSpPr>
          <p:cNvPr id="217" name="直接连接符 9"/>
          <p:cNvCxnSpPr/>
          <p:nvPr/>
        </p:nvCxnSpPr>
        <p:spPr>
          <a:xfrm>
            <a:off x="2514600" y="2252520"/>
            <a:ext cx="360" cy="223380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cxnSp>
        <p:nvCxnSpPr>
          <p:cNvPr id="218" name="直接箭头连接符 10"/>
          <p:cNvCxnSpPr/>
          <p:nvPr/>
        </p:nvCxnSpPr>
        <p:spPr>
          <a:xfrm>
            <a:off x="2520720" y="4485960"/>
            <a:ext cx="85608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cxnSp>
        <p:nvCxnSpPr>
          <p:cNvPr id="219" name="直接箭头连接符 11"/>
          <p:cNvCxnSpPr/>
          <p:nvPr/>
        </p:nvCxnSpPr>
        <p:spPr>
          <a:xfrm>
            <a:off x="2514600" y="2274840"/>
            <a:ext cx="855720" cy="360"/>
          </a:xfrm>
          <a:prstGeom prst="straightConnector1">
            <a:avLst/>
          </a:prstGeom>
          <a:ln w="28575">
            <a:solidFill>
              <a:srgbClr val="125fa8"/>
            </a:solidFill>
            <a:round/>
          </a:ln>
        </p:spPr>
      </p:cxnSp>
      <p:sp>
        <p:nvSpPr>
          <p:cNvPr id="220" name="矩形 12"/>
          <p:cNvSpPr/>
          <p:nvPr/>
        </p:nvSpPr>
        <p:spPr>
          <a:xfrm flipH="1">
            <a:off x="304920" y="2604960"/>
            <a:ext cx="1609200" cy="129672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 flipH="1">
            <a:off x="41605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 flipH="1">
            <a:off x="588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 flipH="1">
            <a:off x="41605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7"/>
          <p:cNvSpPr/>
          <p:nvPr/>
        </p:nvSpPr>
        <p:spPr>
          <a:xfrm flipH="1">
            <a:off x="6162840" y="1857240"/>
            <a:ext cx="2623680" cy="64260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8"/>
          <p:cNvSpPr/>
          <p:nvPr/>
        </p:nvSpPr>
        <p:spPr>
          <a:xfrm flipH="1">
            <a:off x="6162840" y="4143240"/>
            <a:ext cx="2623680" cy="642600"/>
          </a:xfrm>
          <a:prstGeom prst="rect">
            <a:avLst/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3022560" y="1319040"/>
            <a:ext cx="3750840" cy="375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3000240" y="1341360"/>
            <a:ext cx="1875960" cy="2047680"/>
          </a:xfrm>
          <a:custGeom>
            <a:avLst/>
            <a:gdLst>
              <a:gd name="textAreaLeft" fmla="*/ 0 w 1875960"/>
              <a:gd name="textAreaRight" fmla="*/ 1876320 w 1875960"/>
              <a:gd name="textAreaTop" fmla="*/ 0 h 2047680"/>
              <a:gd name="textAreaBottom" fmla="*/ 2048040 h 2047680"/>
            </a:gdLst>
            <a:ahLst/>
            <a:rect l="textAreaLeft" t="textAreaTop" r="textAreaRight" b="textAreaBottom"/>
            <a:pathLst>
              <a:path w="1021" h="1115">
                <a:moveTo>
                  <a:pt x="1021" y="1115"/>
                </a:moveTo>
                <a:lnTo>
                  <a:pt x="1021" y="0"/>
                </a:lnTo>
                <a:lnTo>
                  <a:pt x="516" y="387"/>
                </a:lnTo>
                <a:lnTo>
                  <a:pt x="0" y="763"/>
                </a:lnTo>
                <a:lnTo>
                  <a:pt x="1021" y="1115"/>
                </a:lnTo>
                <a:close/>
              </a:path>
            </a:pathLst>
          </a:cu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4876920" y="1341360"/>
            <a:ext cx="1896840" cy="204768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047680"/>
              <a:gd name="textAreaBottom" fmla="*/ 2048040 h 2047680"/>
            </a:gdLst>
            <a:ahLst/>
            <a:rect l="textAreaLeft" t="textAreaTop" r="textAreaRight" b="textAreaBottom"/>
            <a:pathLst>
              <a:path w="1033" h="1115">
                <a:moveTo>
                  <a:pt x="0" y="0"/>
                </a:moveTo>
                <a:lnTo>
                  <a:pt x="0" y="1115"/>
                </a:lnTo>
                <a:lnTo>
                  <a:pt x="1033" y="763"/>
                </a:lnTo>
                <a:lnTo>
                  <a:pt x="517" y="387"/>
                </a:lnTo>
                <a:lnTo>
                  <a:pt x="0" y="0"/>
                </a:lnTo>
                <a:close/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4876920" y="2743200"/>
            <a:ext cx="1896840" cy="230796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307960"/>
              <a:gd name="textAreaBottom" fmla="*/ 2308320 h 2307960"/>
            </a:gdLst>
            <a:ahLst/>
            <a:rect l="textAreaLeft" t="textAreaTop" r="textAreaRight" b="textAreaBottom"/>
            <a:pathLst>
              <a:path w="1033" h="1257">
                <a:moveTo>
                  <a:pt x="1033" y="0"/>
                </a:moveTo>
                <a:lnTo>
                  <a:pt x="0" y="352"/>
                </a:lnTo>
                <a:lnTo>
                  <a:pt x="646" y="1257"/>
                </a:lnTo>
                <a:lnTo>
                  <a:pt x="833" y="634"/>
                </a:lnTo>
                <a:lnTo>
                  <a:pt x="1033" y="0"/>
                </a:lnTo>
                <a:close/>
              </a:path>
            </a:pathLst>
          </a:custGeom>
          <a:solidFill>
            <a:srgbClr val="125fa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3711600" y="3389400"/>
            <a:ext cx="2350800" cy="1661760"/>
          </a:xfrm>
          <a:custGeom>
            <a:avLst/>
            <a:gdLst>
              <a:gd name="textAreaLeft" fmla="*/ 0 w 2350800"/>
              <a:gd name="textAreaRight" fmla="*/ 2351160 w 2350800"/>
              <a:gd name="textAreaTop" fmla="*/ 0 h 1661760"/>
              <a:gd name="textAreaBottom" fmla="*/ 1662120 h 1661760"/>
            </a:gdLst>
            <a:ahLst/>
            <a:rect l="textAreaLeft" t="textAreaTop" r="textAreaRight" b="textAreaBottom"/>
            <a:pathLst>
              <a:path w="1280" h="905">
                <a:moveTo>
                  <a:pt x="1280" y="905"/>
                </a:moveTo>
                <a:lnTo>
                  <a:pt x="634" y="0"/>
                </a:lnTo>
                <a:lnTo>
                  <a:pt x="0" y="905"/>
                </a:lnTo>
                <a:lnTo>
                  <a:pt x="634" y="905"/>
                </a:lnTo>
                <a:lnTo>
                  <a:pt x="1280" y="905"/>
                </a:lnTo>
                <a:close/>
              </a:path>
            </a:pathLst>
          </a:custGeom>
          <a:solidFill>
            <a:srgbClr val="87bed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000240" y="2743200"/>
            <a:ext cx="1875960" cy="2307960"/>
          </a:xfrm>
          <a:custGeom>
            <a:avLst/>
            <a:gdLst>
              <a:gd name="textAreaLeft" fmla="*/ 0 w 1875960"/>
              <a:gd name="textAreaRight" fmla="*/ 1876320 w 1875960"/>
              <a:gd name="textAreaTop" fmla="*/ 0 h 2307960"/>
              <a:gd name="textAreaBottom" fmla="*/ 2308320 h 2307960"/>
            </a:gdLst>
            <a:ahLst/>
            <a:rect l="textAreaLeft" t="textAreaTop" r="textAreaRight" b="textAreaBottom"/>
            <a:pathLst>
              <a:path w="1021" h="1257">
                <a:moveTo>
                  <a:pt x="387" y="1257"/>
                </a:moveTo>
                <a:lnTo>
                  <a:pt x="1021" y="352"/>
                </a:lnTo>
                <a:lnTo>
                  <a:pt x="0" y="0"/>
                </a:lnTo>
                <a:lnTo>
                  <a:pt x="199" y="634"/>
                </a:lnTo>
                <a:lnTo>
                  <a:pt x="387" y="1257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7" name="矩形 12"/>
          <p:cNvSpPr/>
          <p:nvPr/>
        </p:nvSpPr>
        <p:spPr>
          <a:xfrm>
            <a:off x="24973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6068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449748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30686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56404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2775" t="57688" r="7195" b="0"/>
          <a:stretch/>
        </p:blipFill>
        <p:spPr>
          <a:xfrm>
            <a:off x="1474920" y="1782720"/>
            <a:ext cx="6025680" cy="1328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rcRect l="2775" t="57688" r="7195" b="0"/>
          <a:stretch/>
        </p:blipFill>
        <p:spPr>
          <a:xfrm>
            <a:off x="928800" y="2324160"/>
            <a:ext cx="7194240" cy="161640"/>
          </a:xfrm>
          <a:prstGeom prst="rect">
            <a:avLst/>
          </a:prstGeom>
          <a:ln w="9525">
            <a:noFill/>
          </a:ln>
        </p:spPr>
      </p:pic>
      <p:sp>
        <p:nvSpPr>
          <p:cNvPr id="249" name="梯形 10"/>
          <p:cNvSpPr/>
          <p:nvPr/>
        </p:nvSpPr>
        <p:spPr>
          <a:xfrm>
            <a:off x="5264280" y="1779480"/>
            <a:ext cx="1687320" cy="54432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872098" h="368608">
                <a:moveTo>
                  <a:pt x="0" y="0"/>
                </a:moveTo>
                <a:lnTo>
                  <a:pt x="386770" y="0"/>
                </a:lnTo>
                <a:lnTo>
                  <a:pt x="866850" y="365224"/>
                </a:lnTo>
                <a:lnTo>
                  <a:pt x="872098" y="368608"/>
                </a:lnTo>
                <a:lnTo>
                  <a:pt x="290477" y="368608"/>
                </a:lnTo>
                <a:lnTo>
                  <a:pt x="0" y="0"/>
                </a:lnTo>
                <a:close/>
              </a:path>
            </a:pathLst>
          </a:custGeom>
          <a:solidFill>
            <a:srgbClr val="125fa8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梯形 10"/>
          <p:cNvSpPr/>
          <p:nvPr/>
        </p:nvSpPr>
        <p:spPr>
          <a:xfrm>
            <a:off x="3870360" y="1779480"/>
            <a:ext cx="2647440" cy="545760"/>
          </a:xfrm>
          <a:custGeom>
            <a:avLst/>
            <a:gdLst>
              <a:gd name="textAreaLeft" fmla="*/ 0 w 2647440"/>
              <a:gd name="textAreaRight" fmla="*/ 2647800 w 264744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1368152" h="368908">
                <a:moveTo>
                  <a:pt x="0" y="0"/>
                </a:moveTo>
                <a:lnTo>
                  <a:pt x="722527" y="1"/>
                </a:lnTo>
                <a:lnTo>
                  <a:pt x="1012968" y="368564"/>
                </a:lnTo>
                <a:lnTo>
                  <a:pt x="1356379" y="368564"/>
                </a:lnTo>
                <a:lnTo>
                  <a:pt x="1368152" y="368908"/>
                </a:lnTo>
                <a:lnTo>
                  <a:pt x="434260" y="368670"/>
                </a:lnTo>
                <a:lnTo>
                  <a:pt x="434260" y="366402"/>
                </a:lnTo>
                <a:lnTo>
                  <a:pt x="336977" y="2"/>
                </a:lnTo>
                <a:lnTo>
                  <a:pt x="1" y="1"/>
                </a:lnTo>
                <a:close/>
              </a:path>
            </a:pathLst>
          </a:custGeom>
          <a:solidFill>
            <a:srgbClr val="87bedc">
              <a:alpha val="5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梯形 10"/>
          <p:cNvSpPr/>
          <p:nvPr/>
        </p:nvSpPr>
        <p:spPr>
          <a:xfrm>
            <a:off x="3602160" y="1779480"/>
            <a:ext cx="1112400" cy="544320"/>
          </a:xfrm>
          <a:custGeom>
            <a:avLst/>
            <a:gdLst>
              <a:gd name="textAreaLeft" fmla="*/ 0 w 1112400"/>
              <a:gd name="textAreaRight" fmla="*/ 1112760 w 111240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575180" h="368773">
                <a:moveTo>
                  <a:pt x="88693" y="0"/>
                </a:moveTo>
                <a:lnTo>
                  <a:pt x="477897" y="1"/>
                </a:lnTo>
                <a:lnTo>
                  <a:pt x="575180" y="366401"/>
                </a:lnTo>
                <a:lnTo>
                  <a:pt x="575180" y="368773"/>
                </a:lnTo>
                <a:lnTo>
                  <a:pt x="0" y="368618"/>
                </a:lnTo>
                <a:cubicBezTo>
                  <a:pt x="30966" y="245745"/>
                  <a:pt x="57727" y="122873"/>
                  <a:pt x="88693" y="0"/>
                </a:cubicBezTo>
                <a:close/>
              </a:path>
            </a:pathLst>
          </a:custGeom>
          <a:solidFill>
            <a:srgbClr val="125fa8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487600" y="2324160"/>
            <a:ext cx="1114200" cy="281916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87bedc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3" name="梯形 10"/>
          <p:cNvSpPr/>
          <p:nvPr/>
        </p:nvSpPr>
        <p:spPr>
          <a:xfrm>
            <a:off x="2486160" y="1779480"/>
            <a:ext cx="1299960" cy="54432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671564" h="368563">
                <a:moveTo>
                  <a:pt x="284875" y="0"/>
                </a:moveTo>
                <a:lnTo>
                  <a:pt x="311844" y="0"/>
                </a:lnTo>
                <a:lnTo>
                  <a:pt x="311844" y="2"/>
                </a:lnTo>
                <a:lnTo>
                  <a:pt x="671564" y="2"/>
                </a:lnTo>
                <a:lnTo>
                  <a:pt x="671564" y="904"/>
                </a:lnTo>
                <a:lnTo>
                  <a:pt x="669469" y="904"/>
                </a:lnTo>
                <a:lnTo>
                  <a:pt x="576814" y="368563"/>
                </a:lnTo>
                <a:lnTo>
                  <a:pt x="0" y="368468"/>
                </a:lnTo>
                <a:close/>
              </a:path>
            </a:pathLst>
          </a:custGeom>
          <a:solidFill>
            <a:srgbClr val="87bedc">
              <a:alpha val="5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4" name="矩形 7"/>
          <p:cNvSpPr/>
          <p:nvPr/>
        </p:nvSpPr>
        <p:spPr>
          <a:xfrm>
            <a:off x="3602160" y="2324160"/>
            <a:ext cx="1114200" cy="234900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2349000"/>
              <a:gd name="textAreaBottom" fmla="*/ 2349360 h 23490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125fa8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4716360" y="2324160"/>
            <a:ext cx="1114200" cy="187920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879200"/>
              <a:gd name="textAreaBottom" fmla="*/ 1879560 h 18792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87bedc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5830920" y="2324160"/>
            <a:ext cx="1115640" cy="140940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1409400"/>
              <a:gd name="textAreaBottom" fmla="*/ 1409760 h 1409400"/>
            </a:gdLst>
            <a:ahLst/>
            <a:rect l="textAreaLeft" t="textAreaTop" r="textAreaRight" b="textAreaBottom"/>
            <a:pathLst>
              <a:path w="576064" h="2304193">
                <a:moveTo>
                  <a:pt x="0" y="0"/>
                </a:moveTo>
                <a:lnTo>
                  <a:pt x="576064" y="0"/>
                </a:lnTo>
                <a:lnTo>
                  <a:pt x="576064" y="2016193"/>
                </a:lnTo>
                <a:lnTo>
                  <a:pt x="576064" y="2016224"/>
                </a:lnTo>
                <a:lnTo>
                  <a:pt x="576033" y="2016224"/>
                </a:lnTo>
                <a:lnTo>
                  <a:pt x="288064" y="2304193"/>
                </a:lnTo>
                <a:lnTo>
                  <a:pt x="95" y="2016224"/>
                </a:lnTo>
                <a:lnTo>
                  <a:pt x="0" y="2016224"/>
                </a:lnTo>
                <a:close/>
              </a:path>
            </a:pathLst>
          </a:custGeom>
          <a:solidFill>
            <a:srgbClr val="125fa8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2857680" y="26431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4071960" y="26431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5072040" y="2428920"/>
            <a:ext cx="213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6215040" y="2357280"/>
            <a:ext cx="21384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3"/>
          <p:cNvGrpSpPr/>
          <p:nvPr/>
        </p:nvGrpSpPr>
        <p:grpSpPr>
          <a:xfrm>
            <a:off x="2143080" y="1528920"/>
            <a:ext cx="4908240" cy="3756960"/>
            <a:chOff x="2143080" y="1528920"/>
            <a:chExt cx="4908240" cy="3756960"/>
          </a:xfrm>
        </p:grpSpPr>
        <p:sp>
          <p:nvSpPr>
            <p:cNvPr id="262" name="矩形 12"/>
            <p:cNvSpPr/>
            <p:nvPr/>
          </p:nvSpPr>
          <p:spPr>
            <a:xfrm>
              <a:off x="2143080" y="416556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3" name="矩形 13"/>
            <p:cNvSpPr/>
            <p:nvPr/>
          </p:nvSpPr>
          <p:spPr>
            <a:xfrm>
              <a:off x="2151000" y="280656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4"/>
            <p:cNvSpPr/>
            <p:nvPr/>
          </p:nvSpPr>
          <p:spPr>
            <a:xfrm>
              <a:off x="2151000" y="1528920"/>
              <a:ext cx="4900320" cy="1120320"/>
            </a:xfrm>
            <a:prstGeom prst="rect">
              <a:avLst/>
            </a:prstGeom>
            <a:solidFill>
              <a:schemeClr val="bg1"/>
            </a:solidFill>
            <a:ln w="3175">
              <a:solidFill>
                <a:srgbClr val="ffffff">
                  <a:lumMod val="85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65" name="圆角矩形 15"/>
          <p:cNvSpPr/>
          <p:nvPr/>
        </p:nvSpPr>
        <p:spPr>
          <a:xfrm>
            <a:off x="2286000" y="167148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圆角矩形 16"/>
          <p:cNvSpPr/>
          <p:nvPr/>
        </p:nvSpPr>
        <p:spPr>
          <a:xfrm>
            <a:off x="2286000" y="431496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125f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7" name="圆角矩形 17"/>
          <p:cNvSpPr/>
          <p:nvPr/>
        </p:nvSpPr>
        <p:spPr>
          <a:xfrm>
            <a:off x="2286000" y="2957400"/>
            <a:ext cx="4642920" cy="856800"/>
          </a:xfrm>
          <a:prstGeom prst="roundRect">
            <a:avLst>
              <a:gd name="adj" fmla="val 16667"/>
            </a:avLst>
          </a:prstGeom>
          <a:solidFill>
            <a:srgbClr val="87bed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3925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5"/>
          <p:cNvSpPr/>
          <p:nvPr/>
        </p:nvSpPr>
        <p:spPr>
          <a:xfrm>
            <a:off x="39974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>
            <a:off x="3997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295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48:42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