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373-36D6-433B-A010-D9CAB1AC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C66-5000-4E06-B446-9BC7C19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080-8348-49EE-8EC4-DBF96EF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C87-154A-4875-8609-972E6ED5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B7F-A5BE-4C0D-B05D-233E2946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A90-9E6C-4500-9D52-F84C7FB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EA2-1DF2-4F34-A860-3ABF2128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316-37D7-45C2-8904-6D1D2F8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E8F-D3B2-4885-BD3E-F265D75B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621-E4ED-46D7-8D8C-0D137A6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DB4-F1A0-47B8-BCEA-51F5FA5D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EE1-C6DB-4A2B-B500-D0F10FB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563FEF-7D74-4EA1-840D-BA659A9ED61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5200">
            <a:off x="-3308760" y="3026880"/>
            <a:ext cx="15662520" cy="6790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矩形 10"/>
          <p:cNvSpPr/>
          <p:nvPr/>
        </p:nvSpPr>
        <p:spPr>
          <a:xfrm rot="1765200">
            <a:off x="-12960" y="-2554200"/>
            <a:ext cx="15662520" cy="6790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1041480" dir="21010842" dist="37996" rotWithShape="0" sx="101000" sy="10100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5083560" y="3328200"/>
            <a:ext cx="2574000" cy="653040"/>
            <a:chOff x="5083560" y="3328200"/>
            <a:chExt cx="2574000" cy="653040"/>
          </a:xfrm>
        </p:grpSpPr>
        <p:sp>
          <p:nvSpPr>
            <p:cNvPr id="44" name="矩形 13"/>
            <p:cNvSpPr/>
            <p:nvPr/>
          </p:nvSpPr>
          <p:spPr>
            <a:xfrm>
              <a:off x="5083560" y="3333600"/>
              <a:ext cx="2574000" cy="64728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51" strike="noStrike">
                  <a:solidFill>
                    <a:srgbClr val="d9d9d9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240" y="3328200"/>
              <a:ext cx="85320" cy="6530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6" name="组合 20"/>
          <p:cNvGrpSpPr/>
          <p:nvPr/>
        </p:nvGrpSpPr>
        <p:grpSpPr>
          <a:xfrm>
            <a:off x="4552920" y="1847880"/>
            <a:ext cx="3104640" cy="837720"/>
            <a:chOff x="4552920" y="1847880"/>
            <a:chExt cx="3104640" cy="83772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4640" cy="8377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600" spc="-15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240" y="1882440"/>
              <a:ext cx="85320" cy="76860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9" name="组合 22"/>
          <p:cNvGrpSpPr/>
          <p:nvPr/>
        </p:nvGrpSpPr>
        <p:grpSpPr>
          <a:xfrm>
            <a:off x="3951360" y="2685960"/>
            <a:ext cx="3706200" cy="647280"/>
            <a:chOff x="3951360" y="2685960"/>
            <a:chExt cx="3706200" cy="64728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200" cy="64728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5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240" y="2720520"/>
              <a:ext cx="85320" cy="57816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3280"/>
            <a:ext cx="3104640" cy="83772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040" cy="64728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368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3683880" y="999000"/>
            <a:ext cx="424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简洁大气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fade/>
      </p:transition>
    </mc:Choice>
    <mc:Fallback>
      <p:transition spd="slow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760" y="2623680"/>
            <a:ext cx="1158120" cy="2097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8640" y="2623680"/>
            <a:ext cx="1158120" cy="16052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480" y="2623680"/>
            <a:ext cx="1158120" cy="28245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5640" y="2623680"/>
            <a:ext cx="1158120" cy="209736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d9d9d9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6440" y="2623680"/>
            <a:ext cx="1158120" cy="39484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760" y="2623680"/>
            <a:ext cx="5887440" cy="4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10152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368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762360" y="1242360"/>
            <a:ext cx="4646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d9d9d9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748680" y="937800"/>
            <a:ext cx="46645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4000"/>
              </a:lnSpc>
            </a:pPr>
            <a:r>
              <a:rPr b="0" lang="en-US" sz="5400" spc="-151" strike="noStrike">
                <a:solidFill>
                  <a:srgbClr val="d9d9d9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4000"/>
              </a:lnSpc>
            </a:pPr>
            <a:r>
              <a:rPr b="0" lang="en-US" sz="4000" spc="-151" strike="noStrike">
                <a:solidFill>
                  <a:srgbClr val="d9d9d9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92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92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92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16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16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16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1720" y="522612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520" y="522036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20360"/>
            <a:ext cx="284760" cy="28476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6200" y="522036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2036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640" y="521496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920" y="5214960"/>
            <a:ext cx="284760" cy="28476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5200" y="521496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2640" y="520920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2920" y="520920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600" y="2729880"/>
            <a:ext cx="1326600" cy="139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9640" y="2758680"/>
            <a:ext cx="126792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9160" y="2786040"/>
            <a:ext cx="9684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068080" y="601200"/>
            <a:ext cx="2055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276120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281232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281232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522936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28048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8048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9"/>
          <p:cNvSpPr/>
          <p:nvPr/>
        </p:nvSpPr>
        <p:spPr>
          <a:xfrm>
            <a:off x="768600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773712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773712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2"/>
          <p:cNvSpPr/>
          <p:nvPr/>
        </p:nvSpPr>
        <p:spPr>
          <a:xfrm>
            <a:off x="348012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等腰三角形 13"/>
          <p:cNvSpPr/>
          <p:nvPr/>
        </p:nvSpPr>
        <p:spPr>
          <a:xfrm>
            <a:off x="595944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等腰三角形 14"/>
          <p:cNvSpPr/>
          <p:nvPr/>
        </p:nvSpPr>
        <p:spPr>
          <a:xfrm>
            <a:off x="840492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92840" y="1336680"/>
            <a:ext cx="5806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8"/>
          <p:cNvSpPr/>
          <p:nvPr/>
        </p:nvSpPr>
        <p:spPr>
          <a:xfrm>
            <a:off x="247032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9"/>
          <p:cNvSpPr/>
          <p:nvPr/>
        </p:nvSpPr>
        <p:spPr>
          <a:xfrm flipV="1">
            <a:off x="335628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圆角矩形 15"/>
          <p:cNvSpPr/>
          <p:nvPr/>
        </p:nvSpPr>
        <p:spPr>
          <a:xfrm>
            <a:off x="507240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16"/>
          <p:cNvSpPr/>
          <p:nvPr/>
        </p:nvSpPr>
        <p:spPr>
          <a:xfrm flipV="1">
            <a:off x="595836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圆角矩形 22"/>
          <p:cNvSpPr/>
          <p:nvPr/>
        </p:nvSpPr>
        <p:spPr>
          <a:xfrm>
            <a:off x="770724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等腰三角形 23"/>
          <p:cNvSpPr/>
          <p:nvPr/>
        </p:nvSpPr>
        <p:spPr>
          <a:xfrm flipV="1">
            <a:off x="859320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4481280" y="856080"/>
            <a:ext cx="3229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d9d9d9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3464640" y="1696680"/>
            <a:ext cx="526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</a:pPr>
            <a:r>
              <a:rPr b="0" lang="en-US" sz="1800" spc="-1" strike="noStrike">
                <a:solidFill>
                  <a:srgbClr val="d9d9d9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圆角矩形 3"/>
          <p:cNvSpPr/>
          <p:nvPr/>
        </p:nvSpPr>
        <p:spPr>
          <a:xfrm>
            <a:off x="247032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247032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247032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47032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47032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圆角矩形 10"/>
          <p:cNvSpPr/>
          <p:nvPr/>
        </p:nvSpPr>
        <p:spPr>
          <a:xfrm>
            <a:off x="507240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507240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507240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07240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507240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圆角矩形 17"/>
          <p:cNvSpPr/>
          <p:nvPr/>
        </p:nvSpPr>
        <p:spPr>
          <a:xfrm>
            <a:off x="770724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770724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770724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770724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770724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3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4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64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2400" y="336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2400" y="4324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2400" y="3845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2400" y="4788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040" y="4325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040" y="4802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040" y="3851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040" y="33634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966240" y="2295360"/>
            <a:ext cx="1025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223960" y="5522760"/>
            <a:ext cx="1735920" cy="6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  <Words>101</Words>
  <Paragraphs>65</Paragraphs>
  <Company>uniquePP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9Z</dcterms:created>
  <dc:creator>DEMONCHAN</dc:creator>
  <dc:description/>
  <dc:language>en-US</dc:language>
  <cp:lastModifiedBy>a</cp:lastModifiedBy>
  <dcterms:modified xsi:type="dcterms:W3CDTF">2015-07-25T10:08:5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