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11F-1A56-400B-A767-644A17C9CCA5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386E-355E-4896-BE90-7196A7845E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页（背景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云朵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pn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云朵和文字有动画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目录页，浅灰色的没有链接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页上下页进度条图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407880" y="7524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6400" y="4386240"/>
            <a:ext cx="57801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99960" y="746280"/>
            <a:ext cx="5854680" cy="3292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29920" y="4378320"/>
            <a:ext cx="57783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1EF-115D-4F05-B88A-28D9F29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2B4-0787-40F9-BD65-BFC45C2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A11-F030-402B-AEA6-108C5A20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292-600D-4266-AE01-C531B5A8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010-230A-4283-847D-3C2F66A3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1BC-BDD8-460A-8D35-ECCDDD6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D33-26A4-42AC-949B-8161A96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056-5895-4F06-8F52-0216A45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D61-0E31-49E2-AD49-6D12202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A3C-F9D6-4764-BFFB-076E59C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70A-7AB3-4347-978C-F3F9F31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174-D034-446B-AC28-CBFDFFA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1C5C-A0A0-47E9-A65A-B32BAB6A08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D69B-2C86-44CB-BEC7-9E5F598410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1.jpe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50920" y="2367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bg" descr="bg"/>
          <p:cNvPicPr/>
          <p:nvPr/>
        </p:nvPicPr>
        <p:blipFill>
          <a:blip r:embed="rId13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50" name="big cloud" descr="F:\wps ppt work\imgs\fengye-cloud.pngfengye-cloud"/>
          <p:cNvPicPr/>
          <p:nvPr/>
        </p:nvPicPr>
        <p:blipFill>
          <a:blip r:embed="rId14"/>
          <a:stretch/>
        </p:blipFill>
        <p:spPr>
          <a:xfrm>
            <a:off x="-304920" y="-5770440"/>
            <a:ext cx="12747600" cy="12974400"/>
          </a:xfrm>
          <a:prstGeom prst="rect">
            <a:avLst/>
          </a:prstGeom>
          <a:ln w="0">
            <a:noFill/>
          </a:ln>
        </p:spPr>
      </p:pic>
      <p:pic>
        <p:nvPicPr>
          <p:cNvPr id="51" name="cloud1" descr="F:\wps ppt work\imgs\cloud1.pngcloud1"/>
          <p:cNvPicPr/>
          <p:nvPr/>
        </p:nvPicPr>
        <p:blipFill>
          <a:blip r:embed="rId15"/>
          <a:stretch/>
        </p:blipFill>
        <p:spPr>
          <a:xfrm>
            <a:off x="1765440" y="-1282680"/>
            <a:ext cx="8829360" cy="3833640"/>
          </a:xfrm>
          <a:prstGeom prst="rect">
            <a:avLst/>
          </a:prstGeom>
          <a:ln w="0">
            <a:noFill/>
          </a:ln>
        </p:spPr>
      </p:pic>
      <p:sp>
        <p:nvSpPr>
          <p:cNvPr id="52" name="大标题"/>
          <p:cNvSpPr/>
          <p:nvPr/>
        </p:nvSpPr>
        <p:spPr>
          <a:xfrm>
            <a:off x="4125240" y="171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蓝色简洁</a:t>
            </a:r>
            <a:r>
              <a:rPr b="0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封面标注"/>
          <p:cNvSpPr/>
          <p:nvPr/>
        </p:nvSpPr>
        <p:spPr>
          <a:xfrm>
            <a:off x="5449680" y="275760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这里放置一段备注文字，作为对标题的注释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也可以加入姓名单位等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71 -0.03525 C -0.124807 -0.021188 -0.128881 -0.006121 -0.128881 0.008946 C -0.128881 0.079257 -0.070799 0.134502 -0.00049 0.134502 C 0.068803 0.134501 0.12586 0.079257 0.12586 0.008945 C 0.12586 -0.006122 0.122803 -0.021188 0.117713 -0.03525 C 0.099372 0.011958 0.053518 0.045106 -0.00049 0.045106 C -0.055515 0.045106 -0.101369 0.011959 -0.11971 -0.03525 Z">
                                      <p:cBhvr>
                                        <p:cTn id="6" dur="1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背景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56" name="board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pic>
        <p:nvPicPr>
          <p:cNvPr id="57" name="banner" descr="banner-cloud"/>
          <p:cNvPicPr/>
          <p:nvPr/>
        </p:nvPicPr>
        <p:blipFill>
          <a:blip r:embed="rId3"/>
          <a:stretch/>
        </p:blipFill>
        <p:spPr>
          <a:xfrm>
            <a:off x="-81000" y="-27000"/>
            <a:ext cx="12293640" cy="6918480"/>
          </a:xfrm>
          <a:prstGeom prst="rect">
            <a:avLst/>
          </a:prstGeom>
          <a:ln w="0">
            <a:noFill/>
          </a:ln>
        </p:spPr>
      </p:pic>
      <p:sp>
        <p:nvSpPr>
          <p:cNvPr id="58" name="大标题"/>
          <p:cNvSpPr/>
          <p:nvPr/>
        </p:nvSpPr>
        <p:spPr>
          <a:xfrm>
            <a:off x="4322520" y="171360"/>
            <a:ext cx="326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loud1"/>
          <p:cNvPicPr/>
          <p:nvPr/>
        </p:nvPicPr>
        <p:blipFill>
          <a:blip r:embed="rId3"/>
          <a:stretch/>
        </p:blipFill>
        <p:spPr>
          <a:xfrm>
            <a:off x="163440" y="133200"/>
            <a:ext cx="4510080" cy="19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cloud1"/>
          <p:cNvPicPr/>
          <p:nvPr/>
        </p:nvPicPr>
        <p:blipFill>
          <a:blip r:embed="rId4"/>
          <a:stretch/>
        </p:blipFill>
        <p:spPr>
          <a:xfrm>
            <a:off x="833400" y="-49320"/>
            <a:ext cx="3144960" cy="1363680"/>
          </a:xfrm>
          <a:prstGeom prst="rect">
            <a:avLst/>
          </a:prstGeom>
          <a:ln w="0">
            <a:noFill/>
          </a:ln>
        </p:spPr>
      </p:pic>
      <p:sp>
        <p:nvSpPr>
          <p:cNvPr id="63" name="大标题"/>
          <p:cNvSpPr/>
          <p:nvPr/>
        </p:nvSpPr>
        <p:spPr>
          <a:xfrm>
            <a:off x="5592600" y="922320"/>
            <a:ext cx="326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sp>
        <p:nvSpPr>
          <p:cNvPr id="66" name="大标题"/>
          <p:cNvSpPr/>
          <p:nvPr/>
        </p:nvSpPr>
        <p:spPr>
          <a:xfrm>
            <a:off x="4112280" y="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wps ppt work\imgs\tb-houtui.pngtb-houtui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401480" y="6383160"/>
            <a:ext cx="615600" cy="52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wps ppt work\imgs\tb-tuichu.pngtb-tuichu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1320560" y="6383160"/>
            <a:ext cx="615960" cy="52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:\wps ppt work\imgs\tb-xiuxi.pngtb-xiuxi"/>
          <p:cNvPicPr/>
          <p:nvPr/>
        </p:nvPicPr>
        <p:blipFill>
          <a:blip r:embed="rId4"/>
          <a:stretch/>
        </p:blipFill>
        <p:spPr>
          <a:xfrm>
            <a:off x="9499680" y="6383160"/>
            <a:ext cx="615960" cy="524160"/>
          </a:xfrm>
          <a:prstGeom prst="rect">
            <a:avLst/>
          </a:prstGeom>
          <a:ln w="0">
            <a:noFill/>
          </a:ln>
        </p:spPr>
      </p:pic>
      <p:sp>
        <p:nvSpPr>
          <p:cNvPr id="71" name="大标题"/>
          <p:cNvSpPr/>
          <p:nvPr/>
        </p:nvSpPr>
        <p:spPr>
          <a:xfrm>
            <a:off x="4140360" y="2805120"/>
            <a:ext cx="360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放映结束，谢谢观看！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5-07-25T09:51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