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113-C5B7-4B1C-89E6-742B731F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898-487E-4D6A-9022-A56A5BC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4FB-123E-45F3-8614-416907D5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F7D-DAB4-4C0D-B6FA-032A5882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D4C-A19A-49E4-9520-708AE942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40A-B03E-4777-9F42-7C4C85A9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D41-3CF8-4318-9DE6-A72C32EA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89A-C88A-476A-8B7B-9797BB7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650-EB51-4F45-A6DC-7D89205D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1D3-14AA-42C7-BF5C-9AADAC0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060-A9C6-4A66-998A-14B8CDB4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8F3-A216-4AE6-A009-F5E3961E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53"/>
          <p:cNvSpPr/>
          <p:nvPr/>
        </p:nvSpPr>
        <p:spPr>
          <a:xfrm>
            <a:off x="0" y="0"/>
            <a:ext cx="9143640" cy="127296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9144000" h="1573468">
                <a:moveTo>
                  <a:pt x="0" y="0"/>
                </a:moveTo>
                <a:lnTo>
                  <a:pt x="9144000" y="0"/>
                </a:lnTo>
                <a:lnTo>
                  <a:pt x="9144000" y="1573468"/>
                </a:lnTo>
                <a:cubicBezTo>
                  <a:pt x="8366324" y="1260849"/>
                  <a:pt x="6613146" y="987880"/>
                  <a:pt x="4566370" y="893733"/>
                </a:cubicBezTo>
                <a:cubicBezTo>
                  <a:pt x="2564681" y="801661"/>
                  <a:pt x="826911" y="905676"/>
                  <a:pt x="0" y="1134226"/>
                </a:cubicBezTo>
                <a:close/>
              </a:path>
            </a:pathLst>
          </a:custGeom>
          <a:gradFill rotWithShape="0">
            <a:gsLst>
              <a:gs pos="0">
                <a:srgbClr val="63c03e"/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27080">
              <a:srgbClr val="aaec16">
                <a:alpha val="3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" name="椭圆 55"/>
          <p:cNvSpPr/>
          <p:nvPr/>
        </p:nvSpPr>
        <p:spPr>
          <a:xfrm>
            <a:off x="536760" y="-1391040"/>
            <a:ext cx="2232000" cy="22356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" name="椭圆 57"/>
          <p:cNvSpPr/>
          <p:nvPr/>
        </p:nvSpPr>
        <p:spPr>
          <a:xfrm>
            <a:off x="3587400" y="-45576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" name="椭圆 58"/>
          <p:cNvSpPr/>
          <p:nvPr/>
        </p:nvSpPr>
        <p:spPr>
          <a:xfrm>
            <a:off x="4565520" y="108360"/>
            <a:ext cx="505440" cy="50616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" name="椭圆 59"/>
          <p:cNvSpPr/>
          <p:nvPr/>
        </p:nvSpPr>
        <p:spPr>
          <a:xfrm>
            <a:off x="6770880" y="-1967040"/>
            <a:ext cx="3024000" cy="302904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" name="椭圆 60"/>
          <p:cNvSpPr/>
          <p:nvPr/>
        </p:nvSpPr>
        <p:spPr>
          <a:xfrm>
            <a:off x="8313120" y="33732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" name="椭圆 61"/>
          <p:cNvSpPr/>
          <p:nvPr/>
        </p:nvSpPr>
        <p:spPr>
          <a:xfrm>
            <a:off x="320400" y="-181800"/>
            <a:ext cx="578880" cy="57996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" name="椭圆 62"/>
          <p:cNvSpPr/>
          <p:nvPr/>
        </p:nvSpPr>
        <p:spPr>
          <a:xfrm>
            <a:off x="6084000" y="-22680"/>
            <a:ext cx="647640" cy="64872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" name="椭圆 63"/>
          <p:cNvSpPr/>
          <p:nvPr/>
        </p:nvSpPr>
        <p:spPr>
          <a:xfrm>
            <a:off x="7668360" y="-1537560"/>
            <a:ext cx="2160000" cy="21636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3"/>
          <p:cNvSpPr/>
          <p:nvPr/>
        </p:nvSpPr>
        <p:spPr>
          <a:xfrm>
            <a:off x="0" y="0"/>
            <a:ext cx="9143640" cy="127296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9144000" h="1573468">
                <a:moveTo>
                  <a:pt x="0" y="0"/>
                </a:moveTo>
                <a:lnTo>
                  <a:pt x="9144000" y="0"/>
                </a:lnTo>
                <a:lnTo>
                  <a:pt x="9144000" y="1573468"/>
                </a:lnTo>
                <a:cubicBezTo>
                  <a:pt x="8366324" y="1260849"/>
                  <a:pt x="6613146" y="987880"/>
                  <a:pt x="4566370" y="893733"/>
                </a:cubicBezTo>
                <a:cubicBezTo>
                  <a:pt x="2564681" y="801661"/>
                  <a:pt x="826911" y="905676"/>
                  <a:pt x="0" y="1134226"/>
                </a:cubicBezTo>
                <a:close/>
              </a:path>
            </a:pathLst>
          </a:custGeom>
          <a:gradFill rotWithShape="0">
            <a:gsLst>
              <a:gs pos="0">
                <a:srgbClr val="63c03e"/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27080">
              <a:srgbClr val="aaec16">
                <a:alpha val="3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8" name="椭圆 55"/>
          <p:cNvSpPr/>
          <p:nvPr/>
        </p:nvSpPr>
        <p:spPr>
          <a:xfrm>
            <a:off x="536760" y="-1391040"/>
            <a:ext cx="2232000" cy="22356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9" name="椭圆 57"/>
          <p:cNvSpPr/>
          <p:nvPr/>
        </p:nvSpPr>
        <p:spPr>
          <a:xfrm>
            <a:off x="3587400" y="-45576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0" name="椭圆 58"/>
          <p:cNvSpPr/>
          <p:nvPr/>
        </p:nvSpPr>
        <p:spPr>
          <a:xfrm>
            <a:off x="4565520" y="108360"/>
            <a:ext cx="505440" cy="50616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1" name="椭圆 59"/>
          <p:cNvSpPr/>
          <p:nvPr/>
        </p:nvSpPr>
        <p:spPr>
          <a:xfrm>
            <a:off x="6770880" y="-1967040"/>
            <a:ext cx="3024000" cy="302904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2" name="椭圆 60"/>
          <p:cNvSpPr/>
          <p:nvPr/>
        </p:nvSpPr>
        <p:spPr>
          <a:xfrm>
            <a:off x="8313120" y="33732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3" name="椭圆 61"/>
          <p:cNvSpPr/>
          <p:nvPr/>
        </p:nvSpPr>
        <p:spPr>
          <a:xfrm>
            <a:off x="320400" y="-181800"/>
            <a:ext cx="578880" cy="57996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4" name="椭圆 62"/>
          <p:cNvSpPr/>
          <p:nvPr/>
        </p:nvSpPr>
        <p:spPr>
          <a:xfrm>
            <a:off x="6084000" y="-22680"/>
            <a:ext cx="647640" cy="64872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5" name="椭圆 63"/>
          <p:cNvSpPr/>
          <p:nvPr/>
        </p:nvSpPr>
        <p:spPr>
          <a:xfrm>
            <a:off x="7668360" y="-1537560"/>
            <a:ext cx="2160000" cy="21636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945A325-2D1F-4834-AF56-7C3A848E1BF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7"/>
          <p:cNvSpPr/>
          <p:nvPr/>
        </p:nvSpPr>
        <p:spPr>
          <a:xfrm>
            <a:off x="0" y="0"/>
            <a:ext cx="9143640" cy="5714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椭圆 18"/>
          <p:cNvSpPr/>
          <p:nvPr/>
        </p:nvSpPr>
        <p:spPr>
          <a:xfrm>
            <a:off x="0" y="0"/>
            <a:ext cx="9130680" cy="5714640"/>
          </a:xfrm>
          <a:prstGeom prst="ellipse">
            <a:avLst/>
          </a:prstGeom>
          <a:gradFill rotWithShape="0">
            <a:gsLst>
              <a:gs pos="0">
                <a:srgbClr val="e5ebaf">
                  <a:alpha val="1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椭圆 9"/>
          <p:cNvSpPr/>
          <p:nvPr/>
        </p:nvSpPr>
        <p:spPr>
          <a:xfrm>
            <a:off x="395640" y="327888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椭圆 12"/>
          <p:cNvSpPr/>
          <p:nvPr/>
        </p:nvSpPr>
        <p:spPr>
          <a:xfrm>
            <a:off x="-324720" y="4488120"/>
            <a:ext cx="791640" cy="791640"/>
          </a:xfrm>
          <a:prstGeom prst="ellipse">
            <a:avLst/>
          </a:prstGeom>
          <a:gradFill rotWithShape="0">
            <a:gsLst>
              <a:gs pos="0">
                <a:srgbClr val="e5ebaf">
                  <a:alpha val="53333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椭圆 13"/>
          <p:cNvSpPr/>
          <p:nvPr/>
        </p:nvSpPr>
        <p:spPr>
          <a:xfrm>
            <a:off x="8119800" y="47037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椭圆 16"/>
          <p:cNvSpPr/>
          <p:nvPr/>
        </p:nvSpPr>
        <p:spPr>
          <a:xfrm>
            <a:off x="2771640" y="5209200"/>
            <a:ext cx="505440" cy="50544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椭圆 10"/>
          <p:cNvSpPr/>
          <p:nvPr/>
        </p:nvSpPr>
        <p:spPr>
          <a:xfrm>
            <a:off x="6770880" y="-1895040"/>
            <a:ext cx="3024000" cy="302400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椭圆 11"/>
          <p:cNvSpPr/>
          <p:nvPr/>
        </p:nvSpPr>
        <p:spPr>
          <a:xfrm>
            <a:off x="8313120" y="5349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椭圆 14"/>
          <p:cNvSpPr/>
          <p:nvPr/>
        </p:nvSpPr>
        <p:spPr>
          <a:xfrm>
            <a:off x="320400" y="-181440"/>
            <a:ext cx="578880" cy="57888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6084000" y="-22680"/>
            <a:ext cx="647640" cy="64764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椭圆 17"/>
          <p:cNvSpPr/>
          <p:nvPr/>
        </p:nvSpPr>
        <p:spPr>
          <a:xfrm>
            <a:off x="7668360" y="-1535040"/>
            <a:ext cx="2160000" cy="21600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椭圆 4"/>
          <p:cNvSpPr/>
          <p:nvPr/>
        </p:nvSpPr>
        <p:spPr>
          <a:xfrm rot="775800">
            <a:off x="-288000" y="478080"/>
            <a:ext cx="9690840" cy="4821120"/>
          </a:xfrm>
          <a:custGeom>
            <a:avLst/>
            <a:gdLst>
              <a:gd name="textAreaLeft" fmla="*/ 0 w 9690840"/>
              <a:gd name="textAreaRight" fmla="*/ 9691200 w 9690840"/>
              <a:gd name="textAreaTop" fmla="*/ 0 h 4821120"/>
              <a:gd name="textAreaBottom" fmla="*/ 4821480 h 4821120"/>
            </a:gdLst>
            <a:ahLst/>
            <a:rect l="textAreaLeft" t="textAreaTop" r="textAreaRight" b="textAreaBottom"/>
            <a:pathLst>
              <a:path w="9691312" h="4821579">
                <a:moveTo>
                  <a:pt x="2507519" y="263739"/>
                </a:moveTo>
                <a:cubicBezTo>
                  <a:pt x="2616372" y="237116"/>
                  <a:pt x="2727515" y="212326"/>
                  <a:pt x="2840769" y="189452"/>
                </a:cubicBezTo>
                <a:cubicBezTo>
                  <a:pt x="3444793" y="67459"/>
                  <a:pt x="4108885" y="0"/>
                  <a:pt x="4805971" y="0"/>
                </a:cubicBezTo>
                <a:cubicBezTo>
                  <a:pt x="6764477" y="0"/>
                  <a:pt x="8462521" y="532497"/>
                  <a:pt x="9298990" y="1311659"/>
                </a:cubicBezTo>
                <a:lnTo>
                  <a:pt x="9691312" y="3020786"/>
                </a:lnTo>
                <a:cubicBezTo>
                  <a:pt x="9125730" y="4056951"/>
                  <a:pt x="7152855" y="4821580"/>
                  <a:pt x="4805970" y="4821579"/>
                </a:cubicBezTo>
                <a:cubicBezTo>
                  <a:pt x="2948372" y="4821579"/>
                  <a:pt x="1325089" y="4342540"/>
                  <a:pt x="448958" y="3628329"/>
                </a:cubicBezTo>
                <a:lnTo>
                  <a:pt x="0" y="1672472"/>
                </a:lnTo>
                <a:cubicBezTo>
                  <a:pt x="411792" y="1058905"/>
                  <a:pt x="1324377" y="553107"/>
                  <a:pt x="2507519" y="263739"/>
                </a:cubicBezTo>
                <a:close/>
              </a:path>
            </a:pathLst>
          </a:custGeom>
          <a:solidFill>
            <a:srgbClr val="cce3b7"/>
          </a:solidFill>
          <a:ln>
            <a:solidFill>
              <a:srgbClr val="e2eebc"/>
            </a:solidFill>
            <a:round/>
          </a:ln>
          <a:effectLst>
            <a:glow rad="241200">
              <a:srgbClr val="e5ebaf">
                <a:alpha val="66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-169560" y="-175680"/>
            <a:ext cx="9856800" cy="6252840"/>
            <a:chOff x="-169560" y="-175680"/>
            <a:chExt cx="9856800" cy="6252840"/>
          </a:xfrm>
        </p:grpSpPr>
        <p:sp>
          <p:nvSpPr>
            <p:cNvPr id="110" name="椭圆 6"/>
            <p:cNvSpPr/>
            <p:nvPr/>
          </p:nvSpPr>
          <p:spPr>
            <a:xfrm rot="775800">
              <a:off x="198720" y="788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111" name="Picture 2" descr="E:\桌面\未命名 拷贝.png"/>
            <p:cNvPicPr/>
            <p:nvPr/>
          </p:nvPicPr>
          <p:blipFill>
            <a:blip r:embed="rId1"/>
            <a:srcRect l="13822" t="57796" r="18800" b="2916"/>
            <a:stretch/>
          </p:blipFill>
          <p:spPr>
            <a:xfrm>
              <a:off x="5678640" y="3315960"/>
              <a:ext cx="3420000" cy="19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椭圆 6"/>
            <p:cNvSpPr/>
            <p:nvPr/>
          </p:nvSpPr>
          <p:spPr>
            <a:xfrm rot="775800">
              <a:off x="214560" y="788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>
                <a:alpha val="7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3" name="矩形 19"/>
          <p:cNvSpPr/>
          <p:nvPr/>
        </p:nvSpPr>
        <p:spPr>
          <a:xfrm>
            <a:off x="467640" y="2281320"/>
            <a:ext cx="633636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a336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21"/>
          <p:cNvSpPr/>
          <p:nvPr/>
        </p:nvSpPr>
        <p:spPr>
          <a:xfrm>
            <a:off x="3884400" y="4500720"/>
            <a:ext cx="12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  <a:ea typeface="微软雅黑"/>
              </a:rPr>
              <a:t>January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020600" y="2391840"/>
            <a:ext cx="538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a336"/>
                </a:solidFill>
                <a:latin typeface="Calibri"/>
                <a:ea typeface="微软雅黑"/>
              </a:rPr>
              <a:t>COMPANY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4"/>
          <p:cNvGrpSpPr/>
          <p:nvPr/>
        </p:nvGrpSpPr>
        <p:grpSpPr>
          <a:xfrm>
            <a:off x="2303640" y="1488960"/>
            <a:ext cx="2552400" cy="782280"/>
            <a:chOff x="2303640" y="1488960"/>
            <a:chExt cx="2552400" cy="782280"/>
          </a:xfrm>
        </p:grpSpPr>
        <p:sp>
          <p:nvSpPr>
            <p:cNvPr id="117" name="圆角矩形 25"/>
            <p:cNvSpPr/>
            <p:nvPr/>
          </p:nvSpPr>
          <p:spPr>
            <a:xfrm>
              <a:off x="2303640" y="1488960"/>
              <a:ext cx="612360" cy="6472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8" name="矩形 26"/>
            <p:cNvSpPr/>
            <p:nvPr/>
          </p:nvSpPr>
          <p:spPr>
            <a:xfrm>
              <a:off x="3420360" y="1632960"/>
              <a:ext cx="1435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a336"/>
                  </a:solidFill>
                  <a:latin typeface="Calibri"/>
                  <a:ea typeface="微软雅黑"/>
                </a:rPr>
                <a:t>LOG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圆角矩形 27"/>
            <p:cNvSpPr/>
            <p:nvPr/>
          </p:nvSpPr>
          <p:spPr>
            <a:xfrm>
              <a:off x="2971800" y="1798560"/>
              <a:ext cx="306000" cy="33768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4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圆角矩形 28"/>
            <p:cNvSpPr/>
            <p:nvPr/>
          </p:nvSpPr>
          <p:spPr>
            <a:xfrm>
              <a:off x="2970360" y="1488960"/>
              <a:ext cx="306000" cy="26640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1" name="矩形 1"/>
          <p:cNvSpPr/>
          <p:nvPr/>
        </p:nvSpPr>
        <p:spPr>
          <a:xfrm>
            <a:off x="1781280" y="97416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绿色清新工作汇报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93320" y="5221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7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1049"/>
          <p:cNvGrpSpPr/>
          <p:nvPr/>
        </p:nvGrpSpPr>
        <p:grpSpPr>
          <a:xfrm>
            <a:off x="-80280" y="985680"/>
            <a:ext cx="8828640" cy="643680"/>
            <a:chOff x="-80280" y="985680"/>
            <a:chExt cx="8828640" cy="643680"/>
          </a:xfrm>
        </p:grpSpPr>
        <p:sp>
          <p:nvSpPr>
            <p:cNvPr id="124" name="TextBox 22"/>
            <p:cNvSpPr/>
            <p:nvPr/>
          </p:nvSpPr>
          <p:spPr>
            <a:xfrm>
              <a:off x="611280" y="985680"/>
              <a:ext cx="8137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BOUT 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1048"/>
            <p:cNvGrpSpPr/>
            <p:nvPr/>
          </p:nvGrpSpPr>
          <p:grpSpPr>
            <a:xfrm>
              <a:off x="-80280" y="1032480"/>
              <a:ext cx="7531560" cy="596880"/>
              <a:chOff x="-80280" y="1032480"/>
              <a:chExt cx="7531560" cy="596880"/>
            </a:xfrm>
          </p:grpSpPr>
          <p:sp>
            <p:nvSpPr>
              <p:cNvPr id="126" name="矩形 94"/>
              <p:cNvSpPr/>
              <p:nvPr/>
            </p:nvSpPr>
            <p:spPr>
              <a:xfrm>
                <a:off x="252360" y="1407960"/>
                <a:ext cx="7198920" cy="18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a336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127" name="Picture 3" descr="E:\桌面\绿叶.png"/>
              <p:cNvPicPr/>
              <p:nvPr/>
            </p:nvPicPr>
            <p:blipFill>
              <a:blip r:embed="rId1"/>
              <a:stretch/>
            </p:blipFill>
            <p:spPr>
              <a:xfrm rot="20016000">
                <a:off x="-27000" y="1143000"/>
                <a:ext cx="585000" cy="37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" name="矩形 40"/>
          <p:cNvSpPr/>
          <p:nvPr/>
        </p:nvSpPr>
        <p:spPr>
          <a:xfrm>
            <a:off x="108000" y="-22320"/>
            <a:ext cx="903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ART Ⅰ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TL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TITLE TITLE TITLE TITL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0"/>
          <p:cNvGrpSpPr/>
          <p:nvPr/>
        </p:nvGrpSpPr>
        <p:grpSpPr>
          <a:xfrm>
            <a:off x="-80280" y="985680"/>
            <a:ext cx="8973000" cy="643680"/>
            <a:chOff x="-80280" y="985680"/>
            <a:chExt cx="8973000" cy="643680"/>
          </a:xfrm>
        </p:grpSpPr>
        <p:sp>
          <p:nvSpPr>
            <p:cNvPr id="130" name="TextBox 11"/>
            <p:cNvSpPr/>
            <p:nvPr/>
          </p:nvSpPr>
          <p:spPr>
            <a:xfrm>
              <a:off x="531360" y="985680"/>
              <a:ext cx="836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UR BUSIN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组合 12"/>
            <p:cNvGrpSpPr/>
            <p:nvPr/>
          </p:nvGrpSpPr>
          <p:grpSpPr>
            <a:xfrm>
              <a:off x="-80280" y="1032480"/>
              <a:ext cx="7533000" cy="596880"/>
              <a:chOff x="-80280" y="1032480"/>
              <a:chExt cx="7533000" cy="596880"/>
            </a:xfrm>
          </p:grpSpPr>
          <p:sp>
            <p:nvSpPr>
              <p:cNvPr id="132" name="矩形 13"/>
              <p:cNvSpPr/>
              <p:nvPr/>
            </p:nvSpPr>
            <p:spPr>
              <a:xfrm>
                <a:off x="252360" y="1407960"/>
                <a:ext cx="7200360" cy="18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a336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133" name="Picture 3" descr="E:\桌面\绿叶.png"/>
              <p:cNvPicPr/>
              <p:nvPr/>
            </p:nvPicPr>
            <p:blipFill>
              <a:blip r:embed="rId1"/>
              <a:stretch/>
            </p:blipFill>
            <p:spPr>
              <a:xfrm rot="20016000">
                <a:off x="-27000" y="1143000"/>
                <a:ext cx="585000" cy="37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" name="矩形 30"/>
          <p:cNvSpPr/>
          <p:nvPr/>
        </p:nvSpPr>
        <p:spPr>
          <a:xfrm>
            <a:off x="108000" y="-22320"/>
            <a:ext cx="903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ART Ⅱ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TITLE TITLE TITLE TITLE 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"/>
          <p:cNvSpPr/>
          <p:nvPr/>
        </p:nvSpPr>
        <p:spPr>
          <a:xfrm>
            <a:off x="0" y="0"/>
            <a:ext cx="9143640" cy="5714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椭圆 18"/>
          <p:cNvSpPr/>
          <p:nvPr/>
        </p:nvSpPr>
        <p:spPr>
          <a:xfrm>
            <a:off x="0" y="0"/>
            <a:ext cx="9130680" cy="5714640"/>
          </a:xfrm>
          <a:prstGeom prst="ellipse">
            <a:avLst/>
          </a:prstGeom>
          <a:gradFill rotWithShape="0">
            <a:gsLst>
              <a:gs pos="0">
                <a:srgbClr val="e5ebaf">
                  <a:alpha val="1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椭圆 9"/>
          <p:cNvSpPr/>
          <p:nvPr/>
        </p:nvSpPr>
        <p:spPr>
          <a:xfrm>
            <a:off x="395640" y="327888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椭圆 12"/>
          <p:cNvSpPr/>
          <p:nvPr/>
        </p:nvSpPr>
        <p:spPr>
          <a:xfrm>
            <a:off x="-324720" y="4488120"/>
            <a:ext cx="791640" cy="791640"/>
          </a:xfrm>
          <a:prstGeom prst="ellipse">
            <a:avLst/>
          </a:prstGeom>
          <a:gradFill rotWithShape="0">
            <a:gsLst>
              <a:gs pos="0">
                <a:srgbClr val="e5ebaf">
                  <a:alpha val="53333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椭圆 13"/>
          <p:cNvSpPr/>
          <p:nvPr/>
        </p:nvSpPr>
        <p:spPr>
          <a:xfrm>
            <a:off x="8119800" y="47037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椭圆 16"/>
          <p:cNvSpPr/>
          <p:nvPr/>
        </p:nvSpPr>
        <p:spPr>
          <a:xfrm>
            <a:off x="2771640" y="5209200"/>
            <a:ext cx="505440" cy="50544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椭圆 10"/>
          <p:cNvSpPr/>
          <p:nvPr/>
        </p:nvSpPr>
        <p:spPr>
          <a:xfrm>
            <a:off x="6770880" y="-1895040"/>
            <a:ext cx="3024000" cy="302400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椭圆 11"/>
          <p:cNvSpPr/>
          <p:nvPr/>
        </p:nvSpPr>
        <p:spPr>
          <a:xfrm>
            <a:off x="8313120" y="5349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椭圆 14"/>
          <p:cNvSpPr/>
          <p:nvPr/>
        </p:nvSpPr>
        <p:spPr>
          <a:xfrm>
            <a:off x="320400" y="-181440"/>
            <a:ext cx="578880" cy="57888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椭圆 15"/>
          <p:cNvSpPr/>
          <p:nvPr/>
        </p:nvSpPr>
        <p:spPr>
          <a:xfrm>
            <a:off x="6084000" y="-22680"/>
            <a:ext cx="647640" cy="64764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椭圆 17"/>
          <p:cNvSpPr/>
          <p:nvPr/>
        </p:nvSpPr>
        <p:spPr>
          <a:xfrm>
            <a:off x="7668360" y="-1535040"/>
            <a:ext cx="2160000" cy="21600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椭圆 4"/>
          <p:cNvSpPr/>
          <p:nvPr/>
        </p:nvSpPr>
        <p:spPr>
          <a:xfrm rot="775800">
            <a:off x="-288000" y="478080"/>
            <a:ext cx="9690840" cy="4821120"/>
          </a:xfrm>
          <a:custGeom>
            <a:avLst/>
            <a:gdLst>
              <a:gd name="textAreaLeft" fmla="*/ 0 w 9690840"/>
              <a:gd name="textAreaRight" fmla="*/ 9691200 w 9690840"/>
              <a:gd name="textAreaTop" fmla="*/ 0 h 4821120"/>
              <a:gd name="textAreaBottom" fmla="*/ 4821480 h 4821120"/>
            </a:gdLst>
            <a:ahLst/>
            <a:rect l="textAreaLeft" t="textAreaTop" r="textAreaRight" b="textAreaBottom"/>
            <a:pathLst>
              <a:path w="9691312" h="4821579">
                <a:moveTo>
                  <a:pt x="2507519" y="263739"/>
                </a:moveTo>
                <a:cubicBezTo>
                  <a:pt x="2616372" y="237116"/>
                  <a:pt x="2727515" y="212326"/>
                  <a:pt x="2840769" y="189452"/>
                </a:cubicBezTo>
                <a:cubicBezTo>
                  <a:pt x="3444793" y="67459"/>
                  <a:pt x="4108885" y="0"/>
                  <a:pt x="4805971" y="0"/>
                </a:cubicBezTo>
                <a:cubicBezTo>
                  <a:pt x="6764477" y="0"/>
                  <a:pt x="8462521" y="532497"/>
                  <a:pt x="9298990" y="1311659"/>
                </a:cubicBezTo>
                <a:lnTo>
                  <a:pt x="9691312" y="3020786"/>
                </a:lnTo>
                <a:cubicBezTo>
                  <a:pt x="9125730" y="4056951"/>
                  <a:pt x="7152855" y="4821580"/>
                  <a:pt x="4805970" y="4821579"/>
                </a:cubicBezTo>
                <a:cubicBezTo>
                  <a:pt x="2948372" y="4821579"/>
                  <a:pt x="1325089" y="4342540"/>
                  <a:pt x="448958" y="3628329"/>
                </a:cubicBezTo>
                <a:lnTo>
                  <a:pt x="0" y="1672472"/>
                </a:lnTo>
                <a:cubicBezTo>
                  <a:pt x="411792" y="1058905"/>
                  <a:pt x="1324377" y="553107"/>
                  <a:pt x="2507519" y="263739"/>
                </a:cubicBezTo>
                <a:close/>
              </a:path>
            </a:pathLst>
          </a:custGeom>
          <a:solidFill>
            <a:srgbClr val="cce3b7"/>
          </a:solidFill>
          <a:ln>
            <a:solidFill>
              <a:srgbClr val="e2eebc"/>
            </a:solidFill>
            <a:round/>
          </a:ln>
          <a:effectLst>
            <a:glow rad="241200">
              <a:srgbClr val="e5ebaf">
                <a:alpha val="66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-123840" y="-166680"/>
            <a:ext cx="9856800" cy="6252840"/>
            <a:chOff x="-123840" y="-166680"/>
            <a:chExt cx="9856800" cy="6252840"/>
          </a:xfrm>
        </p:grpSpPr>
        <p:sp>
          <p:nvSpPr>
            <p:cNvPr id="148" name="椭圆 6"/>
            <p:cNvSpPr/>
            <p:nvPr/>
          </p:nvSpPr>
          <p:spPr>
            <a:xfrm rot="775800">
              <a:off x="244440" y="797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149" name="Picture 2" descr="E:\桌面\未命名 拷贝.png"/>
            <p:cNvPicPr/>
            <p:nvPr/>
          </p:nvPicPr>
          <p:blipFill>
            <a:blip r:embed="rId1"/>
            <a:srcRect l="13822" t="57796" r="18800" b="2916"/>
            <a:stretch/>
          </p:blipFill>
          <p:spPr>
            <a:xfrm>
              <a:off x="5724360" y="3324960"/>
              <a:ext cx="3420000" cy="19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椭圆 6"/>
            <p:cNvSpPr/>
            <p:nvPr/>
          </p:nvSpPr>
          <p:spPr>
            <a:xfrm rot="775800">
              <a:off x="260280" y="797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>
                <a:alpha val="7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900000" y="1825560"/>
            <a:ext cx="7367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00a336"/>
                </a:solidFill>
                <a:latin typeface="Calibri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42360" y="52430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  <Words>56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1:40:51Z</dcterms:created>
  <dc:creator>Liukunfa</dc:creator>
  <dc:description/>
  <dc:language>en-US</dc:language>
  <cp:lastModifiedBy>王玉清</cp:lastModifiedBy>
  <dcterms:modified xsi:type="dcterms:W3CDTF">2016-02-24T03:34:48Z</dcterms:modified>
  <cp:revision>29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4</vt:r8>
  </property>
</Properties>
</file>