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C114-2A02-4D72-B1C7-54451BD47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AE6A-92CC-4EEC-9884-D5DE7F7AE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A1A9-7A92-4B1B-8EAA-7CD84FAC4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3210-8FC8-47D2-B32F-64FBC00DF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D470-474D-44B3-B0F5-CA7D951C5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B948-945E-43DA-8909-3E7A012E3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B0CE-90BC-4B61-AA93-736FE7CC8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DA8C-A7EB-4A10-B148-FE2AF729F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7640" y="332640"/>
            <a:ext cx="3744000" cy="10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5132-B36F-4DD6-901C-B5D9E5D20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0DF2-77F5-4188-8CE5-C42498D46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6972-B42A-485A-9D70-7FE2BCB35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D968-58A3-45F8-A272-CAA48A050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434343">
                  <a:alpha val="40000"/>
                </a:srgbClr>
              </a:gs>
              <a:gs pos="100000">
                <a:srgbClr val="5d5d5d">
                  <a:alpha val="50196"/>
                </a:srgbClr>
              </a:gs>
            </a:gsLst>
            <a:lin ang="16200000"/>
          </a:gradFill>
          <a:ln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  <a:ea typeface="宋体"/>
            </a:endParaRPr>
          </a:p>
        </p:txBody>
      </p:sp>
      <p:pic>
        <p:nvPicPr>
          <p:cNvPr id="1" name="Picture 2" descr="C:\Users\Shai Schwartz\Work\VisualBee\Public\Photos\legal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3744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610A2F-3A39-4402-B9D1-5C9D466AA7F2}" type="slidenum">
              <a:rPr b="0" lang="en-US" sz="1200" spc="-1" strike="noStrike">
                <a:solidFill>
                  <a:srgbClr val="8b8b8b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文字方塊 1"/>
          <p:cNvSpPr/>
          <p:nvPr/>
        </p:nvSpPr>
        <p:spPr>
          <a:xfrm>
            <a:off x="12600" y="12600"/>
            <a:ext cx="12240" cy="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  <a:ea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487640" cy="230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链锁商务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  <a:ea typeface="PMingLiU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640" y="2637000"/>
            <a:ext cx="37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T219">
  <a:themeElements>
    <a:clrScheme name="VB_Gray">
      <a:dk1>
        <a:srgbClr val="000000"/>
      </a:dk1>
      <a:lt1>
        <a:srgbClr val="ffffff"/>
      </a:lt1>
      <a:dk2>
        <a:srgbClr val="292929"/>
      </a:dk2>
      <a:lt2>
        <a:srgbClr val="f8f8f8"/>
      </a:lt2>
      <a:accent1>
        <a:srgbClr val="3b3b3b"/>
      </a:accent1>
      <a:accent2>
        <a:srgbClr val="606060"/>
      </a:accent2>
      <a:accent3>
        <a:srgbClr val="6c6c6c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4</Words>
  <Paragraphs>2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3:01:22Z</dcterms:created>
  <dc:creator>Your User Name</dc:creator>
  <dc:description/>
  <dc:language>en-US</dc:language>
  <cp:lastModifiedBy>a</cp:lastModifiedBy>
  <dcterms:modified xsi:type="dcterms:W3CDTF">2015-07-25T07:43:35Z</dcterms:modified>
  <cp:revision>5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