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DBCF-82ED-40E9-A00D-891A129F1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F93D-6840-442B-85E7-0DD3D4CC1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D9D5-95F6-40A1-A1DD-6E8518BCA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5281-821F-49C9-9111-8F5A752747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9A94-9C1C-44A8-BB63-4E370A5D80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6799-4FD2-46A8-B46C-3C70CBAF7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987D-6068-4B7F-9557-5DE00D918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A90C-2E58-4028-880D-FC0CC91BF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3640" y="4437000"/>
            <a:ext cx="7776360" cy="56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5BC1-4E17-4B87-BAF3-5932B9422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3403-A823-4FE6-83B2-C1A3AEB2A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BB56-1E56-45E5-9A44-B2705428E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9EDE-B66A-4544-A979-B8AEA5C99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:\Users\Shai Schwartz\Work\VisualBee\Public\Photos\sketch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Rectangle 17" hidden="1"/>
          <p:cNvSpPr/>
          <p:nvPr/>
        </p:nvSpPr>
        <p:spPr>
          <a:xfrm>
            <a:off x="0" y="0"/>
            <a:ext cx="9143640" cy="1483920"/>
          </a:xfrm>
          <a:prstGeom prst="rect">
            <a:avLst/>
          </a:prstGeom>
          <a:solidFill>
            <a:schemeClr val="tx2">
              <a:alpha val="80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  <a:ea typeface="宋体"/>
            </a:endParaRPr>
          </a:p>
        </p:txBody>
      </p:sp>
      <p:pic>
        <p:nvPicPr>
          <p:cNvPr id="2" name="Picture 8" descr="C:\Users\Shai Schwartz\Work\VisualBee\Public\Photos\tech3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925F07-5A3C-47B8-B6CB-61B79CE28018}" type="slidenum">
              <a:rPr b="0" lang="en-US" sz="1200" spc="-1" strike="noStrike">
                <a:solidFill>
                  <a:srgbClr val="8b8b8b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字方塊 1"/>
          <p:cNvSpPr/>
          <p:nvPr/>
        </p:nvSpPr>
        <p:spPr>
          <a:xfrm>
            <a:off x="12600" y="12600"/>
            <a:ext cx="12240" cy="1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ndara"/>
              <a:ea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5280" cy="12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000000"/>
                </a:solidFill>
                <a:latin typeface="Candara"/>
                <a:ea typeface="PMingLiU"/>
              </a:rPr>
              <a:t>立体齿轮通用</a:t>
            </a:r>
            <a:r>
              <a:rPr b="1" lang="en-US" sz="4000" spc="-1" strike="noStrike">
                <a:solidFill>
                  <a:srgbClr val="000000"/>
                </a:solidFill>
                <a:latin typeface="Candara"/>
                <a:ea typeface="PMingLiU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ndara"/>
                <a:ea typeface="PMingLiU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T211">
  <a:themeElements>
    <a:clrScheme name="VB_Gray">
      <a:dk1>
        <a:srgbClr val="000000"/>
      </a:dk1>
      <a:lt1>
        <a:srgbClr val="ffffff"/>
      </a:lt1>
      <a:dk2>
        <a:srgbClr val="292929"/>
      </a:dk2>
      <a:lt2>
        <a:srgbClr val="f8f8f8"/>
      </a:lt2>
      <a:accent1>
        <a:srgbClr val="3b3b3b"/>
      </a:accent1>
      <a:accent2>
        <a:srgbClr val="606060"/>
      </a:accent2>
      <a:accent3>
        <a:srgbClr val="6c6c6c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13</Words>
  <Paragraphs>2</Paragraphs>
  <Company>Your Company N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5:58:34Z</dcterms:created>
  <dc:creator>Your User Name</dc:creator>
  <dc:description/>
  <dc:language>en-US</dc:language>
  <cp:lastModifiedBy>王玉清</cp:lastModifiedBy>
  <dcterms:modified xsi:type="dcterms:W3CDTF">2016-02-24T04:06:31Z</dcterms:modified>
  <cp:revision>5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</vt:r8>
  </property>
</Properties>
</file>