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89E-93F4-4BDD-8A7E-AD59EDB0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D68-2F57-4BD2-AC1B-5935594E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74B-5BC7-4601-97A2-6E055F41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6F6-F0CB-4D11-8245-2348C9E5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064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201-22CD-4A32-AD72-E8730C3E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A65-7A1C-4F9E-8335-5F6D5822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728-C677-4897-BCD0-4CC76CFA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7EA-B167-4170-AE41-9608941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064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28C-AA73-4BA8-842A-2BAC6FE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EA1-4FDC-4150-915A-047D81F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8DF-5630-46CB-AA46-1D33D66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8E2-376E-4471-B265-D3ECA52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8104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10400"/>
            <a:ext cx="28958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810400"/>
            <a:ext cx="2133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A419-02D4-4AD5-A099-78139A59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3488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Arial"/>
              </a:rPr>
              <a:t>绿竹通用</a:t>
            </a: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d0d0d"/>
                </a:solidFill>
                <a:latin typeface="Arial"/>
              </a:rPr>
              <a:t>模板 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678800" y="671400"/>
            <a:ext cx="138888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413880"/>
            <a:ext cx="64008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434880" y="5638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一下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3488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</a:rPr>
              <a:t>谢谢观看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413880"/>
            <a:ext cx="64008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78800" y="671400"/>
            <a:ext cx="138888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hea</dc:creator>
  <dc:description>www.nordridesign.cn</dc:description>
  <dc:language>en-US</dc:language>
  <cp:lastModifiedBy>王玉清</cp:lastModifiedBy>
  <dcterms:modified xsi:type="dcterms:W3CDTF">2016-02-22T03:15:41Z</dcterms:modified>
  <cp:revision>6</cp:revision>
  <dc:subject>Powerbar模板組作品</dc:subject>
  <dc:title>Sp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