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D5C-4845-4A0D-895C-188E29DA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46B-1D64-4A61-B1E5-887EDDEF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C504-0179-4451-87E5-7E6D8021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FBE-92FE-4F3D-9E07-AA80DEAFC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D7FD-0C26-4318-ACD0-75DF42F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F86-1303-4E8D-9409-A1311B48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FC8E-2A69-47A5-94B8-982B89AD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660-3E78-418D-8C74-3EF761B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9CE5-6E81-42E8-A659-4A25A8C0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3CDD-1853-4E45-840C-36EBD53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9ED-FBE8-4E83-A76F-0445B4C1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3DF-9122-47AA-94CE-D55507CC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5c36b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499"/>
              </a:spcBef>
              <a:buClr>
                <a:srgbClr val="95c36b"/>
              </a:buClr>
              <a:buFont typeface="Wingdings" charset="2"/>
              <a:buChar char="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499"/>
              </a:spcBef>
              <a:buClr>
                <a:srgbClr val="95c36b"/>
              </a:buClr>
              <a:buFont typeface="Wingdings" charset="2"/>
              <a:buChar char="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499"/>
              </a:spcBef>
              <a:buClr>
                <a:srgbClr val="95c36b"/>
              </a:buClr>
              <a:buFont typeface="Wingdings" charset="2"/>
              <a:buChar char="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499"/>
              </a:spcBef>
              <a:buClr>
                <a:srgbClr val="95c36b"/>
              </a:buClr>
              <a:buFont typeface="Wingdings" charset="2"/>
              <a:buChar char="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6255-D23E-4E82-A862-60209E728EE8}" type="datetime">
              <a:rPr b="0" lang="zh-CN" sz="1200" spc="-1" strike="noStrike">
                <a:solidFill>
                  <a:srgbClr val="898989"/>
                </a:solidFill>
                <a:latin typeface="Palatino Linotype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7C30-0533-4A7D-BA16-DBEEF608C50E}" type="slidenum">
              <a:rPr b="0" lang="zh-CN" sz="1200" spc="-1" strike="noStrike">
                <a:solidFill>
                  <a:srgbClr val="898989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3"/>
          <p:cNvSpPr/>
          <p:nvPr/>
        </p:nvSpPr>
        <p:spPr>
          <a:xfrm>
            <a:off x="0" y="4221000"/>
            <a:ext cx="9144000" cy="1800"/>
          </a:xfrm>
          <a:prstGeom prst="line">
            <a:avLst/>
          </a:prstGeom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52640"/>
            <a:ext cx="77724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661000"/>
            <a:ext cx="6400800" cy="6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898989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Palatino Linotype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Palatino Linotype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"/>
          <p:cNvSpPr/>
          <p:nvPr/>
        </p:nvSpPr>
        <p:spPr>
          <a:xfrm>
            <a:off x="620640" y="657360"/>
            <a:ext cx="378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Palatino Linotype"/>
              </a:rPr>
              <a:t>漫画人物</a:t>
            </a:r>
            <a:r>
              <a:rPr b="0" lang="zh-CN" sz="4000" spc="-1" strike="noStrike">
                <a:solidFill>
                  <a:srgbClr val="000000"/>
                </a:solidFill>
                <a:latin typeface="Palatino Linotype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Palatino Linotype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5c26a"/>
              </a:buClr>
              <a:buFont typeface="Wingdings" charset="2"/>
              <a:buChar char=""/>
            </a:pPr>
            <a:endParaRPr b="0" lang="en-US" sz="2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"/>
          <p:cNvSpPr/>
          <p:nvPr/>
        </p:nvSpPr>
        <p:spPr>
          <a:xfrm>
            <a:off x="936720" y="544500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9be02"/>
                </a:solidFill>
                <a:uFillTx/>
                <a:latin typeface="Palatino Linotype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Palatino Linotype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entury Gothic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Palatino Linotype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Palatino Linotype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Palatino Linotype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alatino Linotype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Palatino Linotype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Palatino Linotype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9be0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Palatino Linotype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124C-C011-462B-BCDA-122F17C51E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21:5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1:14:5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