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264-FCD4-411D-8005-740DE887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D2E-DFE6-4568-9837-12A23FA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5EB-2F0D-4F8F-963B-BE0FEF6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6CE-0850-4105-BEC6-D549F829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B070-7852-4CCE-94BC-4DFBC7D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E614-F0C7-412C-A481-73C78B7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9587-27B6-42CA-814C-7BBCD90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963E-437E-471C-962D-36D31CAF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0FEE-8146-4F94-99C5-9BB54F2A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12FE-3913-4DA6-9F72-E29635C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9437-6422-4FC0-BFF7-C5505C0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28B-CC5C-4C80-AA4D-16C30D0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434D-C1B2-4C24-8828-85A4C8A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B37-BBA4-45CD-B9E8-CBB37CE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D8D-AB7C-477B-9FC9-6A34833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B2DE-E8EC-4E8B-B60D-090079D8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0B93-1CD5-49A9-9282-280A9DA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BC2-948E-4E2D-96AC-70609ABD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F59-6243-44FA-A06D-1395EBB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A77-44DC-48F2-A7C1-FF4EAD8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801-4501-4CCF-B3A1-BB2F9E3F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5E3-0B95-4055-9D69-56D15726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7D3-2839-45B5-B7BF-8BD865BB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1D6-4F87-4A58-BB65-E22E0A84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26D6-52B2-4D1E-A845-018A1E72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938E-7DB1-4F84-9717-A24C3BB4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梅花通用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511200" y="4824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王玉清</cp:lastModifiedBy>
  <dcterms:modified xsi:type="dcterms:W3CDTF">2016-02-22T03:01:46Z</dcterms:modified>
  <cp:revision>15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