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37AE-418F-4CED-8C10-16D9D3E42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D59A-933D-4969-AD07-98580B87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E9D3-F13E-430F-9F04-1F33EC7F8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FA9C-CA23-4790-A500-833D24C39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47D9-8F97-4708-98F8-58EB4E6C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2AAD-4E49-40E7-9565-F7B3B5B6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7A57-3DB0-4F27-92A6-69DA0C8A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52DF-D4FA-480D-9CC6-992D4161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6C63-7204-4697-995A-163EF014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04D4-024E-48E5-BDCB-3DD944E2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A375-9D29-48B2-8657-A25C7185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B67C-0C8A-4937-97EB-A04766A8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5703-CB0B-4179-BB59-A472CC27FCD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75AF-6461-45BB-94FE-F180F8F79EF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"/>
          <p:cNvGrpSpPr/>
          <p:nvPr/>
        </p:nvGrpSpPr>
        <p:grpSpPr>
          <a:xfrm>
            <a:off x="900000" y="1307160"/>
            <a:ext cx="7452000" cy="4743720"/>
            <a:chOff x="900000" y="1307160"/>
            <a:chExt cx="7452000" cy="4743720"/>
          </a:xfrm>
        </p:grpSpPr>
        <p:sp>
          <p:nvSpPr>
            <p:cNvPr id="42" name="AutoShape 5"/>
            <p:cNvSpPr/>
            <p:nvPr/>
          </p:nvSpPr>
          <p:spPr>
            <a:xfrm>
              <a:off x="900000" y="2448360"/>
              <a:ext cx="7452000" cy="552600"/>
            </a:xfrm>
            <a:prstGeom prst="roundRect">
              <a:avLst>
                <a:gd name="adj" fmla="val 42329"/>
              </a:avLst>
            </a:prstGeom>
            <a:solidFill>
              <a:srgbClr val="f2f2f2"/>
            </a:solidFill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AutoShape 5"/>
            <p:cNvSpPr/>
            <p:nvPr/>
          </p:nvSpPr>
          <p:spPr>
            <a:xfrm>
              <a:off x="900000" y="3452760"/>
              <a:ext cx="7452000" cy="552600"/>
            </a:xfrm>
            <a:prstGeom prst="roundRect">
              <a:avLst>
                <a:gd name="adj" fmla="val 42329"/>
              </a:avLst>
            </a:prstGeom>
            <a:solidFill>
              <a:srgbClr val="f2f2f2"/>
            </a:solidFill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AutoShape 5"/>
            <p:cNvSpPr/>
            <p:nvPr/>
          </p:nvSpPr>
          <p:spPr>
            <a:xfrm>
              <a:off x="900000" y="4426920"/>
              <a:ext cx="7452000" cy="552600"/>
            </a:xfrm>
            <a:prstGeom prst="roundRect">
              <a:avLst>
                <a:gd name="adj" fmla="val 42329"/>
              </a:avLst>
            </a:prstGeom>
            <a:solidFill>
              <a:srgbClr val="f2f2f2"/>
            </a:solidFill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5"/>
            <p:cNvSpPr/>
            <p:nvPr/>
          </p:nvSpPr>
          <p:spPr>
            <a:xfrm>
              <a:off x="900000" y="5403240"/>
              <a:ext cx="7452000" cy="552600"/>
            </a:xfrm>
            <a:prstGeom prst="roundRect">
              <a:avLst>
                <a:gd name="adj" fmla="val 42329"/>
              </a:avLst>
            </a:prstGeom>
            <a:solidFill>
              <a:srgbClr val="f2f2f2"/>
            </a:solidFill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5"/>
            <p:cNvSpPr/>
            <p:nvPr/>
          </p:nvSpPr>
          <p:spPr>
            <a:xfrm>
              <a:off x="900000" y="1480320"/>
              <a:ext cx="7452000" cy="552600"/>
            </a:xfrm>
            <a:prstGeom prst="roundRect">
              <a:avLst>
                <a:gd name="adj" fmla="val 42329"/>
              </a:avLst>
            </a:prstGeom>
            <a:solidFill>
              <a:srgbClr val="f2f2f2"/>
            </a:solidFill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23"/>
            <p:cNvSpPr/>
            <p:nvPr/>
          </p:nvSpPr>
          <p:spPr>
            <a:xfrm>
              <a:off x="1854000" y="1514160"/>
              <a:ext cx="626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此处添加目录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1011240" y="3360600"/>
              <a:ext cx="799200" cy="754200"/>
              <a:chOff x="1011240" y="3360600"/>
              <a:chExt cx="799200" cy="754200"/>
            </a:xfrm>
          </p:grpSpPr>
          <p:sp>
            <p:nvSpPr>
              <p:cNvPr id="49" name="Oval 5"/>
              <p:cNvSpPr/>
              <p:nvPr/>
            </p:nvSpPr>
            <p:spPr>
              <a:xfrm>
                <a:off x="1054080" y="3381120"/>
                <a:ext cx="697320" cy="705600"/>
              </a:xfrm>
              <a:prstGeom prst="ellipse">
                <a:avLst/>
              </a:prstGeom>
              <a:solidFill>
                <a:srgbClr val="0077da"/>
              </a:solidFill>
              <a:ln w="381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" name="Group 11"/>
              <p:cNvGrpSpPr/>
              <p:nvPr/>
            </p:nvGrpSpPr>
            <p:grpSpPr>
              <a:xfrm>
                <a:off x="1011240" y="3730680"/>
                <a:ext cx="594720" cy="384120"/>
                <a:chOff x="1011240" y="3730680"/>
                <a:chExt cx="594720" cy="384120"/>
              </a:xfrm>
            </p:grpSpPr>
            <p:grpSp>
              <p:nvGrpSpPr>
                <p:cNvPr id="51" name="Group 12"/>
                <p:cNvGrpSpPr/>
                <p:nvPr/>
              </p:nvGrpSpPr>
              <p:grpSpPr>
                <a:xfrm>
                  <a:off x="1011240" y="3730680"/>
                  <a:ext cx="594720" cy="384120"/>
                  <a:chOff x="1011240" y="3730680"/>
                  <a:chExt cx="594720" cy="384120"/>
                </a:xfrm>
              </p:grpSpPr>
              <p:grpSp>
                <p:nvGrpSpPr>
                  <p:cNvPr id="52" name="Group 13"/>
                  <p:cNvGrpSpPr/>
                  <p:nvPr/>
                </p:nvGrpSpPr>
                <p:grpSpPr>
                  <a:xfrm>
                    <a:off x="1078920" y="3839760"/>
                    <a:ext cx="527040" cy="263880"/>
                    <a:chOff x="1078920" y="3839760"/>
                    <a:chExt cx="527040" cy="263880"/>
                  </a:xfrm>
                </p:grpSpPr>
                <p:sp>
                  <p:nvSpPr>
                    <p:cNvPr id="53" name="AutoShape 9"/>
                    <p:cNvSpPr/>
                    <p:nvPr/>
                  </p:nvSpPr>
                  <p:spPr>
                    <a:xfrm flipH="1" flipV="1" rot="5374200">
                      <a:off x="1363320" y="3806280"/>
                      <a:ext cx="10044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" name="AutoShape 10"/>
                    <p:cNvSpPr/>
                    <p:nvPr/>
                  </p:nvSpPr>
                  <p:spPr>
                    <a:xfrm flipH="1" flipV="1" rot="6189600">
                      <a:off x="1299600" y="3803760"/>
                      <a:ext cx="100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" name="AutoShape 11"/>
                    <p:cNvSpPr/>
                    <p:nvPr/>
                  </p:nvSpPr>
                  <p:spPr>
                    <a:xfrm flipH="1" flipV="1" rot="6485400">
                      <a:off x="1263960" y="3793680"/>
                      <a:ext cx="10044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" name="AutoShape 12"/>
                    <p:cNvSpPr/>
                    <p:nvPr/>
                  </p:nvSpPr>
                  <p:spPr>
                    <a:xfrm flipH="1" flipV="1" rot="7017600">
                      <a:off x="1222560" y="3778920"/>
                      <a:ext cx="100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" name="Group 18"/>
                  <p:cNvGrpSpPr/>
                  <p:nvPr/>
                </p:nvGrpSpPr>
                <p:grpSpPr>
                  <a:xfrm>
                    <a:off x="1011240" y="3730680"/>
                    <a:ext cx="479880" cy="384120"/>
                    <a:chOff x="1011240" y="3730680"/>
                    <a:chExt cx="479880" cy="384120"/>
                  </a:xfrm>
                </p:grpSpPr>
                <p:sp>
                  <p:nvSpPr>
                    <p:cNvPr id="58" name="AutoShape 14"/>
                    <p:cNvSpPr/>
                    <p:nvPr/>
                  </p:nvSpPr>
                  <p:spPr>
                    <a:xfrm flipH="1" flipV="1" rot="6727200">
                      <a:off x="1243800" y="3796200"/>
                      <a:ext cx="100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" name="AutoShape 15"/>
                    <p:cNvSpPr/>
                    <p:nvPr/>
                  </p:nvSpPr>
                  <p:spPr>
                    <a:xfrm flipH="1" flipV="1" rot="7542600">
                      <a:off x="1185120" y="3769560"/>
                      <a:ext cx="100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" name="AutoShape 16"/>
                    <p:cNvSpPr/>
                    <p:nvPr/>
                  </p:nvSpPr>
                  <p:spPr>
                    <a:xfrm flipH="1" flipV="1" rot="7838400">
                      <a:off x="1156320" y="3745440"/>
                      <a:ext cx="10044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" name="AutoShape 17"/>
                    <p:cNvSpPr/>
                    <p:nvPr/>
                  </p:nvSpPr>
                  <p:spPr>
                    <a:xfrm flipH="1" flipV="1" rot="8370600">
                      <a:off x="1123200" y="3717000"/>
                      <a:ext cx="100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2" name="Group 23"/>
                <p:cNvGrpSpPr/>
                <p:nvPr/>
              </p:nvGrpSpPr>
              <p:grpSpPr>
                <a:xfrm>
                  <a:off x="1063080" y="3769560"/>
                  <a:ext cx="487800" cy="315360"/>
                  <a:chOff x="1063080" y="3769560"/>
                  <a:chExt cx="487800" cy="315360"/>
                </a:xfrm>
              </p:grpSpPr>
              <p:grpSp>
                <p:nvGrpSpPr>
                  <p:cNvPr id="63" name="Group 24"/>
                  <p:cNvGrpSpPr/>
                  <p:nvPr/>
                </p:nvGrpSpPr>
                <p:grpSpPr>
                  <a:xfrm>
                    <a:off x="1118880" y="3859200"/>
                    <a:ext cx="432000" cy="216000"/>
                    <a:chOff x="1118880" y="3859200"/>
                    <a:chExt cx="432000" cy="216000"/>
                  </a:xfrm>
                </p:grpSpPr>
                <p:sp>
                  <p:nvSpPr>
                    <p:cNvPr id="64" name="AutoShape 20"/>
                    <p:cNvSpPr/>
                    <p:nvPr/>
                  </p:nvSpPr>
                  <p:spPr>
                    <a:xfrm flipH="1" flipV="1" rot="5374200">
                      <a:off x="1351800" y="3831480"/>
                      <a:ext cx="82080" cy="31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" name="AutoShape 21"/>
                    <p:cNvSpPr/>
                    <p:nvPr/>
                  </p:nvSpPr>
                  <p:spPr>
                    <a:xfrm flipH="1" flipV="1" rot="6189600">
                      <a:off x="1300320" y="3829680"/>
                      <a:ext cx="82080" cy="31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" name="AutoShape 22"/>
                    <p:cNvSpPr/>
                    <p:nvPr/>
                  </p:nvSpPr>
                  <p:spPr>
                    <a:xfrm flipH="1" flipV="1" rot="6485400">
                      <a:off x="1271160" y="3821040"/>
                      <a:ext cx="82080" cy="31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" name="AutoShape 23"/>
                    <p:cNvSpPr/>
                    <p:nvPr/>
                  </p:nvSpPr>
                  <p:spPr>
                    <a:xfrm flipH="1" flipV="1" rot="7017600">
                      <a:off x="1236240" y="3808800"/>
                      <a:ext cx="82080" cy="31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" name="Group 29"/>
                  <p:cNvGrpSpPr/>
                  <p:nvPr/>
                </p:nvGrpSpPr>
                <p:grpSpPr>
                  <a:xfrm>
                    <a:off x="1063080" y="3769560"/>
                    <a:ext cx="392760" cy="315360"/>
                    <a:chOff x="1063080" y="3769560"/>
                    <a:chExt cx="392760" cy="315360"/>
                  </a:xfrm>
                </p:grpSpPr>
                <p:sp>
                  <p:nvSpPr>
                    <p:cNvPr id="69" name="AutoShape 25"/>
                    <p:cNvSpPr/>
                    <p:nvPr/>
                  </p:nvSpPr>
                  <p:spPr>
                    <a:xfrm flipH="1" flipV="1" rot="6727200">
                      <a:off x="1253520" y="3823560"/>
                      <a:ext cx="82080" cy="31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" name="AutoShape 26"/>
                    <p:cNvSpPr/>
                    <p:nvPr/>
                  </p:nvSpPr>
                  <p:spPr>
                    <a:xfrm flipH="1" flipV="1" rot="7542600">
                      <a:off x="1205640" y="3801600"/>
                      <a:ext cx="82440" cy="31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" name="AutoShape 27"/>
                    <p:cNvSpPr/>
                    <p:nvPr/>
                  </p:nvSpPr>
                  <p:spPr>
                    <a:xfrm flipH="1" flipV="1" rot="7838400">
                      <a:off x="1182960" y="3782160"/>
                      <a:ext cx="82080" cy="31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" name="AutoShape 28"/>
                    <p:cNvSpPr/>
                    <p:nvPr/>
                  </p:nvSpPr>
                  <p:spPr>
                    <a:xfrm flipH="1" flipV="1" rot="8370600">
                      <a:off x="1155600" y="3757680"/>
                      <a:ext cx="82080" cy="31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3" name="Group 34"/>
              <p:cNvGrpSpPr/>
              <p:nvPr/>
            </p:nvGrpSpPr>
            <p:grpSpPr>
              <a:xfrm>
                <a:off x="1260720" y="3360600"/>
                <a:ext cx="549720" cy="443520"/>
                <a:chOff x="1260720" y="3360600"/>
                <a:chExt cx="549720" cy="443520"/>
              </a:xfrm>
            </p:grpSpPr>
            <p:grpSp>
              <p:nvGrpSpPr>
                <p:cNvPr id="74" name="Group 35"/>
                <p:cNvGrpSpPr/>
                <p:nvPr/>
              </p:nvGrpSpPr>
              <p:grpSpPr>
                <a:xfrm>
                  <a:off x="1260720" y="3360600"/>
                  <a:ext cx="549720" cy="443520"/>
                  <a:chOff x="1260720" y="3360600"/>
                  <a:chExt cx="549720" cy="443520"/>
                </a:xfrm>
              </p:grpSpPr>
              <p:grpSp>
                <p:nvGrpSpPr>
                  <p:cNvPr id="75" name="Group 36"/>
                  <p:cNvGrpSpPr/>
                  <p:nvPr/>
                </p:nvGrpSpPr>
                <p:grpSpPr>
                  <a:xfrm>
                    <a:off x="1260720" y="3363120"/>
                    <a:ext cx="511200" cy="326520"/>
                    <a:chOff x="1260720" y="3363120"/>
                    <a:chExt cx="511200" cy="326520"/>
                  </a:xfrm>
                </p:grpSpPr>
                <p:sp>
                  <p:nvSpPr>
                    <p:cNvPr id="76" name="AutoShape 32"/>
                    <p:cNvSpPr/>
                    <p:nvPr/>
                  </p:nvSpPr>
                  <p:spPr>
                    <a:xfrm flipH="1" flipV="1" rot="16891800">
                      <a:off x="1408320" y="3281760"/>
                      <a:ext cx="10044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" name="AutoShape 33"/>
                    <p:cNvSpPr/>
                    <p:nvPr/>
                  </p:nvSpPr>
                  <p:spPr>
                    <a:xfrm flipH="1" flipV="1" rot="17707200">
                      <a:off x="1469520" y="3297600"/>
                      <a:ext cx="100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" name="AutoShape 34"/>
                    <p:cNvSpPr/>
                    <p:nvPr/>
                  </p:nvSpPr>
                  <p:spPr>
                    <a:xfrm flipH="1" flipV="1" rot="18003000">
                      <a:off x="1503000" y="3314880"/>
                      <a:ext cx="10044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" name="AutoShape 35"/>
                    <p:cNvSpPr/>
                    <p:nvPr/>
                  </p:nvSpPr>
                  <p:spPr>
                    <a:xfrm flipH="1" flipV="1" rot="18535200">
                      <a:off x="1540440" y="3337200"/>
                      <a:ext cx="100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" name="Group 41"/>
                  <p:cNvGrpSpPr/>
                  <p:nvPr/>
                </p:nvGrpSpPr>
                <p:grpSpPr>
                  <a:xfrm>
                    <a:off x="1386360" y="3360600"/>
                    <a:ext cx="424080" cy="443520"/>
                    <a:chOff x="1386360" y="3360600"/>
                    <a:chExt cx="424080" cy="443520"/>
                  </a:xfrm>
                </p:grpSpPr>
                <p:sp>
                  <p:nvSpPr>
                    <p:cNvPr id="81" name="AutoShape 37"/>
                    <p:cNvSpPr/>
                    <p:nvPr/>
                  </p:nvSpPr>
                  <p:spPr>
                    <a:xfrm flipH="1" flipV="1" rot="18244800">
                      <a:off x="1523160" y="3317400"/>
                      <a:ext cx="100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AutoShape 38"/>
                    <p:cNvSpPr/>
                    <p:nvPr/>
                  </p:nvSpPr>
                  <p:spPr>
                    <a:xfrm flipH="1" flipV="1" rot="19060800">
                      <a:off x="1574280" y="3355200"/>
                      <a:ext cx="100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" name="AutoShape 39"/>
                    <p:cNvSpPr/>
                    <p:nvPr/>
                  </p:nvSpPr>
                  <p:spPr>
                    <a:xfrm flipH="1" flipV="1" rot="19356000">
                      <a:off x="1598400" y="3384000"/>
                      <a:ext cx="10044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" name="AutoShape 40"/>
                    <p:cNvSpPr/>
                    <p:nvPr/>
                  </p:nvSpPr>
                  <p:spPr>
                    <a:xfrm flipH="1" flipV="1" rot="19888200">
                      <a:off x="1624320" y="3418560"/>
                      <a:ext cx="100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5" name="Group 46"/>
                <p:cNvGrpSpPr/>
                <p:nvPr/>
              </p:nvGrpSpPr>
              <p:grpSpPr>
                <a:xfrm>
                  <a:off x="1314360" y="3394440"/>
                  <a:ext cx="450720" cy="363960"/>
                  <a:chOff x="1314360" y="3394440"/>
                  <a:chExt cx="450720" cy="363960"/>
                </a:xfrm>
              </p:grpSpPr>
              <p:grpSp>
                <p:nvGrpSpPr>
                  <p:cNvPr id="86" name="Group 47"/>
                  <p:cNvGrpSpPr/>
                  <p:nvPr/>
                </p:nvGrpSpPr>
                <p:grpSpPr>
                  <a:xfrm>
                    <a:off x="1314360" y="3395520"/>
                    <a:ext cx="419040" cy="268560"/>
                    <a:chOff x="1314360" y="3395520"/>
                    <a:chExt cx="419040" cy="268560"/>
                  </a:xfrm>
                </p:grpSpPr>
                <p:sp>
                  <p:nvSpPr>
                    <p:cNvPr id="87" name="AutoShape 43"/>
                    <p:cNvSpPr/>
                    <p:nvPr/>
                  </p:nvSpPr>
                  <p:spPr>
                    <a:xfrm flipH="1" flipV="1" rot="16891800">
                      <a:off x="1435680" y="3329640"/>
                      <a:ext cx="82080" cy="31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" name="AutoShape 44"/>
                    <p:cNvSpPr/>
                    <p:nvPr/>
                  </p:nvSpPr>
                  <p:spPr>
                    <a:xfrm flipH="1" flipV="1" rot="17707200">
                      <a:off x="1485720" y="3342240"/>
                      <a:ext cx="82080" cy="31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" name="AutoShape 45"/>
                    <p:cNvSpPr/>
                    <p:nvPr/>
                  </p:nvSpPr>
                  <p:spPr>
                    <a:xfrm flipH="1" flipV="1" rot="18003000">
                      <a:off x="1512360" y="3357720"/>
                      <a:ext cx="82080" cy="31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" name="AutoShape 46"/>
                    <p:cNvSpPr/>
                    <p:nvPr/>
                  </p:nvSpPr>
                  <p:spPr>
                    <a:xfrm flipH="1" flipV="1" rot="18535200">
                      <a:off x="1543680" y="3375000"/>
                      <a:ext cx="82080" cy="31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" name="Group 52"/>
                  <p:cNvGrpSpPr/>
                  <p:nvPr/>
                </p:nvGrpSpPr>
                <p:grpSpPr>
                  <a:xfrm>
                    <a:off x="1418400" y="3394440"/>
                    <a:ext cx="346680" cy="363960"/>
                    <a:chOff x="1418400" y="3394440"/>
                    <a:chExt cx="346680" cy="363960"/>
                  </a:xfrm>
                </p:grpSpPr>
                <p:sp>
                  <p:nvSpPr>
                    <p:cNvPr id="92" name="AutoShape 48"/>
                    <p:cNvSpPr/>
                    <p:nvPr/>
                  </p:nvSpPr>
                  <p:spPr>
                    <a:xfrm flipH="1" flipV="1" rot="18244800">
                      <a:off x="1530000" y="3359520"/>
                      <a:ext cx="82080" cy="31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" name="AutoShape 49"/>
                    <p:cNvSpPr/>
                    <p:nvPr/>
                  </p:nvSpPr>
                  <p:spPr>
                    <a:xfrm flipH="1" flipV="1" rot="19060800">
                      <a:off x="1571400" y="3389040"/>
                      <a:ext cx="82440" cy="31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" name="AutoShape 50"/>
                    <p:cNvSpPr/>
                    <p:nvPr/>
                  </p:nvSpPr>
                  <p:spPr>
                    <a:xfrm flipH="1" flipV="1" rot="19356000">
                      <a:off x="1590840" y="3413160"/>
                      <a:ext cx="82080" cy="31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" name="AutoShape 51"/>
                    <p:cNvSpPr/>
                    <p:nvPr/>
                  </p:nvSpPr>
                  <p:spPr>
                    <a:xfrm flipH="1" flipV="1" rot="19888200">
                      <a:off x="1612080" y="3442680"/>
                      <a:ext cx="82080" cy="31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96" name="Group 57"/>
            <p:cNvGrpSpPr/>
            <p:nvPr/>
          </p:nvGrpSpPr>
          <p:grpSpPr>
            <a:xfrm>
              <a:off x="1015920" y="2343240"/>
              <a:ext cx="766080" cy="750240"/>
              <a:chOff x="1015920" y="2343240"/>
              <a:chExt cx="766080" cy="750240"/>
            </a:xfrm>
          </p:grpSpPr>
          <p:sp>
            <p:nvSpPr>
              <p:cNvPr id="97" name="Oval 53"/>
              <p:cNvSpPr/>
              <p:nvPr/>
            </p:nvSpPr>
            <p:spPr>
              <a:xfrm>
                <a:off x="1045800" y="2369160"/>
                <a:ext cx="690480" cy="693720"/>
              </a:xfrm>
              <a:prstGeom prst="ellipse">
                <a:avLst/>
              </a:prstGeom>
              <a:solidFill>
                <a:srgbClr val="1759a9"/>
              </a:solidFill>
              <a:ln w="381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" name="Group 59"/>
              <p:cNvGrpSpPr/>
              <p:nvPr/>
            </p:nvGrpSpPr>
            <p:grpSpPr>
              <a:xfrm>
                <a:off x="1015920" y="2714760"/>
                <a:ext cx="586440" cy="378720"/>
                <a:chOff x="1015920" y="2714760"/>
                <a:chExt cx="586440" cy="378720"/>
              </a:xfrm>
            </p:grpSpPr>
            <p:grpSp>
              <p:nvGrpSpPr>
                <p:cNvPr id="99" name="Group 60"/>
                <p:cNvGrpSpPr/>
                <p:nvPr/>
              </p:nvGrpSpPr>
              <p:grpSpPr>
                <a:xfrm>
                  <a:off x="1015920" y="2714760"/>
                  <a:ext cx="586440" cy="378720"/>
                  <a:chOff x="1015920" y="2714760"/>
                  <a:chExt cx="586440" cy="378720"/>
                </a:xfrm>
              </p:grpSpPr>
              <p:grpSp>
                <p:nvGrpSpPr>
                  <p:cNvPr id="100" name="Group 61"/>
                  <p:cNvGrpSpPr/>
                  <p:nvPr/>
                </p:nvGrpSpPr>
                <p:grpSpPr>
                  <a:xfrm>
                    <a:off x="1082520" y="2823120"/>
                    <a:ext cx="519840" cy="259560"/>
                    <a:chOff x="1082520" y="2823120"/>
                    <a:chExt cx="519840" cy="259560"/>
                  </a:xfrm>
                </p:grpSpPr>
                <p:sp>
                  <p:nvSpPr>
                    <p:cNvPr id="101" name="AutoShape 57"/>
                    <p:cNvSpPr/>
                    <p:nvPr/>
                  </p:nvSpPr>
                  <p:spPr>
                    <a:xfrm flipH="1" flipV="1" rot="5374200">
                      <a:off x="1363320" y="2790000"/>
                      <a:ext cx="98640" cy="37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" name="AutoShape 58"/>
                    <p:cNvSpPr/>
                    <p:nvPr/>
                  </p:nvSpPr>
                  <p:spPr>
                    <a:xfrm flipH="1" flipV="1" rot="6189600">
                      <a:off x="1300680" y="2787480"/>
                      <a:ext cx="98640" cy="37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AutoShape 59"/>
                    <p:cNvSpPr/>
                    <p:nvPr/>
                  </p:nvSpPr>
                  <p:spPr>
                    <a:xfrm flipH="1" flipV="1" rot="6485400">
                      <a:off x="1265040" y="2777400"/>
                      <a:ext cx="98640" cy="37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" name="AutoShape 60"/>
                    <p:cNvSpPr/>
                    <p:nvPr/>
                  </p:nvSpPr>
                  <p:spPr>
                    <a:xfrm flipH="1" flipV="1" rot="7017600">
                      <a:off x="1224360" y="2763000"/>
                      <a:ext cx="98640" cy="37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5" name="Group 66"/>
                  <p:cNvGrpSpPr/>
                  <p:nvPr/>
                </p:nvGrpSpPr>
                <p:grpSpPr>
                  <a:xfrm>
                    <a:off x="1015920" y="2714760"/>
                    <a:ext cx="472320" cy="378720"/>
                    <a:chOff x="1015920" y="2714760"/>
                    <a:chExt cx="472320" cy="378720"/>
                  </a:xfrm>
                </p:grpSpPr>
                <p:sp>
                  <p:nvSpPr>
                    <p:cNvPr id="106" name="AutoShape 62"/>
                    <p:cNvSpPr/>
                    <p:nvPr/>
                  </p:nvSpPr>
                  <p:spPr>
                    <a:xfrm flipH="1" flipV="1" rot="6727200">
                      <a:off x="1244880" y="2779560"/>
                      <a:ext cx="98640" cy="37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" name="AutoShape 63"/>
                    <p:cNvSpPr/>
                    <p:nvPr/>
                  </p:nvSpPr>
                  <p:spPr>
                    <a:xfrm flipH="1" flipV="1" rot="7542600">
                      <a:off x="1186560" y="2752920"/>
                      <a:ext cx="98640" cy="37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" name="AutoShape 64"/>
                    <p:cNvSpPr/>
                    <p:nvPr/>
                  </p:nvSpPr>
                  <p:spPr>
                    <a:xfrm flipH="1" flipV="1" rot="7838400">
                      <a:off x="1159200" y="2731320"/>
                      <a:ext cx="98640" cy="37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" name="AutoShape 65"/>
                    <p:cNvSpPr/>
                    <p:nvPr/>
                  </p:nvSpPr>
                  <p:spPr>
                    <a:xfrm flipH="1" flipV="1" rot="8370600">
                      <a:off x="1126440" y="2701080"/>
                      <a:ext cx="98640" cy="37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0" name="Group 71"/>
                <p:cNvGrpSpPr/>
                <p:nvPr/>
              </p:nvGrpSpPr>
              <p:grpSpPr>
                <a:xfrm>
                  <a:off x="1067400" y="2754000"/>
                  <a:ext cx="480240" cy="309960"/>
                  <a:chOff x="1067400" y="2754000"/>
                  <a:chExt cx="480240" cy="309960"/>
                </a:xfrm>
              </p:grpSpPr>
              <p:grpSp>
                <p:nvGrpSpPr>
                  <p:cNvPr id="111" name="Group 72"/>
                  <p:cNvGrpSpPr/>
                  <p:nvPr/>
                </p:nvGrpSpPr>
                <p:grpSpPr>
                  <a:xfrm>
                    <a:off x="1121760" y="2842200"/>
                    <a:ext cx="425880" cy="212400"/>
                    <a:chOff x="1121760" y="2842200"/>
                    <a:chExt cx="425880" cy="212400"/>
                  </a:xfrm>
                </p:grpSpPr>
                <p:sp>
                  <p:nvSpPr>
                    <p:cNvPr id="112" name="AutoShape 68"/>
                    <p:cNvSpPr/>
                    <p:nvPr/>
                  </p:nvSpPr>
                  <p:spPr>
                    <a:xfrm flipH="1" flipV="1" rot="5374200">
                      <a:off x="1351440" y="2814840"/>
                      <a:ext cx="80280" cy="30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AutoShape 69"/>
                    <p:cNvSpPr/>
                    <p:nvPr/>
                  </p:nvSpPr>
                  <p:spPr>
                    <a:xfrm flipH="1" flipV="1" rot="6189600">
                      <a:off x="1301040" y="2813040"/>
                      <a:ext cx="80280" cy="31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AutoShape 70"/>
                    <p:cNvSpPr/>
                    <p:nvPr/>
                  </p:nvSpPr>
                  <p:spPr>
                    <a:xfrm flipH="1" flipV="1" rot="6485400">
                      <a:off x="1271880" y="2804760"/>
                      <a:ext cx="80280" cy="31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AutoShape 71"/>
                    <p:cNvSpPr/>
                    <p:nvPr/>
                  </p:nvSpPr>
                  <p:spPr>
                    <a:xfrm flipH="1" flipV="1" rot="7017600">
                      <a:off x="1237320" y="2792880"/>
                      <a:ext cx="80280" cy="31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" name="Group 77"/>
                  <p:cNvGrpSpPr/>
                  <p:nvPr/>
                </p:nvGrpSpPr>
                <p:grpSpPr>
                  <a:xfrm>
                    <a:off x="1067400" y="2754000"/>
                    <a:ext cx="386640" cy="309960"/>
                    <a:chOff x="1067400" y="2754000"/>
                    <a:chExt cx="386640" cy="309960"/>
                  </a:xfrm>
                </p:grpSpPr>
                <p:sp>
                  <p:nvSpPr>
                    <p:cNvPr id="117" name="AutoShape 73"/>
                    <p:cNvSpPr/>
                    <p:nvPr/>
                  </p:nvSpPr>
                  <p:spPr>
                    <a:xfrm flipH="1" flipV="1" rot="6727200">
                      <a:off x="1254960" y="2806920"/>
                      <a:ext cx="80280" cy="30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AutoShape 74"/>
                    <p:cNvSpPr/>
                    <p:nvPr/>
                  </p:nvSpPr>
                  <p:spPr>
                    <a:xfrm flipH="1" flipV="1" rot="7542600">
                      <a:off x="1207800" y="2785680"/>
                      <a:ext cx="80280" cy="30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AutoShape 75"/>
                    <p:cNvSpPr/>
                    <p:nvPr/>
                  </p:nvSpPr>
                  <p:spPr>
                    <a:xfrm flipH="1" flipV="1" rot="7838400">
                      <a:off x="1184040" y="2766600"/>
                      <a:ext cx="80280" cy="31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AutoShape 76"/>
                    <p:cNvSpPr/>
                    <p:nvPr/>
                  </p:nvSpPr>
                  <p:spPr>
                    <a:xfrm flipH="1" flipV="1" rot="8370600">
                      <a:off x="1158480" y="2742120"/>
                      <a:ext cx="80280" cy="31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21" name="Group 82"/>
              <p:cNvGrpSpPr/>
              <p:nvPr/>
            </p:nvGrpSpPr>
            <p:grpSpPr>
              <a:xfrm>
                <a:off x="1268280" y="2343240"/>
                <a:ext cx="513720" cy="468360"/>
                <a:chOff x="1268280" y="2343240"/>
                <a:chExt cx="513720" cy="468360"/>
              </a:xfrm>
            </p:grpSpPr>
            <p:grpSp>
              <p:nvGrpSpPr>
                <p:cNvPr id="122" name="Group 83"/>
                <p:cNvGrpSpPr/>
                <p:nvPr/>
              </p:nvGrpSpPr>
              <p:grpSpPr>
                <a:xfrm>
                  <a:off x="1268280" y="2343240"/>
                  <a:ext cx="513720" cy="468360"/>
                  <a:chOff x="1268280" y="2343240"/>
                  <a:chExt cx="513720" cy="468360"/>
                </a:xfrm>
              </p:grpSpPr>
              <p:grpSp>
                <p:nvGrpSpPr>
                  <p:cNvPr id="123" name="Group 84"/>
                  <p:cNvGrpSpPr/>
                  <p:nvPr/>
                </p:nvGrpSpPr>
                <p:grpSpPr>
                  <a:xfrm>
                    <a:off x="1268280" y="2343240"/>
                    <a:ext cx="489240" cy="354240"/>
                    <a:chOff x="1268280" y="2343240"/>
                    <a:chExt cx="489240" cy="354240"/>
                  </a:xfrm>
                </p:grpSpPr>
                <p:sp>
                  <p:nvSpPr>
                    <p:cNvPr id="124" name="AutoShape 80"/>
                    <p:cNvSpPr/>
                    <p:nvPr/>
                  </p:nvSpPr>
                  <p:spPr>
                    <a:xfrm flipH="1" flipV="1" rot="17235600">
                      <a:off x="1414080" y="2270880"/>
                      <a:ext cx="98640" cy="37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AutoShape 81"/>
                    <p:cNvSpPr/>
                    <p:nvPr/>
                  </p:nvSpPr>
                  <p:spPr>
                    <a:xfrm flipH="1" flipV="1" rot="18051600">
                      <a:off x="1473480" y="2292480"/>
                      <a:ext cx="98640" cy="37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AutoShape 82"/>
                    <p:cNvSpPr/>
                    <p:nvPr/>
                  </p:nvSpPr>
                  <p:spPr>
                    <a:xfrm flipH="1" flipV="1" rot="18346800">
                      <a:off x="1504080" y="2313000"/>
                      <a:ext cx="98640" cy="37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AutoShape 83"/>
                    <p:cNvSpPr/>
                    <p:nvPr/>
                  </p:nvSpPr>
                  <p:spPr>
                    <a:xfrm flipH="1" flipV="1" rot="18879000">
                      <a:off x="1538280" y="2340000"/>
                      <a:ext cx="98640" cy="37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Group 89"/>
                  <p:cNvGrpSpPr/>
                  <p:nvPr/>
                </p:nvGrpSpPr>
                <p:grpSpPr>
                  <a:xfrm>
                    <a:off x="1396440" y="2347560"/>
                    <a:ext cx="385560" cy="464040"/>
                    <a:chOff x="1396440" y="2347560"/>
                    <a:chExt cx="385560" cy="464040"/>
                  </a:xfrm>
                </p:grpSpPr>
                <p:sp>
                  <p:nvSpPr>
                    <p:cNvPr id="129" name="AutoShape 85"/>
                    <p:cNvSpPr/>
                    <p:nvPr/>
                  </p:nvSpPr>
                  <p:spPr>
                    <a:xfrm flipH="1" flipV="1" rot="18588600">
                      <a:off x="1523520" y="2316600"/>
                      <a:ext cx="99000" cy="37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AutoShape 86"/>
                    <p:cNvSpPr/>
                    <p:nvPr/>
                  </p:nvSpPr>
                  <p:spPr>
                    <a:xfrm flipH="1" flipV="1" rot="19404600">
                      <a:off x="1570680" y="2359800"/>
                      <a:ext cx="99000" cy="37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AutoShape 87"/>
                    <p:cNvSpPr/>
                    <p:nvPr/>
                  </p:nvSpPr>
                  <p:spPr>
                    <a:xfrm flipH="1" flipV="1" rot="19699800">
                      <a:off x="1590120" y="2390040"/>
                      <a:ext cx="99000" cy="37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AutoShape 88"/>
                    <p:cNvSpPr/>
                    <p:nvPr/>
                  </p:nvSpPr>
                  <p:spPr>
                    <a:xfrm flipH="1" flipV="1" rot="20232000">
                      <a:off x="1612440" y="2427840"/>
                      <a:ext cx="99000" cy="37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3" name="Group 94"/>
                <p:cNvGrpSpPr/>
                <p:nvPr/>
              </p:nvGrpSpPr>
              <p:grpSpPr>
                <a:xfrm>
                  <a:off x="1320480" y="2379240"/>
                  <a:ext cx="420480" cy="383400"/>
                  <a:chOff x="1320480" y="2379240"/>
                  <a:chExt cx="420480" cy="383400"/>
                </a:xfrm>
              </p:grpSpPr>
              <p:grpSp>
                <p:nvGrpSpPr>
                  <p:cNvPr id="134" name="Group 95"/>
                  <p:cNvGrpSpPr/>
                  <p:nvPr/>
                </p:nvGrpSpPr>
                <p:grpSpPr>
                  <a:xfrm>
                    <a:off x="1320480" y="2379240"/>
                    <a:ext cx="401040" cy="290160"/>
                    <a:chOff x="1320480" y="2379240"/>
                    <a:chExt cx="401040" cy="290160"/>
                  </a:xfrm>
                </p:grpSpPr>
                <p:sp>
                  <p:nvSpPr>
                    <p:cNvPr id="135" name="AutoShape 91"/>
                    <p:cNvSpPr/>
                    <p:nvPr/>
                  </p:nvSpPr>
                  <p:spPr>
                    <a:xfrm flipH="1" flipV="1" rot="17235600">
                      <a:off x="1440000" y="2320560"/>
                      <a:ext cx="80640" cy="31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AutoShape 92"/>
                    <p:cNvSpPr/>
                    <p:nvPr/>
                  </p:nvSpPr>
                  <p:spPr>
                    <a:xfrm flipH="1" flipV="1" rot="18051600">
                      <a:off x="1488240" y="2338200"/>
                      <a:ext cx="80640" cy="31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AutoShape 93"/>
                    <p:cNvSpPr/>
                    <p:nvPr/>
                  </p:nvSpPr>
                  <p:spPr>
                    <a:xfrm flipH="1" flipV="1" rot="18346800">
                      <a:off x="1513800" y="2355480"/>
                      <a:ext cx="80640" cy="31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AutoShape 94"/>
                    <p:cNvSpPr/>
                    <p:nvPr/>
                  </p:nvSpPr>
                  <p:spPr>
                    <a:xfrm flipH="1" flipV="1" rot="18879000">
                      <a:off x="1541880" y="2376720"/>
                      <a:ext cx="80640" cy="31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" name="Group 100"/>
                  <p:cNvGrpSpPr/>
                  <p:nvPr/>
                </p:nvGrpSpPr>
                <p:grpSpPr>
                  <a:xfrm>
                    <a:off x="1424880" y="2382840"/>
                    <a:ext cx="316080" cy="379800"/>
                    <a:chOff x="1424880" y="2382840"/>
                    <a:chExt cx="316080" cy="379800"/>
                  </a:xfrm>
                </p:grpSpPr>
                <p:sp>
                  <p:nvSpPr>
                    <p:cNvPr id="140" name="AutoShape 96"/>
                    <p:cNvSpPr/>
                    <p:nvPr/>
                  </p:nvSpPr>
                  <p:spPr>
                    <a:xfrm flipH="1" flipV="1" rot="18588600">
                      <a:off x="1528920" y="2358000"/>
                      <a:ext cx="81000" cy="31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AutoShape 97"/>
                    <p:cNvSpPr/>
                    <p:nvPr/>
                  </p:nvSpPr>
                  <p:spPr>
                    <a:xfrm flipH="1" flipV="1" rot="19404600">
                      <a:off x="1568160" y="2392200"/>
                      <a:ext cx="80640" cy="31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AutoShape 98"/>
                    <p:cNvSpPr/>
                    <p:nvPr/>
                  </p:nvSpPr>
                  <p:spPr>
                    <a:xfrm flipH="1" flipV="1" rot="19699800">
                      <a:off x="1584360" y="2417040"/>
                      <a:ext cx="80640" cy="31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AutoShape 99"/>
                    <p:cNvSpPr/>
                    <p:nvPr/>
                  </p:nvSpPr>
                  <p:spPr>
                    <a:xfrm flipH="1" flipV="1" rot="20232000">
                      <a:off x="1602360" y="2447640"/>
                      <a:ext cx="80640" cy="31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44" name="Group 105"/>
            <p:cNvGrpSpPr/>
            <p:nvPr/>
          </p:nvGrpSpPr>
          <p:grpSpPr>
            <a:xfrm>
              <a:off x="1014120" y="4276080"/>
              <a:ext cx="772560" cy="787320"/>
              <a:chOff x="1014120" y="4276080"/>
              <a:chExt cx="772560" cy="787320"/>
            </a:xfrm>
          </p:grpSpPr>
          <p:sp>
            <p:nvSpPr>
              <p:cNvPr id="145" name="Oval 101"/>
              <p:cNvSpPr/>
              <p:nvPr/>
            </p:nvSpPr>
            <p:spPr>
              <a:xfrm>
                <a:off x="1055520" y="4339440"/>
                <a:ext cx="696960" cy="693720"/>
              </a:xfrm>
              <a:prstGeom prst="ellipse">
                <a:avLst/>
              </a:prstGeom>
              <a:solidFill>
                <a:srgbClr val="53a9f7"/>
              </a:soli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" name="Group 107"/>
              <p:cNvGrpSpPr/>
              <p:nvPr/>
            </p:nvGrpSpPr>
            <p:grpSpPr>
              <a:xfrm>
                <a:off x="1014120" y="4681080"/>
                <a:ext cx="594360" cy="382320"/>
                <a:chOff x="1014120" y="4681080"/>
                <a:chExt cx="594360" cy="382320"/>
              </a:xfrm>
            </p:grpSpPr>
            <p:grpSp>
              <p:nvGrpSpPr>
                <p:cNvPr id="147" name="Group 108"/>
                <p:cNvGrpSpPr/>
                <p:nvPr/>
              </p:nvGrpSpPr>
              <p:grpSpPr>
                <a:xfrm>
                  <a:off x="1014120" y="4681080"/>
                  <a:ext cx="594360" cy="382320"/>
                  <a:chOff x="1014120" y="4681080"/>
                  <a:chExt cx="594360" cy="382320"/>
                </a:xfrm>
              </p:grpSpPr>
              <p:grpSp>
                <p:nvGrpSpPr>
                  <p:cNvPr id="148" name="Group 109"/>
                  <p:cNvGrpSpPr/>
                  <p:nvPr/>
                </p:nvGrpSpPr>
                <p:grpSpPr>
                  <a:xfrm>
                    <a:off x="1081800" y="4790160"/>
                    <a:ext cx="526680" cy="262080"/>
                    <a:chOff x="1081800" y="4790160"/>
                    <a:chExt cx="526680" cy="262080"/>
                  </a:xfrm>
                </p:grpSpPr>
                <p:sp>
                  <p:nvSpPr>
                    <p:cNvPr id="149" name="AutoShape 105"/>
                    <p:cNvSpPr/>
                    <p:nvPr/>
                  </p:nvSpPr>
                  <p:spPr>
                    <a:xfrm flipH="1" flipV="1" rot="5374200">
                      <a:off x="1366920" y="4755600"/>
                      <a:ext cx="9864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AutoShape 106"/>
                    <p:cNvSpPr/>
                    <p:nvPr/>
                  </p:nvSpPr>
                  <p:spPr>
                    <a:xfrm flipH="1" flipV="1" rot="6189600">
                      <a:off x="1302840" y="4754160"/>
                      <a:ext cx="9864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AutoShape 107"/>
                    <p:cNvSpPr/>
                    <p:nvPr/>
                  </p:nvSpPr>
                  <p:spPr>
                    <a:xfrm flipH="1" flipV="1" rot="6485400">
                      <a:off x="1267200" y="4743720"/>
                      <a:ext cx="9864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AutoShape 108"/>
                    <p:cNvSpPr/>
                    <p:nvPr/>
                  </p:nvSpPr>
                  <p:spPr>
                    <a:xfrm flipH="1" flipV="1" rot="7017600">
                      <a:off x="1225440" y="4728960"/>
                      <a:ext cx="986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3" name="Group 114"/>
                  <p:cNvGrpSpPr/>
                  <p:nvPr/>
                </p:nvGrpSpPr>
                <p:grpSpPr>
                  <a:xfrm>
                    <a:off x="1014120" y="4681080"/>
                    <a:ext cx="479160" cy="382320"/>
                    <a:chOff x="1014120" y="4681080"/>
                    <a:chExt cx="479160" cy="382320"/>
                  </a:xfrm>
                </p:grpSpPr>
                <p:sp>
                  <p:nvSpPr>
                    <p:cNvPr id="154" name="AutoShape 110"/>
                    <p:cNvSpPr/>
                    <p:nvPr/>
                  </p:nvSpPr>
                  <p:spPr>
                    <a:xfrm flipH="1" flipV="1" rot="6727200">
                      <a:off x="1247040" y="4746240"/>
                      <a:ext cx="9864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AutoShape 111"/>
                    <p:cNvSpPr/>
                    <p:nvPr/>
                  </p:nvSpPr>
                  <p:spPr>
                    <a:xfrm flipH="1" flipV="1" rot="7542600">
                      <a:off x="1188000" y="4718880"/>
                      <a:ext cx="9864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" name="AutoShape 112"/>
                    <p:cNvSpPr/>
                    <p:nvPr/>
                  </p:nvSpPr>
                  <p:spPr>
                    <a:xfrm flipH="1" flipV="1" rot="7838400">
                      <a:off x="1159560" y="4696200"/>
                      <a:ext cx="9864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" name="AutoShape 113"/>
                    <p:cNvSpPr/>
                    <p:nvPr/>
                  </p:nvSpPr>
                  <p:spPr>
                    <a:xfrm flipH="1" flipV="1" rot="8370600">
                      <a:off x="1126800" y="4667040"/>
                      <a:ext cx="9864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58" name="Group 119"/>
                <p:cNvGrpSpPr/>
                <p:nvPr/>
              </p:nvGrpSpPr>
              <p:grpSpPr>
                <a:xfrm>
                  <a:off x="1067040" y="4721040"/>
                  <a:ext cx="486720" cy="313200"/>
                  <a:chOff x="1067040" y="4721040"/>
                  <a:chExt cx="486720" cy="313200"/>
                </a:xfrm>
              </p:grpSpPr>
              <p:grpSp>
                <p:nvGrpSpPr>
                  <p:cNvPr id="159" name="Group 120"/>
                  <p:cNvGrpSpPr/>
                  <p:nvPr/>
                </p:nvGrpSpPr>
                <p:grpSpPr>
                  <a:xfrm>
                    <a:off x="1122480" y="4809960"/>
                    <a:ext cx="431280" cy="214200"/>
                    <a:chOff x="1122480" y="4809960"/>
                    <a:chExt cx="431280" cy="214200"/>
                  </a:xfrm>
                </p:grpSpPr>
                <p:sp>
                  <p:nvSpPr>
                    <p:cNvPr id="160" name="AutoShape 116"/>
                    <p:cNvSpPr/>
                    <p:nvPr/>
                  </p:nvSpPr>
                  <p:spPr>
                    <a:xfrm flipH="1" flipV="1" rot="5374200">
                      <a:off x="1355400" y="4781520"/>
                      <a:ext cx="80280" cy="31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AutoShape 117"/>
                    <p:cNvSpPr/>
                    <p:nvPr/>
                  </p:nvSpPr>
                  <p:spPr>
                    <a:xfrm flipH="1" flipV="1" rot="6189600">
                      <a:off x="1303560" y="4779720"/>
                      <a:ext cx="80280" cy="31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AutoShape 118"/>
                    <p:cNvSpPr/>
                    <p:nvPr/>
                  </p:nvSpPr>
                  <p:spPr>
                    <a:xfrm flipH="1" flipV="1" rot="6485400">
                      <a:off x="1274760" y="4771440"/>
                      <a:ext cx="80280" cy="31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AutoShape 119"/>
                    <p:cNvSpPr/>
                    <p:nvPr/>
                  </p:nvSpPr>
                  <p:spPr>
                    <a:xfrm flipH="1" flipV="1" rot="7017600">
                      <a:off x="1239840" y="4759200"/>
                      <a:ext cx="80280" cy="31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4" name="Group 125"/>
                  <p:cNvGrpSpPr/>
                  <p:nvPr/>
                </p:nvGrpSpPr>
                <p:grpSpPr>
                  <a:xfrm>
                    <a:off x="1067040" y="4721040"/>
                    <a:ext cx="392040" cy="313200"/>
                    <a:chOff x="1067040" y="4721040"/>
                    <a:chExt cx="392040" cy="313200"/>
                  </a:xfrm>
                </p:grpSpPr>
                <p:sp>
                  <p:nvSpPr>
                    <p:cNvPr id="165" name="AutoShape 121"/>
                    <p:cNvSpPr/>
                    <p:nvPr/>
                  </p:nvSpPr>
                  <p:spPr>
                    <a:xfrm flipH="1" flipV="1" rot="6727200">
                      <a:off x="1257840" y="4773600"/>
                      <a:ext cx="80280" cy="31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" name="AutoShape 122"/>
                    <p:cNvSpPr/>
                    <p:nvPr/>
                  </p:nvSpPr>
                  <p:spPr>
                    <a:xfrm flipH="1" flipV="1" rot="7542600">
                      <a:off x="1210320" y="4752360"/>
                      <a:ext cx="80280" cy="31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AutoShape 123"/>
                    <p:cNvSpPr/>
                    <p:nvPr/>
                  </p:nvSpPr>
                  <p:spPr>
                    <a:xfrm flipH="1" flipV="1" rot="7838400">
                      <a:off x="1186200" y="4733280"/>
                      <a:ext cx="80280" cy="31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AutoShape 124"/>
                    <p:cNvSpPr/>
                    <p:nvPr/>
                  </p:nvSpPr>
                  <p:spPr>
                    <a:xfrm flipH="1" flipV="1" rot="8370600">
                      <a:off x="1159200" y="4708800"/>
                      <a:ext cx="80280" cy="31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9" name="Group 130"/>
              <p:cNvGrpSpPr/>
              <p:nvPr/>
            </p:nvGrpSpPr>
            <p:grpSpPr>
              <a:xfrm>
                <a:off x="1242360" y="4276080"/>
                <a:ext cx="544320" cy="477720"/>
                <a:chOff x="1242360" y="4276080"/>
                <a:chExt cx="544320" cy="477720"/>
              </a:xfrm>
            </p:grpSpPr>
            <p:grpSp>
              <p:nvGrpSpPr>
                <p:cNvPr id="170" name="Group 131"/>
                <p:cNvGrpSpPr/>
                <p:nvPr/>
              </p:nvGrpSpPr>
              <p:grpSpPr>
                <a:xfrm>
                  <a:off x="1242360" y="4276080"/>
                  <a:ext cx="523800" cy="463680"/>
                  <a:chOff x="1242360" y="4276080"/>
                  <a:chExt cx="523800" cy="463680"/>
                </a:xfrm>
              </p:grpSpPr>
              <p:grpSp>
                <p:nvGrpSpPr>
                  <p:cNvPr id="171" name="Group 132"/>
                  <p:cNvGrpSpPr/>
                  <p:nvPr/>
                </p:nvGrpSpPr>
                <p:grpSpPr>
                  <a:xfrm>
                    <a:off x="1242360" y="4276080"/>
                    <a:ext cx="523800" cy="463680"/>
                    <a:chOff x="1242360" y="4276080"/>
                    <a:chExt cx="523800" cy="463680"/>
                  </a:xfrm>
                </p:grpSpPr>
                <p:grpSp>
                  <p:nvGrpSpPr>
                    <p:cNvPr id="172" name="Group 133"/>
                    <p:cNvGrpSpPr/>
                    <p:nvPr/>
                  </p:nvGrpSpPr>
                  <p:grpSpPr>
                    <a:xfrm>
                      <a:off x="1242360" y="4276080"/>
                      <a:ext cx="497520" cy="349200"/>
                      <a:chOff x="1242360" y="4276080"/>
                      <a:chExt cx="497520" cy="349200"/>
                    </a:xfrm>
                  </p:grpSpPr>
                  <p:sp>
                    <p:nvSpPr>
                      <p:cNvPr id="173" name="AutoShape 129"/>
                      <p:cNvSpPr/>
                      <p:nvPr/>
                    </p:nvSpPr>
                    <p:spPr>
                      <a:xfrm flipH="1" flipV="1" rot="17172600">
                        <a:off x="1391400" y="4200480"/>
                        <a:ext cx="96840" cy="38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" name="AutoShape 130"/>
                      <p:cNvSpPr/>
                      <p:nvPr/>
                    </p:nvSpPr>
                    <p:spPr>
                      <a:xfrm flipH="1" flipV="1" rot="17988600">
                        <a:off x="1452240" y="4221360"/>
                        <a:ext cx="96840" cy="38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" name="AutoShape 131"/>
                      <p:cNvSpPr/>
                      <p:nvPr/>
                    </p:nvSpPr>
                    <p:spPr>
                      <a:xfrm flipH="1" flipV="1" rot="18283800">
                        <a:off x="1482840" y="4240800"/>
                        <a:ext cx="96840" cy="38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" name="AutoShape 132"/>
                      <p:cNvSpPr/>
                      <p:nvPr/>
                    </p:nvSpPr>
                    <p:spPr>
                      <a:xfrm flipH="1" flipV="1" rot="18816000">
                        <a:off x="1519200" y="4266000"/>
                        <a:ext cx="96840" cy="38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7" name="Group 138"/>
                    <p:cNvGrpSpPr/>
                    <p:nvPr/>
                  </p:nvGrpSpPr>
                  <p:grpSpPr>
                    <a:xfrm>
                      <a:off x="1372680" y="4277880"/>
                      <a:ext cx="393480" cy="461880"/>
                      <a:chOff x="1372680" y="4277880"/>
                      <a:chExt cx="393480" cy="461880"/>
                    </a:xfrm>
                  </p:grpSpPr>
                  <p:sp>
                    <p:nvSpPr>
                      <p:cNvPr id="178" name="AutoShape 134"/>
                      <p:cNvSpPr/>
                      <p:nvPr/>
                    </p:nvSpPr>
                    <p:spPr>
                      <a:xfrm flipH="1" flipV="1" rot="18525600">
                        <a:off x="1503720" y="4244040"/>
                        <a:ext cx="96840" cy="38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" name="AutoShape 135"/>
                      <p:cNvSpPr/>
                      <p:nvPr/>
                    </p:nvSpPr>
                    <p:spPr>
                      <a:xfrm flipH="1" flipV="1" rot="19341600">
                        <a:off x="1551240" y="4285800"/>
                        <a:ext cx="96840" cy="38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" name="AutoShape 136"/>
                      <p:cNvSpPr/>
                      <p:nvPr/>
                    </p:nvSpPr>
                    <p:spPr>
                      <a:xfrm flipH="1" flipV="1" rot="19636800">
                        <a:off x="1572480" y="4316040"/>
                        <a:ext cx="96840" cy="38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" name="AutoShape 137"/>
                      <p:cNvSpPr/>
                      <p:nvPr/>
                    </p:nvSpPr>
                    <p:spPr>
                      <a:xfrm flipH="1" flipV="1" rot="20169000">
                        <a:off x="1595880" y="4353120"/>
                        <a:ext cx="96480" cy="38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82" name="Group 143"/>
                  <p:cNvGrpSpPr/>
                  <p:nvPr/>
                </p:nvGrpSpPr>
                <p:grpSpPr>
                  <a:xfrm>
                    <a:off x="1296360" y="4311720"/>
                    <a:ext cx="428400" cy="379800"/>
                    <a:chOff x="1296360" y="4311720"/>
                    <a:chExt cx="428400" cy="379800"/>
                  </a:xfrm>
                </p:grpSpPr>
                <p:grpSp>
                  <p:nvGrpSpPr>
                    <p:cNvPr id="183" name="Group 144"/>
                    <p:cNvGrpSpPr/>
                    <p:nvPr/>
                  </p:nvGrpSpPr>
                  <p:grpSpPr>
                    <a:xfrm>
                      <a:off x="1296360" y="4311720"/>
                      <a:ext cx="406440" cy="286200"/>
                      <a:chOff x="1296360" y="4311720"/>
                      <a:chExt cx="406440" cy="286200"/>
                    </a:xfrm>
                  </p:grpSpPr>
                  <p:sp>
                    <p:nvSpPr>
                      <p:cNvPr id="184" name="AutoShape 140"/>
                      <p:cNvSpPr/>
                      <p:nvPr/>
                    </p:nvSpPr>
                    <p:spPr>
                      <a:xfrm flipH="1" flipV="1" rot="17172600">
                        <a:off x="1418400" y="4249800"/>
                        <a:ext cx="78840" cy="313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" name="AutoShape 141"/>
                      <p:cNvSpPr/>
                      <p:nvPr/>
                    </p:nvSpPr>
                    <p:spPr>
                      <a:xfrm flipH="1" flipV="1" rot="17988600">
                        <a:off x="1467000" y="4267080"/>
                        <a:ext cx="78840" cy="313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" name="AutoShape 142"/>
                      <p:cNvSpPr/>
                      <p:nvPr/>
                    </p:nvSpPr>
                    <p:spPr>
                      <a:xfrm flipH="1" flipV="1" rot="18283800">
                        <a:off x="1492560" y="4282920"/>
                        <a:ext cx="79200" cy="313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" name="AutoShape 143"/>
                      <p:cNvSpPr/>
                      <p:nvPr/>
                    </p:nvSpPr>
                    <p:spPr>
                      <a:xfrm flipH="1" flipV="1" rot="18816000">
                        <a:off x="1522440" y="4304160"/>
                        <a:ext cx="78840" cy="313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8" name="Group 149"/>
                    <p:cNvGrpSpPr/>
                    <p:nvPr/>
                  </p:nvGrpSpPr>
                  <p:grpSpPr>
                    <a:xfrm>
                      <a:off x="1402200" y="4313160"/>
                      <a:ext cx="322560" cy="378360"/>
                      <a:chOff x="1402200" y="4313160"/>
                      <a:chExt cx="322560" cy="378360"/>
                    </a:xfrm>
                  </p:grpSpPr>
                  <p:sp>
                    <p:nvSpPr>
                      <p:cNvPr id="189" name="AutoShape 145"/>
                      <p:cNvSpPr/>
                      <p:nvPr/>
                    </p:nvSpPr>
                    <p:spPr>
                      <a:xfrm flipH="1" flipV="1" rot="18525600">
                        <a:off x="1509480" y="4285440"/>
                        <a:ext cx="79200" cy="313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" name="AutoShape 146"/>
                      <p:cNvSpPr/>
                      <p:nvPr/>
                    </p:nvSpPr>
                    <p:spPr>
                      <a:xfrm flipH="1" flipV="1" rot="19341600">
                        <a:off x="1549080" y="4320000"/>
                        <a:ext cx="79200" cy="313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" name="AutoShape 147"/>
                      <p:cNvSpPr/>
                      <p:nvPr/>
                    </p:nvSpPr>
                    <p:spPr>
                      <a:xfrm flipH="1" flipV="1" rot="19636800">
                        <a:off x="1566360" y="4344120"/>
                        <a:ext cx="79200" cy="313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" name="AutoShape 148"/>
                      <p:cNvSpPr/>
                      <p:nvPr/>
                    </p:nvSpPr>
                    <p:spPr>
                      <a:xfrm flipH="1" flipV="1" rot="20169000">
                        <a:off x="1585080" y="4374360"/>
                        <a:ext cx="79200" cy="313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3" name="Group 154"/>
                <p:cNvGrpSpPr/>
                <p:nvPr/>
              </p:nvGrpSpPr>
              <p:grpSpPr>
                <a:xfrm>
                  <a:off x="1262880" y="4290120"/>
                  <a:ext cx="523800" cy="463680"/>
                  <a:chOff x="1262880" y="4290120"/>
                  <a:chExt cx="523800" cy="463680"/>
                </a:xfrm>
              </p:grpSpPr>
              <p:grpSp>
                <p:nvGrpSpPr>
                  <p:cNvPr id="194" name="Group 155"/>
                  <p:cNvGrpSpPr/>
                  <p:nvPr/>
                </p:nvGrpSpPr>
                <p:grpSpPr>
                  <a:xfrm>
                    <a:off x="1262880" y="4290120"/>
                    <a:ext cx="523800" cy="463680"/>
                    <a:chOff x="1262880" y="4290120"/>
                    <a:chExt cx="523800" cy="463680"/>
                  </a:xfrm>
                </p:grpSpPr>
                <p:grpSp>
                  <p:nvGrpSpPr>
                    <p:cNvPr id="195" name="Group 156"/>
                    <p:cNvGrpSpPr/>
                    <p:nvPr/>
                  </p:nvGrpSpPr>
                  <p:grpSpPr>
                    <a:xfrm>
                      <a:off x="1262880" y="4290120"/>
                      <a:ext cx="497520" cy="349200"/>
                      <a:chOff x="1262880" y="4290120"/>
                      <a:chExt cx="497520" cy="349200"/>
                    </a:xfrm>
                  </p:grpSpPr>
                  <p:sp>
                    <p:nvSpPr>
                      <p:cNvPr id="196" name="AutoShape 152"/>
                      <p:cNvSpPr/>
                      <p:nvPr/>
                    </p:nvSpPr>
                    <p:spPr>
                      <a:xfrm flipH="1" flipV="1" rot="17172600">
                        <a:off x="1411920" y="4214880"/>
                        <a:ext cx="96840" cy="38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7" name="AutoShape 153"/>
                      <p:cNvSpPr/>
                      <p:nvPr/>
                    </p:nvSpPr>
                    <p:spPr>
                      <a:xfrm flipH="1" flipV="1" rot="17988600">
                        <a:off x="1472760" y="4235400"/>
                        <a:ext cx="96840" cy="38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" name="AutoShape 154"/>
                      <p:cNvSpPr/>
                      <p:nvPr/>
                    </p:nvSpPr>
                    <p:spPr>
                      <a:xfrm flipH="1" flipV="1" rot="18283800">
                        <a:off x="1503360" y="4255200"/>
                        <a:ext cx="96840" cy="38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" name="AutoShape 155"/>
                      <p:cNvSpPr/>
                      <p:nvPr/>
                    </p:nvSpPr>
                    <p:spPr>
                      <a:xfrm flipH="1" flipV="1" rot="18816000">
                        <a:off x="1539720" y="4280040"/>
                        <a:ext cx="96840" cy="38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00" name="Group 161"/>
                    <p:cNvGrpSpPr/>
                    <p:nvPr/>
                  </p:nvGrpSpPr>
                  <p:grpSpPr>
                    <a:xfrm>
                      <a:off x="1393200" y="4292280"/>
                      <a:ext cx="393480" cy="461520"/>
                      <a:chOff x="1393200" y="4292280"/>
                      <a:chExt cx="393480" cy="461520"/>
                    </a:xfrm>
                  </p:grpSpPr>
                  <p:sp>
                    <p:nvSpPr>
                      <p:cNvPr id="201" name="AutoShape 157"/>
                      <p:cNvSpPr/>
                      <p:nvPr/>
                    </p:nvSpPr>
                    <p:spPr>
                      <a:xfrm flipH="1" flipV="1" rot="18525600">
                        <a:off x="1524240" y="4258440"/>
                        <a:ext cx="96840" cy="38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" name="AutoShape 158"/>
                      <p:cNvSpPr/>
                      <p:nvPr/>
                    </p:nvSpPr>
                    <p:spPr>
                      <a:xfrm flipH="1" flipV="1" rot="19341600">
                        <a:off x="1571760" y="4299840"/>
                        <a:ext cx="96840" cy="38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3" name="AutoShape 159"/>
                      <p:cNvSpPr/>
                      <p:nvPr/>
                    </p:nvSpPr>
                    <p:spPr>
                      <a:xfrm flipH="1" flipV="1" rot="19636800">
                        <a:off x="1592640" y="4330080"/>
                        <a:ext cx="96840" cy="38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4" name="AutoShape 160"/>
                      <p:cNvSpPr/>
                      <p:nvPr/>
                    </p:nvSpPr>
                    <p:spPr>
                      <a:xfrm flipH="1" flipV="1" rot="20169000">
                        <a:off x="1616400" y="4367160"/>
                        <a:ext cx="96480" cy="38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05" name="Group 166"/>
                  <p:cNvGrpSpPr/>
                  <p:nvPr/>
                </p:nvGrpSpPr>
                <p:grpSpPr>
                  <a:xfrm>
                    <a:off x="1316520" y="4325760"/>
                    <a:ext cx="428760" cy="379800"/>
                    <a:chOff x="1316520" y="4325760"/>
                    <a:chExt cx="428760" cy="379800"/>
                  </a:xfrm>
                </p:grpSpPr>
                <p:grpSp>
                  <p:nvGrpSpPr>
                    <p:cNvPr id="206" name="Group 167"/>
                    <p:cNvGrpSpPr/>
                    <p:nvPr/>
                  </p:nvGrpSpPr>
                  <p:grpSpPr>
                    <a:xfrm>
                      <a:off x="1316520" y="4325760"/>
                      <a:ext cx="406800" cy="286200"/>
                      <a:chOff x="1316520" y="4325760"/>
                      <a:chExt cx="406800" cy="286200"/>
                    </a:xfrm>
                  </p:grpSpPr>
                  <p:sp>
                    <p:nvSpPr>
                      <p:cNvPr id="207" name="AutoShape 163"/>
                      <p:cNvSpPr/>
                      <p:nvPr/>
                    </p:nvSpPr>
                    <p:spPr>
                      <a:xfrm flipH="1" flipV="1" rot="17172600">
                        <a:off x="1438560" y="4263840"/>
                        <a:ext cx="78840" cy="313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8" name="AutoShape 164"/>
                      <p:cNvSpPr/>
                      <p:nvPr/>
                    </p:nvSpPr>
                    <p:spPr>
                      <a:xfrm flipH="1" flipV="1" rot="17988600">
                        <a:off x="1487520" y="4281120"/>
                        <a:ext cx="78840" cy="313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9" name="AutoShape 165"/>
                      <p:cNvSpPr/>
                      <p:nvPr/>
                    </p:nvSpPr>
                    <p:spPr>
                      <a:xfrm flipH="1" flipV="1" rot="18283800">
                        <a:off x="1512720" y="4297320"/>
                        <a:ext cx="79200" cy="313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0" name="AutoShape 166"/>
                      <p:cNvSpPr/>
                      <p:nvPr/>
                    </p:nvSpPr>
                    <p:spPr>
                      <a:xfrm flipH="1" flipV="1" rot="18816000">
                        <a:off x="1542960" y="4318200"/>
                        <a:ext cx="78840" cy="313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11" name="Group 172"/>
                    <p:cNvGrpSpPr/>
                    <p:nvPr/>
                  </p:nvGrpSpPr>
                  <p:grpSpPr>
                    <a:xfrm>
                      <a:off x="1422720" y="4327200"/>
                      <a:ext cx="322560" cy="378360"/>
                      <a:chOff x="1422720" y="4327200"/>
                      <a:chExt cx="322560" cy="378360"/>
                    </a:xfrm>
                  </p:grpSpPr>
                  <p:sp>
                    <p:nvSpPr>
                      <p:cNvPr id="212" name="AutoShape 168"/>
                      <p:cNvSpPr/>
                      <p:nvPr/>
                    </p:nvSpPr>
                    <p:spPr>
                      <a:xfrm flipH="1" flipV="1" rot="18525600">
                        <a:off x="1530000" y="4299480"/>
                        <a:ext cx="79200" cy="313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3" name="AutoShape 169"/>
                      <p:cNvSpPr/>
                      <p:nvPr/>
                    </p:nvSpPr>
                    <p:spPr>
                      <a:xfrm flipH="1" flipV="1" rot="19341600">
                        <a:off x="1569600" y="4334040"/>
                        <a:ext cx="79200" cy="313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4" name="AutoShape 170"/>
                      <p:cNvSpPr/>
                      <p:nvPr/>
                    </p:nvSpPr>
                    <p:spPr>
                      <a:xfrm flipH="1" flipV="1" rot="19636800">
                        <a:off x="1586520" y="4358160"/>
                        <a:ext cx="79200" cy="313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5" name="AutoShape 171"/>
                      <p:cNvSpPr/>
                      <p:nvPr/>
                    </p:nvSpPr>
                    <p:spPr>
                      <a:xfrm flipH="1" flipV="1" rot="20169000">
                        <a:off x="1605600" y="4388400"/>
                        <a:ext cx="79200" cy="313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  <p:grpSp>
          <p:nvGrpSpPr>
            <p:cNvPr id="216" name="Group 177"/>
            <p:cNvGrpSpPr/>
            <p:nvPr/>
          </p:nvGrpSpPr>
          <p:grpSpPr>
            <a:xfrm>
              <a:off x="1001880" y="1307160"/>
              <a:ext cx="795600" cy="813240"/>
              <a:chOff x="1001880" y="1307160"/>
              <a:chExt cx="795600" cy="813240"/>
            </a:xfrm>
          </p:grpSpPr>
          <p:sp>
            <p:nvSpPr>
              <p:cNvPr id="217" name="Oval 173"/>
              <p:cNvSpPr/>
              <p:nvPr/>
            </p:nvSpPr>
            <p:spPr>
              <a:xfrm>
                <a:off x="1043640" y="1373040"/>
                <a:ext cx="717840" cy="715680"/>
              </a:xfrm>
              <a:prstGeom prst="ellipse">
                <a:avLst/>
              </a:prstGeom>
              <a:solidFill>
                <a:srgbClr val="053275"/>
              </a:solidFill>
              <a:ln w="381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Group 179"/>
              <p:cNvGrpSpPr/>
              <p:nvPr/>
            </p:nvGrpSpPr>
            <p:grpSpPr>
              <a:xfrm>
                <a:off x="1001880" y="1726200"/>
                <a:ext cx="612000" cy="394200"/>
                <a:chOff x="1001880" y="1726200"/>
                <a:chExt cx="612000" cy="394200"/>
              </a:xfrm>
            </p:grpSpPr>
            <p:grpSp>
              <p:nvGrpSpPr>
                <p:cNvPr id="219" name="Group 180"/>
                <p:cNvGrpSpPr/>
                <p:nvPr/>
              </p:nvGrpSpPr>
              <p:grpSpPr>
                <a:xfrm>
                  <a:off x="1001880" y="1726200"/>
                  <a:ext cx="612000" cy="394200"/>
                  <a:chOff x="1001880" y="1726200"/>
                  <a:chExt cx="612000" cy="394200"/>
                </a:xfrm>
              </p:grpSpPr>
              <p:grpSp>
                <p:nvGrpSpPr>
                  <p:cNvPr id="220" name="Group 181"/>
                  <p:cNvGrpSpPr/>
                  <p:nvPr/>
                </p:nvGrpSpPr>
                <p:grpSpPr>
                  <a:xfrm>
                    <a:off x="1071360" y="1838880"/>
                    <a:ext cx="542520" cy="269280"/>
                    <a:chOff x="1071360" y="1838880"/>
                    <a:chExt cx="542520" cy="269280"/>
                  </a:xfrm>
                </p:grpSpPr>
                <p:sp>
                  <p:nvSpPr>
                    <p:cNvPr id="221" name="AutoShape 177"/>
                    <p:cNvSpPr/>
                    <p:nvPr/>
                  </p:nvSpPr>
                  <p:spPr>
                    <a:xfrm flipH="1" flipV="1" rot="5374200">
                      <a:off x="1365120" y="1803960"/>
                      <a:ext cx="101520" cy="39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" name="AutoShape 178"/>
                    <p:cNvSpPr/>
                    <p:nvPr/>
                  </p:nvSpPr>
                  <p:spPr>
                    <a:xfrm flipH="1" flipV="1" rot="6189600">
                      <a:off x="1299240" y="1800720"/>
                      <a:ext cx="101520" cy="39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AutoShape 179"/>
                    <p:cNvSpPr/>
                    <p:nvPr/>
                  </p:nvSpPr>
                  <p:spPr>
                    <a:xfrm flipH="1" flipV="1" rot="6485400">
                      <a:off x="1262520" y="1789560"/>
                      <a:ext cx="101520" cy="39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AutoShape 180"/>
                    <p:cNvSpPr/>
                    <p:nvPr/>
                  </p:nvSpPr>
                  <p:spPr>
                    <a:xfrm flipH="1" flipV="1" rot="7017600">
                      <a:off x="1219680" y="1775880"/>
                      <a:ext cx="101520" cy="39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Group 186"/>
                  <p:cNvGrpSpPr/>
                  <p:nvPr/>
                </p:nvGrpSpPr>
                <p:grpSpPr>
                  <a:xfrm>
                    <a:off x="1001880" y="1726200"/>
                    <a:ext cx="492480" cy="394200"/>
                    <a:chOff x="1001880" y="1726200"/>
                    <a:chExt cx="492480" cy="394200"/>
                  </a:xfrm>
                </p:grpSpPr>
                <p:sp>
                  <p:nvSpPr>
                    <p:cNvPr id="226" name="AutoShape 182"/>
                    <p:cNvSpPr/>
                    <p:nvPr/>
                  </p:nvSpPr>
                  <p:spPr>
                    <a:xfrm flipH="1" flipV="1" rot="6727200">
                      <a:off x="1240920" y="1792800"/>
                      <a:ext cx="101520" cy="39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AutoShape 183"/>
                    <p:cNvSpPr/>
                    <p:nvPr/>
                  </p:nvSpPr>
                  <p:spPr>
                    <a:xfrm flipH="1" flipV="1" rot="7542600">
                      <a:off x="1181880" y="1765800"/>
                      <a:ext cx="101520" cy="39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AutoShape 184"/>
                    <p:cNvSpPr/>
                    <p:nvPr/>
                  </p:nvSpPr>
                  <p:spPr>
                    <a:xfrm flipH="1" flipV="1" rot="7838400">
                      <a:off x="1151640" y="1741320"/>
                      <a:ext cx="101520" cy="39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AutoShape 185"/>
                    <p:cNvSpPr/>
                    <p:nvPr/>
                  </p:nvSpPr>
                  <p:spPr>
                    <a:xfrm flipH="1" flipV="1" rot="8370600">
                      <a:off x="1117440" y="1711800"/>
                      <a:ext cx="101520" cy="39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30" name="Group 191"/>
                <p:cNvGrpSpPr/>
                <p:nvPr/>
              </p:nvGrpSpPr>
              <p:grpSpPr>
                <a:xfrm>
                  <a:off x="1056240" y="1767240"/>
                  <a:ext cx="501120" cy="322200"/>
                  <a:chOff x="1056240" y="1767240"/>
                  <a:chExt cx="501120" cy="322200"/>
                </a:xfrm>
              </p:grpSpPr>
              <p:grpSp>
                <p:nvGrpSpPr>
                  <p:cNvPr id="231" name="Group 192"/>
                  <p:cNvGrpSpPr/>
                  <p:nvPr/>
                </p:nvGrpSpPr>
                <p:grpSpPr>
                  <a:xfrm>
                    <a:off x="1113480" y="1859040"/>
                    <a:ext cx="443880" cy="220680"/>
                    <a:chOff x="1113480" y="1859040"/>
                    <a:chExt cx="443880" cy="220680"/>
                  </a:xfrm>
                </p:grpSpPr>
                <p:sp>
                  <p:nvSpPr>
                    <p:cNvPr id="232" name="AutoShape 188"/>
                    <p:cNvSpPr/>
                    <p:nvPr/>
                  </p:nvSpPr>
                  <p:spPr>
                    <a:xfrm flipH="1" flipV="1" rot="5374200">
                      <a:off x="1353240" y="1829160"/>
                      <a:ext cx="82800" cy="32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AutoShape 189"/>
                    <p:cNvSpPr/>
                    <p:nvPr/>
                  </p:nvSpPr>
                  <p:spPr>
                    <a:xfrm flipH="1" flipV="1" rot="6189600">
                      <a:off x="1300320" y="1828440"/>
                      <a:ext cx="82800" cy="32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AutoShape 190"/>
                    <p:cNvSpPr/>
                    <p:nvPr/>
                  </p:nvSpPr>
                  <p:spPr>
                    <a:xfrm flipH="1" flipV="1" rot="6485400">
                      <a:off x="1270080" y="1819080"/>
                      <a:ext cx="82800" cy="32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AutoShape 191"/>
                    <p:cNvSpPr/>
                    <p:nvPr/>
                  </p:nvSpPr>
                  <p:spPr>
                    <a:xfrm flipH="1" flipV="1" rot="7017600">
                      <a:off x="1234800" y="1806840"/>
                      <a:ext cx="82800" cy="32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Group 197"/>
                  <p:cNvGrpSpPr/>
                  <p:nvPr/>
                </p:nvGrpSpPr>
                <p:grpSpPr>
                  <a:xfrm>
                    <a:off x="1056240" y="1767240"/>
                    <a:ext cx="402840" cy="322200"/>
                    <a:chOff x="1056240" y="1767240"/>
                    <a:chExt cx="402840" cy="322200"/>
                  </a:xfrm>
                </p:grpSpPr>
                <p:sp>
                  <p:nvSpPr>
                    <p:cNvPr id="237" name="AutoShape 193"/>
                    <p:cNvSpPr/>
                    <p:nvPr/>
                  </p:nvSpPr>
                  <p:spPr>
                    <a:xfrm flipH="1" flipV="1" rot="6727200">
                      <a:off x="1251720" y="1821240"/>
                      <a:ext cx="82800" cy="32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AutoShape 194"/>
                    <p:cNvSpPr/>
                    <p:nvPr/>
                  </p:nvSpPr>
                  <p:spPr>
                    <a:xfrm flipH="1" flipV="1" rot="7542600">
                      <a:off x="1203120" y="1799280"/>
                      <a:ext cx="82800" cy="32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AutoShape 195"/>
                    <p:cNvSpPr/>
                    <p:nvPr/>
                  </p:nvSpPr>
                  <p:spPr>
                    <a:xfrm flipH="1" flipV="1" rot="7838400">
                      <a:off x="1179720" y="1779480"/>
                      <a:ext cx="82800" cy="32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" name="AutoShape 196"/>
                    <p:cNvSpPr/>
                    <p:nvPr/>
                  </p:nvSpPr>
                  <p:spPr>
                    <a:xfrm flipH="1" flipV="1" rot="8370600">
                      <a:off x="1150920" y="1755000"/>
                      <a:ext cx="82800" cy="32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41" name="Group 202"/>
              <p:cNvGrpSpPr/>
              <p:nvPr/>
            </p:nvGrpSpPr>
            <p:grpSpPr>
              <a:xfrm>
                <a:off x="1237320" y="1307160"/>
                <a:ext cx="560160" cy="493200"/>
                <a:chOff x="1237320" y="1307160"/>
                <a:chExt cx="560160" cy="493200"/>
              </a:xfrm>
            </p:grpSpPr>
            <p:grpSp>
              <p:nvGrpSpPr>
                <p:cNvPr id="242" name="Group 203"/>
                <p:cNvGrpSpPr/>
                <p:nvPr/>
              </p:nvGrpSpPr>
              <p:grpSpPr>
                <a:xfrm>
                  <a:off x="1237320" y="1307160"/>
                  <a:ext cx="538920" cy="478800"/>
                  <a:chOff x="1237320" y="1307160"/>
                  <a:chExt cx="538920" cy="478800"/>
                </a:xfrm>
              </p:grpSpPr>
              <p:grpSp>
                <p:nvGrpSpPr>
                  <p:cNvPr id="243" name="Group 204"/>
                  <p:cNvGrpSpPr/>
                  <p:nvPr/>
                </p:nvGrpSpPr>
                <p:grpSpPr>
                  <a:xfrm>
                    <a:off x="1237320" y="1307160"/>
                    <a:ext cx="538920" cy="478800"/>
                    <a:chOff x="1237320" y="1307160"/>
                    <a:chExt cx="538920" cy="478800"/>
                  </a:xfrm>
                </p:grpSpPr>
                <p:grpSp>
                  <p:nvGrpSpPr>
                    <p:cNvPr id="244" name="Group 205"/>
                    <p:cNvGrpSpPr/>
                    <p:nvPr/>
                  </p:nvGrpSpPr>
                  <p:grpSpPr>
                    <a:xfrm>
                      <a:off x="1237320" y="1307160"/>
                      <a:ext cx="511920" cy="360720"/>
                      <a:chOff x="1237320" y="1307160"/>
                      <a:chExt cx="511920" cy="360720"/>
                    </a:xfrm>
                  </p:grpSpPr>
                  <p:sp>
                    <p:nvSpPr>
                      <p:cNvPr id="245" name="AutoShape 201"/>
                      <p:cNvSpPr/>
                      <p:nvPr/>
                    </p:nvSpPr>
                    <p:spPr>
                      <a:xfrm flipH="1" flipV="1" rot="17172600">
                        <a:off x="1390680" y="1230480"/>
                        <a:ext cx="99720" cy="394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6" name="AutoShape 202"/>
                      <p:cNvSpPr/>
                      <p:nvPr/>
                    </p:nvSpPr>
                    <p:spPr>
                      <a:xfrm flipH="1" flipV="1" rot="17988600">
                        <a:off x="1451880" y="1250640"/>
                        <a:ext cx="99720" cy="394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7" name="AutoShape 203"/>
                      <p:cNvSpPr/>
                      <p:nvPr/>
                    </p:nvSpPr>
                    <p:spPr>
                      <a:xfrm flipH="1" flipV="1" rot="18283800">
                        <a:off x="1484640" y="1272240"/>
                        <a:ext cx="99720" cy="394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8" name="AutoShape 204"/>
                      <p:cNvSpPr/>
                      <p:nvPr/>
                    </p:nvSpPr>
                    <p:spPr>
                      <a:xfrm flipH="1" flipV="1" rot="18816000">
                        <a:off x="1521720" y="1297800"/>
                        <a:ext cx="99720" cy="39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49" name="Group 210"/>
                    <p:cNvGrpSpPr/>
                    <p:nvPr/>
                  </p:nvGrpSpPr>
                  <p:grpSpPr>
                    <a:xfrm>
                      <a:off x="1370520" y="1310040"/>
                      <a:ext cx="405720" cy="475920"/>
                      <a:chOff x="1370520" y="1310040"/>
                      <a:chExt cx="405720" cy="475920"/>
                    </a:xfrm>
                  </p:grpSpPr>
                  <p:sp>
                    <p:nvSpPr>
                      <p:cNvPr id="250" name="AutoShape 206"/>
                      <p:cNvSpPr/>
                      <p:nvPr/>
                    </p:nvSpPr>
                    <p:spPr>
                      <a:xfrm flipH="1" flipV="1" rot="18525600">
                        <a:off x="1505160" y="1275480"/>
                        <a:ext cx="100080" cy="394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1" name="AutoShape 207"/>
                      <p:cNvSpPr/>
                      <p:nvPr/>
                    </p:nvSpPr>
                    <p:spPr>
                      <a:xfrm flipH="1" flipV="1" rot="19341600">
                        <a:off x="1554480" y="1317960"/>
                        <a:ext cx="100080" cy="394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2" name="AutoShape 208"/>
                      <p:cNvSpPr/>
                      <p:nvPr/>
                    </p:nvSpPr>
                    <p:spPr>
                      <a:xfrm flipH="1" flipV="1" rot="19636800">
                        <a:off x="1576800" y="1349640"/>
                        <a:ext cx="100080" cy="394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3" name="AutoShape 209"/>
                      <p:cNvSpPr/>
                      <p:nvPr/>
                    </p:nvSpPr>
                    <p:spPr>
                      <a:xfrm flipH="1" flipV="1" rot="20169000">
                        <a:off x="1600200" y="1388160"/>
                        <a:ext cx="100080" cy="394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54" name="Group 215"/>
                  <p:cNvGrpSpPr/>
                  <p:nvPr/>
                </p:nvGrpSpPr>
                <p:grpSpPr>
                  <a:xfrm>
                    <a:off x="1291680" y="1344600"/>
                    <a:ext cx="441720" cy="391320"/>
                    <a:chOff x="1291680" y="1344600"/>
                    <a:chExt cx="441720" cy="391320"/>
                  </a:xfrm>
                </p:grpSpPr>
                <p:grpSp>
                  <p:nvGrpSpPr>
                    <p:cNvPr id="255" name="Group 216"/>
                    <p:cNvGrpSpPr/>
                    <p:nvPr/>
                  </p:nvGrpSpPr>
                  <p:grpSpPr>
                    <a:xfrm>
                      <a:off x="1291680" y="1344600"/>
                      <a:ext cx="419040" cy="294840"/>
                      <a:chOff x="1291680" y="1344600"/>
                      <a:chExt cx="419040" cy="294840"/>
                    </a:xfrm>
                  </p:grpSpPr>
                  <p:sp>
                    <p:nvSpPr>
                      <p:cNvPr id="256" name="AutoShape 212"/>
                      <p:cNvSpPr/>
                      <p:nvPr/>
                    </p:nvSpPr>
                    <p:spPr>
                      <a:xfrm flipH="1" flipV="1" rot="17172600">
                        <a:off x="1416960" y="1281240"/>
                        <a:ext cx="81360" cy="323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7" name="AutoShape 213"/>
                      <p:cNvSpPr/>
                      <p:nvPr/>
                    </p:nvSpPr>
                    <p:spPr>
                      <a:xfrm flipH="1" flipV="1" rot="17988600">
                        <a:off x="1467360" y="1297800"/>
                        <a:ext cx="81360" cy="322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8" name="AutoShape 214"/>
                      <p:cNvSpPr/>
                      <p:nvPr/>
                    </p:nvSpPr>
                    <p:spPr>
                      <a:xfrm flipH="1" flipV="1" rot="18283800">
                        <a:off x="1494000" y="1315080"/>
                        <a:ext cx="81360" cy="323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9" name="AutoShape 215"/>
                      <p:cNvSpPr/>
                      <p:nvPr/>
                    </p:nvSpPr>
                    <p:spPr>
                      <a:xfrm flipH="1" flipV="1" rot="18816000">
                        <a:off x="1524960" y="1336320"/>
                        <a:ext cx="81360" cy="323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0" name="Group 221"/>
                    <p:cNvGrpSpPr/>
                    <p:nvPr/>
                  </p:nvGrpSpPr>
                  <p:grpSpPr>
                    <a:xfrm>
                      <a:off x="1401120" y="1346760"/>
                      <a:ext cx="332280" cy="389160"/>
                      <a:chOff x="1401120" y="1346760"/>
                      <a:chExt cx="332280" cy="389160"/>
                    </a:xfrm>
                  </p:grpSpPr>
                  <p:sp>
                    <p:nvSpPr>
                      <p:cNvPr id="261" name="AutoShape 217"/>
                      <p:cNvSpPr/>
                      <p:nvPr/>
                    </p:nvSpPr>
                    <p:spPr>
                      <a:xfrm flipH="1" flipV="1" rot="18525600">
                        <a:off x="1511280" y="1317960"/>
                        <a:ext cx="81360" cy="322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2" name="AutoShape 218"/>
                      <p:cNvSpPr/>
                      <p:nvPr/>
                    </p:nvSpPr>
                    <p:spPr>
                      <a:xfrm flipH="1" flipV="1" rot="19341600">
                        <a:off x="1551600" y="1352160"/>
                        <a:ext cx="81360" cy="323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3" name="AutoShape 219"/>
                      <p:cNvSpPr/>
                      <p:nvPr/>
                    </p:nvSpPr>
                    <p:spPr>
                      <a:xfrm flipH="1" flipV="1" rot="19636800">
                        <a:off x="1569600" y="1378080"/>
                        <a:ext cx="81360" cy="322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4" name="AutoShape 220"/>
                      <p:cNvSpPr/>
                      <p:nvPr/>
                    </p:nvSpPr>
                    <p:spPr>
                      <a:xfrm flipH="1" flipV="1" rot="20169000">
                        <a:off x="1589760" y="1409760"/>
                        <a:ext cx="81360" cy="323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65" name="Group 226"/>
                <p:cNvGrpSpPr/>
                <p:nvPr/>
              </p:nvGrpSpPr>
              <p:grpSpPr>
                <a:xfrm>
                  <a:off x="1258560" y="1321560"/>
                  <a:ext cx="538920" cy="478800"/>
                  <a:chOff x="1258560" y="1321560"/>
                  <a:chExt cx="538920" cy="478800"/>
                </a:xfrm>
              </p:grpSpPr>
              <p:grpSp>
                <p:nvGrpSpPr>
                  <p:cNvPr id="266" name="Group 227"/>
                  <p:cNvGrpSpPr/>
                  <p:nvPr/>
                </p:nvGrpSpPr>
                <p:grpSpPr>
                  <a:xfrm>
                    <a:off x="1258560" y="1321560"/>
                    <a:ext cx="538920" cy="478800"/>
                    <a:chOff x="1258560" y="1321560"/>
                    <a:chExt cx="538920" cy="478800"/>
                  </a:xfrm>
                </p:grpSpPr>
                <p:grpSp>
                  <p:nvGrpSpPr>
                    <p:cNvPr id="267" name="Group 228"/>
                    <p:cNvGrpSpPr/>
                    <p:nvPr/>
                  </p:nvGrpSpPr>
                  <p:grpSpPr>
                    <a:xfrm>
                      <a:off x="1258560" y="1321560"/>
                      <a:ext cx="511560" cy="360720"/>
                      <a:chOff x="1258560" y="1321560"/>
                      <a:chExt cx="511560" cy="360720"/>
                    </a:xfrm>
                  </p:grpSpPr>
                  <p:sp>
                    <p:nvSpPr>
                      <p:cNvPr id="268" name="AutoShape 224"/>
                      <p:cNvSpPr/>
                      <p:nvPr/>
                    </p:nvSpPr>
                    <p:spPr>
                      <a:xfrm flipH="1" flipV="1" rot="17172600">
                        <a:off x="1411920" y="1244880"/>
                        <a:ext cx="99720" cy="394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" name="AutoShape 225"/>
                      <p:cNvSpPr/>
                      <p:nvPr/>
                    </p:nvSpPr>
                    <p:spPr>
                      <a:xfrm flipH="1" flipV="1" rot="17988600">
                        <a:off x="1473120" y="1265040"/>
                        <a:ext cx="99720" cy="394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" name="AutoShape 226"/>
                      <p:cNvSpPr/>
                      <p:nvPr/>
                    </p:nvSpPr>
                    <p:spPr>
                      <a:xfrm flipH="1" flipV="1" rot="18283800">
                        <a:off x="1505880" y="1286640"/>
                        <a:ext cx="99720" cy="394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" name="AutoShape 227"/>
                      <p:cNvSpPr/>
                      <p:nvPr/>
                    </p:nvSpPr>
                    <p:spPr>
                      <a:xfrm flipH="1" flipV="1" rot="18816000">
                        <a:off x="1542600" y="1312200"/>
                        <a:ext cx="99720" cy="39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72" name="Group 233"/>
                    <p:cNvGrpSpPr/>
                    <p:nvPr/>
                  </p:nvGrpSpPr>
                  <p:grpSpPr>
                    <a:xfrm>
                      <a:off x="1391760" y="1324800"/>
                      <a:ext cx="405720" cy="475560"/>
                      <a:chOff x="1391760" y="1324800"/>
                      <a:chExt cx="405720" cy="475560"/>
                    </a:xfrm>
                  </p:grpSpPr>
                  <p:sp>
                    <p:nvSpPr>
                      <p:cNvPr id="273" name="AutoShape 229"/>
                      <p:cNvSpPr/>
                      <p:nvPr/>
                    </p:nvSpPr>
                    <p:spPr>
                      <a:xfrm flipH="1" flipV="1" rot="18525600">
                        <a:off x="1526400" y="1290240"/>
                        <a:ext cx="100080" cy="394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4" name="AutoShape 230"/>
                      <p:cNvSpPr/>
                      <p:nvPr/>
                    </p:nvSpPr>
                    <p:spPr>
                      <a:xfrm flipH="1" flipV="1" rot="19341600">
                        <a:off x="1575720" y="1332720"/>
                        <a:ext cx="100080" cy="394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" name="AutoShape 231"/>
                      <p:cNvSpPr/>
                      <p:nvPr/>
                    </p:nvSpPr>
                    <p:spPr>
                      <a:xfrm flipH="1" flipV="1" rot="19636800">
                        <a:off x="1598040" y="1364040"/>
                        <a:ext cx="100080" cy="394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6" name="AutoShape 232"/>
                      <p:cNvSpPr/>
                      <p:nvPr/>
                    </p:nvSpPr>
                    <p:spPr>
                      <a:xfrm flipH="1" flipV="1" rot="20169000">
                        <a:off x="1621440" y="1402560"/>
                        <a:ext cx="100080" cy="394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77" name="Group 238"/>
                  <p:cNvGrpSpPr/>
                  <p:nvPr/>
                </p:nvGrpSpPr>
                <p:grpSpPr>
                  <a:xfrm>
                    <a:off x="1312920" y="1359000"/>
                    <a:ext cx="441360" cy="391320"/>
                    <a:chOff x="1312920" y="1359000"/>
                    <a:chExt cx="441360" cy="391320"/>
                  </a:xfrm>
                </p:grpSpPr>
                <p:grpSp>
                  <p:nvGrpSpPr>
                    <p:cNvPr id="278" name="Group 239"/>
                    <p:cNvGrpSpPr/>
                    <p:nvPr/>
                  </p:nvGrpSpPr>
                  <p:grpSpPr>
                    <a:xfrm>
                      <a:off x="1312920" y="1359000"/>
                      <a:ext cx="419040" cy="294840"/>
                      <a:chOff x="1312920" y="1359000"/>
                      <a:chExt cx="419040" cy="294840"/>
                    </a:xfrm>
                  </p:grpSpPr>
                  <p:sp>
                    <p:nvSpPr>
                      <p:cNvPr id="279" name="AutoShape 235"/>
                      <p:cNvSpPr/>
                      <p:nvPr/>
                    </p:nvSpPr>
                    <p:spPr>
                      <a:xfrm flipH="1" flipV="1" rot="17172600">
                        <a:off x="1438200" y="1295640"/>
                        <a:ext cx="81360" cy="323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0" name="AutoShape 236"/>
                      <p:cNvSpPr/>
                      <p:nvPr/>
                    </p:nvSpPr>
                    <p:spPr>
                      <a:xfrm flipH="1" flipV="1" rot="17988600">
                        <a:off x="1488600" y="1312200"/>
                        <a:ext cx="81360" cy="322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1" name="AutoShape 237"/>
                      <p:cNvSpPr/>
                      <p:nvPr/>
                    </p:nvSpPr>
                    <p:spPr>
                      <a:xfrm flipH="1" flipV="1" rot="18283800">
                        <a:off x="1515240" y="1329480"/>
                        <a:ext cx="81360" cy="323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" name="AutoShape 238"/>
                      <p:cNvSpPr/>
                      <p:nvPr/>
                    </p:nvSpPr>
                    <p:spPr>
                      <a:xfrm flipH="1" flipV="1" rot="18816000">
                        <a:off x="1546200" y="1350720"/>
                        <a:ext cx="81360" cy="323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83" name="Group 244"/>
                    <p:cNvGrpSpPr/>
                    <p:nvPr/>
                  </p:nvGrpSpPr>
                  <p:grpSpPr>
                    <a:xfrm>
                      <a:off x="1422000" y="1361520"/>
                      <a:ext cx="332280" cy="388800"/>
                      <a:chOff x="1422000" y="1361520"/>
                      <a:chExt cx="332280" cy="388800"/>
                    </a:xfrm>
                  </p:grpSpPr>
                  <p:sp>
                    <p:nvSpPr>
                      <p:cNvPr id="284" name="AutoShape 240"/>
                      <p:cNvSpPr/>
                      <p:nvPr/>
                    </p:nvSpPr>
                    <p:spPr>
                      <a:xfrm flipH="1" flipV="1" rot="18525600">
                        <a:off x="1532160" y="1332720"/>
                        <a:ext cx="81360" cy="322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5" name="AutoShape 241"/>
                      <p:cNvSpPr/>
                      <p:nvPr/>
                    </p:nvSpPr>
                    <p:spPr>
                      <a:xfrm flipH="1" flipV="1" rot="19341600">
                        <a:off x="1572840" y="1366560"/>
                        <a:ext cx="81360" cy="323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6" name="AutoShape 242"/>
                      <p:cNvSpPr/>
                      <p:nvPr/>
                    </p:nvSpPr>
                    <p:spPr>
                      <a:xfrm flipH="1" flipV="1" rot="19636800">
                        <a:off x="1590840" y="1392480"/>
                        <a:ext cx="81360" cy="322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7" name="AutoShape 243"/>
                      <p:cNvSpPr/>
                      <p:nvPr/>
                    </p:nvSpPr>
                    <p:spPr>
                      <a:xfrm flipH="1" flipV="1" rot="20169000">
                        <a:off x="1610640" y="1424160"/>
                        <a:ext cx="81360" cy="323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  <p:sp>
          <p:nvSpPr>
            <p:cNvPr id="288" name="Text Box 23"/>
            <p:cNvSpPr/>
            <p:nvPr/>
          </p:nvSpPr>
          <p:spPr>
            <a:xfrm>
              <a:off x="1854000" y="2478240"/>
              <a:ext cx="626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此处添加目录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23"/>
            <p:cNvSpPr/>
            <p:nvPr/>
          </p:nvSpPr>
          <p:spPr>
            <a:xfrm>
              <a:off x="1854000" y="3466440"/>
              <a:ext cx="626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此处添加目录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3"/>
            <p:cNvSpPr/>
            <p:nvPr/>
          </p:nvSpPr>
          <p:spPr>
            <a:xfrm>
              <a:off x="1854000" y="4460760"/>
              <a:ext cx="626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此处添加目录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252"/>
            <p:cNvGrpSpPr/>
            <p:nvPr/>
          </p:nvGrpSpPr>
          <p:grpSpPr>
            <a:xfrm>
              <a:off x="1014840" y="5264640"/>
              <a:ext cx="772200" cy="786240"/>
              <a:chOff x="1014840" y="5264640"/>
              <a:chExt cx="772200" cy="786240"/>
            </a:xfrm>
          </p:grpSpPr>
          <p:sp>
            <p:nvSpPr>
              <p:cNvPr id="292" name="Oval 101"/>
              <p:cNvSpPr/>
              <p:nvPr/>
            </p:nvSpPr>
            <p:spPr>
              <a:xfrm>
                <a:off x="1056600" y="5327640"/>
                <a:ext cx="697680" cy="693720"/>
              </a:xfrm>
              <a:prstGeom prst="ellipse">
                <a:avLst/>
              </a:prstGeom>
              <a:solidFill>
                <a:srgbClr val="e8ac04"/>
              </a:solidFill>
              <a:ln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3" name="Group 254"/>
              <p:cNvGrpSpPr/>
              <p:nvPr/>
            </p:nvGrpSpPr>
            <p:grpSpPr>
              <a:xfrm>
                <a:off x="1014840" y="5668920"/>
                <a:ext cx="595080" cy="381960"/>
                <a:chOff x="1014840" y="5668920"/>
                <a:chExt cx="595080" cy="381960"/>
              </a:xfrm>
            </p:grpSpPr>
            <p:grpSp>
              <p:nvGrpSpPr>
                <p:cNvPr id="294" name="Group 255"/>
                <p:cNvGrpSpPr/>
                <p:nvPr/>
              </p:nvGrpSpPr>
              <p:grpSpPr>
                <a:xfrm>
                  <a:off x="1014840" y="5668920"/>
                  <a:ext cx="595080" cy="381960"/>
                  <a:chOff x="1014840" y="5668920"/>
                  <a:chExt cx="595080" cy="381960"/>
                </a:xfrm>
              </p:grpSpPr>
              <p:grpSp>
                <p:nvGrpSpPr>
                  <p:cNvPr id="295" name="Group 256"/>
                  <p:cNvGrpSpPr/>
                  <p:nvPr/>
                </p:nvGrpSpPr>
                <p:grpSpPr>
                  <a:xfrm>
                    <a:off x="1083240" y="5777640"/>
                    <a:ext cx="526680" cy="262080"/>
                    <a:chOff x="1083240" y="5777640"/>
                    <a:chExt cx="526680" cy="262080"/>
                  </a:xfrm>
                </p:grpSpPr>
                <p:sp>
                  <p:nvSpPr>
                    <p:cNvPr id="296" name="AutoShape 105"/>
                    <p:cNvSpPr/>
                    <p:nvPr/>
                  </p:nvSpPr>
                  <p:spPr>
                    <a:xfrm flipH="1" flipV="1" rot="5374200">
                      <a:off x="1368360" y="5743080"/>
                      <a:ext cx="9864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AutoShape 106"/>
                    <p:cNvSpPr/>
                    <p:nvPr/>
                  </p:nvSpPr>
                  <p:spPr>
                    <a:xfrm flipH="1" flipV="1" rot="6189600">
                      <a:off x="1304280" y="5740920"/>
                      <a:ext cx="986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AutoShape 107"/>
                    <p:cNvSpPr/>
                    <p:nvPr/>
                  </p:nvSpPr>
                  <p:spPr>
                    <a:xfrm flipH="1" flipV="1" rot="6485400">
                      <a:off x="1268640" y="5731560"/>
                      <a:ext cx="986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AutoShape 108"/>
                    <p:cNvSpPr/>
                    <p:nvPr/>
                  </p:nvSpPr>
                  <p:spPr>
                    <a:xfrm flipH="1" flipV="1" rot="7017600">
                      <a:off x="1226880" y="5716440"/>
                      <a:ext cx="986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" name="Group 261"/>
                  <p:cNvGrpSpPr/>
                  <p:nvPr/>
                </p:nvGrpSpPr>
                <p:grpSpPr>
                  <a:xfrm>
                    <a:off x="1014840" y="5668920"/>
                    <a:ext cx="479160" cy="381960"/>
                    <a:chOff x="1014840" y="5668920"/>
                    <a:chExt cx="479160" cy="381960"/>
                  </a:xfrm>
                </p:grpSpPr>
                <p:sp>
                  <p:nvSpPr>
                    <p:cNvPr id="301" name="AutoShape 110"/>
                    <p:cNvSpPr/>
                    <p:nvPr/>
                  </p:nvSpPr>
                  <p:spPr>
                    <a:xfrm flipH="1" flipV="1" rot="6727200">
                      <a:off x="1247760" y="5733720"/>
                      <a:ext cx="9864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AutoShape 111"/>
                    <p:cNvSpPr/>
                    <p:nvPr/>
                  </p:nvSpPr>
                  <p:spPr>
                    <a:xfrm flipH="1" flipV="1" rot="7542600">
                      <a:off x="1188720" y="5707080"/>
                      <a:ext cx="9864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AutoShape 112"/>
                    <p:cNvSpPr/>
                    <p:nvPr/>
                  </p:nvSpPr>
                  <p:spPr>
                    <a:xfrm flipH="1" flipV="1" rot="7838400">
                      <a:off x="1160280" y="5683680"/>
                      <a:ext cx="9864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AutoShape 113"/>
                    <p:cNvSpPr/>
                    <p:nvPr/>
                  </p:nvSpPr>
                  <p:spPr>
                    <a:xfrm flipH="1" flipV="1" rot="8370600">
                      <a:off x="1127160" y="5654880"/>
                      <a:ext cx="986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05" name="Group 266"/>
                <p:cNvGrpSpPr/>
                <p:nvPr/>
              </p:nvGrpSpPr>
              <p:grpSpPr>
                <a:xfrm>
                  <a:off x="1067400" y="5708160"/>
                  <a:ext cx="487440" cy="313560"/>
                  <a:chOff x="1067400" y="5708160"/>
                  <a:chExt cx="487440" cy="313560"/>
                </a:xfrm>
              </p:grpSpPr>
              <p:grpSp>
                <p:nvGrpSpPr>
                  <p:cNvPr id="306" name="Group 267"/>
                  <p:cNvGrpSpPr/>
                  <p:nvPr/>
                </p:nvGrpSpPr>
                <p:grpSpPr>
                  <a:xfrm>
                    <a:off x="1123200" y="5797080"/>
                    <a:ext cx="431640" cy="214560"/>
                    <a:chOff x="1123200" y="5797080"/>
                    <a:chExt cx="431640" cy="214560"/>
                  </a:xfrm>
                </p:grpSpPr>
                <p:sp>
                  <p:nvSpPr>
                    <p:cNvPr id="307" name="AutoShape 116"/>
                    <p:cNvSpPr/>
                    <p:nvPr/>
                  </p:nvSpPr>
                  <p:spPr>
                    <a:xfrm flipH="1" flipV="1" rot="5374200">
                      <a:off x="1356840" y="5768640"/>
                      <a:ext cx="80280" cy="31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AutoShape 117"/>
                    <p:cNvSpPr/>
                    <p:nvPr/>
                  </p:nvSpPr>
                  <p:spPr>
                    <a:xfrm flipH="1" flipV="1" rot="6189600">
                      <a:off x="1304640" y="5766840"/>
                      <a:ext cx="80280" cy="31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AutoShape 118"/>
                    <p:cNvSpPr/>
                    <p:nvPr/>
                  </p:nvSpPr>
                  <p:spPr>
                    <a:xfrm flipH="1" flipV="1" rot="6485400">
                      <a:off x="1275120" y="5758200"/>
                      <a:ext cx="80280" cy="31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AutoShape 119"/>
                    <p:cNvSpPr/>
                    <p:nvPr/>
                  </p:nvSpPr>
                  <p:spPr>
                    <a:xfrm flipH="1" flipV="1" rot="7017600">
                      <a:off x="1240920" y="5746680"/>
                      <a:ext cx="80280" cy="31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Group 272"/>
                  <p:cNvGrpSpPr/>
                  <p:nvPr/>
                </p:nvGrpSpPr>
                <p:grpSpPr>
                  <a:xfrm>
                    <a:off x="1067400" y="5708160"/>
                    <a:ext cx="392040" cy="313560"/>
                    <a:chOff x="1067400" y="5708160"/>
                    <a:chExt cx="392040" cy="313560"/>
                  </a:xfrm>
                </p:grpSpPr>
                <p:sp>
                  <p:nvSpPr>
                    <p:cNvPr id="312" name="AutoShape 121"/>
                    <p:cNvSpPr/>
                    <p:nvPr/>
                  </p:nvSpPr>
                  <p:spPr>
                    <a:xfrm flipH="1" flipV="1" rot="6727200">
                      <a:off x="1258200" y="5760720"/>
                      <a:ext cx="80280" cy="31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AutoShape 122"/>
                    <p:cNvSpPr/>
                    <p:nvPr/>
                  </p:nvSpPr>
                  <p:spPr>
                    <a:xfrm flipH="1" flipV="1" rot="7542600">
                      <a:off x="1210320" y="5739480"/>
                      <a:ext cx="80280" cy="31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AutoShape 123"/>
                    <p:cNvSpPr/>
                    <p:nvPr/>
                  </p:nvSpPr>
                  <p:spPr>
                    <a:xfrm flipH="1" flipV="1" rot="7838400">
                      <a:off x="1186920" y="5720040"/>
                      <a:ext cx="80280" cy="31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-5400000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AutoShape 124"/>
                    <p:cNvSpPr/>
                    <p:nvPr/>
                  </p:nvSpPr>
                  <p:spPr>
                    <a:xfrm flipH="1" flipV="1" rot="8370600">
                      <a:off x="1159920" y="5696280"/>
                      <a:ext cx="80280" cy="31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16" name="Group 277"/>
              <p:cNvGrpSpPr/>
              <p:nvPr/>
            </p:nvGrpSpPr>
            <p:grpSpPr>
              <a:xfrm>
                <a:off x="1240920" y="5264640"/>
                <a:ext cx="546120" cy="478800"/>
                <a:chOff x="1240920" y="5264640"/>
                <a:chExt cx="546120" cy="478800"/>
              </a:xfrm>
            </p:grpSpPr>
            <p:grpSp>
              <p:nvGrpSpPr>
                <p:cNvPr id="317" name="Group 278"/>
                <p:cNvGrpSpPr/>
                <p:nvPr/>
              </p:nvGrpSpPr>
              <p:grpSpPr>
                <a:xfrm>
                  <a:off x="1240920" y="5264640"/>
                  <a:ext cx="525600" cy="464760"/>
                  <a:chOff x="1240920" y="5264640"/>
                  <a:chExt cx="525600" cy="464760"/>
                </a:xfrm>
              </p:grpSpPr>
              <p:grpSp>
                <p:nvGrpSpPr>
                  <p:cNvPr id="318" name="Group 279"/>
                  <p:cNvGrpSpPr/>
                  <p:nvPr/>
                </p:nvGrpSpPr>
                <p:grpSpPr>
                  <a:xfrm>
                    <a:off x="1240920" y="5264640"/>
                    <a:ext cx="525600" cy="464760"/>
                    <a:chOff x="1240920" y="5264640"/>
                    <a:chExt cx="525600" cy="464760"/>
                  </a:xfrm>
                </p:grpSpPr>
                <p:grpSp>
                  <p:nvGrpSpPr>
                    <p:cNvPr id="319" name="Group 280"/>
                    <p:cNvGrpSpPr/>
                    <p:nvPr/>
                  </p:nvGrpSpPr>
                  <p:grpSpPr>
                    <a:xfrm>
                      <a:off x="1240920" y="5264640"/>
                      <a:ext cx="497880" cy="350280"/>
                      <a:chOff x="1240920" y="5264640"/>
                      <a:chExt cx="497880" cy="350280"/>
                    </a:xfrm>
                  </p:grpSpPr>
                  <p:sp>
                    <p:nvSpPr>
                      <p:cNvPr id="320" name="AutoShape 129"/>
                      <p:cNvSpPr/>
                      <p:nvPr/>
                    </p:nvSpPr>
                    <p:spPr>
                      <a:xfrm flipH="1" flipV="1" rot="17172600">
                        <a:off x="1389600" y="5189400"/>
                        <a:ext cx="96840" cy="38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1" name="AutoShape 130"/>
                      <p:cNvSpPr/>
                      <p:nvPr/>
                    </p:nvSpPr>
                    <p:spPr>
                      <a:xfrm flipH="1" flipV="1" rot="17988600">
                        <a:off x="1450440" y="5209560"/>
                        <a:ext cx="96840" cy="38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2" name="AutoShape 131"/>
                      <p:cNvSpPr/>
                      <p:nvPr/>
                    </p:nvSpPr>
                    <p:spPr>
                      <a:xfrm flipH="1" flipV="1" rot="18283800">
                        <a:off x="1481400" y="5230080"/>
                        <a:ext cx="96840" cy="38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3" name="AutoShape 132"/>
                      <p:cNvSpPr/>
                      <p:nvPr/>
                    </p:nvSpPr>
                    <p:spPr>
                      <a:xfrm flipH="1" flipV="1" rot="18816000">
                        <a:off x="1517400" y="5255640"/>
                        <a:ext cx="96840" cy="38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24" name="Group 285"/>
                    <p:cNvGrpSpPr/>
                    <p:nvPr/>
                  </p:nvGrpSpPr>
                  <p:grpSpPr>
                    <a:xfrm>
                      <a:off x="1371600" y="5267160"/>
                      <a:ext cx="394920" cy="462240"/>
                      <a:chOff x="1371600" y="5267160"/>
                      <a:chExt cx="394920" cy="462240"/>
                    </a:xfrm>
                  </p:grpSpPr>
                  <p:sp>
                    <p:nvSpPr>
                      <p:cNvPr id="325" name="AutoShape 134"/>
                      <p:cNvSpPr/>
                      <p:nvPr/>
                    </p:nvSpPr>
                    <p:spPr>
                      <a:xfrm flipH="1" flipV="1" rot="18525600">
                        <a:off x="1503000" y="5232600"/>
                        <a:ext cx="96840" cy="38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6" name="AutoShape 135"/>
                      <p:cNvSpPr/>
                      <p:nvPr/>
                    </p:nvSpPr>
                    <p:spPr>
                      <a:xfrm flipH="1" flipV="1" rot="19341600">
                        <a:off x="1551240" y="5274000"/>
                        <a:ext cx="96840" cy="38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7" name="AutoShape 136"/>
                      <p:cNvSpPr/>
                      <p:nvPr/>
                    </p:nvSpPr>
                    <p:spPr>
                      <a:xfrm flipH="1" flipV="1" rot="19636800">
                        <a:off x="1572120" y="5304600"/>
                        <a:ext cx="96840" cy="38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8" name="AutoShape 137"/>
                      <p:cNvSpPr/>
                      <p:nvPr/>
                    </p:nvSpPr>
                    <p:spPr>
                      <a:xfrm flipH="1" flipV="1" rot="20169000">
                        <a:off x="1596240" y="5342760"/>
                        <a:ext cx="96480" cy="38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329" name="Group 290"/>
                  <p:cNvGrpSpPr/>
                  <p:nvPr/>
                </p:nvGrpSpPr>
                <p:grpSpPr>
                  <a:xfrm>
                    <a:off x="1294200" y="5300280"/>
                    <a:ext cx="429840" cy="380520"/>
                    <a:chOff x="1294200" y="5300280"/>
                    <a:chExt cx="429840" cy="380520"/>
                  </a:xfrm>
                </p:grpSpPr>
                <p:grpSp>
                  <p:nvGrpSpPr>
                    <p:cNvPr id="330" name="Group 291"/>
                    <p:cNvGrpSpPr/>
                    <p:nvPr/>
                  </p:nvGrpSpPr>
                  <p:grpSpPr>
                    <a:xfrm>
                      <a:off x="1294200" y="5300280"/>
                      <a:ext cx="407160" cy="286560"/>
                      <a:chOff x="1294200" y="5300280"/>
                      <a:chExt cx="407160" cy="286560"/>
                    </a:xfrm>
                  </p:grpSpPr>
                  <p:sp>
                    <p:nvSpPr>
                      <p:cNvPr id="331" name="AutoShape 140"/>
                      <p:cNvSpPr/>
                      <p:nvPr/>
                    </p:nvSpPr>
                    <p:spPr>
                      <a:xfrm flipH="1" flipV="1" rot="17172600">
                        <a:off x="1416240" y="5238720"/>
                        <a:ext cx="78840" cy="314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2" name="AutoShape 141"/>
                      <p:cNvSpPr/>
                      <p:nvPr/>
                    </p:nvSpPr>
                    <p:spPr>
                      <a:xfrm flipH="1" flipV="1" rot="17988600">
                        <a:off x="1465920" y="5255640"/>
                        <a:ext cx="78840" cy="313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3" name="AutoShape 142"/>
                      <p:cNvSpPr/>
                      <p:nvPr/>
                    </p:nvSpPr>
                    <p:spPr>
                      <a:xfrm flipH="1" flipV="1" rot="18283800">
                        <a:off x="1490400" y="5270760"/>
                        <a:ext cx="79200" cy="314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4" name="AutoShape 143"/>
                      <p:cNvSpPr/>
                      <p:nvPr/>
                    </p:nvSpPr>
                    <p:spPr>
                      <a:xfrm flipH="1" flipV="1" rot="18816000">
                        <a:off x="1520640" y="5292360"/>
                        <a:ext cx="78840" cy="314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35" name="Group 296"/>
                    <p:cNvGrpSpPr/>
                    <p:nvPr/>
                  </p:nvGrpSpPr>
                  <p:grpSpPr>
                    <a:xfrm>
                      <a:off x="1401120" y="5302080"/>
                      <a:ext cx="322920" cy="378720"/>
                      <a:chOff x="1401120" y="5302080"/>
                      <a:chExt cx="322920" cy="378720"/>
                    </a:xfrm>
                  </p:grpSpPr>
                  <p:sp>
                    <p:nvSpPr>
                      <p:cNvPr id="336" name="AutoShape 145"/>
                      <p:cNvSpPr/>
                      <p:nvPr/>
                    </p:nvSpPr>
                    <p:spPr>
                      <a:xfrm flipH="1" flipV="1" rot="18525600">
                        <a:off x="1508760" y="5273640"/>
                        <a:ext cx="79200" cy="314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7" name="AutoShape 146"/>
                      <p:cNvSpPr/>
                      <p:nvPr/>
                    </p:nvSpPr>
                    <p:spPr>
                      <a:xfrm flipH="1" flipV="1" rot="19341600">
                        <a:off x="1548360" y="5308920"/>
                        <a:ext cx="79200" cy="313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8" name="AutoShape 147"/>
                      <p:cNvSpPr/>
                      <p:nvPr/>
                    </p:nvSpPr>
                    <p:spPr>
                      <a:xfrm flipH="1" flipV="1" rot="19636800">
                        <a:off x="1564560" y="5332320"/>
                        <a:ext cx="79200" cy="314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9" name="AutoShape 148"/>
                      <p:cNvSpPr/>
                      <p:nvPr/>
                    </p:nvSpPr>
                    <p:spPr>
                      <a:xfrm flipH="1" flipV="1" rot="20169000">
                        <a:off x="1584720" y="5363640"/>
                        <a:ext cx="79200" cy="314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3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40" name="Group 301"/>
                <p:cNvGrpSpPr/>
                <p:nvPr/>
              </p:nvGrpSpPr>
              <p:grpSpPr>
                <a:xfrm>
                  <a:off x="1261800" y="5278680"/>
                  <a:ext cx="525240" cy="464760"/>
                  <a:chOff x="1261800" y="5278680"/>
                  <a:chExt cx="525240" cy="464760"/>
                </a:xfrm>
              </p:grpSpPr>
              <p:grpSp>
                <p:nvGrpSpPr>
                  <p:cNvPr id="341" name="Group 302"/>
                  <p:cNvGrpSpPr/>
                  <p:nvPr/>
                </p:nvGrpSpPr>
                <p:grpSpPr>
                  <a:xfrm>
                    <a:off x="1261800" y="5278680"/>
                    <a:ext cx="525240" cy="464760"/>
                    <a:chOff x="1261800" y="5278680"/>
                    <a:chExt cx="525240" cy="464760"/>
                  </a:xfrm>
                </p:grpSpPr>
                <p:grpSp>
                  <p:nvGrpSpPr>
                    <p:cNvPr id="342" name="Group 303"/>
                    <p:cNvGrpSpPr/>
                    <p:nvPr/>
                  </p:nvGrpSpPr>
                  <p:grpSpPr>
                    <a:xfrm>
                      <a:off x="1261800" y="5278680"/>
                      <a:ext cx="497880" cy="350280"/>
                      <a:chOff x="1261800" y="5278680"/>
                      <a:chExt cx="497880" cy="350280"/>
                    </a:xfrm>
                  </p:grpSpPr>
                  <p:sp>
                    <p:nvSpPr>
                      <p:cNvPr id="343" name="AutoShape 152"/>
                      <p:cNvSpPr/>
                      <p:nvPr/>
                    </p:nvSpPr>
                    <p:spPr>
                      <a:xfrm flipH="1" flipV="1" rot="17172600">
                        <a:off x="1410480" y="5203800"/>
                        <a:ext cx="96840" cy="38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4" name="AutoShape 153"/>
                      <p:cNvSpPr/>
                      <p:nvPr/>
                    </p:nvSpPr>
                    <p:spPr>
                      <a:xfrm flipH="1" flipV="1" rot="17988600">
                        <a:off x="1471320" y="5223600"/>
                        <a:ext cx="96840" cy="38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5" name="AutoShape 154"/>
                      <p:cNvSpPr/>
                      <p:nvPr/>
                    </p:nvSpPr>
                    <p:spPr>
                      <a:xfrm flipH="1" flipV="1" rot="18283800">
                        <a:off x="1502280" y="5244120"/>
                        <a:ext cx="96840" cy="38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6" name="AutoShape 155"/>
                      <p:cNvSpPr/>
                      <p:nvPr/>
                    </p:nvSpPr>
                    <p:spPr>
                      <a:xfrm flipH="1" flipV="1" rot="18816000">
                        <a:off x="1538280" y="5269680"/>
                        <a:ext cx="96840" cy="38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47" name="Group 308"/>
                    <p:cNvGrpSpPr/>
                    <p:nvPr/>
                  </p:nvGrpSpPr>
                  <p:grpSpPr>
                    <a:xfrm>
                      <a:off x="1392480" y="5281560"/>
                      <a:ext cx="394560" cy="461880"/>
                      <a:chOff x="1392480" y="5281560"/>
                      <a:chExt cx="394560" cy="461880"/>
                    </a:xfrm>
                  </p:grpSpPr>
                  <p:sp>
                    <p:nvSpPr>
                      <p:cNvPr id="348" name="AutoShape 157"/>
                      <p:cNvSpPr/>
                      <p:nvPr/>
                    </p:nvSpPr>
                    <p:spPr>
                      <a:xfrm flipH="1" flipV="1" rot="18525600">
                        <a:off x="1523880" y="5247000"/>
                        <a:ext cx="96840" cy="38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9" name="AutoShape 158"/>
                      <p:cNvSpPr/>
                      <p:nvPr/>
                    </p:nvSpPr>
                    <p:spPr>
                      <a:xfrm flipH="1" flipV="1" rot="19341600">
                        <a:off x="1572120" y="5288400"/>
                        <a:ext cx="96840" cy="38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0" name="AutoShape 159"/>
                      <p:cNvSpPr/>
                      <p:nvPr/>
                    </p:nvSpPr>
                    <p:spPr>
                      <a:xfrm flipH="1" flipV="1" rot="19636800">
                        <a:off x="1592640" y="5318640"/>
                        <a:ext cx="96840" cy="38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1" name="AutoShape 160"/>
                      <p:cNvSpPr/>
                      <p:nvPr/>
                    </p:nvSpPr>
                    <p:spPr>
                      <a:xfrm flipH="1" flipV="1" rot="20169000">
                        <a:off x="1616760" y="5356800"/>
                        <a:ext cx="96480" cy="38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352" name="Group 313"/>
                  <p:cNvGrpSpPr/>
                  <p:nvPr/>
                </p:nvGrpSpPr>
                <p:grpSpPr>
                  <a:xfrm>
                    <a:off x="1314720" y="5314320"/>
                    <a:ext cx="430200" cy="380520"/>
                    <a:chOff x="1314720" y="5314320"/>
                    <a:chExt cx="430200" cy="380520"/>
                  </a:xfrm>
                </p:grpSpPr>
                <p:grpSp>
                  <p:nvGrpSpPr>
                    <p:cNvPr id="353" name="Group 314"/>
                    <p:cNvGrpSpPr/>
                    <p:nvPr/>
                  </p:nvGrpSpPr>
                  <p:grpSpPr>
                    <a:xfrm>
                      <a:off x="1314720" y="5314320"/>
                      <a:ext cx="407520" cy="286560"/>
                      <a:chOff x="1314720" y="5314320"/>
                      <a:chExt cx="407520" cy="286560"/>
                    </a:xfrm>
                  </p:grpSpPr>
                  <p:sp>
                    <p:nvSpPr>
                      <p:cNvPr id="354" name="AutoShape 163"/>
                      <p:cNvSpPr/>
                      <p:nvPr/>
                    </p:nvSpPr>
                    <p:spPr>
                      <a:xfrm flipH="1" flipV="1" rot="17172600">
                        <a:off x="1436760" y="5252760"/>
                        <a:ext cx="78840" cy="314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5" name="AutoShape 164"/>
                      <p:cNvSpPr/>
                      <p:nvPr/>
                    </p:nvSpPr>
                    <p:spPr>
                      <a:xfrm flipH="1" flipV="1" rot="17988600">
                        <a:off x="1486800" y="5269680"/>
                        <a:ext cx="78840" cy="313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6" name="AutoShape 165"/>
                      <p:cNvSpPr/>
                      <p:nvPr/>
                    </p:nvSpPr>
                    <p:spPr>
                      <a:xfrm flipH="1" flipV="1" rot="18283800">
                        <a:off x="1510920" y="5285160"/>
                        <a:ext cx="79200" cy="314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7" name="AutoShape 166"/>
                      <p:cNvSpPr/>
                      <p:nvPr/>
                    </p:nvSpPr>
                    <p:spPr>
                      <a:xfrm flipH="1" flipV="1" rot="18816000">
                        <a:off x="1541520" y="5306400"/>
                        <a:ext cx="78840" cy="314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58" name="Group 319"/>
                    <p:cNvGrpSpPr/>
                    <p:nvPr/>
                  </p:nvGrpSpPr>
                  <p:grpSpPr>
                    <a:xfrm>
                      <a:off x="1422000" y="5316120"/>
                      <a:ext cx="322920" cy="378720"/>
                      <a:chOff x="1422000" y="5316120"/>
                      <a:chExt cx="322920" cy="378720"/>
                    </a:xfrm>
                  </p:grpSpPr>
                  <p:sp>
                    <p:nvSpPr>
                      <p:cNvPr id="359" name="AutoShape 168"/>
                      <p:cNvSpPr/>
                      <p:nvPr/>
                    </p:nvSpPr>
                    <p:spPr>
                      <a:xfrm flipH="1" flipV="1" rot="18525600">
                        <a:off x="1529640" y="5287680"/>
                        <a:ext cx="79200" cy="314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54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60" name="AutoShape 169"/>
                      <p:cNvSpPr/>
                      <p:nvPr/>
                    </p:nvSpPr>
                    <p:spPr>
                      <a:xfrm flipH="1" flipV="1" rot="19341600">
                        <a:off x="1569240" y="5322960"/>
                        <a:ext cx="79200" cy="313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61" name="AutoShape 170"/>
                      <p:cNvSpPr/>
                      <p:nvPr/>
                    </p:nvSpPr>
                    <p:spPr>
                      <a:xfrm flipH="1" flipV="1" rot="19636800">
                        <a:off x="1585080" y="5346360"/>
                        <a:ext cx="79200" cy="314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62" name="AutoShape 171"/>
                      <p:cNvSpPr/>
                      <p:nvPr/>
                    </p:nvSpPr>
                    <p:spPr>
                      <a:xfrm flipH="1" flipV="1" rot="20169000">
                        <a:off x="1605600" y="5377680"/>
                        <a:ext cx="79200" cy="314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21600">
                            <a:moveTo>
                              <a:pt x="21600" y="0"/>
                            </a:moveTo>
                            <a:cubicBezTo>
                              <a:pt x="16175" y="1929"/>
                              <a:pt x="10750" y="5080"/>
                              <a:pt x="10750" y="10800"/>
                            </a:cubicBezTo>
                            <a:cubicBezTo>
                              <a:pt x="10750" y="16520"/>
                              <a:pt x="16175" y="19671"/>
                              <a:pt x="21600" y="21600"/>
                            </a:cubicBezTo>
                            <a:cubicBezTo>
                              <a:pt x="9740" y="21600"/>
                              <a:pt x="0" y="16730"/>
                              <a:pt x="0" y="10800"/>
                            </a:cubicBezTo>
                            <a:cubicBezTo>
                              <a:pt x="0" y="4870"/>
                              <a:pt x="9740" y="0"/>
                              <a:pt x="21600" y="0"/>
                            </a:cubicBezTo>
                            <a:close/>
                          </a:path>
                        </a:pathLst>
                      </a:custGeom>
                      <a:solidFill>
                        <a:srgbClr val="ffffff">
                          <a:alpha val="1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rot="10800000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  <p:sp>
          <p:nvSpPr>
            <p:cNvPr id="363" name="Text Box 23"/>
            <p:cNvSpPr/>
            <p:nvPr/>
          </p:nvSpPr>
          <p:spPr>
            <a:xfrm>
              <a:off x="1854000" y="5448960"/>
              <a:ext cx="626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此处添加目录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10"/>
            <p:cNvSpPr/>
            <p:nvPr/>
          </p:nvSpPr>
          <p:spPr>
            <a:xfrm>
              <a:off x="1170000" y="14266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14"/>
            <p:cNvSpPr/>
            <p:nvPr/>
          </p:nvSpPr>
          <p:spPr>
            <a:xfrm>
              <a:off x="1166040" y="2396880"/>
              <a:ext cx="43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18"/>
            <p:cNvSpPr/>
            <p:nvPr/>
          </p:nvSpPr>
          <p:spPr>
            <a:xfrm>
              <a:off x="1172160" y="3436560"/>
              <a:ext cx="39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22"/>
            <p:cNvSpPr/>
            <p:nvPr/>
          </p:nvSpPr>
          <p:spPr>
            <a:xfrm>
              <a:off x="1154160" y="43930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22"/>
            <p:cNvSpPr/>
            <p:nvPr/>
          </p:nvSpPr>
          <p:spPr>
            <a:xfrm>
              <a:off x="1152360" y="539136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10800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287800" y="33336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目录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DCB4-02CA-4D72-A73E-2576109ADA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1:31:58Z</dcterms:modified>
  <cp:revision>97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