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D48-A04F-4FAE-ACB0-AF9FEDA9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0DD-705D-40BD-9C29-668F15E1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B33-B25F-478F-86E8-1C8C815C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1DA-BA30-40BC-A277-4ED83A6F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1C69-9A49-4591-A38A-305D349F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85D3-5A85-4E2F-8D0B-B6A5B3B9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D499-C002-4EE9-9C20-9B038F59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860C-E94B-4A2D-8812-5C8972A3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0C73-2748-4C92-A1B3-6C65D9AB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0DBC-A078-4BB9-AD44-B19D7599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B73C-0FE4-4F4C-906D-6F2F1B2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33D-F9FD-4FAF-B20C-52DD9153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F585-EE88-46D2-96B9-03196E7F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1F5E-2549-4EE4-9FC8-2E4B231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839A-76A2-4256-97E3-C7567FE4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399B-34DE-4868-8D8A-B4CED105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BF3C-4047-41CB-9E0E-2FE549F0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EA9-CDFD-412E-BAF6-3D3FCF98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468-4823-4E9F-B80F-26AC3C2B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318-A569-42A7-A6AA-B5AFAD2B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FE1-9954-4AFC-B504-51D29CA5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C29-8D67-41E5-9B87-02F51484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30E-1C8E-49FE-B6DE-F1955F46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E3B-524C-4D75-A6B8-6B17718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E5A6E1-8014-4837-8092-CD5C999865B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5775A4-CE2B-4765-B66A-C1AA14DE91E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5" name="矩形 4"/>
          <p:cNvSpPr/>
          <p:nvPr/>
        </p:nvSpPr>
        <p:spPr>
          <a:xfrm>
            <a:off x="2158920" y="4553280"/>
            <a:ext cx="56995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adbcd8"/>
                </a:solidFill>
                <a:latin typeface="方正正大黑简体"/>
                <a:ea typeface="方正正大黑简体"/>
              </a:rPr>
              <a:t>麦田情侣通用</a:t>
            </a:r>
            <a:r>
              <a:rPr b="1" lang="en-US" sz="4000" spc="-1" strike="noStrike">
                <a:solidFill>
                  <a:srgbClr val="adbcd8"/>
                </a:solidFill>
                <a:latin typeface="方正正大黑简体"/>
                <a:ea typeface="方正正大黑简体"/>
              </a:rPr>
              <a:t>PPT</a:t>
            </a:r>
            <a:r>
              <a:rPr b="1" lang="zh-CN" sz="4000" spc="-1" strike="noStrike">
                <a:solidFill>
                  <a:srgbClr val="adbcd8"/>
                </a:solidFill>
                <a:latin typeface="方正正大黑简体"/>
                <a:ea typeface="方正正大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575640" y="332640"/>
            <a:ext cx="647640" cy="14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6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  <Words>97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01:02:00Z</dcterms:created>
  <dc:creator>lenovo</dc:creator>
  <dc:description/>
  <dc:language>en-US</dc:language>
  <cp:lastModifiedBy>王玉清</cp:lastModifiedBy>
  <dcterms:modified xsi:type="dcterms:W3CDTF">2016-02-20T03:25:44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