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ED5-232C-4903-9520-BD27CBA0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366-AD0C-4303-9C72-2CC6ABB6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318-6A90-44AD-948D-39C69A5F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41E-E409-4E5B-935F-B0E38E6D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AF2C-67C4-4648-BFA6-1784A844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5D18-80B8-4DF8-8D67-E5926502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B65A-D839-4574-8AEB-E1477149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2D73-897A-4196-B506-588D134E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98F8-DB86-4F7C-BCCB-B0F0CCC2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F560-C25A-40EF-A326-94DAF137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ADD5-9257-4197-9B0B-58B63893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575-5FB0-4030-926B-3692EBFF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1362-779E-4EEC-8D53-31A17816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6754-BB86-4370-935B-2773AC2A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F91A-9AD0-460D-9D0D-AE7EC203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F467-866C-4676-8E75-17C7D747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6FA3-CA9D-4B77-8B69-0CA0CBA1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CD6-024D-42D7-8FA3-172CF286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D0F-8C87-45B1-A858-59F3A646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A6F-EC9D-4A6C-8D58-BF063734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077-216C-4426-8199-30DEF0B4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07C1-CE1B-45BC-A7B8-AF90946E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630-BBE2-4B19-80DC-FB454344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D83-F4D8-49EA-9296-29AA7C95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816B69-D1DE-4AE0-82F1-681D371066C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2589E1-70B6-4584-A54D-14DAA2B2866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821520" y="11664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4" name="矩形 7"/>
          <p:cNvSpPr/>
          <p:nvPr/>
        </p:nvSpPr>
        <p:spPr>
          <a:xfrm>
            <a:off x="7153560" y="328320"/>
            <a:ext cx="522720" cy="44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模板适合用于制作与爱情有关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1847880" y="23220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梦想与爱情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108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00:32:00Z</dcterms:created>
  <dc:creator>lenovo</dc:creator>
  <dc:description/>
  <dc:language>en-US</dc:language>
  <cp:lastModifiedBy>王玉清</cp:lastModifiedBy>
  <dcterms:modified xsi:type="dcterms:W3CDTF">2016-02-20T03:25:07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