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6EB3-44C6-4079-86EA-E21F61451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58B8-9DFB-45DA-B48A-F70A3DBDC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7ABF-0EAB-443C-B70F-D2FDF0EE7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4381-06A5-4DF0-9201-25CD75474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419E-575A-4AEC-AA69-94336542B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3056-44A0-4133-8E3D-C444A7224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E011-0868-4CB6-908C-E5DE797E4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82DF-AD3A-4787-BBB0-1B133320C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0BFE-B9EE-48AE-8656-5EE96FBB3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0C41-6C0C-4B8C-8616-ED8D4EAC5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1FB8-20CD-445D-AAF5-33DE033D3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16B4-B3E2-43ED-8B49-AFD2C6283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ptline_101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4355640" y="6600600"/>
            <a:ext cx="405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3427-3CA5-4110-BFA5-836587E3F9C0}" type="slidenum"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4" descr="ptline_1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1"/>
          <p:cNvSpPr/>
          <p:nvPr/>
        </p:nvSpPr>
        <p:spPr>
          <a:xfrm>
            <a:off x="1633320" y="148752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蒲公英飞翔通用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灯片编号占位符 2"/>
          <p:cNvSpPr/>
          <p:nvPr/>
        </p:nvSpPr>
        <p:spPr>
          <a:xfrm>
            <a:off x="4356000" y="6600960"/>
            <a:ext cx="40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A1FE-02AA-43AA-B491-D899CA46F236}" type="slidenum"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0:02:27Z</dcterms:created>
  <dc:creator>user</dc:creator>
  <dc:description/>
  <dc:language>en-US</dc:language>
  <cp:lastModifiedBy>王玉清</cp:lastModifiedBy>
  <dcterms:modified xsi:type="dcterms:W3CDTF">2016-02-22T03:41:31Z</dcterms:modified>
  <cp:revision>6</cp:revision>
  <dc:subject/>
  <dc:title>幻灯片 1</dc:title>
</cp:coreProperties>
</file>