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A58-92F9-4E92-BEE0-B322E50C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02D-2205-47E9-8551-561BD8E4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D87-73E0-4594-885E-90C9D412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26D-13E5-47CB-B011-D1804BE2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3A4-A9FA-447D-BE6E-889D2E3C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298-D3B4-450B-BC70-1C1EEBB2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7AB-005E-48DD-8CEC-1F7E5FC8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03E-B048-40EE-8E8E-9B094469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95A-F2C4-4E05-841C-4CAE578E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886-A283-4EAA-AFE9-F01B40F1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63C-057E-4572-85C2-DF148DEA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945-963B-4EBE-A678-E7D5C0E1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DED853-94B1-462F-91DD-0F8D7016C6C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23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 rot="1765200">
            <a:off x="-3308760" y="3026880"/>
            <a:ext cx="15662520" cy="67906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矩形 10"/>
          <p:cNvSpPr/>
          <p:nvPr/>
        </p:nvSpPr>
        <p:spPr>
          <a:xfrm rot="1765200">
            <a:off x="-12960" y="-2554200"/>
            <a:ext cx="15662520" cy="67906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  <a:effectLst>
            <a:outerShdw algn="t" blurRad="1041480" dir="21010842" dist="37996" rotWithShape="0" sx="101000" sy="101000">
              <a:srgbClr val="000000">
                <a:alpha val="29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3" name="组合 17"/>
          <p:cNvGrpSpPr/>
          <p:nvPr/>
        </p:nvGrpSpPr>
        <p:grpSpPr>
          <a:xfrm>
            <a:off x="5083560" y="3328200"/>
            <a:ext cx="2574000" cy="653040"/>
            <a:chOff x="5083560" y="3328200"/>
            <a:chExt cx="2574000" cy="653040"/>
          </a:xfrm>
        </p:grpSpPr>
        <p:sp>
          <p:nvSpPr>
            <p:cNvPr id="44" name="矩形 13"/>
            <p:cNvSpPr/>
            <p:nvPr/>
          </p:nvSpPr>
          <p:spPr>
            <a:xfrm>
              <a:off x="5083560" y="3333600"/>
              <a:ext cx="2574000" cy="647280"/>
            </a:xfrm>
            <a:prstGeom prst="rect">
              <a:avLst/>
            </a:prstGeom>
            <a:solidFill>
              <a:srgbClr val="1b2371"/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5400" spc="-151" strike="noStrike">
                  <a:solidFill>
                    <a:srgbClr val="d9d9d9"/>
                  </a:solidFill>
                  <a:latin typeface="HelveticaNeue LT 107 XBlkCn"/>
                </a:rPr>
                <a:t>LETTERS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矩形 16"/>
            <p:cNvSpPr/>
            <p:nvPr/>
          </p:nvSpPr>
          <p:spPr>
            <a:xfrm>
              <a:off x="7572240" y="3328200"/>
              <a:ext cx="85320" cy="6530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6" name="组合 20"/>
          <p:cNvGrpSpPr/>
          <p:nvPr/>
        </p:nvGrpSpPr>
        <p:grpSpPr>
          <a:xfrm>
            <a:off x="4552920" y="1847880"/>
            <a:ext cx="3104640" cy="837720"/>
            <a:chOff x="4552920" y="1847880"/>
            <a:chExt cx="3104640" cy="837720"/>
          </a:xfrm>
        </p:grpSpPr>
        <p:sp>
          <p:nvSpPr>
            <p:cNvPr id="47" name="矩形 11"/>
            <p:cNvSpPr/>
            <p:nvPr/>
          </p:nvSpPr>
          <p:spPr>
            <a:xfrm>
              <a:off x="4552920" y="1847880"/>
              <a:ext cx="3104640" cy="8377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600" spc="-151" strike="noStrike">
                  <a:solidFill>
                    <a:srgbClr val="1b2371"/>
                  </a:solidFill>
                  <a:latin typeface="HelveticaNeue LT 107 XBlkCn"/>
                </a:rPr>
                <a:t>RESUM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7572240" y="1882440"/>
              <a:ext cx="85320" cy="768600"/>
            </a:xfrm>
            <a:prstGeom prst="rect">
              <a:avLst/>
            </a:prstGeom>
            <a:solidFill>
              <a:srgbClr val="1b2371"/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9" name="组合 22"/>
          <p:cNvGrpSpPr/>
          <p:nvPr/>
        </p:nvGrpSpPr>
        <p:grpSpPr>
          <a:xfrm>
            <a:off x="3951360" y="2685960"/>
            <a:ext cx="3706200" cy="647280"/>
            <a:chOff x="3951360" y="2685960"/>
            <a:chExt cx="3706200" cy="647280"/>
          </a:xfrm>
        </p:grpSpPr>
        <p:sp>
          <p:nvSpPr>
            <p:cNvPr id="50" name="矩形 12"/>
            <p:cNvSpPr/>
            <p:nvPr/>
          </p:nvSpPr>
          <p:spPr>
            <a:xfrm>
              <a:off x="3951360" y="2685960"/>
              <a:ext cx="3706200" cy="64728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5400" spc="-151" strike="noStrike">
                  <a:solidFill>
                    <a:srgbClr val="1b2371"/>
                  </a:solidFill>
                  <a:latin typeface="HelveticaNeue LT 107 XBlkCn"/>
                </a:rPr>
                <a:t>APPLICATIO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5"/>
            <p:cNvSpPr/>
            <p:nvPr/>
          </p:nvSpPr>
          <p:spPr>
            <a:xfrm>
              <a:off x="7572240" y="2720520"/>
              <a:ext cx="85320" cy="578160"/>
            </a:xfrm>
            <a:prstGeom prst="rect">
              <a:avLst/>
            </a:prstGeom>
            <a:solidFill>
              <a:srgbClr val="1b2371"/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2" name="矩形 27"/>
          <p:cNvSpPr/>
          <p:nvPr/>
        </p:nvSpPr>
        <p:spPr>
          <a:xfrm>
            <a:off x="4552920" y="1853280"/>
            <a:ext cx="3104640" cy="837720"/>
          </a:xfrm>
          <a:prstGeom prst="rect">
            <a:avLst/>
          </a:prstGeom>
          <a:solidFill>
            <a:srgbClr val="1b23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矩形 28"/>
          <p:cNvSpPr/>
          <p:nvPr/>
        </p:nvSpPr>
        <p:spPr>
          <a:xfrm>
            <a:off x="3530520" y="2685960"/>
            <a:ext cx="4127040" cy="647280"/>
          </a:xfrm>
          <a:prstGeom prst="rect">
            <a:avLst/>
          </a:prstGeom>
          <a:solidFill>
            <a:srgbClr val="1b23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椭圆 29"/>
          <p:cNvSpPr/>
          <p:nvPr/>
        </p:nvSpPr>
        <p:spPr>
          <a:xfrm>
            <a:off x="2921040" y="61848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HelveticaNeueLT Pro 67 MdCn"/>
              </a:rPr>
              <a:t>PERSON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HelveticaNeueLT Pro 67 MdC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椭圆 30"/>
          <p:cNvSpPr/>
          <p:nvPr/>
        </p:nvSpPr>
        <p:spPr>
          <a:xfrm>
            <a:off x="4616280" y="61848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HelveticaNeueLT Pro 67 MdCn"/>
              </a:rPr>
              <a:t>EDUCATIONA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HelveticaNeueLT Pro 67 MdCn"/>
              </a:rPr>
              <a:t>BACKGROU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椭圆 31"/>
          <p:cNvSpPr/>
          <p:nvPr/>
        </p:nvSpPr>
        <p:spPr>
          <a:xfrm>
            <a:off x="6292800" y="61848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LT Pro 67 MdCn"/>
              </a:rPr>
              <a:t>GO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椭圆 32"/>
          <p:cNvSpPr/>
          <p:nvPr/>
        </p:nvSpPr>
        <p:spPr>
          <a:xfrm>
            <a:off x="7933680" y="61848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HelveticaNeueLT Pro 67 MdCn"/>
              </a:rPr>
              <a:t>HONOU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3944520" y="123048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漂亮简洁大气动态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fade/>
      </p:transition>
    </mc:Choice>
    <mc:Fallback>
      <p:transition spd="slow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8">
                                  <p:stCondLst>
                                    <p:cond delay="125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3137760" y="2623680"/>
            <a:ext cx="1158120" cy="2097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4328640" y="2623680"/>
            <a:ext cx="1158120" cy="16052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5514480" y="2623680"/>
            <a:ext cx="1158120" cy="28245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ADDR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695640" y="2623680"/>
            <a:ext cx="1158120" cy="2097360"/>
          </a:xfrm>
          <a:prstGeom prst="rect">
            <a:avLst/>
          </a:prstGeom>
          <a:solidFill>
            <a:srgbClr val="1b23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d9d9d9"/>
                </a:solidFill>
                <a:latin typeface="HelveticaNeue LT 97 BlackCn"/>
              </a:rPr>
              <a:t>PH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7876440" y="2623680"/>
            <a:ext cx="1158120" cy="39484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NATIVE 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"/>
          <p:cNvSpPr/>
          <p:nvPr/>
        </p:nvSpPr>
        <p:spPr>
          <a:xfrm>
            <a:off x="3137760" y="2623680"/>
            <a:ext cx="5887440" cy="45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  <a:effectLst>
            <a:outerShdw algn="t" blurRad="101520" dir="5400000" dist="38160" rotWithShape="0">
              <a:srgbClr val="000000">
                <a:alpha val="3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椭圆 12"/>
          <p:cNvSpPr/>
          <p:nvPr/>
        </p:nvSpPr>
        <p:spPr>
          <a:xfrm>
            <a:off x="2921040" y="-6732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HelveticaNeueLT Pro 67 MdCn"/>
              </a:rPr>
              <a:t>PERSON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HelveticaNeueLT Pro 67 MdC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椭圆 13"/>
          <p:cNvSpPr/>
          <p:nvPr/>
        </p:nvSpPr>
        <p:spPr>
          <a:xfrm>
            <a:off x="4616280" y="-6732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HelveticaNeueLT Pro 67 MdCn"/>
              </a:rPr>
              <a:t>EDUCATIONA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HelveticaNeueLT Pro 67 MdCn"/>
              </a:rPr>
              <a:t>BACKGROU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椭圆 14"/>
          <p:cNvSpPr/>
          <p:nvPr/>
        </p:nvSpPr>
        <p:spPr>
          <a:xfrm>
            <a:off x="6292800" y="-6732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LT Pro 67 MdCn"/>
              </a:rPr>
              <a:t>GO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椭圆 15"/>
          <p:cNvSpPr/>
          <p:nvPr/>
        </p:nvSpPr>
        <p:spPr>
          <a:xfrm>
            <a:off x="7933680" y="-6732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HelveticaNeueLT Pro 67 MdCn"/>
              </a:rPr>
              <a:t>HONOU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矩形 16"/>
          <p:cNvSpPr/>
          <p:nvPr/>
        </p:nvSpPr>
        <p:spPr>
          <a:xfrm>
            <a:off x="3762360" y="1242360"/>
            <a:ext cx="4646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51" strike="noStrike">
                <a:solidFill>
                  <a:srgbClr val="d9d9d9"/>
                </a:solidFill>
                <a:latin typeface="HelveticaNeue LT 97 BlackCn"/>
              </a:rPr>
              <a:t>PERSONAL DA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3748680" y="937800"/>
            <a:ext cx="466452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ts val="4000"/>
              </a:lnSpc>
            </a:pPr>
            <a:r>
              <a:rPr b="0" lang="en-US" sz="5400" spc="-151" strike="noStrike">
                <a:solidFill>
                  <a:srgbClr val="d9d9d9"/>
                </a:solidFill>
                <a:latin typeface="HelveticaNeue LT 97 BlackCn"/>
              </a:rPr>
              <a:t>EDUCATION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4000"/>
              </a:lnSpc>
            </a:pPr>
            <a:r>
              <a:rPr b="0" lang="en-US" sz="4000" spc="-151" strike="noStrike">
                <a:solidFill>
                  <a:srgbClr val="d9d9d9"/>
                </a:solidFill>
                <a:latin typeface="HelveticaNeue LT 97 BlackCn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矩形 2"/>
          <p:cNvSpPr/>
          <p:nvPr/>
        </p:nvSpPr>
        <p:spPr>
          <a:xfrm>
            <a:off x="2365920" y="2583360"/>
            <a:ext cx="2017080" cy="1610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2365920" y="4194720"/>
            <a:ext cx="2017080" cy="85608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UNIVERS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2365920" y="5050800"/>
            <a:ext cx="2017080" cy="6238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5079960" y="2583360"/>
            <a:ext cx="2017080" cy="1610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5079960" y="4194720"/>
            <a:ext cx="2017080" cy="85608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UNIVERS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5079960" y="5050800"/>
            <a:ext cx="2017080" cy="6238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矩形 8"/>
          <p:cNvSpPr/>
          <p:nvPr/>
        </p:nvSpPr>
        <p:spPr>
          <a:xfrm>
            <a:off x="7778160" y="2583360"/>
            <a:ext cx="2017080" cy="1610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7778160" y="4194720"/>
            <a:ext cx="2017080" cy="85608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UNIVERS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7778160" y="5050800"/>
            <a:ext cx="2017080" cy="6238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2691720" y="5226120"/>
            <a:ext cx="71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3589560" y="5226120"/>
            <a:ext cx="752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C:\Users\DEMON.C\Desktop\badge.png"/>
          <p:cNvPicPr/>
          <p:nvPr/>
        </p:nvPicPr>
        <p:blipFill>
          <a:blip r:embed="rId2"/>
          <a:stretch/>
        </p:blipFill>
        <p:spPr>
          <a:xfrm>
            <a:off x="3359520" y="5220360"/>
            <a:ext cx="284760" cy="284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DEMON.C\Desktop\3D-glasses.png"/>
          <p:cNvPicPr/>
          <p:nvPr/>
        </p:nvPicPr>
        <p:blipFill>
          <a:blip r:embed="rId3"/>
          <a:stretch/>
        </p:blipFill>
        <p:spPr>
          <a:xfrm>
            <a:off x="2449440" y="5220360"/>
            <a:ext cx="284760" cy="284760"/>
          </a:xfrm>
          <a:prstGeom prst="rect">
            <a:avLst/>
          </a:prstGeom>
          <a:ln w="0">
            <a:noFill/>
          </a:ln>
        </p:spPr>
      </p:pic>
      <p:sp>
        <p:nvSpPr>
          <p:cNvPr id="85" name="矩形 20"/>
          <p:cNvSpPr/>
          <p:nvPr/>
        </p:nvSpPr>
        <p:spPr>
          <a:xfrm>
            <a:off x="5416200" y="5220360"/>
            <a:ext cx="71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矩形 21"/>
          <p:cNvSpPr/>
          <p:nvPr/>
        </p:nvSpPr>
        <p:spPr>
          <a:xfrm>
            <a:off x="6313680" y="5220360"/>
            <a:ext cx="752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C:\Users\DEMON.C\Desktop\badge.png"/>
          <p:cNvPicPr/>
          <p:nvPr/>
        </p:nvPicPr>
        <p:blipFill>
          <a:blip r:embed="rId4"/>
          <a:stretch/>
        </p:blipFill>
        <p:spPr>
          <a:xfrm>
            <a:off x="6083640" y="5214960"/>
            <a:ext cx="284760" cy="28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DEMON.C\Desktop\3D-glasses.png"/>
          <p:cNvPicPr/>
          <p:nvPr/>
        </p:nvPicPr>
        <p:blipFill>
          <a:blip r:embed="rId5"/>
          <a:stretch/>
        </p:blipFill>
        <p:spPr>
          <a:xfrm>
            <a:off x="5173920" y="5214960"/>
            <a:ext cx="284760" cy="284760"/>
          </a:xfrm>
          <a:prstGeom prst="rect">
            <a:avLst/>
          </a:prstGeom>
          <a:ln w="0">
            <a:noFill/>
          </a:ln>
        </p:spPr>
      </p:pic>
      <p:sp>
        <p:nvSpPr>
          <p:cNvPr id="89" name="矩形 24"/>
          <p:cNvSpPr/>
          <p:nvPr/>
        </p:nvSpPr>
        <p:spPr>
          <a:xfrm>
            <a:off x="8125200" y="5214960"/>
            <a:ext cx="71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25"/>
          <p:cNvSpPr/>
          <p:nvPr/>
        </p:nvSpPr>
        <p:spPr>
          <a:xfrm>
            <a:off x="9022680" y="5214960"/>
            <a:ext cx="752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C:\Users\DEMON.C\Desktop\badge.png"/>
          <p:cNvPicPr/>
          <p:nvPr/>
        </p:nvPicPr>
        <p:blipFill>
          <a:blip r:embed="rId6"/>
          <a:stretch/>
        </p:blipFill>
        <p:spPr>
          <a:xfrm>
            <a:off x="8792640" y="5209200"/>
            <a:ext cx="284760" cy="28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DEMON.C\Desktop\3D-glasses.png"/>
          <p:cNvPicPr/>
          <p:nvPr/>
        </p:nvPicPr>
        <p:blipFill>
          <a:blip r:embed="rId7"/>
          <a:stretch/>
        </p:blipFill>
        <p:spPr>
          <a:xfrm>
            <a:off x="7882920" y="5209200"/>
            <a:ext cx="284760" cy="28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Users\DEMON.C\Desktop\school_emblems_1.png"/>
          <p:cNvPicPr/>
          <p:nvPr/>
        </p:nvPicPr>
        <p:blipFill>
          <a:blip r:embed="rId8"/>
          <a:stretch/>
        </p:blipFill>
        <p:spPr>
          <a:xfrm>
            <a:off x="8085600" y="2729880"/>
            <a:ext cx="1326600" cy="1398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DEMON.C\Desktop\12.png"/>
          <p:cNvPicPr/>
          <p:nvPr/>
        </p:nvPicPr>
        <p:blipFill>
          <a:blip r:embed="rId9"/>
          <a:stretch/>
        </p:blipFill>
        <p:spPr>
          <a:xfrm>
            <a:off x="2699640" y="2758680"/>
            <a:ext cx="1267920" cy="1228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Users\DEMON.C\Desktop\school_emblems_1.png"/>
          <p:cNvPicPr/>
          <p:nvPr/>
        </p:nvPicPr>
        <p:blipFill>
          <a:blip r:embed="rId10"/>
          <a:stretch/>
        </p:blipFill>
        <p:spPr>
          <a:xfrm>
            <a:off x="5609160" y="2786040"/>
            <a:ext cx="9684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"/>
          <p:cNvSpPr/>
          <p:nvPr/>
        </p:nvSpPr>
        <p:spPr>
          <a:xfrm>
            <a:off x="5068080" y="601200"/>
            <a:ext cx="2055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51" strike="noStrike">
                <a:solidFill>
                  <a:srgbClr val="1b2371"/>
                </a:solidFill>
                <a:latin typeface="HelveticaNeue LT 97 BlackCn"/>
              </a:rPr>
              <a:t>GO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"/>
          <p:cNvSpPr/>
          <p:nvPr/>
        </p:nvSpPr>
        <p:spPr>
          <a:xfrm>
            <a:off x="2761200" y="2266560"/>
            <a:ext cx="1710000" cy="171000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chemeClr val="lt1"/>
                </a:solidFill>
                <a:latin typeface="HelveticaNeue LT 107 XBlkCn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2812320" y="4285440"/>
            <a:ext cx="1607760" cy="75816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DIRECTOR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2812320" y="5043960"/>
            <a:ext cx="1607760" cy="7581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97 BlackCn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6"/>
          <p:cNvSpPr/>
          <p:nvPr/>
        </p:nvSpPr>
        <p:spPr>
          <a:xfrm>
            <a:off x="5229360" y="2266560"/>
            <a:ext cx="1710000" cy="171000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chemeClr val="lt1"/>
                </a:solidFill>
                <a:latin typeface="HelveticaNeue LT 107 XBlkCn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5280480" y="4285440"/>
            <a:ext cx="1607760" cy="75816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N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5280480" y="5043960"/>
            <a:ext cx="1607760" cy="7581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97 BlackCn"/>
              </a:rPr>
              <a:t>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9"/>
          <p:cNvSpPr/>
          <p:nvPr/>
        </p:nvSpPr>
        <p:spPr>
          <a:xfrm>
            <a:off x="7686000" y="2266560"/>
            <a:ext cx="1710000" cy="171000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chemeClr val="lt1"/>
                </a:solidFill>
                <a:latin typeface="HelveticaNeue LT 107 XBlkCn"/>
              </a:rPr>
              <a:t>F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矩形 10"/>
          <p:cNvSpPr/>
          <p:nvPr/>
        </p:nvSpPr>
        <p:spPr>
          <a:xfrm>
            <a:off x="7737120" y="4285440"/>
            <a:ext cx="1607760" cy="75816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GENERAL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"/>
          <p:cNvSpPr/>
          <p:nvPr/>
        </p:nvSpPr>
        <p:spPr>
          <a:xfrm>
            <a:off x="7737120" y="5043960"/>
            <a:ext cx="1607760" cy="7581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97 BlackCn"/>
              </a:rPr>
              <a:t>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等腰三角形 12"/>
          <p:cNvSpPr/>
          <p:nvPr/>
        </p:nvSpPr>
        <p:spPr>
          <a:xfrm>
            <a:off x="3480120" y="4122000"/>
            <a:ext cx="27252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等腰三角形 13"/>
          <p:cNvSpPr/>
          <p:nvPr/>
        </p:nvSpPr>
        <p:spPr>
          <a:xfrm>
            <a:off x="5959440" y="4122000"/>
            <a:ext cx="27252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等腰三角形 14"/>
          <p:cNvSpPr/>
          <p:nvPr/>
        </p:nvSpPr>
        <p:spPr>
          <a:xfrm>
            <a:off x="8404920" y="4122000"/>
            <a:ext cx="27252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3192840" y="1336680"/>
            <a:ext cx="5806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360"/>
              </a:spcBef>
            </a:pPr>
            <a:r>
              <a:rPr b="0" lang="en-US" sz="1800" spc="-1" strike="noStrike">
                <a:solidFill>
                  <a:srgbClr val="1b2371"/>
                </a:solidFill>
                <a:latin typeface="HelveticaNeue LT 97 BlackCn"/>
              </a:rPr>
              <a:t>TO GET A SUITABLE JOB IN A HIGH GROWTH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圆角矩形 8"/>
          <p:cNvSpPr/>
          <p:nvPr/>
        </p:nvSpPr>
        <p:spPr>
          <a:xfrm>
            <a:off x="2470320" y="49388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等腰三角形 9"/>
          <p:cNvSpPr/>
          <p:nvPr/>
        </p:nvSpPr>
        <p:spPr>
          <a:xfrm flipV="1">
            <a:off x="3356280" y="5706360"/>
            <a:ext cx="274680" cy="23688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圆角矩形 15"/>
          <p:cNvSpPr/>
          <p:nvPr/>
        </p:nvSpPr>
        <p:spPr>
          <a:xfrm>
            <a:off x="5072400" y="49388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等腰三角形 16"/>
          <p:cNvSpPr/>
          <p:nvPr/>
        </p:nvSpPr>
        <p:spPr>
          <a:xfrm flipV="1">
            <a:off x="5958360" y="5706360"/>
            <a:ext cx="274680" cy="23688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圆角矩形 22"/>
          <p:cNvSpPr/>
          <p:nvPr/>
        </p:nvSpPr>
        <p:spPr>
          <a:xfrm>
            <a:off x="7707240" y="49388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等腰三角形 23"/>
          <p:cNvSpPr/>
          <p:nvPr/>
        </p:nvSpPr>
        <p:spPr>
          <a:xfrm flipV="1">
            <a:off x="8593200" y="5706360"/>
            <a:ext cx="274680" cy="23688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4481280" y="856080"/>
            <a:ext cx="3229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51" strike="noStrike">
                <a:solidFill>
                  <a:srgbClr val="d9d9d9"/>
                </a:solidFill>
                <a:latin typeface="HelveticaNeue LT 97 BlackCn"/>
              </a:rPr>
              <a:t>HONOUR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3464640" y="1696680"/>
            <a:ext cx="526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360"/>
              </a:spcBef>
            </a:pPr>
            <a:r>
              <a:rPr b="0" lang="en-US" sz="1800" spc="-1" strike="noStrike">
                <a:solidFill>
                  <a:srgbClr val="d9d9d9"/>
                </a:solidFill>
                <a:latin typeface="HelveticaNeue LT 97 BlackCn"/>
              </a:rPr>
              <a:t>DO YOU HAVE SOMETHING IMPORTANT TO S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圆角矩形 3"/>
          <p:cNvSpPr/>
          <p:nvPr/>
        </p:nvSpPr>
        <p:spPr>
          <a:xfrm>
            <a:off x="2470320" y="25520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2470320" y="32788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2470320" y="37530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2470320" y="42274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2470320" y="47016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圆角矩形 10"/>
          <p:cNvSpPr/>
          <p:nvPr/>
        </p:nvSpPr>
        <p:spPr>
          <a:xfrm>
            <a:off x="5072400" y="25520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1"/>
          <p:cNvSpPr/>
          <p:nvPr/>
        </p:nvSpPr>
        <p:spPr>
          <a:xfrm>
            <a:off x="5072400" y="32788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5072400" y="37530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5072400" y="42274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5072400" y="47016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圆角矩形 17"/>
          <p:cNvSpPr/>
          <p:nvPr/>
        </p:nvSpPr>
        <p:spPr>
          <a:xfrm>
            <a:off x="7707240" y="25520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8"/>
          <p:cNvSpPr/>
          <p:nvPr/>
        </p:nvSpPr>
        <p:spPr>
          <a:xfrm>
            <a:off x="7707240" y="32788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矩形 19"/>
          <p:cNvSpPr/>
          <p:nvPr/>
        </p:nvSpPr>
        <p:spPr>
          <a:xfrm>
            <a:off x="7707240" y="37530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矩形 20"/>
          <p:cNvSpPr/>
          <p:nvPr/>
        </p:nvSpPr>
        <p:spPr>
          <a:xfrm>
            <a:off x="7707240" y="42274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矩形 21"/>
          <p:cNvSpPr/>
          <p:nvPr/>
        </p:nvSpPr>
        <p:spPr>
          <a:xfrm>
            <a:off x="7707240" y="47016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3" name="Picture 2" descr="E:\XX素材XX\Dortmund-32x32\star.png"/>
          <p:cNvPicPr/>
          <p:nvPr/>
        </p:nvPicPr>
        <p:blipFill>
          <a:blip r:embed="rId2"/>
          <a:stretch/>
        </p:blipFill>
        <p:spPr>
          <a:xfrm>
            <a:off x="2597040" y="33634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E:\XX素材XX\Dortmund-32x32\lightbulb.png"/>
          <p:cNvPicPr/>
          <p:nvPr/>
        </p:nvPicPr>
        <p:blipFill>
          <a:blip r:embed="rId3"/>
          <a:stretch/>
        </p:blipFill>
        <p:spPr>
          <a:xfrm>
            <a:off x="2597040" y="38379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E:\XX素材XX\Dortmund-32x32\bestseller.png"/>
          <p:cNvPicPr/>
          <p:nvPr/>
        </p:nvPicPr>
        <p:blipFill>
          <a:blip r:embed="rId4"/>
          <a:stretch/>
        </p:blipFill>
        <p:spPr>
          <a:xfrm>
            <a:off x="2597040" y="43264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E:\XX素材XX\Dortmund-32x32\milestone.png"/>
          <p:cNvPicPr/>
          <p:nvPr/>
        </p:nvPicPr>
        <p:blipFill>
          <a:blip r:embed="rId5"/>
          <a:stretch/>
        </p:blipFill>
        <p:spPr>
          <a:xfrm>
            <a:off x="2597040" y="4786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E:\XX素材XX\Dortmund-32x32\paypal.png"/>
          <p:cNvPicPr/>
          <p:nvPr/>
        </p:nvPicPr>
        <p:blipFill>
          <a:blip r:embed="rId6"/>
          <a:stretch/>
        </p:blipFill>
        <p:spPr>
          <a:xfrm>
            <a:off x="5252400" y="336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E:\XX素材XX\Dortmund-32x32\process.png"/>
          <p:cNvPicPr/>
          <p:nvPr/>
        </p:nvPicPr>
        <p:blipFill>
          <a:blip r:embed="rId7"/>
          <a:stretch/>
        </p:blipFill>
        <p:spPr>
          <a:xfrm>
            <a:off x="5252400" y="4324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E:\XX素材XX\Dortmund-32x32\pen.png"/>
          <p:cNvPicPr/>
          <p:nvPr/>
        </p:nvPicPr>
        <p:blipFill>
          <a:blip r:embed="rId8"/>
          <a:stretch/>
        </p:blipFill>
        <p:spPr>
          <a:xfrm>
            <a:off x="5252400" y="38458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E:\XX素材XX\Dortmund-32x32\heart.png"/>
          <p:cNvPicPr/>
          <p:nvPr/>
        </p:nvPicPr>
        <p:blipFill>
          <a:blip r:embed="rId9"/>
          <a:stretch/>
        </p:blipFill>
        <p:spPr>
          <a:xfrm>
            <a:off x="5252400" y="4788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E:\XX素材XX\Dortmund-32x32\communication.png"/>
          <p:cNvPicPr/>
          <p:nvPr/>
        </p:nvPicPr>
        <p:blipFill>
          <a:blip r:embed="rId10"/>
          <a:stretch/>
        </p:blipFill>
        <p:spPr>
          <a:xfrm>
            <a:off x="7880040" y="4325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E:\XX素材XX\Dortmund-32x32\cost.png"/>
          <p:cNvPicPr/>
          <p:nvPr/>
        </p:nvPicPr>
        <p:blipFill>
          <a:blip r:embed="rId11"/>
          <a:stretch/>
        </p:blipFill>
        <p:spPr>
          <a:xfrm>
            <a:off x="7880040" y="4802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E:\XX素材XX\Dortmund-32x32\bookmark.png"/>
          <p:cNvPicPr/>
          <p:nvPr/>
        </p:nvPicPr>
        <p:blipFill>
          <a:blip r:embed="rId12"/>
          <a:stretch/>
        </p:blipFill>
        <p:spPr>
          <a:xfrm>
            <a:off x="7880040" y="3851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E:\XX素材XX\Dortmund-32x32\check.png"/>
          <p:cNvPicPr/>
          <p:nvPr/>
        </p:nvPicPr>
        <p:blipFill>
          <a:blip r:embed="rId13"/>
          <a:stretch/>
        </p:blipFill>
        <p:spPr>
          <a:xfrm>
            <a:off x="7880040" y="33634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44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2"/>
          <p:cNvSpPr/>
          <p:nvPr/>
        </p:nvSpPr>
        <p:spPr>
          <a:xfrm>
            <a:off x="966240" y="2295360"/>
            <a:ext cx="10259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n-US" sz="4000" spc="-1" strike="noStrike">
                <a:solidFill>
                  <a:srgbClr val="f2f2f2"/>
                </a:solidFill>
                <a:latin typeface="HelveticaNeue LT 97 BlackCn"/>
              </a:rPr>
              <a:t>HOPE YOU WILL MAKE PERFECT RESUM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5223960" y="5522760"/>
            <a:ext cx="1735920" cy="6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  <Words>102</Words>
  <Paragraphs>65</Paragraphs>
  <Company>uniquePP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6:15:09Z</dcterms:created>
  <dc:creator>DEMONCHAN</dc:creator>
  <dc:description/>
  <dc:language>en-US</dc:language>
  <cp:lastModifiedBy>a</cp:lastModifiedBy>
  <dcterms:modified xsi:type="dcterms:W3CDTF">2015-07-25T08:21:27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