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11FA-59D8-41D3-8B05-55199C18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B307-3099-4194-87FF-F7BF0016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9F13B-6278-40EA-AB58-BA6D3217B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1A1D-9ABD-44C6-8511-91B679A4E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8C11-5502-4D11-BFC0-B44993888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DFB53-731D-4AF6-B7C6-3DD6C661B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9C56-1BF7-43D8-A205-84862A024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47F4-6000-4477-A2EB-A62CD6DC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A177-0E6B-4BF3-9ED7-1319EFD3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35C1-A9C6-4573-B914-397BD484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CA685-59CC-4774-B0B6-43BB95B29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3010A-50A5-43DB-BBFA-FB89C581F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51618-B6E3-46E3-8CBB-7BDCC63A7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64000" y="763560"/>
            <a:ext cx="4681440" cy="155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800" spc="-1" strike="noStrike">
              <a:solidFill>
                <a:srgbClr val="ff6699"/>
              </a:solidFill>
              <a:latin typeface="方正粗倩简体"/>
              <a:ea typeface="方正粗倩简体"/>
            </a:endParaRPr>
          </a:p>
        </p:txBody>
      </p:sp>
      <p:sp>
        <p:nvSpPr>
          <p:cNvPr id="42" name="AutoShape 4"/>
          <p:cNvSpPr/>
          <p:nvPr/>
        </p:nvSpPr>
        <p:spPr>
          <a:xfrm>
            <a:off x="3592440" y="1052640"/>
            <a:ext cx="115920" cy="936360"/>
          </a:xfrm>
          <a:custGeom>
            <a:avLst/>
            <a:gdLst>
              <a:gd name="textAreaLeft" fmla="*/ 33840 w 115920"/>
              <a:gd name="textAreaRight" fmla="*/ 116280 w 115920"/>
              <a:gd name="textAreaTop" fmla="*/ 38880 h 936360"/>
              <a:gd name="textAreaBottom" fmla="*/ 897480 h 93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AutoShape 5"/>
          <p:cNvSpPr/>
          <p:nvPr/>
        </p:nvSpPr>
        <p:spPr>
          <a:xfrm>
            <a:off x="8172360" y="981000"/>
            <a:ext cx="117720" cy="936720"/>
          </a:xfrm>
          <a:custGeom>
            <a:avLst/>
            <a:gdLst>
              <a:gd name="textAreaLeft" fmla="*/ 0 w 117720"/>
              <a:gd name="textAreaRight" fmla="*/ 82800 w 117720"/>
              <a:gd name="textAreaTop" fmla="*/ 38880 h 936720"/>
              <a:gd name="textAreaBottom" fmla="*/ 897840 h 936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3995640" y="4221000"/>
            <a:ext cx="504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>
            <a:off x="3995640" y="4797360"/>
            <a:ext cx="496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>
            <a:off x="4067280" y="5373720"/>
            <a:ext cx="489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"/>
          <p:cNvSpPr/>
          <p:nvPr/>
        </p:nvSpPr>
        <p:spPr>
          <a:xfrm>
            <a:off x="2250000" y="3603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情书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设计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02T07:26:46Z</dcterms:created>
  <dc:creator>微软用户</dc:creator>
  <dc:description/>
  <dc:language>en-US</dc:language>
  <cp:lastModifiedBy>王玉清</cp:lastModifiedBy>
  <dcterms:modified xsi:type="dcterms:W3CDTF">2016-02-20T04:07:19Z</dcterms:modified>
  <cp:revision>7</cp:revision>
  <dc:subject/>
  <dc:title>情书PPT模板设计</dc:title>
</cp:coreProperties>
</file>