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384-F4C6-463A-88AB-5F26403E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4D3-0F25-4E8E-9FA0-3E077754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691-ADA7-474D-8FDD-993FCCA9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9B0-A8DB-45DC-8C52-69BD7AD7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558-B7E5-4FD7-9855-2B539054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957-0E57-45B0-A58B-17457359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28D-2139-4CD9-A5D7-642C4387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455-0707-49B0-8361-37526336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E12-A250-448D-917C-90CF7572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632-2828-407B-AE6A-D542EC19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5FB-F10E-429E-B022-DC088C0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8C4-F4D2-45C9-AE19-4836511B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20B70D-4A4E-4653-9DC3-D11E1C0A6F4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979640" y="337320"/>
            <a:ext cx="5623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清新蓝色天空花朵底纹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906080" y="257184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388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2"/>
          <p:cNvSpPr/>
          <p:nvPr/>
        </p:nvSpPr>
        <p:spPr>
          <a:xfrm>
            <a:off x="2214720" y="2428920"/>
            <a:ext cx="4857480" cy="856800"/>
          </a:xfrm>
          <a:prstGeom prst="roundRect">
            <a:avLst>
              <a:gd name="adj" fmla="val 7848"/>
            </a:avLst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46" name="组合 13"/>
          <p:cNvGrpSpPr/>
          <p:nvPr/>
        </p:nvGrpSpPr>
        <p:grpSpPr>
          <a:xfrm>
            <a:off x="642960" y="1643040"/>
            <a:ext cx="2214360" cy="2285640"/>
            <a:chOff x="642960" y="1643040"/>
            <a:chExt cx="2214360" cy="2285640"/>
          </a:xfrm>
        </p:grpSpPr>
        <p:sp>
          <p:nvSpPr>
            <p:cNvPr id="47" name="云形 4">
              <a:hlinkClick r:id="rId1" action="ppaction://hlinksldjump"/>
            </p:cNvPr>
            <p:cNvSpPr/>
            <p:nvPr/>
          </p:nvSpPr>
          <p:spPr>
            <a:xfrm>
              <a:off x="642960" y="1643040"/>
              <a:ext cx="2214360" cy="2285640"/>
            </a:xfrm>
            <a:prstGeom prst="clou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1270000" contourW="19050">
              <a:bevelT prst="convex" w="101600"/>
              <a:bevelB w="0" h="5080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48" name="组合 43"/>
            <p:cNvGrpSpPr/>
            <p:nvPr/>
          </p:nvGrpSpPr>
          <p:grpSpPr>
            <a:xfrm>
              <a:off x="1214280" y="2072520"/>
              <a:ext cx="1071360" cy="1049760"/>
              <a:chOff x="1214280" y="2072520"/>
              <a:chExt cx="1071360" cy="1049760"/>
            </a:xfrm>
          </p:grpSpPr>
          <p:sp>
            <p:nvSpPr>
              <p:cNvPr id="49" name="Oval 2"/>
              <p:cNvSpPr/>
              <p:nvPr/>
            </p:nvSpPr>
            <p:spPr>
              <a:xfrm>
                <a:off x="1357200" y="2214720"/>
                <a:ext cx="928440" cy="907560"/>
              </a:xfrm>
              <a:prstGeom prst="ellipse">
                <a:avLst/>
              </a:prstGeom>
              <a:gradFill rotWithShape="0">
                <a:gsLst>
                  <a:gs pos="10000">
                    <a:srgbClr val="e22000"/>
                  </a:gs>
                  <a:gs pos="100000">
                    <a:srgbClr val="ffcf01"/>
                  </a:gs>
                </a:gsLst>
                <a:lin ang="13500000"/>
              </a:gradFill>
              <a:ln w="25400">
                <a:noFill/>
              </a:ln>
              <a:effectLst>
                <a:outerShdw algn="ctr" blurRad="225360" dir="5236421" dist="37842">
                  <a:srgbClr val="000000">
                    <a:alpha val="33000"/>
                  </a:srgbClr>
                </a:outerShdw>
              </a:effectLst>
              <a:scene3d>
                <a:camera prst="orthographicFront"/>
                <a:lightRig dir="t" rig="flat"/>
              </a:scene3d>
              <a:sp3d extrusionH="304800" contourW="19050">
                <a:bevelT prst="convex"/>
                <a:bevelB w="0" h="0"/>
                <a:contourClr>
                  <a:srgbClr val="ffe593"/>
                </a:contourClr>
              </a:sp3d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fr-FR" sz="16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0" name="椭圆 7"/>
              <p:cNvSpPr/>
              <p:nvPr/>
            </p:nvSpPr>
            <p:spPr>
              <a:xfrm rot="19388400">
                <a:off x="1303200" y="2260800"/>
                <a:ext cx="817200" cy="569520"/>
              </a:xfrm>
              <a:prstGeom prst="ellipse">
                <a:avLst/>
              </a:prstGeom>
              <a:gradFill rotWithShape="0">
                <a:gsLst>
                  <a:gs pos="5500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8414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51" name="椭圆 8"/>
              <p:cNvSpPr/>
              <p:nvPr/>
            </p:nvSpPr>
            <p:spPr>
              <a:xfrm>
                <a:off x="1357200" y="2214720"/>
                <a:ext cx="914760" cy="897480"/>
              </a:xfrm>
              <a:prstGeom prst="ellipse">
                <a:avLst/>
              </a:prstGeom>
              <a:gradFill rotWithShape="0">
                <a:gsLst>
                  <a:gs pos="0">
                    <a:srgbClr val="ffc000">
                      <a:alpha val="6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</p:grpSp>
      </p:grpSp>
      <p:sp>
        <p:nvSpPr>
          <p:cNvPr id="52" name="矩形 87"/>
          <p:cNvSpPr/>
          <p:nvPr/>
        </p:nvSpPr>
        <p:spPr>
          <a:xfrm>
            <a:off x="3643200" y="2714760"/>
            <a:ext cx="3857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7"/>
          <p:cNvSpPr/>
          <p:nvPr/>
        </p:nvSpPr>
        <p:spPr>
          <a:xfrm>
            <a:off x="1053360" y="3793680"/>
            <a:ext cx="647640" cy="14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18"/>
          <p:cNvGrpSpPr/>
          <p:nvPr/>
        </p:nvGrpSpPr>
        <p:grpSpPr>
          <a:xfrm>
            <a:off x="642960" y="1171080"/>
            <a:ext cx="6571800" cy="4329360"/>
            <a:chOff x="642960" y="1171080"/>
            <a:chExt cx="6571800" cy="4329360"/>
          </a:xfrm>
        </p:grpSpPr>
        <p:sp>
          <p:nvSpPr>
            <p:cNvPr id="56" name="圆角矩形 14"/>
            <p:cNvSpPr/>
            <p:nvPr/>
          </p:nvSpPr>
          <p:spPr>
            <a:xfrm>
              <a:off x="642960" y="1171080"/>
              <a:ext cx="5875560" cy="3401640"/>
            </a:xfrm>
            <a:prstGeom prst="roundRect">
              <a:avLst>
                <a:gd name="adj" fmla="val 7848"/>
              </a:avLst>
            </a:prstGeom>
            <a:gradFill rotWithShape="0">
              <a:gsLst>
                <a:gs pos="30000">
                  <a:srgbClr val="ffffff"/>
                </a:gs>
                <a:gs pos="100000">
                  <a:srgbClr val="bfbfbf"/>
                </a:gs>
              </a:gsLst>
              <a:lin ang="2700000"/>
            </a:gradFill>
            <a:ln w="38100">
              <a:solidFill>
                <a:srgbClr val="00b0f0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artDeco" w="165100" h="1270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7" name="矩形 87"/>
            <p:cNvSpPr/>
            <p:nvPr/>
          </p:nvSpPr>
          <p:spPr>
            <a:xfrm>
              <a:off x="2343960" y="2408040"/>
              <a:ext cx="2576880" cy="1155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2" descr="D:\我的文档\Downloads\3d杂\3d杂\Business Icons3.png"/>
            <p:cNvPicPr/>
            <p:nvPr/>
          </p:nvPicPr>
          <p:blipFill>
            <a:blip r:embed="rId16"/>
            <a:stretch/>
          </p:blipFill>
          <p:spPr>
            <a:xfrm>
              <a:off x="4766400" y="3056400"/>
              <a:ext cx="2448360" cy="24440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59" name="图片 5" descr="vv-xpincon_06.png"/>
            <p:cNvPicPr/>
            <p:nvPr/>
          </p:nvPicPr>
          <p:blipFill>
            <a:blip r:embed="rId17"/>
            <a:stretch/>
          </p:blipFill>
          <p:spPr>
            <a:xfrm>
              <a:off x="745920" y="1171080"/>
              <a:ext cx="1172520" cy="1172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4"/>
          <p:cNvSpPr/>
          <p:nvPr/>
        </p:nvSpPr>
        <p:spPr>
          <a:xfrm>
            <a:off x="3006720" y="3826440"/>
            <a:ext cx="2466720" cy="771120"/>
          </a:xfrm>
          <a:custGeom>
            <a:avLst/>
            <a:gdLst>
              <a:gd name="textAreaLeft" fmla="*/ 0 w 2466720"/>
              <a:gd name="textAreaRight" fmla="*/ 2467080 w 2466720"/>
              <a:gd name="textAreaTop" fmla="*/ 0 h 771120"/>
              <a:gd name="textAreaBottom" fmla="*/ 771480 h 77112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002774"/>
              </a:gs>
              <a:gs pos="100000">
                <a:srgbClr val="00dff6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2" name="Freeform 5"/>
          <p:cNvSpPr/>
          <p:nvPr/>
        </p:nvSpPr>
        <p:spPr>
          <a:xfrm rot="3600000">
            <a:off x="1828800" y="3570480"/>
            <a:ext cx="2464920" cy="769680"/>
          </a:xfrm>
          <a:custGeom>
            <a:avLst/>
            <a:gdLst>
              <a:gd name="textAreaLeft" fmla="*/ 0 w 2464920"/>
              <a:gd name="textAreaRight" fmla="*/ 2465280 w 246492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99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" name="Freeform 6"/>
          <p:cNvSpPr/>
          <p:nvPr/>
        </p:nvSpPr>
        <p:spPr>
          <a:xfrm rot="7200000">
            <a:off x="1500120" y="2270520"/>
            <a:ext cx="2464920" cy="769680"/>
          </a:xfrm>
          <a:custGeom>
            <a:avLst/>
            <a:gdLst>
              <a:gd name="textAreaLeft" fmla="*/ 0 w 2464920"/>
              <a:gd name="textAreaRight" fmla="*/ 2465280 w 246492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63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convex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4" name="Freeform 7"/>
          <p:cNvSpPr/>
          <p:nvPr/>
        </p:nvSpPr>
        <p:spPr>
          <a:xfrm rot="10800000">
            <a:off x="2124360" y="1397520"/>
            <a:ext cx="2466720" cy="769680"/>
          </a:xfrm>
          <a:custGeom>
            <a:avLst/>
            <a:gdLst>
              <a:gd name="textAreaLeft" fmla="*/ 0 w 2466720"/>
              <a:gd name="textAreaRight" fmla="*/ 2467080 w 246672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002774"/>
              </a:gs>
              <a:gs pos="100000">
                <a:srgbClr val="00dff6"/>
              </a:gs>
            </a:gsLst>
            <a:lin ang="27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5" name="Freeform 8"/>
          <p:cNvSpPr/>
          <p:nvPr/>
        </p:nvSpPr>
        <p:spPr>
          <a:xfrm rot="14400000">
            <a:off x="3375000" y="1693080"/>
            <a:ext cx="2464920" cy="769680"/>
          </a:xfrm>
          <a:custGeom>
            <a:avLst/>
            <a:gdLst>
              <a:gd name="textAreaLeft" fmla="*/ 0 w 2464920"/>
              <a:gd name="textAreaRight" fmla="*/ 2465280 w 246492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207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6" name="Freeform 9"/>
          <p:cNvSpPr/>
          <p:nvPr/>
        </p:nvSpPr>
        <p:spPr>
          <a:xfrm rot="18000000">
            <a:off x="3704760" y="2907360"/>
            <a:ext cx="2466720" cy="771120"/>
          </a:xfrm>
          <a:custGeom>
            <a:avLst/>
            <a:gdLst>
              <a:gd name="textAreaLeft" fmla="*/ 0 w 2466720"/>
              <a:gd name="textAreaRight" fmla="*/ 2467080 w 2466720"/>
              <a:gd name="textAreaTop" fmla="*/ 0 h 771120"/>
              <a:gd name="textAreaBottom" fmla="*/ 771480 h 77112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171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convex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689800" y="36313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5546880" y="17024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1117800" y="19882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332000" y="3916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786120" y="491724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903760" y="702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57"/>
          <p:cNvGrpSpPr/>
          <p:nvPr/>
        </p:nvGrpSpPr>
        <p:grpSpPr>
          <a:xfrm>
            <a:off x="2714760" y="1887120"/>
            <a:ext cx="2184120" cy="1926360"/>
            <a:chOff x="2714760" y="1887120"/>
            <a:chExt cx="2184120" cy="1926360"/>
          </a:xfrm>
        </p:grpSpPr>
        <p:grpSp>
          <p:nvGrpSpPr>
            <p:cNvPr id="74" name="组合 34"/>
            <p:cNvGrpSpPr/>
            <p:nvPr/>
          </p:nvGrpSpPr>
          <p:grpSpPr>
            <a:xfrm>
              <a:off x="2834640" y="1887120"/>
              <a:ext cx="1883880" cy="1926360"/>
              <a:chOff x="2834640" y="1887120"/>
              <a:chExt cx="1883880" cy="1926360"/>
            </a:xfrm>
          </p:grpSpPr>
          <p:sp>
            <p:nvSpPr>
              <p:cNvPr id="75" name="Oval 2"/>
              <p:cNvSpPr/>
              <p:nvPr/>
            </p:nvSpPr>
            <p:spPr>
              <a:xfrm>
                <a:off x="2965680" y="2059560"/>
                <a:ext cx="1752840" cy="1753920"/>
              </a:xfrm>
              <a:prstGeom prst="ellipse">
                <a:avLst/>
              </a:prstGeom>
              <a:gradFill rotWithShape="0">
                <a:gsLst>
                  <a:gs pos="10000">
                    <a:srgbClr val="002774"/>
                  </a:gs>
                  <a:gs pos="100000">
                    <a:srgbClr val="00dff6"/>
                  </a:gs>
                </a:gsLst>
                <a:lin ang="13500000"/>
              </a:gradFill>
              <a:ln w="25400">
                <a:noFill/>
              </a:ln>
              <a:effectLst>
                <a:outerShdw algn="ctr" blurRad="225360" dir="5236421" dist="37842">
                  <a:srgbClr val="000000">
                    <a:alpha val="33000"/>
                  </a:srgbClr>
                </a:outerShdw>
              </a:effectLst>
              <a:scene3d>
                <a:camera prst="orthographicFront"/>
                <a:lightRig dir="t" rig="flat"/>
              </a:scene3d>
              <a:sp3d contourW="19050">
                <a:bevelT prst="convex"/>
                <a:bevelB w="0" h="0"/>
                <a:contourClr>
                  <a:srgbClr val="afeaff"/>
                </a:contourClr>
              </a:sp3d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fr-FR" sz="16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6" name="椭圆 27"/>
              <p:cNvSpPr/>
              <p:nvPr/>
            </p:nvSpPr>
            <p:spPr>
              <a:xfrm rot="19388400">
                <a:off x="2958840" y="2162520"/>
                <a:ext cx="1188720" cy="810720"/>
              </a:xfrm>
              <a:prstGeom prst="ellipse">
                <a:avLst/>
              </a:prstGeom>
              <a:gradFill rotWithShape="0">
                <a:gsLst>
                  <a:gs pos="5500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8414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77" name="椭圆 28"/>
              <p:cNvSpPr/>
              <p:nvPr/>
            </p:nvSpPr>
            <p:spPr>
              <a:xfrm>
                <a:off x="3153600" y="2247480"/>
                <a:ext cx="1377360" cy="1378080"/>
              </a:xfrm>
              <a:prstGeom prst="ellipse">
                <a:avLst/>
              </a:prstGeom>
              <a:gradFill rotWithShape="0">
                <a:gsLst>
                  <a:gs pos="0">
                    <a:srgbClr val="2dd7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78" name="TextBox 147"/>
            <p:cNvSpPr/>
            <p:nvPr/>
          </p:nvSpPr>
          <p:spPr>
            <a:xfrm>
              <a:off x="2714760" y="2733120"/>
              <a:ext cx="2184120" cy="33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373120" y="1305000"/>
            <a:ext cx="5990760" cy="93168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213080" y="4003560"/>
            <a:ext cx="4150800" cy="1206000"/>
          </a:xfrm>
          <a:prstGeom prst="rect">
            <a:avLst/>
          </a:prstGeom>
          <a:gradFill rotWithShape="0">
            <a:gsLst>
              <a:gs pos="0">
                <a:srgbClr val="accebd"/>
              </a:gs>
              <a:gs pos="100000">
                <a:srgbClr val="505f57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87560" y="2166840"/>
            <a:ext cx="5492520" cy="93168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473280" y="3100320"/>
            <a:ext cx="4890600" cy="90468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2705040" y="2168280"/>
            <a:ext cx="5659200" cy="360"/>
          </a:xfrm>
          <a:prstGeom prst="line">
            <a:avLst/>
          </a:prstGeom>
          <a:ln w="127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"/>
          <p:cNvSpPr/>
          <p:nvPr/>
        </p:nvSpPr>
        <p:spPr>
          <a:xfrm>
            <a:off x="3473280" y="3100320"/>
            <a:ext cx="4890960" cy="360"/>
          </a:xfrm>
          <a:prstGeom prst="line">
            <a:avLst/>
          </a:prstGeom>
          <a:ln w="127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062240" y="4005000"/>
            <a:ext cx="4302000" cy="360"/>
          </a:xfrm>
          <a:prstGeom prst="line">
            <a:avLst/>
          </a:prstGeom>
          <a:ln w="127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85480" y="5209920"/>
            <a:ext cx="8078760" cy="360"/>
          </a:xfrm>
          <a:prstGeom prst="line">
            <a:avLst/>
          </a:prstGeom>
          <a:ln w="127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945320" y="4361040"/>
            <a:ext cx="28908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6666"/>
                </a:solidFill>
                <a:latin typeface="Calibri"/>
                <a:ea typeface="Gulim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6666"/>
                </a:solidFill>
                <a:latin typeface="Calibri"/>
                <a:ea typeface="Gulim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365720" y="3306960"/>
            <a:ext cx="27140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6600"/>
                </a:solidFill>
                <a:latin typeface="Calibri"/>
                <a:ea typeface="Gulim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6600"/>
                </a:solidFill>
                <a:latin typeface="Calibri"/>
                <a:ea typeface="Gulim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3830760" y="2473200"/>
            <a:ext cx="2994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808000"/>
                </a:solidFill>
                <a:latin typeface="Calibri"/>
                <a:ea typeface="Gulim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168720" y="1506600"/>
            <a:ext cx="28602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6600"/>
                </a:solidFill>
                <a:latin typeface="Calibri"/>
                <a:ea typeface="Gulim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6600"/>
                </a:solidFill>
                <a:latin typeface="Calibri"/>
                <a:ea typeface="Gulim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285840" y="738360"/>
            <a:ext cx="4677840" cy="4482360"/>
            <a:chOff x="285840" y="738360"/>
            <a:chExt cx="4677840" cy="4482360"/>
          </a:xfrm>
        </p:grpSpPr>
        <p:grpSp>
          <p:nvGrpSpPr>
            <p:cNvPr id="93" name="Group 15"/>
            <p:cNvGrpSpPr/>
            <p:nvPr/>
          </p:nvGrpSpPr>
          <p:grpSpPr>
            <a:xfrm>
              <a:off x="285840" y="3714480"/>
              <a:ext cx="4677840" cy="1506240"/>
              <a:chOff x="285840" y="3714480"/>
              <a:chExt cx="4677840" cy="150624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751680" y="3714480"/>
                <a:ext cx="3601440" cy="541080"/>
              </a:xfrm>
              <a:custGeom>
                <a:avLst/>
                <a:gdLst>
                  <a:gd name="textAreaLeft" fmla="*/ 0 w 3601440"/>
                  <a:gd name="textAreaRight" fmla="*/ 3601800 w 3601440"/>
                  <a:gd name="textAreaTop" fmla="*/ 0 h 541080"/>
                  <a:gd name="textAreaBottom" fmla="*/ 541440 h 54108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solidFill>
                <a:schemeClr val="tx2">
                  <a:lumMod val="60000"/>
                  <a:lumOff val="40000"/>
                </a:schemeClr>
              </a:solidFill>
              <a:ln cap="rnd" w="3175">
                <a:solidFill>
                  <a:srgbClr val="1f497d">
                    <a:lumMod val="20000"/>
                    <a:lumOff val="8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285840" y="4251240"/>
                <a:ext cx="4172040" cy="965160"/>
              </a:xfrm>
              <a:custGeom>
                <a:avLst/>
                <a:gdLst>
                  <a:gd name="textAreaLeft" fmla="*/ 0 w 4172040"/>
                  <a:gd name="textAreaRight" fmla="*/ 4172400 w 4172040"/>
                  <a:gd name="textAreaTop" fmla="*/ 0 h 965160"/>
                  <a:gd name="textAreaBottom" fmla="*/ 965520 h 96516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solidFill>
                <a:schemeClr val="tx2">
                  <a:lumMod val="60000"/>
                  <a:lumOff val="40000"/>
                </a:schemeClr>
              </a:solidFill>
              <a:ln cap="rnd" w="3175">
                <a:solidFill>
                  <a:srgbClr val="1f497d">
                    <a:lumMod val="20000"/>
                    <a:lumOff val="8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966480" y="3723840"/>
                <a:ext cx="997200" cy="1496880"/>
              </a:xfrm>
              <a:custGeom>
                <a:avLst/>
                <a:gdLst>
                  <a:gd name="textAreaLeft" fmla="*/ 0 w 997200"/>
                  <a:gd name="textAreaRight" fmla="*/ 997560 w 997200"/>
                  <a:gd name="textAreaTop" fmla="*/ 0 h 1496880"/>
                  <a:gd name="textAreaBottom" fmla="*/ 1497240 h 14968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chemeClr val="tx2">
                  <a:lumMod val="60000"/>
                  <a:lumOff val="40000"/>
                </a:schemeClr>
              </a:solidFill>
              <a:ln cap="rnd" w="3175">
                <a:solidFill>
                  <a:srgbClr val="1f497d">
                    <a:lumMod val="20000"/>
                    <a:lumOff val="8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Group 19"/>
            <p:cNvGrpSpPr/>
            <p:nvPr/>
          </p:nvGrpSpPr>
          <p:grpSpPr>
            <a:xfrm>
              <a:off x="788040" y="2910240"/>
              <a:ext cx="3480840" cy="1194840"/>
              <a:chOff x="788040" y="2910240"/>
              <a:chExt cx="3480840" cy="1194840"/>
            </a:xfrm>
          </p:grpSpPr>
          <p:sp>
            <p:nvSpPr>
              <p:cNvPr id="98" name="Freeform 20"/>
              <p:cNvSpPr/>
              <p:nvPr/>
            </p:nvSpPr>
            <p:spPr>
              <a:xfrm>
                <a:off x="1134720" y="2910240"/>
                <a:ext cx="2680200" cy="429120"/>
              </a:xfrm>
              <a:custGeom>
                <a:avLst/>
                <a:gdLst>
                  <a:gd name="textAreaLeft" fmla="*/ 0 w 2680200"/>
                  <a:gd name="textAreaRight" fmla="*/ 2680560 w 268020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788040" y="3335760"/>
                <a:ext cx="3104640" cy="765360"/>
              </a:xfrm>
              <a:custGeom>
                <a:avLst/>
                <a:gdLst>
                  <a:gd name="textAreaLeft" fmla="*/ 0 w 3104640"/>
                  <a:gd name="textAreaRight" fmla="*/ 3105000 w 310464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3526920" y="2917800"/>
                <a:ext cx="741960" cy="11872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Group 23"/>
            <p:cNvGrpSpPr/>
            <p:nvPr/>
          </p:nvGrpSpPr>
          <p:grpSpPr>
            <a:xfrm>
              <a:off x="1182240" y="2192760"/>
              <a:ext cx="2570400" cy="1039680"/>
              <a:chOff x="1182240" y="2192760"/>
              <a:chExt cx="2570400" cy="1039680"/>
            </a:xfrm>
          </p:grpSpPr>
          <p:sp>
            <p:nvSpPr>
              <p:cNvPr id="102" name="Freeform 24"/>
              <p:cNvSpPr/>
              <p:nvPr/>
            </p:nvSpPr>
            <p:spPr>
              <a:xfrm>
                <a:off x="3126600" y="2192760"/>
                <a:ext cx="626040" cy="1039680"/>
              </a:xfrm>
              <a:custGeom>
                <a:avLst/>
                <a:gdLst>
                  <a:gd name="textAreaLeft" fmla="*/ 0 w 626040"/>
                  <a:gd name="textAreaRight" fmla="*/ 626400 w 626040"/>
                  <a:gd name="textAreaTop" fmla="*/ 0 h 1039680"/>
                  <a:gd name="textAreaBottom" fmla="*/ 1040040 h 103968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517040" y="219276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96600"/>
                  </a:gs>
                  <a:gs pos="100000">
                    <a:srgbClr val="9e9a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1182240" y="2473200"/>
                <a:ext cx="2313000" cy="753120"/>
              </a:xfrm>
              <a:custGeom>
                <a:avLst/>
                <a:gdLst>
                  <a:gd name="textAreaLeft" fmla="*/ 0 w 2313000"/>
                  <a:gd name="textAreaRight" fmla="*/ 2313360 w 231300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Group 27"/>
            <p:cNvGrpSpPr/>
            <p:nvPr/>
          </p:nvGrpSpPr>
          <p:grpSpPr>
            <a:xfrm>
              <a:off x="1564920" y="1459440"/>
              <a:ext cx="1678320" cy="914040"/>
              <a:chOff x="1564920" y="1459440"/>
              <a:chExt cx="1678320" cy="914040"/>
            </a:xfrm>
          </p:grpSpPr>
          <p:sp>
            <p:nvSpPr>
              <p:cNvPr id="106" name="Freeform 28"/>
              <p:cNvSpPr/>
              <p:nvPr/>
            </p:nvSpPr>
            <p:spPr>
              <a:xfrm>
                <a:off x="1917720" y="1465560"/>
                <a:ext cx="886680" cy="146160"/>
              </a:xfrm>
              <a:custGeom>
                <a:avLst/>
                <a:gdLst>
                  <a:gd name="textAreaLeft" fmla="*/ 0 w 886680"/>
                  <a:gd name="textAreaRight" fmla="*/ 887040 w 8866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94323"/>
                  </a:gs>
                  <a:gs pos="100000">
                    <a:srgbClr val="ff6535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564920" y="1608120"/>
                <a:ext cx="1503720" cy="765360"/>
              </a:xfrm>
              <a:custGeom>
                <a:avLst/>
                <a:gdLst>
                  <a:gd name="textAreaLeft" fmla="*/ 0 w 1503720"/>
                  <a:gd name="textAreaRight" fmla="*/ 1504080 w 15037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2711520" y="1459440"/>
                <a:ext cx="531720" cy="9082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908280"/>
                  <a:gd name="textAreaBottom" fmla="*/ 908640 h 90828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Group 31"/>
            <p:cNvGrpSpPr/>
            <p:nvPr/>
          </p:nvGrpSpPr>
          <p:grpSpPr>
            <a:xfrm>
              <a:off x="1958400" y="738360"/>
              <a:ext cx="780120" cy="764280"/>
              <a:chOff x="1958400" y="738360"/>
              <a:chExt cx="780120" cy="764280"/>
            </a:xfrm>
          </p:grpSpPr>
          <p:sp>
            <p:nvSpPr>
              <p:cNvPr id="110" name="Freeform 32"/>
              <p:cNvSpPr/>
              <p:nvPr/>
            </p:nvSpPr>
            <p:spPr>
              <a:xfrm>
                <a:off x="1958400" y="738360"/>
                <a:ext cx="714600" cy="76428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2297880" y="738360"/>
                <a:ext cx="440640" cy="76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760320"/>
                  <a:gd name="textAreaBottom" fmla="*/ 760680 h 76032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Text Box 34"/>
          <p:cNvSpPr/>
          <p:nvPr/>
        </p:nvSpPr>
        <p:spPr>
          <a:xfrm>
            <a:off x="1657080" y="2682720"/>
            <a:ext cx="1409400" cy="43020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1851120" y="1703520"/>
            <a:ext cx="981360" cy="6004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1020600" y="4589640"/>
            <a:ext cx="2741400" cy="2869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1020600" y="3565440"/>
            <a:ext cx="2590560" cy="2869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五边形 39"/>
          <p:cNvSpPr/>
          <p:nvPr/>
        </p:nvSpPr>
        <p:spPr>
          <a:xfrm flipH="1">
            <a:off x="3857760" y="2712600"/>
            <a:ext cx="1571400" cy="356760"/>
          </a:xfrm>
          <a:prstGeom prst="homePlate">
            <a:avLst>
              <a:gd name="adj" fmla="val 74735"/>
            </a:avLst>
          </a:pr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189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isometricOffAxis1Right">
              <a:rot lat="1783362" lon="405110" rev="10493587"/>
            </a:camera>
            <a:lightRig dir="t" rig="flat"/>
          </a:scene3d>
          <a:sp3d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18" name="五边形 40"/>
          <p:cNvSpPr/>
          <p:nvPr/>
        </p:nvSpPr>
        <p:spPr>
          <a:xfrm>
            <a:off x="3643200" y="1497960"/>
            <a:ext cx="2071440" cy="285480"/>
          </a:xfrm>
          <a:prstGeom prst="homePlate">
            <a:avLst>
              <a:gd name="adj" fmla="val 74735"/>
            </a:avLst>
          </a:prstGeom>
          <a:gradFill rotWithShape="0">
            <a:gsLst>
              <a:gs pos="0">
                <a:srgbClr val="00a8fa"/>
              </a:gs>
              <a:gs pos="100000">
                <a:srgbClr val="0058b3"/>
              </a:gs>
            </a:gsLst>
            <a:lin ang="13500000"/>
          </a:gradFill>
          <a:ln w="1905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fov="6600000" prst="perspectiveLeft">
              <a:rot lat="0" lon="18899986" rev="0"/>
            </a:camera>
            <a:lightRig dir="t" rig="threePt"/>
          </a:scene3d>
          <a:sp3d prstMaterial="plastic">
            <a:contourClr>
              <a:schemeClr val="tx2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五边形 41"/>
          <p:cNvSpPr/>
          <p:nvPr/>
        </p:nvSpPr>
        <p:spPr>
          <a:xfrm flipH="1" rot="-600">
            <a:off x="2713680" y="3226320"/>
            <a:ext cx="1142640" cy="285480"/>
          </a:xfrm>
          <a:prstGeom prst="homePlate">
            <a:avLst>
              <a:gd name="adj" fmla="val 74735"/>
            </a:avLst>
          </a:prstGeom>
          <a:gradFill rotWithShape="0">
            <a:gsLst>
              <a:gs pos="14000">
                <a:srgbClr val="7030a0"/>
              </a:gs>
              <a:gs pos="100000">
                <a:srgbClr val="ccc1da">
                  <a:alpha val="0"/>
                </a:srgbClr>
              </a:gs>
            </a:gsLst>
            <a:lin ang="18900000"/>
          </a:gradFill>
          <a:ln w="3175">
            <a:solidFill>
              <a:srgbClr val="8064a2">
                <a:lumMod val="75000"/>
              </a:srgbClr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isometricOffAxis2Left">
              <a:rot lat="1055609" lon="20307839" rev="20906990"/>
            </a:camera>
            <a:lightRig dir="t" rig="flat"/>
          </a:scene3d>
          <a:sp3d z="69850"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矩形 54"/>
          <p:cNvSpPr/>
          <p:nvPr/>
        </p:nvSpPr>
        <p:spPr>
          <a:xfrm>
            <a:off x="714240" y="128376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5"/>
          <p:cNvSpPr/>
          <p:nvPr/>
        </p:nvSpPr>
        <p:spPr>
          <a:xfrm>
            <a:off x="928800" y="321228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6"/>
          <p:cNvSpPr/>
          <p:nvPr/>
        </p:nvSpPr>
        <p:spPr>
          <a:xfrm>
            <a:off x="5500800" y="114084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7"/>
          <p:cNvSpPr/>
          <p:nvPr/>
        </p:nvSpPr>
        <p:spPr>
          <a:xfrm>
            <a:off x="5715000" y="271224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8"/>
          <p:cNvSpPr/>
          <p:nvPr/>
        </p:nvSpPr>
        <p:spPr>
          <a:xfrm>
            <a:off x="4286160" y="371232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59"/>
          <p:cNvSpPr/>
          <p:nvPr/>
        </p:nvSpPr>
        <p:spPr>
          <a:xfrm rot="490800">
            <a:off x="2276280" y="3378960"/>
            <a:ext cx="713880" cy="70920"/>
          </a:xfrm>
          <a:custGeom>
            <a:avLst/>
            <a:gdLst>
              <a:gd name="textAreaLeft" fmla="*/ 0 w 713880"/>
              <a:gd name="textAreaRight" fmla="*/ 714240 w 71388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1092530" h="1068780">
                <a:moveTo>
                  <a:pt x="0" y="1068780"/>
                </a:moveTo>
                <a:lnTo>
                  <a:pt x="1092530" y="0"/>
                </a:lnTo>
              </a:path>
            </a:pathLst>
          </a:custGeom>
          <a:noFill/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  <a:effectLst>
            <a:outerShdw algn="tl" blurRad="50760" dir="2700000" dist="25455" rotWithShape="0">
              <a:srgbClr val="000000">
                <a:alpha val="50000"/>
              </a:srgbClr>
            </a:outerShdw>
          </a:effectLst>
          <a:scene3d>
            <a:camera prst="orthographicFront"/>
            <a:lightRig dir="t" rig="flat"/>
          </a:scene3d>
          <a:sp3d contourW="12700"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126" name="肘形连接符 78"/>
          <p:cNvCxnSpPr/>
          <p:nvPr/>
        </p:nvCxnSpPr>
        <p:spPr>
          <a:xfrm>
            <a:off x="2071440" y="1497600"/>
            <a:ext cx="643320" cy="357840"/>
          </a:xfrm>
          <a:prstGeom prst="bentConnector2">
            <a:avLst/>
          </a:prstGeom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</p:spPr>
      </p:cxnSp>
      <p:cxnSp>
        <p:nvCxnSpPr>
          <p:cNvPr id="127" name="肘形连接符 79"/>
          <p:cNvCxnSpPr/>
          <p:nvPr/>
        </p:nvCxnSpPr>
        <p:spPr>
          <a:xfrm flipV="1">
            <a:off x="5072040" y="1355040"/>
            <a:ext cx="571680" cy="357480"/>
          </a:xfrm>
          <a:prstGeom prst="bentConnector2">
            <a:avLst/>
          </a:prstGeom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</p:spPr>
      </p:cxnSp>
      <p:cxnSp>
        <p:nvCxnSpPr>
          <p:cNvPr id="128" name="肘形连接符 80"/>
          <p:cNvCxnSpPr/>
          <p:nvPr/>
        </p:nvCxnSpPr>
        <p:spPr>
          <a:xfrm flipV="1">
            <a:off x="5072040" y="2926440"/>
            <a:ext cx="785880" cy="72000"/>
          </a:xfrm>
          <a:prstGeom prst="bentConnector2">
            <a:avLst/>
          </a:prstGeom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</p:spPr>
      </p:cxnSp>
      <p:sp>
        <p:nvSpPr>
          <p:cNvPr id="129" name="任意多边形 81"/>
          <p:cNvSpPr/>
          <p:nvPr/>
        </p:nvSpPr>
        <p:spPr>
          <a:xfrm rot="490800">
            <a:off x="3866040" y="3886560"/>
            <a:ext cx="553680" cy="161280"/>
          </a:xfrm>
          <a:custGeom>
            <a:avLst/>
            <a:gdLst>
              <a:gd name="textAreaLeft" fmla="*/ 0 w 553680"/>
              <a:gd name="textAreaRight" fmla="*/ 554040 w 553680"/>
              <a:gd name="textAreaTop" fmla="*/ 0 h 161280"/>
              <a:gd name="textAreaBottom" fmla="*/ 161640 h 161280"/>
            </a:gdLst>
            <a:ahLst/>
            <a:rect l="textAreaLeft" t="textAreaTop" r="textAreaRight" b="textAreaBottom"/>
            <a:pathLst>
              <a:path w="1092530" h="1068780">
                <a:moveTo>
                  <a:pt x="0" y="1068780"/>
                </a:moveTo>
                <a:lnTo>
                  <a:pt x="1092530" y="0"/>
                </a:lnTo>
              </a:path>
            </a:pathLst>
          </a:custGeom>
          <a:noFill/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  <a:effectLst>
            <a:outerShdw algn="tl" blurRad="50760" dir="2700000" dist="25455" rotWithShape="0">
              <a:srgbClr val="000000">
                <a:alpha val="50000"/>
              </a:srgbClr>
            </a:outerShdw>
          </a:effectLst>
          <a:scene3d>
            <a:camera prst="orthographicFront"/>
            <a:lightRig dir="t" rig="flat"/>
          </a:scene3d>
          <a:sp3d contourW="12700"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0" name="五边形 82"/>
          <p:cNvSpPr/>
          <p:nvPr/>
        </p:nvSpPr>
        <p:spPr>
          <a:xfrm flipH="1" rot="-600">
            <a:off x="2427840" y="1783800"/>
            <a:ext cx="1499760" cy="356760"/>
          </a:xfrm>
          <a:prstGeom prst="homePlate">
            <a:avLst>
              <a:gd name="adj" fmla="val 74735"/>
            </a:avLst>
          </a:pr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189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isometricOffAxis2Left">
              <a:rot lat="1380000" lon="1560000" rev="20999999"/>
            </a:camera>
            <a:lightRig dir="t" rig="flat"/>
          </a:scene3d>
          <a:sp3d z="69850"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1" name="椭圆 83"/>
          <p:cNvSpPr/>
          <p:nvPr/>
        </p:nvSpPr>
        <p:spPr>
          <a:xfrm>
            <a:off x="3786120" y="855000"/>
            <a:ext cx="142560" cy="1425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lumMod val="85000"/>
                <a:alpha val="3500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threePt"/>
          </a:scene3d>
          <a:sp3d extrusionH="3492500">
            <a:bevelT prst="convex" w="82550" h="336550"/>
            <a:bevelB prst="softRound" w="152400" h="50800"/>
            <a:extrusionClr>
              <a:schemeClr val="bg1">
                <a:lumMod val="85000"/>
              </a:schemeClr>
            </a:extrusionClr>
            <a:contourClr>
              <a:schemeClr val="tx2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椭圆 84"/>
          <p:cNvSpPr/>
          <p:nvPr/>
        </p:nvSpPr>
        <p:spPr>
          <a:xfrm>
            <a:off x="3786120" y="1355040"/>
            <a:ext cx="142560" cy="142560"/>
          </a:xfrm>
          <a:prstGeom prst="ellipse">
            <a:avLst/>
          </a:prstGeom>
          <a:gradFill rotWithShape="0">
            <a:gsLst>
              <a:gs pos="0">
                <a:srgbClr val="0070c0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lumMod val="85000"/>
                <a:alpha val="3500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threePt"/>
          </a:scene3d>
          <a:sp3d extrusionH="317500">
            <a:bevelT prst="convex" w="82550" h="57150"/>
            <a:bevelB prst="softRound" w="152400" h="50800"/>
            <a:extrusionClr>
              <a:schemeClr val="tx2">
                <a:lumMod val="60000"/>
                <a:lumOff val="40000"/>
              </a:schemeClr>
            </a:extrusionClr>
            <a:contourClr>
              <a:schemeClr val="tx2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椭圆 85"/>
          <p:cNvSpPr/>
          <p:nvPr/>
        </p:nvSpPr>
        <p:spPr>
          <a:xfrm>
            <a:off x="3786120" y="1926720"/>
            <a:ext cx="142560" cy="1425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lumMod val="85000"/>
                <a:alpha val="3500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b05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threePt"/>
          </a:scene3d>
          <a:sp3d extrusionH="317500">
            <a:bevelT prst="convex" w="82550" h="57150"/>
            <a:bevelB prst="softRound" w="152400" h="50800"/>
            <a:extrusionClr>
              <a:srgbClr val="66ff33"/>
            </a:extrusionClr>
            <a:contourClr>
              <a:srgbClr val="00b050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椭圆 86"/>
          <p:cNvSpPr/>
          <p:nvPr/>
        </p:nvSpPr>
        <p:spPr>
          <a:xfrm>
            <a:off x="3786120" y="2498040"/>
            <a:ext cx="142560" cy="142560"/>
          </a:xfrm>
          <a:prstGeom prst="ellipse">
            <a:avLst/>
          </a:prstGeom>
          <a:gradFill rotWithShape="0">
            <a:gsLst>
              <a:gs pos="77000">
                <a:srgbClr val="0058b3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lumMod val="85000"/>
                <a:alpha val="3500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b05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threePt"/>
          </a:scene3d>
          <a:sp3d extrusionH="317500">
            <a:bevelT prst="convex" w="82550" h="57150"/>
            <a:bevelB prst="softRound" w="152400" h="50800"/>
            <a:extrusionClr>
              <a:srgbClr val="ffc000"/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椭圆 87"/>
          <p:cNvSpPr/>
          <p:nvPr/>
        </p:nvSpPr>
        <p:spPr>
          <a:xfrm>
            <a:off x="3786120" y="3141000"/>
            <a:ext cx="142560" cy="142560"/>
          </a:xfrm>
          <a:prstGeom prst="ellipse">
            <a:avLst/>
          </a:prstGeom>
          <a:gradFill rotWithShape="0">
            <a:gsLst>
              <a:gs pos="77000">
                <a:srgbClr val="0058b3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alpha val="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b05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chilly"/>
          </a:scene3d>
          <a:sp3d extrusionH="317500">
            <a:bevelT prst="convex" w="82550" h="57150"/>
            <a:bevelB prst="softRound" w="152400" h="50800"/>
            <a:extrusionClr>
              <a:schemeClr val="accent4">
                <a:lumMod val="75000"/>
              </a:schemeClr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7"/>
          <p:cNvGrpSpPr/>
          <p:nvPr/>
        </p:nvGrpSpPr>
        <p:grpSpPr>
          <a:xfrm>
            <a:off x="833400" y="3863880"/>
            <a:ext cx="4841280" cy="1551960"/>
            <a:chOff x="833400" y="3863880"/>
            <a:chExt cx="4841280" cy="1551960"/>
          </a:xfrm>
        </p:grpSpPr>
        <p:sp>
          <p:nvSpPr>
            <p:cNvPr id="138" name="Freeform 48"/>
            <p:cNvSpPr/>
            <p:nvPr/>
          </p:nvSpPr>
          <p:spPr>
            <a:xfrm>
              <a:off x="1786320" y="3863880"/>
              <a:ext cx="3888360" cy="825120"/>
            </a:xfrm>
            <a:custGeom>
              <a:avLst/>
              <a:gdLst>
                <a:gd name="textAreaLeft" fmla="*/ 0 w 3888360"/>
                <a:gd name="textAreaRight" fmla="*/ 3888720 w 388836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1678" h="1010">
                  <a:moveTo>
                    <a:pt x="1162" y="936"/>
                  </a:moveTo>
                  <a:cubicBezTo>
                    <a:pt x="1222" y="836"/>
                    <a:pt x="1371" y="388"/>
                    <a:pt x="985" y="252"/>
                  </a:cubicBezTo>
                  <a:cubicBezTo>
                    <a:pt x="471" y="122"/>
                    <a:pt x="116" y="637"/>
                    <a:pt x="116" y="637"/>
                  </a:cubicBezTo>
                  <a:cubicBezTo>
                    <a:pt x="116" y="637"/>
                    <a:pt x="116" y="637"/>
                    <a:pt x="0" y="603"/>
                  </a:cubicBezTo>
                  <a:cubicBezTo>
                    <a:pt x="272" y="215"/>
                    <a:pt x="727" y="0"/>
                    <a:pt x="1077" y="63"/>
                  </a:cubicBezTo>
                  <a:cubicBezTo>
                    <a:pt x="1416" y="123"/>
                    <a:pt x="1678" y="452"/>
                    <a:pt x="1422" y="1010"/>
                  </a:cubicBezTo>
                  <a:cubicBezTo>
                    <a:pt x="1357" y="994"/>
                    <a:pt x="1209" y="950"/>
                    <a:pt x="1162" y="936"/>
                  </a:cubicBezTo>
                  <a:close/>
                </a:path>
              </a:pathLst>
            </a:custGeom>
            <a:solidFill>
              <a:srgbClr val="b4b4b4">
                <a:alpha val="5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833400" y="4404240"/>
              <a:ext cx="4127760" cy="1011600"/>
            </a:xfrm>
            <a:custGeom>
              <a:avLst/>
              <a:gdLst>
                <a:gd name="textAreaLeft" fmla="*/ 0 w 4127760"/>
                <a:gd name="textAreaRight" fmla="*/ 4128120 w 4127760"/>
                <a:gd name="textAreaTop" fmla="*/ 0 h 1011600"/>
                <a:gd name="textAreaBottom" fmla="*/ 1011960 h 1011600"/>
              </a:gdLst>
              <a:ahLst/>
              <a:rect l="textAreaLeft" t="textAreaTop" r="textAreaRight" b="textAreaBottom"/>
              <a:pathLst>
                <a:path w="1781" h="1235">
                  <a:moveTo>
                    <a:pt x="487" y="36"/>
                  </a:moveTo>
                  <a:cubicBezTo>
                    <a:pt x="412" y="169"/>
                    <a:pt x="208" y="597"/>
                    <a:pt x="609" y="785"/>
                  </a:cubicBezTo>
                  <a:cubicBezTo>
                    <a:pt x="830" y="873"/>
                    <a:pt x="1204" y="807"/>
                    <a:pt x="1523" y="363"/>
                  </a:cubicBezTo>
                  <a:cubicBezTo>
                    <a:pt x="1586" y="379"/>
                    <a:pt x="1709" y="419"/>
                    <a:pt x="1781" y="444"/>
                  </a:cubicBezTo>
                  <a:cubicBezTo>
                    <a:pt x="1502" y="949"/>
                    <a:pt x="806" y="1235"/>
                    <a:pt x="452" y="998"/>
                  </a:cubicBezTo>
                  <a:cubicBezTo>
                    <a:pt x="0" y="701"/>
                    <a:pt x="278" y="135"/>
                    <a:pt x="372" y="0"/>
                  </a:cubicBezTo>
                  <a:cubicBezTo>
                    <a:pt x="430" y="17"/>
                    <a:pt x="411" y="11"/>
                    <a:pt x="487" y="36"/>
                  </a:cubicBezTo>
                  <a:close/>
                </a:path>
              </a:pathLst>
            </a:custGeom>
            <a:solidFill>
              <a:srgbClr val="b4b4b4">
                <a:alpha val="5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40" name="Group 80"/>
          <p:cNvGrpSpPr/>
          <p:nvPr/>
        </p:nvGrpSpPr>
        <p:grpSpPr>
          <a:xfrm>
            <a:off x="0" y="2422440"/>
            <a:ext cx="4227120" cy="2885760"/>
            <a:chOff x="0" y="2422440"/>
            <a:chExt cx="4227120" cy="2885760"/>
          </a:xfrm>
        </p:grpSpPr>
        <p:sp>
          <p:nvSpPr>
            <p:cNvPr id="141" name="Freeform 51"/>
            <p:cNvSpPr/>
            <p:nvPr/>
          </p:nvSpPr>
          <p:spPr>
            <a:xfrm>
              <a:off x="0" y="2422440"/>
              <a:ext cx="4125600" cy="2862000"/>
            </a:xfrm>
            <a:custGeom>
              <a:avLst/>
              <a:gdLst>
                <a:gd name="textAreaLeft" fmla="*/ 0 w 4125600"/>
                <a:gd name="textAreaRight" fmla="*/ 4125960 w 4125600"/>
                <a:gd name="textAreaTop" fmla="*/ 0 h 2862000"/>
                <a:gd name="textAreaBottom" fmla="*/ 2862360 h 2862000"/>
              </a:gdLst>
              <a:ahLst/>
              <a:rect l="textAreaLeft" t="textAreaTop" r="textAreaRight" b="textAreaBottom"/>
              <a:pathLst>
                <a:path w="1781" h="1235">
                  <a:moveTo>
                    <a:pt x="487" y="36"/>
                  </a:moveTo>
                  <a:cubicBezTo>
                    <a:pt x="412" y="169"/>
                    <a:pt x="208" y="597"/>
                    <a:pt x="609" y="785"/>
                  </a:cubicBezTo>
                  <a:cubicBezTo>
                    <a:pt x="830" y="873"/>
                    <a:pt x="1204" y="807"/>
                    <a:pt x="1523" y="363"/>
                  </a:cubicBezTo>
                  <a:cubicBezTo>
                    <a:pt x="1586" y="379"/>
                    <a:pt x="1709" y="419"/>
                    <a:pt x="1781" y="444"/>
                  </a:cubicBezTo>
                  <a:cubicBezTo>
                    <a:pt x="1502" y="949"/>
                    <a:pt x="806" y="1235"/>
                    <a:pt x="452" y="998"/>
                  </a:cubicBezTo>
                  <a:cubicBezTo>
                    <a:pt x="0" y="701"/>
                    <a:pt x="278" y="135"/>
                    <a:pt x="372" y="0"/>
                  </a:cubicBezTo>
                  <a:cubicBezTo>
                    <a:pt x="430" y="17"/>
                    <a:pt x="411" y="11"/>
                    <a:pt x="487" y="36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>
              <a:bevelT prst="convex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1187280" y="3448080"/>
              <a:ext cx="3039840" cy="1860120"/>
            </a:xfrm>
            <a:custGeom>
              <a:avLst/>
              <a:gdLst>
                <a:gd name="textAreaLeft" fmla="*/ 0 w 3039840"/>
                <a:gd name="textAreaRight" fmla="*/ 3040200 w 3039840"/>
                <a:gd name="textAreaTop" fmla="*/ 0 h 1860120"/>
                <a:gd name="textAreaBottom" fmla="*/ 1860480 h 1860120"/>
              </a:gdLst>
              <a:ahLst/>
              <a:rect l="textAreaLeft" t="textAreaTop" r="textAreaRight" b="textAreaBottom"/>
              <a:pathLst>
                <a:path w="1312" h="803">
                  <a:moveTo>
                    <a:pt x="0" y="589"/>
                  </a:moveTo>
                  <a:cubicBezTo>
                    <a:pt x="0" y="589"/>
                    <a:pt x="399" y="803"/>
                    <a:pt x="989" y="335"/>
                  </a:cubicBezTo>
                  <a:cubicBezTo>
                    <a:pt x="1163" y="189"/>
                    <a:pt x="1267" y="0"/>
                    <a:pt x="1267" y="0"/>
                  </a:cubicBezTo>
                  <a:cubicBezTo>
                    <a:pt x="1312" y="63"/>
                    <a:pt x="1312" y="63"/>
                    <a:pt x="1312" y="63"/>
                  </a:cubicBezTo>
                  <a:cubicBezTo>
                    <a:pt x="1312" y="63"/>
                    <a:pt x="999" y="633"/>
                    <a:pt x="400" y="678"/>
                  </a:cubicBezTo>
                  <a:cubicBezTo>
                    <a:pt x="148" y="694"/>
                    <a:pt x="0" y="589"/>
                    <a:pt x="0" y="589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>
              <a:bevelT prst="convex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654120" y="2506680"/>
              <a:ext cx="617040" cy="165384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267" h="714">
                  <a:moveTo>
                    <a:pt x="205" y="0"/>
                  </a:moveTo>
                  <a:cubicBezTo>
                    <a:pt x="205" y="0"/>
                    <a:pt x="254" y="45"/>
                    <a:pt x="261" y="50"/>
                  </a:cubicBezTo>
                  <a:cubicBezTo>
                    <a:pt x="267" y="61"/>
                    <a:pt x="0" y="424"/>
                    <a:pt x="264" y="714"/>
                  </a:cubicBezTo>
                  <a:cubicBezTo>
                    <a:pt x="69" y="593"/>
                    <a:pt x="85" y="409"/>
                    <a:pt x="87" y="363"/>
                  </a:cubicBezTo>
                  <a:cubicBezTo>
                    <a:pt x="88" y="197"/>
                    <a:pt x="205" y="0"/>
                    <a:pt x="205" y="0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>
              <a:bevelT prst="convex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44" name="Group 79"/>
          <p:cNvGrpSpPr/>
          <p:nvPr/>
        </p:nvGrpSpPr>
        <p:grpSpPr>
          <a:xfrm>
            <a:off x="950760" y="941400"/>
            <a:ext cx="3890520" cy="2492280"/>
            <a:chOff x="950760" y="941400"/>
            <a:chExt cx="3890520" cy="2492280"/>
          </a:xfrm>
        </p:grpSpPr>
        <p:sp>
          <p:nvSpPr>
            <p:cNvPr id="145" name="Freeform 55"/>
            <p:cNvSpPr/>
            <p:nvPr/>
          </p:nvSpPr>
          <p:spPr>
            <a:xfrm>
              <a:off x="950760" y="941400"/>
              <a:ext cx="3890520" cy="2338200"/>
            </a:xfrm>
            <a:custGeom>
              <a:avLst/>
              <a:gdLst>
                <a:gd name="textAreaLeft" fmla="*/ 0 w 3890520"/>
                <a:gd name="textAreaRight" fmla="*/ 3890880 w 3890520"/>
                <a:gd name="textAreaTop" fmla="*/ 0 h 2338200"/>
                <a:gd name="textAreaBottom" fmla="*/ 2338560 h 2338200"/>
              </a:gdLst>
              <a:ahLst/>
              <a:rect l="textAreaLeft" t="textAreaTop" r="textAreaRight" b="textAreaBottom"/>
              <a:pathLst>
                <a:path w="1678" h="1010">
                  <a:moveTo>
                    <a:pt x="1162" y="936"/>
                  </a:moveTo>
                  <a:cubicBezTo>
                    <a:pt x="1222" y="836"/>
                    <a:pt x="1371" y="388"/>
                    <a:pt x="985" y="252"/>
                  </a:cubicBezTo>
                  <a:cubicBezTo>
                    <a:pt x="471" y="122"/>
                    <a:pt x="116" y="637"/>
                    <a:pt x="116" y="637"/>
                  </a:cubicBezTo>
                  <a:cubicBezTo>
                    <a:pt x="116" y="637"/>
                    <a:pt x="116" y="637"/>
                    <a:pt x="0" y="603"/>
                  </a:cubicBezTo>
                  <a:cubicBezTo>
                    <a:pt x="272" y="215"/>
                    <a:pt x="727" y="0"/>
                    <a:pt x="1077" y="63"/>
                  </a:cubicBezTo>
                  <a:cubicBezTo>
                    <a:pt x="1416" y="123"/>
                    <a:pt x="1678" y="452"/>
                    <a:pt x="1422" y="1010"/>
                  </a:cubicBezTo>
                  <a:cubicBezTo>
                    <a:pt x="1357" y="994"/>
                    <a:pt x="1209" y="950"/>
                    <a:pt x="1162" y="936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4248000" y="1820880"/>
              <a:ext cx="414000" cy="161244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612440"/>
                <a:gd name="textAreaBottom" fmla="*/ 1612800 h 1612440"/>
              </a:gdLst>
              <a:ahLst/>
              <a:rect l="textAreaLeft" t="textAreaTop" r="textAreaRight" b="textAreaBottom"/>
              <a:pathLst>
                <a:path w="179" h="696">
                  <a:moveTo>
                    <a:pt x="0" y="630"/>
                  </a:moveTo>
                  <a:cubicBezTo>
                    <a:pt x="19" y="659"/>
                    <a:pt x="42" y="696"/>
                    <a:pt x="42" y="696"/>
                  </a:cubicBezTo>
                  <a:cubicBezTo>
                    <a:pt x="42" y="696"/>
                    <a:pt x="134" y="518"/>
                    <a:pt x="139" y="315"/>
                  </a:cubicBezTo>
                  <a:cubicBezTo>
                    <a:pt x="146" y="172"/>
                    <a:pt x="91" y="63"/>
                    <a:pt x="91" y="63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0"/>
                    <a:pt x="179" y="245"/>
                    <a:pt x="0" y="630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1219320" y="1222200"/>
              <a:ext cx="2549160" cy="1310760"/>
            </a:xfrm>
            <a:custGeom>
              <a:avLst/>
              <a:gdLst>
                <a:gd name="textAreaLeft" fmla="*/ 0 w 2549160"/>
                <a:gd name="textAreaRight" fmla="*/ 2549520 w 2549160"/>
                <a:gd name="textAreaTop" fmla="*/ 0 h 1310760"/>
                <a:gd name="textAreaBottom" fmla="*/ 1311120 h 1310760"/>
              </a:gdLst>
              <a:ahLst/>
              <a:rect l="textAreaLeft" t="textAreaTop" r="textAreaRight" b="textAreaBottom"/>
              <a:pathLst>
                <a:path w="1100" h="565">
                  <a:moveTo>
                    <a:pt x="869" y="130"/>
                  </a:moveTo>
                  <a:cubicBezTo>
                    <a:pt x="355" y="0"/>
                    <a:pt x="0" y="515"/>
                    <a:pt x="0" y="515"/>
                  </a:cubicBezTo>
                  <a:cubicBezTo>
                    <a:pt x="0" y="515"/>
                    <a:pt x="0" y="515"/>
                    <a:pt x="54" y="565"/>
                  </a:cubicBezTo>
                  <a:cubicBezTo>
                    <a:pt x="279" y="285"/>
                    <a:pt x="580" y="120"/>
                    <a:pt x="866" y="186"/>
                  </a:cubicBezTo>
                  <a:cubicBezTo>
                    <a:pt x="1050" y="226"/>
                    <a:pt x="1100" y="347"/>
                    <a:pt x="1100" y="347"/>
                  </a:cubicBezTo>
                  <a:cubicBezTo>
                    <a:pt x="1084" y="303"/>
                    <a:pt x="1043" y="192"/>
                    <a:pt x="869" y="130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3645000" y="3110040"/>
              <a:ext cx="698040" cy="32364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69" h="218">
                  <a:moveTo>
                    <a:pt x="0" y="0"/>
                  </a:moveTo>
                  <a:lnTo>
                    <a:pt x="404" y="115"/>
                  </a:lnTo>
                  <a:lnTo>
                    <a:pt x="469" y="218"/>
                  </a:lnTo>
                  <a:lnTo>
                    <a:pt x="73" y="1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950760" y="2338200"/>
              <a:ext cx="394920" cy="1947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264" h="131">
                  <a:moveTo>
                    <a:pt x="180" y="53"/>
                  </a:moveTo>
                  <a:lnTo>
                    <a:pt x="264" y="131"/>
                  </a:lnTo>
                  <a:lnTo>
                    <a:pt x="83" y="78"/>
                  </a:lnTo>
                  <a:lnTo>
                    <a:pt x="0" y="0"/>
                  </a:lnTo>
                  <a:lnTo>
                    <a:pt x="180" y="53"/>
                  </a:ln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50" name="Line 29"/>
          <p:cNvSpPr/>
          <p:nvPr/>
        </p:nvSpPr>
        <p:spPr>
          <a:xfrm flipH="1">
            <a:off x="1690920" y="3389400"/>
            <a:ext cx="410400" cy="664560"/>
          </a:xfrm>
          <a:prstGeom prst="line">
            <a:avLst/>
          </a:prstGeom>
          <a:ln w="7620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30"/>
          <p:cNvSpPr/>
          <p:nvPr/>
        </p:nvSpPr>
        <p:spPr>
          <a:xfrm flipV="1">
            <a:off x="2603520" y="1846440"/>
            <a:ext cx="340920" cy="615240"/>
          </a:xfrm>
          <a:prstGeom prst="line">
            <a:avLst/>
          </a:prstGeom>
          <a:ln w="76200">
            <a:solidFill>
              <a:srgbClr val="2758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1297440" y="2702520"/>
            <a:ext cx="2080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17375e"/>
                </a:solidFill>
                <a:latin typeface="Calibri"/>
              </a:rPr>
              <a:t>Insert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5089320" y="785880"/>
            <a:ext cx="3712680" cy="360000"/>
          </a:xfrm>
          <a:prstGeom prst="rect">
            <a:avLst/>
          </a:prstGeom>
          <a:gradFill rotWithShape="0">
            <a:gsLst>
              <a:gs pos="10000">
                <a:srgbClr val="002774"/>
              </a:gs>
              <a:gs pos="100000">
                <a:srgbClr val="00dff6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convex"/>
            <a:bevelB w="0" h="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089320" y="1146240"/>
            <a:ext cx="3712680" cy="1688760"/>
          </a:xfrm>
          <a:prstGeom prst="rect">
            <a:avLst/>
          </a:prstGeom>
          <a:solidFill>
            <a:schemeClr val="bg1">
              <a:alpha val="60000"/>
            </a:scheme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lvl="2" indent="-190440">
              <a:lnSpc>
                <a:spcPct val="9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GB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text is a placeholder and can be replaced by your own tex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190440">
              <a:lnSpc>
                <a:spcPct val="9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GB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text does only demonstrate how your own text will be illustrated, if you are going to replace the placehold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8"/>
          <p:cNvSpPr/>
          <p:nvPr/>
        </p:nvSpPr>
        <p:spPr>
          <a:xfrm>
            <a:off x="5089320" y="2982960"/>
            <a:ext cx="3712680" cy="360000"/>
          </a:xfrm>
          <a:prstGeom prst="rect">
            <a:avLst/>
          </a:pr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convex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089320" y="3343320"/>
            <a:ext cx="3712680" cy="1688760"/>
          </a:xfrm>
          <a:prstGeom prst="rect">
            <a:avLst/>
          </a:prstGeom>
          <a:solidFill>
            <a:schemeClr val="bg1">
              <a:alpha val="60000"/>
            </a:scheme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lvl="2" indent="-190440">
              <a:lnSpc>
                <a:spcPct val="9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GB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text is a placeholder and can be replaced by your own tex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190440">
              <a:lnSpc>
                <a:spcPct val="9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GB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text does only demonstrate how your own text will be illustrated, if you are going to replace the placehold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7"/>
          <p:cNvSpPr/>
          <p:nvPr/>
        </p:nvSpPr>
        <p:spPr>
          <a:xfrm>
            <a:off x="5072040" y="788400"/>
            <a:ext cx="371448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7"/>
          <p:cNvSpPr/>
          <p:nvPr/>
        </p:nvSpPr>
        <p:spPr>
          <a:xfrm>
            <a:off x="5094720" y="2999160"/>
            <a:ext cx="371448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25760" y="5239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1"/>
          <p:cNvGrpSpPr/>
          <p:nvPr/>
        </p:nvGrpSpPr>
        <p:grpSpPr>
          <a:xfrm>
            <a:off x="1744560" y="1000080"/>
            <a:ext cx="3684240" cy="4171680"/>
            <a:chOff x="1744560" y="1000080"/>
            <a:chExt cx="3684240" cy="4171680"/>
          </a:xfrm>
        </p:grpSpPr>
        <p:pic>
          <p:nvPicPr>
            <p:cNvPr id="162" name="Picture 27" descr=""/>
            <p:cNvPicPr/>
            <p:nvPr/>
          </p:nvPicPr>
          <p:blipFill>
            <a:blip r:embed="rId1"/>
            <a:stretch/>
          </p:blipFill>
          <p:spPr>
            <a:xfrm>
              <a:off x="1744560" y="4219560"/>
              <a:ext cx="3684240" cy="9522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63" name="Freeform 15"/>
            <p:cNvSpPr/>
            <p:nvPr/>
          </p:nvSpPr>
          <p:spPr>
            <a:xfrm>
              <a:off x="1790640" y="1000080"/>
              <a:ext cx="3638160" cy="3142800"/>
            </a:xfrm>
            <a:custGeom>
              <a:avLst/>
              <a:gdLst>
                <a:gd name="textAreaLeft" fmla="*/ 0 w 3638160"/>
                <a:gd name="textAreaRight" fmla="*/ 3638520 w 3638160"/>
                <a:gd name="textAreaTop" fmla="*/ 0 h 3142800"/>
                <a:gd name="textAreaBottom" fmla="*/ 3143160 h 314280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1790640" y="1000080"/>
              <a:ext cx="3638160" cy="3142800"/>
            </a:xfrm>
            <a:custGeom>
              <a:avLst/>
              <a:gdLst>
                <a:gd name="textAreaLeft" fmla="*/ 0 w 3638160"/>
                <a:gd name="textAreaRight" fmla="*/ 3638520 w 3638160"/>
                <a:gd name="textAreaTop" fmla="*/ 0 h 3142800"/>
                <a:gd name="textAreaBottom" fmla="*/ 3143160 h 314280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gradFill rotWithShape="0">
              <a:gsLst>
                <a:gs pos="0">
                  <a:srgbClr val="275881"/>
                </a:gs>
                <a:gs pos="100000">
                  <a:srgbClr val="12293c"/>
                </a:gs>
              </a:gsLst>
              <a:lin ang="5400000"/>
            </a:gradFill>
            <a:ln w="9525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2187720" y="1425600"/>
              <a:ext cx="2839680" cy="2468160"/>
            </a:xfrm>
            <a:custGeom>
              <a:avLst/>
              <a:gdLst>
                <a:gd name="textAreaLeft" fmla="*/ 0 w 2839680"/>
                <a:gd name="textAreaRight" fmla="*/ 2840040 w 2839680"/>
                <a:gd name="textAreaTop" fmla="*/ 0 h 2468160"/>
                <a:gd name="textAreaBottom" fmla="*/ 2468520 h 246816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2187720" y="1428840"/>
              <a:ext cx="2839680" cy="2468160"/>
            </a:xfrm>
            <a:custGeom>
              <a:avLst/>
              <a:gdLst>
                <a:gd name="textAreaLeft" fmla="*/ 0 w 2839680"/>
                <a:gd name="textAreaRight" fmla="*/ 2840040 w 2839680"/>
                <a:gd name="textAreaTop" fmla="*/ 0 h 2468160"/>
                <a:gd name="textAreaBottom" fmla="*/ 2468520 h 246816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gradFill rotWithShape="0">
              <a:gsLst>
                <a:gs pos="0">
                  <a:srgbClr val="c4c4c4"/>
                </a:gs>
                <a:gs pos="50000">
                  <a:srgbClr val="ffffff"/>
                </a:gs>
                <a:gs pos="100000">
                  <a:srgbClr val="c4c4c4"/>
                </a:gs>
              </a:gsLst>
              <a:lin ang="5400000"/>
            </a:gradFill>
            <a:ln w="9525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9"/>
            <p:cNvSpPr/>
            <p:nvPr/>
          </p:nvSpPr>
          <p:spPr>
            <a:xfrm>
              <a:off x="3422520" y="1897200"/>
              <a:ext cx="371160" cy="12441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720" h="2437">
                  <a:moveTo>
                    <a:pt x="339" y="0"/>
                  </a:moveTo>
                  <a:cubicBezTo>
                    <a:pt x="445" y="0"/>
                    <a:pt x="551" y="42"/>
                    <a:pt x="614" y="106"/>
                  </a:cubicBezTo>
                  <a:cubicBezTo>
                    <a:pt x="678" y="191"/>
                    <a:pt x="720" y="297"/>
                    <a:pt x="720" y="424"/>
                  </a:cubicBezTo>
                  <a:cubicBezTo>
                    <a:pt x="710" y="795"/>
                    <a:pt x="607" y="1996"/>
                    <a:pt x="551" y="2331"/>
                  </a:cubicBezTo>
                  <a:cubicBezTo>
                    <a:pt x="508" y="2416"/>
                    <a:pt x="445" y="2437"/>
                    <a:pt x="381" y="2437"/>
                  </a:cubicBezTo>
                  <a:cubicBezTo>
                    <a:pt x="339" y="2437"/>
                    <a:pt x="339" y="2437"/>
                    <a:pt x="339" y="2437"/>
                  </a:cubicBezTo>
                  <a:cubicBezTo>
                    <a:pt x="254" y="2437"/>
                    <a:pt x="212" y="2418"/>
                    <a:pt x="169" y="2331"/>
                  </a:cubicBezTo>
                  <a:cubicBezTo>
                    <a:pt x="113" y="1996"/>
                    <a:pt x="10" y="795"/>
                    <a:pt x="0" y="424"/>
                  </a:cubicBezTo>
                  <a:cubicBezTo>
                    <a:pt x="0" y="297"/>
                    <a:pt x="42" y="191"/>
                    <a:pt x="106" y="106"/>
                  </a:cubicBezTo>
                  <a:cubicBezTo>
                    <a:pt x="169" y="42"/>
                    <a:pt x="254" y="0"/>
                    <a:pt x="360" y="0"/>
                  </a:cubicBez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pic>
          <p:nvPicPr>
            <p:cNvPr id="168" name="Picture 20" descr=""/>
            <p:cNvPicPr/>
            <p:nvPr/>
          </p:nvPicPr>
          <p:blipFill>
            <a:blip r:embed="rId2"/>
            <a:stretch/>
          </p:blipFill>
          <p:spPr>
            <a:xfrm>
              <a:off x="2325600" y="1050840"/>
              <a:ext cx="2060280" cy="2111040"/>
            </a:xfrm>
            <a:prstGeom prst="rect">
              <a:avLst/>
            </a:prstGeom>
            <a:ln w="11176">
              <a:noFill/>
            </a:ln>
          </p:spPr>
        </p:pic>
        <p:sp>
          <p:nvSpPr>
            <p:cNvPr id="169" name="Oval 21"/>
            <p:cNvSpPr/>
            <p:nvPr/>
          </p:nvSpPr>
          <p:spPr>
            <a:xfrm>
              <a:off x="3459240" y="3338640"/>
              <a:ext cx="301320" cy="301320"/>
            </a:xfrm>
            <a:prstGeom prst="ellipse">
              <a:avLst/>
            </a:prstGeom>
            <a:solidFill>
              <a:schemeClr val="tx1"/>
            </a:solidFill>
            <a:ln w="11176">
              <a:solidFill>
                <a:srgbClr val="1613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187720" y="1428840"/>
              <a:ext cx="2839680" cy="2468160"/>
            </a:xfrm>
            <a:custGeom>
              <a:avLst/>
              <a:gdLst>
                <a:gd name="textAreaLeft" fmla="*/ 0 w 2839680"/>
                <a:gd name="textAreaRight" fmla="*/ 2840040 w 2839680"/>
                <a:gd name="textAreaTop" fmla="*/ 0 h 2468160"/>
                <a:gd name="textAreaBottom" fmla="*/ 2468520 h 246816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gradFill rotWithShape="0">
              <a:gsLst>
                <a:gs pos="0">
                  <a:srgbClr val="c4c4c4"/>
                </a:gs>
                <a:gs pos="50000">
                  <a:srgbClr val="ffffff"/>
                </a:gs>
                <a:gs pos="100000">
                  <a:srgbClr val="c4c4c4"/>
                </a:gs>
              </a:gsLst>
              <a:lin ang="5400000"/>
            </a:gradFill>
            <a:ln w="9525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886120" y="2708280"/>
              <a:ext cx="1422000" cy="760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e-DE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Your</a:t>
              </a:r>
              <a:br>
                <a:rPr sz="2000"/>
              </a:br>
              <a:r>
                <a:rPr b="1" lang="de-DE" sz="2400" spc="-1" strike="noStrike">
                  <a:solidFill>
                    <a:srgbClr val="275881"/>
                  </a:solidFill>
                  <a:latin typeface="Calibri"/>
                  <a:ea typeface="宋体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 flipH="1" flipV="1">
              <a:off x="2371680" y="2363760"/>
              <a:ext cx="826920" cy="477720"/>
            </a:xfrm>
            <a:prstGeom prst="line">
              <a:avLst/>
            </a:prstGeom>
            <a:ln w="38100">
              <a:solidFill>
                <a:srgbClr val="9f9f9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4039920" y="2363760"/>
              <a:ext cx="827280" cy="477720"/>
            </a:xfrm>
            <a:prstGeom prst="line">
              <a:avLst/>
            </a:prstGeom>
            <a:ln w="38100">
              <a:solidFill>
                <a:srgbClr val="9f9f9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3617640" y="3503520"/>
              <a:ext cx="360" cy="960480"/>
            </a:xfrm>
            <a:prstGeom prst="line">
              <a:avLst/>
            </a:prstGeom>
            <a:ln w="38100">
              <a:solidFill>
                <a:srgbClr val="9f9f9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Rectangle 25"/>
          <p:cNvSpPr/>
          <p:nvPr/>
        </p:nvSpPr>
        <p:spPr>
          <a:xfrm flipH="1">
            <a:off x="1950480" y="4467240"/>
            <a:ext cx="3279240" cy="35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ktangel med afrundet, diagonalt hjørne 30"/>
          <p:cNvSpPr/>
          <p:nvPr/>
        </p:nvSpPr>
        <p:spPr>
          <a:xfrm>
            <a:off x="5724000" y="1222200"/>
            <a:ext cx="2808000" cy="3600000"/>
          </a:xfrm>
          <a:prstGeom prst="round2DiagRect">
            <a:avLst>
              <a:gd name="adj1" fmla="val 12279"/>
              <a:gd name="adj2" fmla="val 0"/>
            </a:avLst>
          </a:prstGeom>
          <a:solidFill>
            <a:schemeClr val="bg1">
              <a:alpha val="60000"/>
            </a:scheme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Go ahead and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Go ahead and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2"/>
          <p:cNvSpPr/>
          <p:nvPr/>
        </p:nvSpPr>
        <p:spPr>
          <a:xfrm>
            <a:off x="4788000" y="214200"/>
            <a:ext cx="3850920" cy="63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o ahead and replace it with y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"/>
          <p:cNvSpPr/>
          <p:nvPr/>
        </p:nvSpPr>
        <p:spPr>
          <a:xfrm>
            <a:off x="1221840" y="1575360"/>
            <a:ext cx="3281760" cy="3011040"/>
          </a:xfrm>
          <a:custGeom>
            <a:avLst/>
            <a:gdLst>
              <a:gd name="textAreaLeft" fmla="*/ 0 w 3281760"/>
              <a:gd name="textAreaRight" fmla="*/ 3282120 w 3281760"/>
              <a:gd name="textAreaTop" fmla="*/ 0 h 3011040"/>
              <a:gd name="textAreaBottom" fmla="*/ 3011400 h 3011040"/>
            </a:gdLst>
            <a:ahLst/>
            <a:rect l="textAreaLeft" t="textAreaTop" r="textAreaRight" b="textAreaBottom"/>
            <a:pathLst>
              <a:path w="10080" h="10138">
                <a:moveTo>
                  <a:pt x="8163" y="9972"/>
                </a:moveTo>
                <a:cubicBezTo>
                  <a:pt x="7963" y="10110"/>
                  <a:pt x="6117" y="6324"/>
                  <a:pt x="5087" y="6329"/>
                </a:cubicBezTo>
                <a:cubicBezTo>
                  <a:pt x="4057" y="6334"/>
                  <a:pt x="2184" y="10138"/>
                  <a:pt x="1984" y="10000"/>
                </a:cubicBezTo>
                <a:cubicBezTo>
                  <a:pt x="1784" y="9862"/>
                  <a:pt x="4210" y="6528"/>
                  <a:pt x="3886" y="5503"/>
                </a:cubicBezTo>
                <a:cubicBezTo>
                  <a:pt x="3562" y="4478"/>
                  <a:pt x="0" y="4128"/>
                  <a:pt x="40" y="3853"/>
                </a:cubicBezTo>
                <a:cubicBezTo>
                  <a:pt x="80" y="3578"/>
                  <a:pt x="3296" y="4494"/>
                  <a:pt x="4126" y="3852"/>
                </a:cubicBezTo>
                <a:cubicBezTo>
                  <a:pt x="4956" y="3210"/>
                  <a:pt x="4700" y="0"/>
                  <a:pt x="5020" y="0"/>
                </a:cubicBezTo>
                <a:cubicBezTo>
                  <a:pt x="5340" y="0"/>
                  <a:pt x="5210" y="3222"/>
                  <a:pt x="6047" y="3852"/>
                </a:cubicBezTo>
                <a:cubicBezTo>
                  <a:pt x="6884" y="4482"/>
                  <a:pt x="10000" y="3507"/>
                  <a:pt x="10040" y="3782"/>
                </a:cubicBezTo>
                <a:cubicBezTo>
                  <a:pt x="10080" y="4057"/>
                  <a:pt x="6600" y="4471"/>
                  <a:pt x="6287" y="5503"/>
                </a:cubicBezTo>
                <a:cubicBezTo>
                  <a:pt x="5974" y="6535"/>
                  <a:pt x="8363" y="9834"/>
                  <a:pt x="8163" y="9972"/>
                </a:cubicBezTo>
                <a:close/>
              </a:path>
            </a:pathLst>
          </a:custGeom>
          <a:solidFill>
            <a:schemeClr val="bg1">
              <a:alpha val="50000"/>
            </a:scheme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82550" h="120650"/>
            <a:bevelB prst="relaxedInset" w="3175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0" name="橢圓 8"/>
          <p:cNvSpPr/>
          <p:nvPr/>
        </p:nvSpPr>
        <p:spPr>
          <a:xfrm>
            <a:off x="2096280" y="1006560"/>
            <a:ext cx="1487880" cy="1467720"/>
          </a:xfrm>
          <a:prstGeom prst="ellipse">
            <a:avLst/>
          </a:pr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81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橢圓 9"/>
          <p:cNvSpPr/>
          <p:nvPr/>
        </p:nvSpPr>
        <p:spPr>
          <a:xfrm>
            <a:off x="608040" y="1983960"/>
            <a:ext cx="1487880" cy="1467720"/>
          </a:xfrm>
          <a:prstGeom prst="ellipse">
            <a:avLst/>
          </a:pr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convex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橢圓 10"/>
          <p:cNvSpPr/>
          <p:nvPr/>
        </p:nvSpPr>
        <p:spPr>
          <a:xfrm>
            <a:off x="3659760" y="1983960"/>
            <a:ext cx="1487880" cy="1467720"/>
          </a:xfrm>
          <a:prstGeom prst="ellipse">
            <a:avLst/>
          </a:prstGeom>
          <a:solidFill>
            <a:srgbClr val="990099">
              <a:alpha val="80000"/>
            </a:srgb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artDeco" w="82550" h="120650"/>
            <a:bevelB prst="relaxedInset" w="3175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lvl="2" indent="-216000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橢圓 11"/>
          <p:cNvSpPr/>
          <p:nvPr/>
        </p:nvSpPr>
        <p:spPr>
          <a:xfrm>
            <a:off x="3034440" y="3496320"/>
            <a:ext cx="1487880" cy="1467720"/>
          </a:xfrm>
          <a:prstGeom prst="ellipse">
            <a:avLst/>
          </a:prstGeom>
          <a:gradFill rotWithShape="0">
            <a:gsLst>
              <a:gs pos="0">
                <a:srgbClr val="d49e6c"/>
              </a:gs>
              <a:gs pos="100000">
                <a:srgbClr val="a65528"/>
              </a:gs>
            </a:gsLst>
            <a:lin ang="27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/>
            <a:bevelB w="0" h="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橢圓 12"/>
          <p:cNvSpPr/>
          <p:nvPr/>
        </p:nvSpPr>
        <p:spPr>
          <a:xfrm>
            <a:off x="1389600" y="3496320"/>
            <a:ext cx="1487880" cy="1467720"/>
          </a:xfrm>
          <a:prstGeom prst="ellipse">
            <a:avLst/>
          </a:prstGeom>
          <a:gradFill rotWithShape="0">
            <a:gsLst>
              <a:gs pos="10000">
                <a:srgbClr val="002774"/>
              </a:gs>
              <a:gs pos="100000">
                <a:srgbClr val="00dff6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convex"/>
            <a:bevelB w="0" h="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08040" y="52470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  <Words>443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6:29:54Z</dcterms:created>
  <dc:creator>lidan</dc:creator>
  <dc:description/>
  <dc:language>en-US</dc:language>
  <cp:lastModifiedBy>王玉清</cp:lastModifiedBy>
  <dcterms:modified xsi:type="dcterms:W3CDTF">2016-02-21T03:34:12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9</vt:r8>
  </property>
</Properties>
</file>