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B65-FDAF-4D38-B4FF-46F88827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F2E-F01C-456B-ABC6-43E80C62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037-9590-4D07-8861-09E18DF1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9FF-070F-4FD7-B5F0-725655BE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9259-A4D0-4776-903D-5A5B9260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05B9-BA45-4E8F-B580-BB4282F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B158-4A4B-4AF5-9A5E-E043216F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A14-9892-4C46-BB78-4F480011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FEA-0EEB-4E26-8285-B3E9AD90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BC0-0E95-4E9D-8C1E-55A207F6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FFC6-F75A-492D-ABB1-F1625A5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4EB-4A83-48A8-93E2-CE07DF29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17F5-B5E8-42C7-9413-A23651C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0BFE-8569-42DA-874D-6F569D3A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86FF-0A22-4A5F-A105-BD41A51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66F4-FF8C-4AEB-8BE9-2BB75D51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AC8D-AE8B-4422-BC43-5A25892C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F650-6A14-4505-8BE7-8676D7AD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40B7-7637-49E7-8F1D-7F3AA305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4F72-98C7-4E0C-9D0E-9A9578B5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5891-180B-4C8F-B7F0-FA5B92B3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1592-E579-4DEE-B851-D043E53A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A75-53F3-45C9-BA1A-2DABF5D0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1B10-2599-4421-A18F-FE580A7F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4D5C-BAF9-468F-869C-D7A8697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F3AC-1179-48E9-A620-EF7E4E6D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4344-A58C-4E83-9A64-7628F180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DC35-F7A8-4C19-9EF0-6DDA5E3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F389-0850-4652-BCD6-B77BEF45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C7DE-A570-44F1-A45A-9A37A21A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5BC-E77E-4366-925F-F5616AC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F78-3C69-41E7-AB97-71752840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573-5DBD-41F4-90F8-836461F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0D7-8E77-4C63-A779-F33E3E7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4EE-4EB5-4CB8-AA62-537836A8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7E1-5066-4B04-9F08-C1FBC17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F96-7AB3-47B1-8932-0E88C76D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4B2F-E783-447F-86FC-8A0A91CAF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58C5-BF6E-4DBD-8B4C-79606495E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"/>
          <p:cNvSpPr/>
          <p:nvPr/>
        </p:nvSpPr>
        <p:spPr>
          <a:xfrm>
            <a:off x="554040" y="662796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2048400" y="360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绿叶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707"/>
          <p:cNvSpPr/>
          <p:nvPr/>
        </p:nvSpPr>
        <p:spPr>
          <a:xfrm>
            <a:off x="2519280" y="1738440"/>
            <a:ext cx="4789440" cy="54108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08"/>
          <p:cNvSpPr/>
          <p:nvPr/>
        </p:nvSpPr>
        <p:spPr>
          <a:xfrm>
            <a:off x="2519280" y="23511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09"/>
          <p:cNvSpPr/>
          <p:nvPr/>
        </p:nvSpPr>
        <p:spPr>
          <a:xfrm>
            <a:off x="2519280" y="29638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710"/>
          <p:cNvSpPr txBox="1"/>
          <p:nvPr/>
        </p:nvSpPr>
        <p:spPr>
          <a:xfrm>
            <a:off x="2879640" y="19177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0" name="WordArt 711"/>
          <p:cNvSpPr txBox="1"/>
          <p:nvPr/>
        </p:nvSpPr>
        <p:spPr>
          <a:xfrm>
            <a:off x="2879640" y="253044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1" name="WordArt 712"/>
          <p:cNvSpPr txBox="1"/>
          <p:nvPr/>
        </p:nvSpPr>
        <p:spPr>
          <a:xfrm>
            <a:off x="2879640" y="3141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2" name="AutoShape 713"/>
          <p:cNvSpPr/>
          <p:nvPr/>
        </p:nvSpPr>
        <p:spPr>
          <a:xfrm>
            <a:off x="2519280" y="357336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714"/>
          <p:cNvSpPr txBox="1"/>
          <p:nvPr/>
        </p:nvSpPr>
        <p:spPr>
          <a:xfrm>
            <a:off x="2879640" y="3751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4" name="AutoShape 715"/>
          <p:cNvSpPr/>
          <p:nvPr/>
        </p:nvSpPr>
        <p:spPr>
          <a:xfrm>
            <a:off x="2519280" y="418608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16"/>
          <p:cNvSpPr txBox="1"/>
          <p:nvPr/>
        </p:nvSpPr>
        <p:spPr>
          <a:xfrm>
            <a:off x="2879640" y="4363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6" name="AutoShape 717"/>
          <p:cNvSpPr/>
          <p:nvPr/>
        </p:nvSpPr>
        <p:spPr>
          <a:xfrm>
            <a:off x="2519280" y="4797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718"/>
          <p:cNvSpPr txBox="1"/>
          <p:nvPr/>
        </p:nvSpPr>
        <p:spPr>
          <a:xfrm>
            <a:off x="2879640" y="4975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38" name="AutoShape 719"/>
          <p:cNvSpPr/>
          <p:nvPr/>
        </p:nvSpPr>
        <p:spPr>
          <a:xfrm>
            <a:off x="2519280" y="5410080"/>
            <a:ext cx="4789440" cy="54000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720"/>
          <p:cNvSpPr txBox="1"/>
          <p:nvPr/>
        </p:nvSpPr>
        <p:spPr>
          <a:xfrm>
            <a:off x="2879640" y="5587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40" name="Oval 722"/>
          <p:cNvSpPr/>
          <p:nvPr/>
        </p:nvSpPr>
        <p:spPr>
          <a:xfrm>
            <a:off x="1908000" y="1773360"/>
            <a:ext cx="46548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23"/>
          <p:cNvSpPr/>
          <p:nvPr/>
        </p:nvSpPr>
        <p:spPr>
          <a:xfrm>
            <a:off x="2073240" y="1782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0"/>
          <p:cNvGrpSpPr/>
          <p:nvPr/>
        </p:nvGrpSpPr>
        <p:grpSpPr>
          <a:xfrm>
            <a:off x="1908000" y="2386080"/>
            <a:ext cx="465480" cy="468360"/>
            <a:chOff x="1908000" y="2386080"/>
            <a:chExt cx="465480" cy="468360"/>
          </a:xfrm>
        </p:grpSpPr>
        <p:sp>
          <p:nvSpPr>
            <p:cNvPr id="143" name="Oval 725"/>
            <p:cNvSpPr/>
            <p:nvPr/>
          </p:nvSpPr>
          <p:spPr>
            <a:xfrm>
              <a:off x="1908000" y="2386080"/>
              <a:ext cx="46548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26"/>
            <p:cNvSpPr/>
            <p:nvPr/>
          </p:nvSpPr>
          <p:spPr>
            <a:xfrm>
              <a:off x="2073240" y="2395440"/>
              <a:ext cx="123840" cy="12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728"/>
          <p:cNvSpPr/>
          <p:nvPr/>
        </p:nvSpPr>
        <p:spPr>
          <a:xfrm>
            <a:off x="1908000" y="2997360"/>
            <a:ext cx="465480" cy="46800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29"/>
          <p:cNvSpPr/>
          <p:nvPr/>
        </p:nvSpPr>
        <p:spPr>
          <a:xfrm>
            <a:off x="2073240" y="3006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5"/>
          <p:cNvGrpSpPr/>
          <p:nvPr/>
        </p:nvGrpSpPr>
        <p:grpSpPr>
          <a:xfrm>
            <a:off x="1908000" y="3610080"/>
            <a:ext cx="465480" cy="468360"/>
            <a:chOff x="1908000" y="3610080"/>
            <a:chExt cx="465480" cy="468360"/>
          </a:xfrm>
        </p:grpSpPr>
        <p:sp>
          <p:nvSpPr>
            <p:cNvPr id="148" name="Oval 731"/>
            <p:cNvSpPr/>
            <p:nvPr/>
          </p:nvSpPr>
          <p:spPr>
            <a:xfrm>
              <a:off x="1908000" y="3610080"/>
              <a:ext cx="46548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32"/>
            <p:cNvSpPr/>
            <p:nvPr/>
          </p:nvSpPr>
          <p:spPr>
            <a:xfrm>
              <a:off x="2073240" y="3619440"/>
              <a:ext cx="123840" cy="12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734"/>
          <p:cNvSpPr/>
          <p:nvPr/>
        </p:nvSpPr>
        <p:spPr>
          <a:xfrm>
            <a:off x="1908000" y="4221000"/>
            <a:ext cx="46548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35"/>
          <p:cNvSpPr/>
          <p:nvPr/>
        </p:nvSpPr>
        <p:spPr>
          <a:xfrm>
            <a:off x="2073240" y="4230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0"/>
          <p:cNvGrpSpPr/>
          <p:nvPr/>
        </p:nvGrpSpPr>
        <p:grpSpPr>
          <a:xfrm>
            <a:off x="1908000" y="4834080"/>
            <a:ext cx="465480" cy="468000"/>
            <a:chOff x="1908000" y="4834080"/>
            <a:chExt cx="465480" cy="468000"/>
          </a:xfrm>
        </p:grpSpPr>
        <p:sp>
          <p:nvSpPr>
            <p:cNvPr id="153" name="Oval 737"/>
            <p:cNvSpPr/>
            <p:nvPr/>
          </p:nvSpPr>
          <p:spPr>
            <a:xfrm>
              <a:off x="1908000" y="4834080"/>
              <a:ext cx="465480" cy="468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38"/>
            <p:cNvSpPr/>
            <p:nvPr/>
          </p:nvSpPr>
          <p:spPr>
            <a:xfrm>
              <a:off x="2073240" y="4843440"/>
              <a:ext cx="123840" cy="12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Oval 740"/>
          <p:cNvSpPr/>
          <p:nvPr/>
        </p:nvSpPr>
        <p:spPr>
          <a:xfrm>
            <a:off x="1908000" y="5445000"/>
            <a:ext cx="46548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41"/>
          <p:cNvSpPr/>
          <p:nvPr/>
        </p:nvSpPr>
        <p:spPr>
          <a:xfrm>
            <a:off x="2073240" y="5454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3:36:32Z</dcterms:created>
  <dc:creator/>
  <dc:description/>
  <dc:language>en-US</dc:language>
  <cp:lastModifiedBy>王玉清</cp:lastModifiedBy>
  <dcterms:modified xsi:type="dcterms:W3CDTF">2016-02-21T03:37:36Z</dcterms:modified>
  <cp:revision>15</cp:revision>
  <dc:subject/>
  <dc:title>幻灯片 1</dc:title>
</cp:coreProperties>
</file>