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2C8-60B0-4B68-B8C0-D31D74DD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00C-2CC5-4A8A-AD16-34144661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3E4-3B4D-4006-AC65-FA051E56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21A-BD0F-4F57-B7C7-053B47E7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86F-919F-42BE-9AD1-AD99BE57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543-1F72-486C-B73C-3C0EA1E1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13C-127A-46BC-875A-C5F03843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6A5-A1A5-4A4A-B006-8F6A4B98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9C7-F637-44DD-A290-3F550B32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E1B-F4E2-416F-B4AC-D7FC6C8F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FD7-4D69-4BDF-81A5-A6C63496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45E-D08B-4E5E-98C4-DB1E7CA3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D1BA9F7-41D8-4039-A5F8-054CA295B7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979640" y="4149000"/>
            <a:ext cx="67312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3f0e2"/>
                </a:solidFill>
                <a:latin typeface="时尚中黑简体"/>
                <a:ea typeface="时尚中黑简体"/>
              </a:rPr>
              <a:t>千纸鹤通用</a:t>
            </a:r>
            <a:r>
              <a:rPr b="1" lang="en-US" sz="4000" spc="-1" strike="noStrike">
                <a:solidFill>
                  <a:srgbClr val="f3f0e2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f3f0e2"/>
                </a:solidFill>
                <a:latin typeface="时尚中黑简体"/>
                <a:ea typeface="时尚中黑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1440" y="430200"/>
            <a:ext cx="71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b38369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b38369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2664720" y="4213440"/>
            <a:ext cx="673128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solidFill>
                  <a:srgbClr val="f3f0e2"/>
                </a:solidFill>
                <a:latin typeface="时尚中黑简体"/>
                <a:ea typeface="时尚中黑简体"/>
              </a:rPr>
              <a:t>谢谢观看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  <Words>101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20T03:27:19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