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DC2-B259-4E84-8660-3B123FBE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1B7-C257-42C2-A60A-DC308EA0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642-901B-417D-881F-DA601D76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8DF-9D1D-4F75-92E7-A94C46E6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5579-E4B5-4379-BC16-71D1CA88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BBB2-3C48-4BD0-8A67-5BBFDF7B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66C3-F651-4161-BE90-EC13DFDE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39B4-82A1-44CD-993D-476B3166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6C2D-DCFC-4A5B-A533-2C034F65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597C-9002-432F-97A9-886B23C7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4D18-8CA3-4E13-805D-C2413C93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6E4-C218-489B-9CF2-A37FA596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6185-BC49-4C47-A21A-FABB5CFC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28C9-9950-4424-A358-3451D206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67DB-1430-4EBC-945B-9649D3D9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CED2-E734-4B66-97DF-CFB70D0F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26BE-822B-4EE4-A729-E2D65BF8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4DA-C60F-4201-A456-9D57F6A5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32C-2F7C-4924-9E4D-E78946B0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5FF-B487-4D69-8B0B-CAC67773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D72-BB44-40DD-A675-596EFD28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7CA-D33A-4265-9E16-1B3402ED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545-5DD4-4E52-82D8-7B61120A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9C3A-8DF2-43FE-8B02-3EE90547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3BBD-B7F2-4A07-980C-C61FA89AA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A98E-396F-494E-8591-C2D7ED8F6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987640" y="4292280"/>
            <a:ext cx="46404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42920" y="2781000"/>
            <a:ext cx="7561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人比花娇通用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7:25:32Z</dcterms:created>
  <dc:creator>keke</dc:creator>
  <dc:description/>
  <dc:language>en-US</dc:language>
  <cp:lastModifiedBy>王玉清</cp:lastModifiedBy>
  <dcterms:modified xsi:type="dcterms:W3CDTF">2016-02-22T03:44:4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