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19320" y="398700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0200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1932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4732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7496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0200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19320" y="398700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0200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1932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4732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7496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0200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2280" y="44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人际交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68360" y="1844640"/>
            <a:ext cx="8495640" cy="1512000"/>
            <a:chOff x="468360" y="1844640"/>
            <a:chExt cx="8495640" cy="1512000"/>
          </a:xfrm>
        </p:grpSpPr>
        <p:sp>
          <p:nvSpPr>
            <p:cNvPr id="266" name="AutoShape 5"/>
            <p:cNvSpPr/>
            <p:nvPr/>
          </p:nvSpPr>
          <p:spPr>
            <a:xfrm>
              <a:off x="851040" y="2041560"/>
              <a:ext cx="8112960" cy="119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25800"/>
                </a:gs>
                <a:gs pos="50000">
                  <a:srgbClr val="934300"/>
                </a:gs>
                <a:gs pos="100000">
                  <a:srgbClr val="c25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ffffff"/>
                  </a:solidFill>
                  <a:latin typeface="Arial"/>
                </a:rPr>
                <a:t>The Truth is our deep consciousness of our sin and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ffffff"/>
                  </a:solidFill>
                  <a:latin typeface="Arial"/>
                </a:rPr>
                <a:t>Our need for God’s righteousness in Chris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7" name="AutoShape 6"/>
            <p:cNvSpPr/>
            <p:nvPr/>
          </p:nvSpPr>
          <p:spPr>
            <a:xfrm>
              <a:off x="468360" y="1844640"/>
              <a:ext cx="735480" cy="1512000"/>
            </a:xfrm>
            <a:custGeom>
              <a:avLst/>
              <a:gdLst>
                <a:gd name="textAreaLeft" fmla="*/ 0 w 735480"/>
                <a:gd name="textAreaRight" fmla="*/ 735840 w 735480"/>
                <a:gd name="textAreaTop" fmla="*/ 0 h 1512000"/>
                <a:gd name="textAreaBottom" fmla="*/ 1512360 h 151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25800"/>
                </a:gs>
                <a:gs pos="100000">
                  <a:srgbClr val="5a2900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11280" y="3284640"/>
            <a:ext cx="7992360" cy="1007280"/>
            <a:chOff x="611280" y="3284640"/>
            <a:chExt cx="7992360" cy="1007280"/>
          </a:xfrm>
        </p:grpSpPr>
        <p:sp>
          <p:nvSpPr>
            <p:cNvPr id="269" name="AutoShape 8"/>
            <p:cNvSpPr/>
            <p:nvPr/>
          </p:nvSpPr>
          <p:spPr>
            <a:xfrm>
              <a:off x="929880" y="3401640"/>
              <a:ext cx="7673760" cy="79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bc04"/>
                </a:gs>
                <a:gs pos="50000">
                  <a:srgbClr val="b78e03"/>
                </a:gs>
                <a:gs pos="100000">
                  <a:srgbClr val="f2bc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0" name="AutoShape 9"/>
            <p:cNvSpPr/>
            <p:nvPr/>
          </p:nvSpPr>
          <p:spPr>
            <a:xfrm>
              <a:off x="611280" y="3284640"/>
              <a:ext cx="695880" cy="100728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1007280"/>
                <a:gd name="textAreaBottom" fmla="*/ 1007640 h 100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bc04"/>
                </a:gs>
                <a:gs pos="100000">
                  <a:srgbClr val="70570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11280" y="4437000"/>
            <a:ext cx="7920720" cy="902880"/>
            <a:chOff x="611280" y="4437000"/>
            <a:chExt cx="7920720" cy="902880"/>
          </a:xfrm>
        </p:grpSpPr>
        <p:sp>
          <p:nvSpPr>
            <p:cNvPr id="272" name="AutoShape 11"/>
            <p:cNvSpPr/>
            <p:nvPr/>
          </p:nvSpPr>
          <p:spPr>
            <a:xfrm>
              <a:off x="968040" y="4551120"/>
              <a:ext cx="7563960" cy="71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0000"/>
                </a:gs>
                <a:gs pos="50000">
                  <a:srgbClr val="cb0000"/>
                </a:gs>
                <a:gs pos="100000">
                  <a:srgbClr val="fe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3" name="AutoShape 12"/>
            <p:cNvSpPr/>
            <p:nvPr/>
          </p:nvSpPr>
          <p:spPr>
            <a:xfrm>
              <a:off x="611280" y="4437000"/>
              <a:ext cx="685800" cy="902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902880"/>
                <a:gd name="textAreaBottom" fmla="*/ 903240 h 90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0000"/>
                </a:gs>
                <a:gs pos="100000">
                  <a:srgbClr val="760000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55640" y="5445000"/>
            <a:ext cx="7848360" cy="831600"/>
            <a:chOff x="755640" y="5445000"/>
            <a:chExt cx="7848360" cy="831600"/>
          </a:xfrm>
        </p:grpSpPr>
        <p:sp>
          <p:nvSpPr>
            <p:cNvPr id="275" name="AutoShape 14"/>
            <p:cNvSpPr/>
            <p:nvPr/>
          </p:nvSpPr>
          <p:spPr>
            <a:xfrm>
              <a:off x="1055160" y="5544360"/>
              <a:ext cx="7548840" cy="65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7777"/>
                </a:gs>
                <a:gs pos="50000">
                  <a:srgbClr val="5a5a5a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6" name="AutoShape 15"/>
            <p:cNvSpPr/>
            <p:nvPr/>
          </p:nvSpPr>
          <p:spPr>
            <a:xfrm>
              <a:off x="755640" y="5445000"/>
              <a:ext cx="684360" cy="8316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373737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77" name="AutoShape 17"/>
          <p:cNvSpPr/>
          <p:nvPr/>
        </p:nvSpPr>
        <p:spPr>
          <a:xfrm>
            <a:off x="1403280" y="364500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If we say that we have no sin, we deceive ourselves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and the truth is not in us. 1 John 1:8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AutoShape 18"/>
          <p:cNvSpPr/>
          <p:nvPr/>
        </p:nvSpPr>
        <p:spPr>
          <a:xfrm>
            <a:off x="1403280" y="4724280"/>
            <a:ext cx="6913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Jam 3:14  But if in your heart you are jealous,bitter, and selfish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don't sin against the truth by boasting of your wisdom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AutoShape 19"/>
          <p:cNvSpPr/>
          <p:nvPr/>
        </p:nvSpPr>
        <p:spPr>
          <a:xfrm>
            <a:off x="1476360" y="5799240"/>
            <a:ext cx="698328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Th 2:12  The result is that all who have not believe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he truth, but have taken pleasure in sin, will be condem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Moments of Truth with Jes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Developing an Intimate Relationship with The Truth (Jesus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2Co 4:6-7  For God, who commanded the light to shine out of darkness,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hath shined in our hearts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to give the light of the knowledge of the glory of God in the face of Jesus Christ.  (7)  But we have this treasure in earthen vessels, that the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excellency of the power may be of God, and not of us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The Deceiver needs to be Revea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Jer 17:9-10  The heart is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deceitful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 above all things, and desperately wicked: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who can know it?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  (10)  I the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LORD search the heart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, I try the reins, even to give every man according to his ways, and according to the fruit of his doing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1Ki 8:38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 whatever prayer and supplication is made by any man, or by all your people Israel, who shall each know the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plague of his own heart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, and spread forth his hands toward this house: then hear in heaven, your dwelling place, and forgive, and do, and render to every man according to all his ways, whose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heart you know;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 (for you, even you only,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know the hearts of all the children of men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;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35240" y="1414440"/>
            <a:ext cx="5280120" cy="463680"/>
            <a:chOff x="2235240" y="1414440"/>
            <a:chExt cx="5280120" cy="463680"/>
          </a:xfrm>
        </p:grpSpPr>
        <p:sp>
          <p:nvSpPr>
            <p:cNvPr id="285" name="AutoShape 3"/>
            <p:cNvSpPr/>
            <p:nvPr/>
          </p:nvSpPr>
          <p:spPr>
            <a:xfrm>
              <a:off x="2473200" y="1474920"/>
              <a:ext cx="504216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25800"/>
                </a:gs>
                <a:gs pos="50000">
                  <a:srgbClr val="934300"/>
                </a:gs>
                <a:gs pos="100000">
                  <a:srgbClr val="c25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AutoShape 4"/>
            <p:cNvSpPr/>
            <p:nvPr/>
          </p:nvSpPr>
          <p:spPr>
            <a:xfrm>
              <a:off x="2235240" y="1414440"/>
              <a:ext cx="457200" cy="463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25800"/>
                </a:gs>
                <a:gs pos="100000">
                  <a:srgbClr val="5a2900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235240" y="2351160"/>
            <a:ext cx="5251320" cy="463320"/>
            <a:chOff x="2235240" y="2351160"/>
            <a:chExt cx="5251320" cy="463320"/>
          </a:xfrm>
        </p:grpSpPr>
        <p:sp>
          <p:nvSpPr>
            <p:cNvPr id="288" name="AutoShape 6"/>
            <p:cNvSpPr/>
            <p:nvPr/>
          </p:nvSpPr>
          <p:spPr>
            <a:xfrm>
              <a:off x="2444760" y="2404800"/>
              <a:ext cx="5041800" cy="36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bc04"/>
                </a:gs>
                <a:gs pos="50000">
                  <a:srgbClr val="b78e03"/>
                </a:gs>
                <a:gs pos="100000">
                  <a:srgbClr val="f2bc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9" name="AutoShape 7"/>
            <p:cNvSpPr/>
            <p:nvPr/>
          </p:nvSpPr>
          <p:spPr>
            <a:xfrm>
              <a:off x="2235240" y="235116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bc04"/>
                </a:gs>
                <a:gs pos="100000">
                  <a:srgbClr val="70570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35240" y="3359160"/>
            <a:ext cx="5280120" cy="463680"/>
            <a:chOff x="2235240" y="3359160"/>
            <a:chExt cx="5280120" cy="463680"/>
          </a:xfrm>
        </p:grpSpPr>
        <p:sp>
          <p:nvSpPr>
            <p:cNvPr id="291" name="AutoShape 9"/>
            <p:cNvSpPr/>
            <p:nvPr/>
          </p:nvSpPr>
          <p:spPr>
            <a:xfrm>
              <a:off x="2473200" y="3417840"/>
              <a:ext cx="504216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0000"/>
                </a:gs>
                <a:gs pos="50000">
                  <a:srgbClr val="cb0000"/>
                </a:gs>
                <a:gs pos="100000">
                  <a:srgbClr val="fe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2" name="AutoShape 10"/>
            <p:cNvSpPr/>
            <p:nvPr/>
          </p:nvSpPr>
          <p:spPr>
            <a:xfrm>
              <a:off x="2235240" y="3359160"/>
              <a:ext cx="457200" cy="463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0000"/>
                </a:gs>
                <a:gs pos="100000">
                  <a:srgbClr val="760000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235240" y="4295880"/>
            <a:ext cx="5241960" cy="463320"/>
            <a:chOff x="2235240" y="4295880"/>
            <a:chExt cx="5241960" cy="463320"/>
          </a:xfrm>
        </p:grpSpPr>
        <p:sp>
          <p:nvSpPr>
            <p:cNvPr id="294" name="AutoShape 12"/>
            <p:cNvSpPr/>
            <p:nvPr/>
          </p:nvSpPr>
          <p:spPr>
            <a:xfrm>
              <a:off x="2435400" y="4350960"/>
              <a:ext cx="504180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7777"/>
                </a:gs>
                <a:gs pos="50000">
                  <a:srgbClr val="5a5a5a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5" name="AutoShape 13"/>
            <p:cNvSpPr/>
            <p:nvPr/>
          </p:nvSpPr>
          <p:spPr>
            <a:xfrm>
              <a:off x="2235240" y="429588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373737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96" name="AutoShape 14"/>
          <p:cNvSpPr/>
          <p:nvPr/>
        </p:nvSpPr>
        <p:spPr>
          <a:xfrm>
            <a:off x="2762280" y="140652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at Nigh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2771640" y="2349360"/>
            <a:ext cx="324036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by a Wel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2752560" y="3375000"/>
            <a:ext cx="309564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in Cour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770200" y="4281480"/>
            <a:ext cx="309564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at Dinn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1744560" y="1357200"/>
            <a:ext cx="574920" cy="577800"/>
          </a:xfrm>
          <a:custGeom>
            <a:avLst/>
            <a:gdLst>
              <a:gd name="textAreaLeft" fmla="*/ 23760 w 574920"/>
              <a:gd name="textAreaRight" fmla="*/ 551160 w 574920"/>
              <a:gd name="textAreaTop" fmla="*/ 23760 h 577800"/>
              <a:gd name="textAreaBottom" fmla="*/ 554040 h 577800"/>
            </a:gdLst>
            <a:ahLst/>
            <a:rect l="textAreaLeft" t="textAreaTop" r="textAreaRight" b="textAreaBottom"/>
            <a:pathLst>
              <a:path w="21600" h="21708">
                <a:moveTo>
                  <a:pt x="3072" y="0"/>
                </a:moveTo>
                <a:arcTo wR="3072" hR="3072" stAng="16200000" swAng="-5400000"/>
                <a:lnTo>
                  <a:pt x="0" y="18636"/>
                </a:lnTo>
                <a:arcTo wR="3072" hR="3072" stAng="10800000" swAng="-5400000"/>
                <a:lnTo>
                  <a:pt x="18528" y="21708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44560" y="1357200"/>
            <a:ext cx="574920" cy="577800"/>
            <a:chOff x="1744560" y="1357200"/>
            <a:chExt cx="574920" cy="577800"/>
          </a:xfrm>
        </p:grpSpPr>
        <p:sp>
          <p:nvSpPr>
            <p:cNvPr id="302" name="Oval 20"/>
            <p:cNvSpPr/>
            <p:nvPr/>
          </p:nvSpPr>
          <p:spPr>
            <a:xfrm>
              <a:off x="1744560" y="1357200"/>
              <a:ext cx="574920" cy="577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3" name="Oval 21"/>
            <p:cNvSpPr/>
            <p:nvPr/>
          </p:nvSpPr>
          <p:spPr>
            <a:xfrm>
              <a:off x="1752840" y="1357920"/>
              <a:ext cx="560520" cy="562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04" name="Oval 22"/>
          <p:cNvSpPr/>
          <p:nvPr/>
        </p:nvSpPr>
        <p:spPr>
          <a:xfrm flipH="1">
            <a:off x="1789920" y="1409760"/>
            <a:ext cx="482760" cy="460440"/>
          </a:xfrm>
          <a:prstGeom prst="ellipse">
            <a:avLst/>
          </a:pr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 flipH="1">
            <a:off x="1838160" y="1419120"/>
            <a:ext cx="378000" cy="304920"/>
          </a:xfrm>
          <a:prstGeom prst="ellipse">
            <a:avLst/>
          </a:prstGeom>
          <a:gradFill rotWithShape="0">
            <a:gsLst>
              <a:gs pos="0">
                <a:srgbClr val="f6e7da"/>
              </a:gs>
              <a:gs pos="100000">
                <a:srgbClr val="c25800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1744560" y="1359000"/>
            <a:ext cx="576360" cy="53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44560" y="2293920"/>
            <a:ext cx="576360" cy="577800"/>
            <a:chOff x="1744560" y="2293920"/>
            <a:chExt cx="576360" cy="577800"/>
          </a:xfrm>
        </p:grpSpPr>
        <p:sp>
          <p:nvSpPr>
            <p:cNvPr id="308" name="AutoShape 26"/>
            <p:cNvSpPr/>
            <p:nvPr/>
          </p:nvSpPr>
          <p:spPr>
            <a:xfrm>
              <a:off x="1747800" y="2295360"/>
              <a:ext cx="571320" cy="576360"/>
            </a:xfrm>
            <a:custGeom>
              <a:avLst/>
              <a:gdLst>
                <a:gd name="textAreaLeft" fmla="*/ 23760 w 571320"/>
                <a:gd name="textAreaRight" fmla="*/ 547560 w 5713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90">
                  <a:moveTo>
                    <a:pt x="3072" y="0"/>
                  </a:moveTo>
                  <a:arcTo wR="3072" hR="3072" stAng="16200000" swAng="-5400000"/>
                  <a:lnTo>
                    <a:pt x="0" y="18718"/>
                  </a:lnTo>
                  <a:arcTo wR="3072" hR="3072" stAng="10800000" swAng="-5400000"/>
                  <a:lnTo>
                    <a:pt x="18528" y="21790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747800" y="2293920"/>
              <a:ext cx="569880" cy="577800"/>
              <a:chOff x="1747800" y="2293920"/>
              <a:chExt cx="569880" cy="577800"/>
            </a:xfrm>
          </p:grpSpPr>
          <p:sp>
            <p:nvSpPr>
              <p:cNvPr id="310" name="Oval 28"/>
              <p:cNvSpPr/>
              <p:nvPr/>
            </p:nvSpPr>
            <p:spPr>
              <a:xfrm>
                <a:off x="1747800" y="2293920"/>
                <a:ext cx="569880" cy="5778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1" name="Oval 29"/>
              <p:cNvSpPr/>
              <p:nvPr/>
            </p:nvSpPr>
            <p:spPr>
              <a:xfrm>
                <a:off x="1756080" y="2294640"/>
                <a:ext cx="555480" cy="5626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12" name="Oval 30"/>
            <p:cNvSpPr/>
            <p:nvPr/>
          </p:nvSpPr>
          <p:spPr>
            <a:xfrm flipH="1">
              <a:off x="1793160" y="2346480"/>
              <a:ext cx="479160" cy="463320"/>
            </a:xfrm>
            <a:prstGeom prst="ellipse">
              <a:avLst/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3" name="Oval 31"/>
            <p:cNvSpPr/>
            <p:nvPr/>
          </p:nvSpPr>
          <p:spPr>
            <a:xfrm flipH="1">
              <a:off x="1838160" y="2359080"/>
              <a:ext cx="387360" cy="303120"/>
            </a:xfrm>
            <a:prstGeom prst="ellipse">
              <a:avLst/>
            </a:prstGeom>
            <a:gradFill rotWithShape="0">
              <a:gsLst>
                <a:gs pos="0">
                  <a:srgbClr val="fcf2cd"/>
                </a:gs>
                <a:gs pos="100000">
                  <a:srgbClr val="f2bc04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4" name="AutoShape 32"/>
            <p:cNvSpPr/>
            <p:nvPr/>
          </p:nvSpPr>
          <p:spPr>
            <a:xfrm>
              <a:off x="1744560" y="2295360"/>
              <a:ext cx="576360" cy="54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44560" y="3303720"/>
            <a:ext cx="576360" cy="577800"/>
            <a:chOff x="1744560" y="3303720"/>
            <a:chExt cx="576360" cy="577800"/>
          </a:xfrm>
        </p:grpSpPr>
        <p:sp>
          <p:nvSpPr>
            <p:cNvPr id="316" name="AutoShape 34"/>
            <p:cNvSpPr/>
            <p:nvPr/>
          </p:nvSpPr>
          <p:spPr>
            <a:xfrm>
              <a:off x="1746000" y="3303720"/>
              <a:ext cx="573120" cy="57636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22">
                  <a:moveTo>
                    <a:pt x="3072" y="0"/>
                  </a:moveTo>
                  <a:arcTo wR="3072" hR="3072" stAng="16200000" swAng="-5400000"/>
                  <a:lnTo>
                    <a:pt x="0" y="18650"/>
                  </a:lnTo>
                  <a:arcTo wR="3072" hR="3072" stAng="10800000" swAng="-5400000"/>
                  <a:lnTo>
                    <a:pt x="18528" y="21722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1744560" y="3303720"/>
              <a:ext cx="573120" cy="577800"/>
              <a:chOff x="1744560" y="3303720"/>
              <a:chExt cx="573120" cy="577800"/>
            </a:xfrm>
          </p:grpSpPr>
          <p:sp>
            <p:nvSpPr>
              <p:cNvPr id="318" name="Oval 36"/>
              <p:cNvSpPr/>
              <p:nvPr/>
            </p:nvSpPr>
            <p:spPr>
              <a:xfrm>
                <a:off x="1744560" y="3303720"/>
                <a:ext cx="573120" cy="5778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9" name="Oval 37"/>
              <p:cNvSpPr/>
              <p:nvPr/>
            </p:nvSpPr>
            <p:spPr>
              <a:xfrm>
                <a:off x="1752840" y="3304440"/>
                <a:ext cx="558720" cy="5626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20" name="Oval 38"/>
            <p:cNvSpPr/>
            <p:nvPr/>
          </p:nvSpPr>
          <p:spPr>
            <a:xfrm flipH="1">
              <a:off x="1790640" y="3356280"/>
              <a:ext cx="480960" cy="465120"/>
            </a:xfrm>
            <a:prstGeom prst="ellipse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1" name="Oval 39"/>
            <p:cNvSpPr/>
            <p:nvPr/>
          </p:nvSpPr>
          <p:spPr>
            <a:xfrm flipH="1">
              <a:off x="1834200" y="3368880"/>
              <a:ext cx="390600" cy="303120"/>
            </a:xfrm>
            <a:prstGeom prst="ellipse">
              <a:avLst/>
            </a:prstGeom>
            <a:gradFill rotWithShape="0">
              <a:gsLst>
                <a:gs pos="0">
                  <a:srgbClr val="ffaaaa"/>
                </a:gs>
                <a:gs pos="100000">
                  <a:srgbClr val="fe000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2" name="AutoShape 40"/>
            <p:cNvSpPr/>
            <p:nvPr/>
          </p:nvSpPr>
          <p:spPr>
            <a:xfrm>
              <a:off x="1744560" y="3303720"/>
              <a:ext cx="576360" cy="539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44560" y="4238640"/>
            <a:ext cx="576360" cy="577800"/>
            <a:chOff x="1744560" y="4238640"/>
            <a:chExt cx="576360" cy="577800"/>
          </a:xfrm>
        </p:grpSpPr>
        <p:sp>
          <p:nvSpPr>
            <p:cNvPr id="324" name="AutoShape 42"/>
            <p:cNvSpPr/>
            <p:nvPr/>
          </p:nvSpPr>
          <p:spPr>
            <a:xfrm>
              <a:off x="1746000" y="4240080"/>
              <a:ext cx="573120" cy="57636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22">
                  <a:moveTo>
                    <a:pt x="3072" y="0"/>
                  </a:moveTo>
                  <a:arcTo wR="3072" hR="3072" stAng="16200000" swAng="-5400000"/>
                  <a:lnTo>
                    <a:pt x="0" y="18650"/>
                  </a:lnTo>
                  <a:arcTo wR="3072" hR="3072" stAng="10800000" swAng="-5400000"/>
                  <a:lnTo>
                    <a:pt x="18528" y="21722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44560" y="4238640"/>
              <a:ext cx="571680" cy="577800"/>
              <a:chOff x="1744560" y="4238640"/>
              <a:chExt cx="571680" cy="57780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1744560" y="4238640"/>
                <a:ext cx="571680" cy="577800"/>
                <a:chOff x="1744560" y="4238640"/>
                <a:chExt cx="571680" cy="577800"/>
              </a:xfrm>
            </p:grpSpPr>
            <p:sp>
              <p:nvSpPr>
                <p:cNvPr id="327" name="Oval 45"/>
                <p:cNvSpPr/>
                <p:nvPr/>
              </p:nvSpPr>
              <p:spPr>
                <a:xfrm>
                  <a:off x="1744560" y="4238640"/>
                  <a:ext cx="571680" cy="57780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6"/>
                <p:cNvSpPr/>
                <p:nvPr/>
              </p:nvSpPr>
              <p:spPr>
                <a:xfrm>
                  <a:off x="1752840" y="4239360"/>
                  <a:ext cx="557280" cy="56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Oval 47"/>
              <p:cNvSpPr/>
              <p:nvPr/>
            </p:nvSpPr>
            <p:spPr>
              <a:xfrm flipH="1">
                <a:off x="1789560" y="4291560"/>
                <a:ext cx="480600" cy="46260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30" name="Oval 48"/>
            <p:cNvSpPr/>
            <p:nvPr/>
          </p:nvSpPr>
          <p:spPr>
            <a:xfrm flipH="1">
              <a:off x="1834920" y="4305240"/>
              <a:ext cx="387360" cy="30312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777777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1" name="AutoShape 49"/>
            <p:cNvSpPr/>
            <p:nvPr/>
          </p:nvSpPr>
          <p:spPr>
            <a:xfrm>
              <a:off x="1744560" y="4240080"/>
              <a:ext cx="576360" cy="54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182680" y="5068800"/>
            <a:ext cx="5280120" cy="463680"/>
            <a:chOff x="2182680" y="5068800"/>
            <a:chExt cx="5280120" cy="463680"/>
          </a:xfrm>
        </p:grpSpPr>
        <p:sp>
          <p:nvSpPr>
            <p:cNvPr id="333" name="AutoShape 51"/>
            <p:cNvSpPr/>
            <p:nvPr/>
          </p:nvSpPr>
          <p:spPr>
            <a:xfrm>
              <a:off x="2420640" y="5127480"/>
              <a:ext cx="5042160" cy="365040"/>
            </a:xfrm>
            <a:prstGeom prst="roundRect">
              <a:avLst>
                <a:gd name="adj" fmla="val 5000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4" name="AutoShape 52"/>
            <p:cNvSpPr/>
            <p:nvPr/>
          </p:nvSpPr>
          <p:spPr>
            <a:xfrm>
              <a:off x="2182680" y="5068800"/>
              <a:ext cx="457200" cy="463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35" name="AutoShape 53"/>
          <p:cNvSpPr/>
          <p:nvPr/>
        </p:nvSpPr>
        <p:spPr>
          <a:xfrm>
            <a:off x="2700360" y="5084640"/>
            <a:ext cx="3095640" cy="466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Moment outside the Temp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692360" y="5013360"/>
            <a:ext cx="576000" cy="577800"/>
            <a:chOff x="1692360" y="5013360"/>
            <a:chExt cx="576000" cy="577800"/>
          </a:xfrm>
        </p:grpSpPr>
        <p:sp>
          <p:nvSpPr>
            <p:cNvPr id="337" name="AutoShape 55"/>
            <p:cNvSpPr/>
            <p:nvPr/>
          </p:nvSpPr>
          <p:spPr>
            <a:xfrm>
              <a:off x="1693440" y="5013360"/>
              <a:ext cx="572760" cy="576360"/>
            </a:xfrm>
            <a:custGeom>
              <a:avLst/>
              <a:gdLst>
                <a:gd name="textAreaLeft" fmla="*/ 23760 w 572760"/>
                <a:gd name="textAreaRight" fmla="*/ 549000 w 57276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36">
                  <a:moveTo>
                    <a:pt x="3072" y="0"/>
                  </a:moveTo>
                  <a:arcTo wR="3072" hR="3072" stAng="16200000" swAng="-5400000"/>
                  <a:lnTo>
                    <a:pt x="0" y="18664"/>
                  </a:lnTo>
                  <a:arcTo wR="3072" hR="3072" stAng="10800000" swAng="-5400000"/>
                  <a:lnTo>
                    <a:pt x="18528" y="21736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692360" y="5013360"/>
              <a:ext cx="572760" cy="577800"/>
              <a:chOff x="1692360" y="5013360"/>
              <a:chExt cx="572760" cy="577800"/>
            </a:xfrm>
          </p:grpSpPr>
          <p:sp>
            <p:nvSpPr>
              <p:cNvPr id="339" name="Oval 57"/>
              <p:cNvSpPr/>
              <p:nvPr/>
            </p:nvSpPr>
            <p:spPr>
              <a:xfrm>
                <a:off x="1692360" y="5013360"/>
                <a:ext cx="572760" cy="5778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0" name="Oval 58"/>
              <p:cNvSpPr/>
              <p:nvPr/>
            </p:nvSpPr>
            <p:spPr>
              <a:xfrm>
                <a:off x="1700640" y="5014080"/>
                <a:ext cx="558360" cy="5626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41" name="Oval 59"/>
            <p:cNvSpPr/>
            <p:nvPr/>
          </p:nvSpPr>
          <p:spPr>
            <a:xfrm flipH="1">
              <a:off x="1737360" y="5065920"/>
              <a:ext cx="480600" cy="465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2" name="Oval 60"/>
            <p:cNvSpPr/>
            <p:nvPr/>
          </p:nvSpPr>
          <p:spPr>
            <a:xfrm flipH="1">
              <a:off x="1782360" y="5078520"/>
              <a:ext cx="390240" cy="303120"/>
            </a:xfrm>
            <a:prstGeom prst="ellipse">
              <a:avLst/>
            </a:prstGeom>
            <a:solidFill>
              <a:srgbClr val="00ffff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3" name="AutoShape 61"/>
            <p:cNvSpPr/>
            <p:nvPr/>
          </p:nvSpPr>
          <p:spPr>
            <a:xfrm>
              <a:off x="1692360" y="5013360"/>
              <a:ext cx="576000" cy="539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Moments to Consi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3"/>
          <p:cNvSpPr txBox="1"/>
          <p:nvPr/>
        </p:nvSpPr>
        <p:spPr>
          <a:xfrm>
            <a:off x="304920" y="4578480"/>
            <a:ext cx="37447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57200" y="3265560"/>
            <a:ext cx="1440000" cy="1439640"/>
            <a:chOff x="457200" y="3265560"/>
            <a:chExt cx="1440000" cy="1439640"/>
          </a:xfrm>
        </p:grpSpPr>
        <p:sp>
          <p:nvSpPr>
            <p:cNvPr id="79" name="AutoShape 3"/>
            <p:cNvSpPr/>
            <p:nvPr/>
          </p:nvSpPr>
          <p:spPr>
            <a:xfrm>
              <a:off x="457200" y="3265560"/>
              <a:ext cx="1440000" cy="1439640"/>
            </a:xfrm>
            <a:prstGeom prst="roundRect">
              <a:avLst>
                <a:gd name="adj" fmla="val 14222"/>
              </a:avLst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Way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" name="AutoShape 4"/>
            <p:cNvSpPr/>
            <p:nvPr/>
          </p:nvSpPr>
          <p:spPr>
            <a:xfrm>
              <a:off x="477720" y="3285720"/>
              <a:ext cx="1397160" cy="35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f0c7"/>
                </a:gs>
                <a:gs pos="100000">
                  <a:srgbClr val="f2bc0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1" name="AutoShape 5"/>
          <p:cNvSpPr/>
          <p:nvPr/>
        </p:nvSpPr>
        <p:spPr>
          <a:xfrm>
            <a:off x="816120" y="2374920"/>
            <a:ext cx="2663640" cy="151272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 flipV="1">
            <a:off x="3121200" y="4174560"/>
            <a:ext cx="2663640" cy="143964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5281560" y="2374920"/>
            <a:ext cx="2664000" cy="151272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 rot="16200000">
            <a:off x="4737960" y="3029760"/>
            <a:ext cx="140004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Gulim"/>
              </a:rPr>
              <a:t>Jesus saith unto him, I am the way, the truth, and the life: no man cometh unto the Father, but by m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Gulim"/>
              </a:rPr>
              <a:t>John 14:6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689200" y="3240000"/>
            <a:ext cx="1440000" cy="1440000"/>
            <a:chOff x="2689200" y="3240000"/>
            <a:chExt cx="1440000" cy="1440000"/>
          </a:xfrm>
        </p:grpSpPr>
        <p:sp>
          <p:nvSpPr>
            <p:cNvPr id="86" name="AutoShape 12"/>
            <p:cNvSpPr/>
            <p:nvPr/>
          </p:nvSpPr>
          <p:spPr>
            <a:xfrm>
              <a:off x="2689200" y="32400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Truth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" name="AutoShape 13"/>
            <p:cNvSpPr/>
            <p:nvPr/>
          </p:nvSpPr>
          <p:spPr>
            <a:xfrm>
              <a:off x="2709720" y="32605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1dac6"/>
                </a:gs>
                <a:gs pos="100000">
                  <a:srgbClr val="c258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849920" y="3166920"/>
            <a:ext cx="1439640" cy="1440000"/>
            <a:chOff x="4849920" y="3166920"/>
            <a:chExt cx="1439640" cy="1440000"/>
          </a:xfrm>
        </p:grpSpPr>
        <p:sp>
          <p:nvSpPr>
            <p:cNvPr id="89" name="AutoShape 15"/>
            <p:cNvSpPr/>
            <p:nvPr/>
          </p:nvSpPr>
          <p:spPr>
            <a:xfrm>
              <a:off x="4849920" y="3166920"/>
              <a:ext cx="1439640" cy="1440000"/>
            </a:xfrm>
            <a:custGeom>
              <a:avLst/>
              <a:gdLst>
                <a:gd name="textAreaLeft" fmla="*/ 59760 w 1439640"/>
                <a:gd name="textAreaRight" fmla="*/ 1379880 w 1439640"/>
                <a:gd name="textAreaTop" fmla="*/ 59760 h 1440000"/>
                <a:gd name="textAreaBottom" fmla="*/ 13802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3072" y="0"/>
                  </a:moveTo>
                  <a:arcTo wR="3072" hR="3072" stAng="16200000" swAng="-5400000"/>
                  <a:lnTo>
                    <a:pt x="0" y="18533"/>
                  </a:lnTo>
                  <a:arcTo wR="3072" hR="3072" stAng="10800000" swAng="-5400000"/>
                  <a:lnTo>
                    <a:pt x="18528" y="21605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Lif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" name="AutoShape 16"/>
            <p:cNvSpPr/>
            <p:nvPr/>
          </p:nvSpPr>
          <p:spPr>
            <a:xfrm>
              <a:off x="4870080" y="3187440"/>
              <a:ext cx="139680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6c6"/>
                </a:gs>
                <a:gs pos="100000">
                  <a:srgbClr val="fe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297560" y="3240000"/>
            <a:ext cx="1440000" cy="1440000"/>
            <a:chOff x="7297560" y="3240000"/>
            <a:chExt cx="1440000" cy="1440000"/>
          </a:xfrm>
        </p:grpSpPr>
        <p:sp>
          <p:nvSpPr>
            <p:cNvPr id="92" name="AutoShape 18"/>
            <p:cNvSpPr/>
            <p:nvPr/>
          </p:nvSpPr>
          <p:spPr>
            <a:xfrm>
              <a:off x="7297560" y="32400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Fathe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" name="AutoShape 19"/>
            <p:cNvSpPr/>
            <p:nvPr/>
          </p:nvSpPr>
          <p:spPr>
            <a:xfrm>
              <a:off x="7318080" y="32605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e1e1"/>
                </a:gs>
                <a:gs pos="100000">
                  <a:srgbClr val="77777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What is Trut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57200" y="3265560"/>
            <a:ext cx="1440000" cy="1439640"/>
            <a:chOff x="457200" y="3265560"/>
            <a:chExt cx="1440000" cy="1439640"/>
          </a:xfrm>
        </p:grpSpPr>
        <p:sp>
          <p:nvSpPr>
            <p:cNvPr id="96" name="AutoShape 3"/>
            <p:cNvSpPr/>
            <p:nvPr/>
          </p:nvSpPr>
          <p:spPr>
            <a:xfrm>
              <a:off x="457200" y="3265560"/>
              <a:ext cx="1440000" cy="1439640"/>
            </a:xfrm>
            <a:prstGeom prst="roundRect">
              <a:avLst>
                <a:gd name="adj" fmla="val 14222"/>
              </a:avLst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Way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477720" y="3285720"/>
              <a:ext cx="1397160" cy="35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f0c7"/>
                </a:gs>
                <a:gs pos="100000">
                  <a:srgbClr val="f2bc0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" name="AutoShape 5"/>
          <p:cNvSpPr/>
          <p:nvPr/>
        </p:nvSpPr>
        <p:spPr>
          <a:xfrm>
            <a:off x="816120" y="2374920"/>
            <a:ext cx="2663640" cy="151272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 flipV="1">
            <a:off x="3121200" y="4174560"/>
            <a:ext cx="2663640" cy="143964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5281560" y="2374920"/>
            <a:ext cx="2664000" cy="151272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 rot="16200000">
            <a:off x="4737960" y="3029760"/>
            <a:ext cx="140004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Gulim"/>
              </a:rPr>
              <a:t>Jesus saith unto him, I am the way, the truth, and the life: no man cometh unto the Father, but by m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Gulim"/>
              </a:rPr>
              <a:t>John 14:6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689200" y="3240000"/>
            <a:ext cx="1440000" cy="1440000"/>
            <a:chOff x="2689200" y="3240000"/>
            <a:chExt cx="1440000" cy="1440000"/>
          </a:xfrm>
        </p:grpSpPr>
        <p:sp>
          <p:nvSpPr>
            <p:cNvPr id="103" name="AutoShape 10"/>
            <p:cNvSpPr/>
            <p:nvPr/>
          </p:nvSpPr>
          <p:spPr>
            <a:xfrm>
              <a:off x="2689200" y="32400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Flaming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Swor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709720" y="32605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1dac6"/>
                </a:gs>
                <a:gs pos="100000">
                  <a:srgbClr val="c258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9920" y="3166920"/>
            <a:ext cx="1439640" cy="1440000"/>
            <a:chOff x="4849920" y="3166920"/>
            <a:chExt cx="1439640" cy="1440000"/>
          </a:xfrm>
        </p:grpSpPr>
        <p:sp>
          <p:nvSpPr>
            <p:cNvPr id="106" name="AutoShape 13"/>
            <p:cNvSpPr/>
            <p:nvPr/>
          </p:nvSpPr>
          <p:spPr>
            <a:xfrm>
              <a:off x="4849920" y="3166920"/>
              <a:ext cx="1439640" cy="1440000"/>
            </a:xfrm>
            <a:custGeom>
              <a:avLst/>
              <a:gdLst>
                <a:gd name="textAreaLeft" fmla="*/ 59760 w 1439640"/>
                <a:gd name="textAreaRight" fmla="*/ 1379880 w 1439640"/>
                <a:gd name="textAreaTop" fmla="*/ 59760 h 1440000"/>
                <a:gd name="textAreaBottom" fmla="*/ 13802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3072" y="0"/>
                  </a:moveTo>
                  <a:arcTo wR="3072" hR="3072" stAng="16200000" swAng="-5400000"/>
                  <a:lnTo>
                    <a:pt x="0" y="18533"/>
                  </a:lnTo>
                  <a:arcTo wR="3072" hR="3072" stAng="10800000" swAng="-5400000"/>
                  <a:lnTo>
                    <a:pt x="18528" y="21605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ree of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Lif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7" name="AutoShape 14"/>
            <p:cNvSpPr/>
            <p:nvPr/>
          </p:nvSpPr>
          <p:spPr>
            <a:xfrm>
              <a:off x="4870080" y="3187440"/>
              <a:ext cx="139680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6c6"/>
                </a:gs>
                <a:gs pos="100000">
                  <a:srgbClr val="fe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297560" y="3240000"/>
            <a:ext cx="1440000" cy="1440000"/>
            <a:chOff x="7297560" y="3240000"/>
            <a:chExt cx="1440000" cy="1440000"/>
          </a:xfrm>
        </p:grpSpPr>
        <p:sp>
          <p:nvSpPr>
            <p:cNvPr id="109" name="AutoShape 16"/>
            <p:cNvSpPr/>
            <p:nvPr/>
          </p:nvSpPr>
          <p:spPr>
            <a:xfrm>
              <a:off x="7297560" y="32400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Fathe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0" name="AutoShape 17"/>
            <p:cNvSpPr/>
            <p:nvPr/>
          </p:nvSpPr>
          <p:spPr>
            <a:xfrm>
              <a:off x="7318080" y="32605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e1e1"/>
                </a:gs>
                <a:gs pos="100000">
                  <a:srgbClr val="77777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What is Trut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 rot="16200000">
            <a:off x="3941280" y="-1269360"/>
            <a:ext cx="155196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  <a:ea typeface="Gulim"/>
              </a:rPr>
              <a:t>Gen 3:24  So he drove out the man; and he placed at the east of the garden of Eden Cherubims, and a flaming sword which turned every way, to keep the way of the tree of lif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 flipH="1" flipV="1">
            <a:off x="4688640" y="5366520"/>
            <a:ext cx="2305080" cy="863640"/>
          </a:xfrm>
          <a:custGeom>
            <a:avLst/>
            <a:gdLst>
              <a:gd name="textAreaLeft" fmla="*/ 442080 w 2305080"/>
              <a:gd name="textAreaRight" fmla="*/ 1632600 w 23050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 flipV="1">
            <a:off x="2098800" y="5366520"/>
            <a:ext cx="2303280" cy="863640"/>
          </a:xfrm>
          <a:custGeom>
            <a:avLst/>
            <a:gdLst>
              <a:gd name="textAreaLeft" fmla="*/ 441720 w 2303280"/>
              <a:gd name="textAreaRight" fmla="*/ 1631160 w 2303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 flipH="1">
            <a:off x="4688640" y="1909800"/>
            <a:ext cx="2305080" cy="1008000"/>
          </a:xfrm>
          <a:custGeom>
            <a:avLst/>
            <a:gdLst>
              <a:gd name="textAreaLeft" fmla="*/ 442080 w 2305080"/>
              <a:gd name="textAreaRight" fmla="*/ 1632600 w 230508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098800" y="1909800"/>
            <a:ext cx="2303280" cy="1008000"/>
          </a:xfrm>
          <a:custGeom>
            <a:avLst/>
            <a:gdLst>
              <a:gd name="textAreaLeft" fmla="*/ 441720 w 2303280"/>
              <a:gd name="textAreaRight" fmla="*/ 1631160 w 230328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237480" y="2780640"/>
            <a:ext cx="2532600" cy="2440800"/>
            <a:chOff x="3237480" y="2780640"/>
            <a:chExt cx="2532600" cy="2440800"/>
          </a:xfrm>
        </p:grpSpPr>
        <p:sp>
          <p:nvSpPr>
            <p:cNvPr id="118" name="Freeform 7"/>
            <p:cNvSpPr/>
            <p:nvPr/>
          </p:nvSpPr>
          <p:spPr>
            <a:xfrm rot="2296200">
              <a:off x="4006080" y="2965320"/>
              <a:ext cx="926640" cy="948960"/>
            </a:xfrm>
            <a:prstGeom prst="pie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" name="Freeform 8"/>
            <p:cNvSpPr/>
            <p:nvPr/>
          </p:nvSpPr>
          <p:spPr>
            <a:xfrm rot="4096200">
              <a:off x="4345200" y="3012840"/>
              <a:ext cx="928440" cy="94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000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" name="AutoShape 9"/>
            <p:cNvSpPr/>
            <p:nvPr/>
          </p:nvSpPr>
          <p:spPr>
            <a:xfrm rot="20296200">
              <a:off x="4735440" y="3496680"/>
              <a:ext cx="798120" cy="503640"/>
            </a:xfrm>
            <a:prstGeom prst="triangle">
              <a:avLst>
                <a:gd name="adj" fmla="val 50000"/>
              </a:avLst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" name="Freeform 10"/>
            <p:cNvSpPr/>
            <p:nvPr/>
          </p:nvSpPr>
          <p:spPr>
            <a:xfrm rot="9496200">
              <a:off x="4686480" y="3894480"/>
              <a:ext cx="944640" cy="930600"/>
            </a:xfrm>
            <a:prstGeom prst="pie">
              <a:avLst/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" name="Freeform 11"/>
            <p:cNvSpPr/>
            <p:nvPr/>
          </p:nvSpPr>
          <p:spPr>
            <a:xfrm rot="11296200">
              <a:off x="4468320" y="4159440"/>
              <a:ext cx="928440" cy="94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58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" name="AutoShape 12"/>
            <p:cNvSpPr/>
            <p:nvPr/>
          </p:nvSpPr>
          <p:spPr>
            <a:xfrm rot="5896200">
              <a:off x="4113360" y="4567680"/>
              <a:ext cx="798120" cy="452520"/>
            </a:xfrm>
            <a:prstGeom prst="triangle">
              <a:avLst>
                <a:gd name="adj" fmla="val 50000"/>
              </a:avLst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16696800">
              <a:off x="3548160" y="4035600"/>
              <a:ext cx="944640" cy="930600"/>
            </a:xfrm>
            <a:prstGeom prst="pie">
              <a:avLst/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" name="Freeform 14"/>
            <p:cNvSpPr/>
            <p:nvPr/>
          </p:nvSpPr>
          <p:spPr>
            <a:xfrm rot="18496200">
              <a:off x="3422520" y="3715560"/>
              <a:ext cx="944640" cy="93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bc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 rot="13096800">
              <a:off x="3542760" y="3509640"/>
              <a:ext cx="784800" cy="515880"/>
            </a:xfrm>
            <a:prstGeom prst="triangle">
              <a:avLst>
                <a:gd name="adj" fmla="val 50000"/>
              </a:avLst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7" name="Text Box 16"/>
          <p:cNvSpPr/>
          <p:nvPr/>
        </p:nvSpPr>
        <p:spPr>
          <a:xfrm rot="16200000">
            <a:off x="4230360" y="261792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Truth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3880" y="4324320"/>
            <a:ext cx="1440000" cy="1440000"/>
            <a:chOff x="1523880" y="4324320"/>
            <a:chExt cx="1440000" cy="1440000"/>
          </a:xfrm>
        </p:grpSpPr>
        <p:sp>
          <p:nvSpPr>
            <p:cNvPr id="129" name="AutoShape 18"/>
            <p:cNvSpPr/>
            <p:nvPr/>
          </p:nvSpPr>
          <p:spPr>
            <a:xfrm>
              <a:off x="1523880" y="432432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Jesu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" name="AutoShape 19"/>
            <p:cNvSpPr/>
            <p:nvPr/>
          </p:nvSpPr>
          <p:spPr>
            <a:xfrm>
              <a:off x="1544400" y="434484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f0c7"/>
                </a:gs>
                <a:gs pos="100000">
                  <a:srgbClr val="f2bc0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059520" y="4251240"/>
            <a:ext cx="1440000" cy="1440000"/>
            <a:chOff x="6059520" y="4251240"/>
            <a:chExt cx="1440000" cy="1440000"/>
          </a:xfrm>
        </p:grpSpPr>
        <p:sp>
          <p:nvSpPr>
            <p:cNvPr id="132" name="AutoShape 21"/>
            <p:cNvSpPr/>
            <p:nvPr/>
          </p:nvSpPr>
          <p:spPr>
            <a:xfrm>
              <a:off x="6059520" y="425124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Wor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Of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" name="AutoShape 22"/>
            <p:cNvSpPr/>
            <p:nvPr/>
          </p:nvSpPr>
          <p:spPr>
            <a:xfrm>
              <a:off x="6080040" y="427176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1dac6"/>
                </a:gs>
                <a:gs pos="100000">
                  <a:srgbClr val="c258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523880" y="2522520"/>
            <a:ext cx="1440000" cy="1440000"/>
            <a:chOff x="1523880" y="2522520"/>
            <a:chExt cx="1440000" cy="1440000"/>
          </a:xfrm>
        </p:grpSpPr>
        <p:sp>
          <p:nvSpPr>
            <p:cNvPr id="135" name="AutoShape 24"/>
            <p:cNvSpPr/>
            <p:nvPr/>
          </p:nvSpPr>
          <p:spPr>
            <a:xfrm>
              <a:off x="1523880" y="252252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Spiri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" name="AutoShape 25"/>
            <p:cNvSpPr/>
            <p:nvPr/>
          </p:nvSpPr>
          <p:spPr>
            <a:xfrm>
              <a:off x="1544400" y="254304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6c6"/>
                </a:gs>
                <a:gs pos="100000">
                  <a:srgbClr val="fe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059520" y="2451240"/>
            <a:ext cx="1440000" cy="1439640"/>
            <a:chOff x="6059520" y="2451240"/>
            <a:chExt cx="1440000" cy="1439640"/>
          </a:xfrm>
        </p:grpSpPr>
        <p:sp>
          <p:nvSpPr>
            <p:cNvPr id="138" name="AutoShape 27"/>
            <p:cNvSpPr/>
            <p:nvPr/>
          </p:nvSpPr>
          <p:spPr>
            <a:xfrm>
              <a:off x="6059520" y="2451240"/>
              <a:ext cx="1440000" cy="1439640"/>
            </a:xfrm>
            <a:prstGeom prst="roundRect">
              <a:avLst>
                <a:gd name="adj" fmla="val 1422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Flaming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Swor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" name="AutoShape 28"/>
            <p:cNvSpPr/>
            <p:nvPr/>
          </p:nvSpPr>
          <p:spPr>
            <a:xfrm>
              <a:off x="6080040" y="2471400"/>
              <a:ext cx="1397160" cy="35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e1e1"/>
                </a:gs>
                <a:gs pos="100000">
                  <a:srgbClr val="77777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Understanding the L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Joh 8:44-45  You are of your father, the devil, and you want to do the desires of your father. He was a murderer from the beginning, and doesn't stand in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the truth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because there is no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truth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 in him. When he speaks a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lie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he speaks on his own; for he is a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liar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and its father.   (45)  But because I tell the truth, you dont believe me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Rev 20:2  He seized the dragon, the old serpent, which is the devil and Satan, who deceives the whole inhabited earth, and bound him for a thousand years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7885080" y="1413000"/>
            <a:ext cx="1008000" cy="503280"/>
          </a:xfrm>
          <a:prstGeom prst="ellipse">
            <a:avLst/>
          </a:prstGeom>
          <a:solidFill>
            <a:srgbClr val="f2bc04">
              <a:alpha val="3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4932360" y="5013360"/>
            <a:ext cx="934920" cy="431640"/>
          </a:xfrm>
          <a:prstGeom prst="ellipse">
            <a:avLst/>
          </a:prstGeom>
          <a:solidFill>
            <a:srgbClr val="f2bc04">
              <a:alpha val="3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 flipH="1">
            <a:off x="5580000" y="1916280"/>
            <a:ext cx="2664000" cy="309708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6372360" y="3429000"/>
            <a:ext cx="647640" cy="431640"/>
          </a:xfrm>
          <a:prstGeom prst="ellipse">
            <a:avLst/>
          </a:prstGeom>
          <a:solidFill>
            <a:srgbClr val="f2bc04">
              <a:alpha val="3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1547640" y="5373720"/>
            <a:ext cx="1511640" cy="431640"/>
          </a:xfrm>
          <a:prstGeom prst="ellipse">
            <a:avLst/>
          </a:prstGeom>
          <a:solidFill>
            <a:srgbClr val="f2bc04">
              <a:alpha val="3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 flipH="1">
            <a:off x="2771640" y="3716280"/>
            <a:ext cx="3600720" cy="16574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3"/>
          <p:cNvSpPr/>
          <p:nvPr/>
        </p:nvSpPr>
        <p:spPr>
          <a:xfrm rot="5400000">
            <a:off x="2590560" y="4259160"/>
            <a:ext cx="2590560" cy="122256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0c0c0"/>
              </a:gs>
              <a:gs pos="100000">
                <a:srgbClr val="f5f5f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643280" y="3718080"/>
            <a:ext cx="2374920" cy="2374920"/>
            <a:chOff x="4643280" y="3718080"/>
            <a:chExt cx="2374920" cy="2374920"/>
          </a:xfrm>
        </p:grpSpPr>
        <p:grpSp>
          <p:nvGrpSpPr>
            <p:cNvPr id="150" name=""/>
            <p:cNvGrpSpPr/>
            <p:nvPr/>
          </p:nvGrpSpPr>
          <p:grpSpPr>
            <a:xfrm>
              <a:off x="4646520" y="3718080"/>
              <a:ext cx="2371320" cy="2371320"/>
              <a:chOff x="4646520" y="3718080"/>
              <a:chExt cx="2371320" cy="2371320"/>
            </a:xfrm>
          </p:grpSpPr>
          <p:sp>
            <p:nvSpPr>
              <p:cNvPr id="151" name="AutoShape 7"/>
              <p:cNvSpPr/>
              <p:nvPr/>
            </p:nvSpPr>
            <p:spPr>
              <a:xfrm>
                <a:off x="4646520" y="3718080"/>
                <a:ext cx="2371320" cy="2371320"/>
              </a:xfrm>
              <a:prstGeom prst="roundRect">
                <a:avLst>
                  <a:gd name="adj" fmla="val 14222"/>
                </a:avLst>
              </a:prstGeom>
              <a:solidFill>
                <a:srgbClr val="c2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2" name="AutoShape 8"/>
              <p:cNvSpPr/>
              <p:nvPr/>
            </p:nvSpPr>
            <p:spPr>
              <a:xfrm>
                <a:off x="4680000" y="3751560"/>
                <a:ext cx="2300760" cy="577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1dac6"/>
                  </a:gs>
                  <a:gs pos="100000">
                    <a:srgbClr val="c258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643280" y="3726000"/>
              <a:ext cx="2371680" cy="2367000"/>
              <a:chOff x="4643280" y="3726000"/>
              <a:chExt cx="2371680" cy="2367000"/>
            </a:xfrm>
          </p:grpSpPr>
          <p:sp>
            <p:nvSpPr>
              <p:cNvPr id="154" name="Oval 10"/>
              <p:cNvSpPr/>
              <p:nvPr/>
            </p:nvSpPr>
            <p:spPr>
              <a:xfrm>
                <a:off x="4643280" y="3726000"/>
                <a:ext cx="2371680" cy="23670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5" name="Oval 11"/>
              <p:cNvSpPr/>
              <p:nvPr/>
            </p:nvSpPr>
            <p:spPr>
              <a:xfrm>
                <a:off x="4677480" y="3729240"/>
                <a:ext cx="2311560" cy="23050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56" name="Oval 12"/>
            <p:cNvSpPr/>
            <p:nvPr/>
          </p:nvSpPr>
          <p:spPr>
            <a:xfrm flipH="1">
              <a:off x="4832280" y="3943440"/>
              <a:ext cx="1992240" cy="1886040"/>
            </a:xfrm>
            <a:prstGeom prst="ellipse">
              <a:avLst/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 flipH="1">
              <a:off x="5018760" y="4000680"/>
              <a:ext cx="1614600" cy="1244520"/>
            </a:xfrm>
            <a:prstGeom prst="ellipse">
              <a:avLst/>
            </a:prstGeom>
            <a:gradFill rotWithShape="0">
              <a:gsLst>
                <a:gs pos="0">
                  <a:srgbClr val="e7bc99"/>
                </a:gs>
                <a:gs pos="100000">
                  <a:srgbClr val="c2580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4643280" y="4151520"/>
              <a:ext cx="23749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The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Lie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619280" y="2997360"/>
            <a:ext cx="1682640" cy="1614240"/>
            <a:chOff x="1619280" y="2997360"/>
            <a:chExt cx="1682640" cy="1614240"/>
          </a:xfrm>
        </p:grpSpPr>
        <p:sp>
          <p:nvSpPr>
            <p:cNvPr id="160" name="Oval 49"/>
            <p:cNvSpPr/>
            <p:nvPr/>
          </p:nvSpPr>
          <p:spPr>
            <a:xfrm>
              <a:off x="1619280" y="2997360"/>
              <a:ext cx="1682640" cy="16142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Oval 50"/>
            <p:cNvSpPr/>
            <p:nvPr/>
          </p:nvSpPr>
          <p:spPr>
            <a:xfrm>
              <a:off x="1643760" y="2999520"/>
              <a:ext cx="1640160" cy="157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2" name="Oval 51"/>
          <p:cNvSpPr/>
          <p:nvPr/>
        </p:nvSpPr>
        <p:spPr>
          <a:xfrm flipH="1">
            <a:off x="1754280" y="3143160"/>
            <a:ext cx="1412640" cy="129060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Oval 52"/>
          <p:cNvSpPr/>
          <p:nvPr/>
        </p:nvSpPr>
        <p:spPr>
          <a:xfrm flipH="1">
            <a:off x="1886040" y="3184560"/>
            <a:ext cx="1146240" cy="84924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777777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Rectangle 53"/>
          <p:cNvSpPr/>
          <p:nvPr/>
        </p:nvSpPr>
        <p:spPr>
          <a:xfrm>
            <a:off x="1619280" y="3284640"/>
            <a:ext cx="16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Not go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o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Di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4870440"/>
            <a:ext cx="1652760" cy="1584360"/>
            <a:chOff x="1547640" y="4870440"/>
            <a:chExt cx="1652760" cy="1584360"/>
          </a:xfrm>
        </p:grpSpPr>
        <p:sp>
          <p:nvSpPr>
            <p:cNvPr id="166" name="Oval 64"/>
            <p:cNvSpPr/>
            <p:nvPr/>
          </p:nvSpPr>
          <p:spPr>
            <a:xfrm>
              <a:off x="1547640" y="4870440"/>
              <a:ext cx="1652760" cy="1584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Oval 65"/>
            <p:cNvSpPr/>
            <p:nvPr/>
          </p:nvSpPr>
          <p:spPr>
            <a:xfrm>
              <a:off x="1571400" y="4872600"/>
              <a:ext cx="1611000" cy="1542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8" name="Oval 66"/>
          <p:cNvSpPr/>
          <p:nvPr/>
        </p:nvSpPr>
        <p:spPr>
          <a:xfrm flipH="1">
            <a:off x="1681200" y="5014800"/>
            <a:ext cx="1388880" cy="1270080"/>
          </a:xfrm>
          <a:prstGeom prst="ellipse">
            <a:avLst/>
          </a:prstGeom>
          <a:solidFill>
            <a:srgbClr val="f2b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Oval 67"/>
          <p:cNvSpPr/>
          <p:nvPr/>
        </p:nvSpPr>
        <p:spPr>
          <a:xfrm flipH="1">
            <a:off x="1809720" y="5049720"/>
            <a:ext cx="1122480" cy="835200"/>
          </a:xfrm>
          <a:prstGeom prst="ellipse">
            <a:avLst/>
          </a:prstGeom>
          <a:gradFill rotWithShape="0">
            <a:gsLst>
              <a:gs pos="0">
                <a:srgbClr val="fbe9ab"/>
              </a:gs>
              <a:gs pos="100000">
                <a:srgbClr val="f2bc04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Rectangle 68"/>
          <p:cNvSpPr/>
          <p:nvPr/>
        </p:nvSpPr>
        <p:spPr>
          <a:xfrm>
            <a:off x="1809720" y="5367240"/>
            <a:ext cx="1119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Rectangle 69"/>
          <p:cNvSpPr/>
          <p:nvPr/>
        </p:nvSpPr>
        <p:spPr>
          <a:xfrm>
            <a:off x="1619280" y="5229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 ca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Be lik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Go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Text Box 70"/>
          <p:cNvSpPr/>
          <p:nvPr/>
        </p:nvSpPr>
        <p:spPr>
          <a:xfrm rot="16200000">
            <a:off x="3520800" y="-993960"/>
            <a:ext cx="210060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The serpent said to the woman, 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  <a:ea typeface="Gulim"/>
              </a:rPr>
              <a:t>You wont surely die</a:t>
            </a:r>
            <a:r>
              <a:rPr b="1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, for God knows that in the day you eat it, your eyes will be opened, and 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  <a:ea typeface="Gulim"/>
              </a:rPr>
              <a:t>you will be like God</a:t>
            </a:r>
            <a:r>
              <a:rPr b="1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, knowing good and evil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Gen 3:4-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AutoShape 71"/>
          <p:cNvSpPr/>
          <p:nvPr/>
        </p:nvSpPr>
        <p:spPr>
          <a:xfrm rot="16200000">
            <a:off x="2600280" y="4184280"/>
            <a:ext cx="2590920" cy="122220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0c0c0"/>
              </a:gs>
              <a:gs pos="100000">
                <a:srgbClr val="f5f5f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53000" y="3643200"/>
            <a:ext cx="2374920" cy="2374920"/>
            <a:chOff x="4653000" y="3643200"/>
            <a:chExt cx="2374920" cy="2374920"/>
          </a:xfrm>
        </p:grpSpPr>
        <p:grpSp>
          <p:nvGrpSpPr>
            <p:cNvPr id="175" name=""/>
            <p:cNvGrpSpPr/>
            <p:nvPr/>
          </p:nvGrpSpPr>
          <p:grpSpPr>
            <a:xfrm>
              <a:off x="4656240" y="3643200"/>
              <a:ext cx="2371320" cy="2371320"/>
              <a:chOff x="4656240" y="3643200"/>
              <a:chExt cx="2371320" cy="2371320"/>
            </a:xfrm>
          </p:grpSpPr>
          <p:sp>
            <p:nvSpPr>
              <p:cNvPr id="176" name="AutoShape 74"/>
              <p:cNvSpPr/>
              <p:nvPr/>
            </p:nvSpPr>
            <p:spPr>
              <a:xfrm>
                <a:off x="4656240" y="3643200"/>
                <a:ext cx="2371320" cy="2371320"/>
              </a:xfrm>
              <a:prstGeom prst="roundRect">
                <a:avLst>
                  <a:gd name="adj" fmla="val 14222"/>
                </a:avLst>
              </a:prstGeom>
              <a:solidFill>
                <a:srgbClr val="c2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7" name="AutoShape 75"/>
              <p:cNvSpPr/>
              <p:nvPr/>
            </p:nvSpPr>
            <p:spPr>
              <a:xfrm>
                <a:off x="4689720" y="3676680"/>
                <a:ext cx="2300760" cy="577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1dac6"/>
                  </a:gs>
                  <a:gs pos="100000">
                    <a:srgbClr val="c258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653000" y="3651120"/>
              <a:ext cx="2371680" cy="2367000"/>
              <a:chOff x="4653000" y="3651120"/>
              <a:chExt cx="2371680" cy="2367000"/>
            </a:xfrm>
          </p:grpSpPr>
          <p:sp>
            <p:nvSpPr>
              <p:cNvPr id="179" name="Oval 77"/>
              <p:cNvSpPr/>
              <p:nvPr/>
            </p:nvSpPr>
            <p:spPr>
              <a:xfrm>
                <a:off x="4653000" y="3651120"/>
                <a:ext cx="2371680" cy="23670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0" name="Oval 78"/>
              <p:cNvSpPr/>
              <p:nvPr/>
            </p:nvSpPr>
            <p:spPr>
              <a:xfrm>
                <a:off x="4687200" y="3654360"/>
                <a:ext cx="2311560" cy="23050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1" name="Oval 79"/>
            <p:cNvSpPr/>
            <p:nvPr/>
          </p:nvSpPr>
          <p:spPr>
            <a:xfrm flipH="1">
              <a:off x="4842000" y="3868560"/>
              <a:ext cx="1992240" cy="1886040"/>
            </a:xfrm>
            <a:prstGeom prst="ellipse">
              <a:avLst/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Oval 80"/>
            <p:cNvSpPr/>
            <p:nvPr/>
          </p:nvSpPr>
          <p:spPr>
            <a:xfrm flipH="1">
              <a:off x="5028480" y="3925800"/>
              <a:ext cx="1614600" cy="1244520"/>
            </a:xfrm>
            <a:prstGeom prst="ellipse">
              <a:avLst/>
            </a:prstGeom>
            <a:gradFill rotWithShape="0">
              <a:gsLst>
                <a:gs pos="0">
                  <a:srgbClr val="e7bc99"/>
                </a:gs>
                <a:gs pos="100000">
                  <a:srgbClr val="c2580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" name="Rectangle 81"/>
            <p:cNvSpPr/>
            <p:nvPr/>
          </p:nvSpPr>
          <p:spPr>
            <a:xfrm>
              <a:off x="4653000" y="4076640"/>
              <a:ext cx="23749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The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Truth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628640" y="2922480"/>
            <a:ext cx="1683000" cy="1614600"/>
            <a:chOff x="1628640" y="2922480"/>
            <a:chExt cx="1683000" cy="1614600"/>
          </a:xfrm>
        </p:grpSpPr>
        <p:sp>
          <p:nvSpPr>
            <p:cNvPr id="185" name="Oval 83"/>
            <p:cNvSpPr/>
            <p:nvPr/>
          </p:nvSpPr>
          <p:spPr>
            <a:xfrm>
              <a:off x="1628640" y="2922480"/>
              <a:ext cx="1683000" cy="1614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" name="Oval 84"/>
            <p:cNvSpPr/>
            <p:nvPr/>
          </p:nvSpPr>
          <p:spPr>
            <a:xfrm>
              <a:off x="1653120" y="2924640"/>
              <a:ext cx="1640520" cy="1572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7" name="Oval 85"/>
          <p:cNvSpPr/>
          <p:nvPr/>
        </p:nvSpPr>
        <p:spPr>
          <a:xfrm flipH="1">
            <a:off x="1762920" y="3068640"/>
            <a:ext cx="1413000" cy="129060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Oval 86"/>
          <p:cNvSpPr/>
          <p:nvPr/>
        </p:nvSpPr>
        <p:spPr>
          <a:xfrm flipH="1">
            <a:off x="1895400" y="3110040"/>
            <a:ext cx="1146240" cy="84924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777777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Rectangle 87"/>
          <p:cNvSpPr/>
          <p:nvPr/>
        </p:nvSpPr>
        <p:spPr>
          <a:xfrm>
            <a:off x="1628640" y="3209760"/>
            <a:ext cx="16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A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Dy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557360" y="4795920"/>
            <a:ext cx="1652400" cy="1584360"/>
            <a:chOff x="1557360" y="4795920"/>
            <a:chExt cx="1652400" cy="1584360"/>
          </a:xfrm>
        </p:grpSpPr>
        <p:sp>
          <p:nvSpPr>
            <p:cNvPr id="191" name="Oval 89"/>
            <p:cNvSpPr/>
            <p:nvPr/>
          </p:nvSpPr>
          <p:spPr>
            <a:xfrm>
              <a:off x="1557360" y="4795920"/>
              <a:ext cx="1652400" cy="1584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" name="Oval 90"/>
            <p:cNvSpPr/>
            <p:nvPr/>
          </p:nvSpPr>
          <p:spPr>
            <a:xfrm>
              <a:off x="1581120" y="4798080"/>
              <a:ext cx="1610640" cy="1542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93" name="Oval 91"/>
          <p:cNvSpPr/>
          <p:nvPr/>
        </p:nvSpPr>
        <p:spPr>
          <a:xfrm flipH="1">
            <a:off x="1689840" y="4940280"/>
            <a:ext cx="1389240" cy="1270080"/>
          </a:xfrm>
          <a:prstGeom prst="ellipse">
            <a:avLst/>
          </a:prstGeom>
          <a:solidFill>
            <a:srgbClr val="f2b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Oval 92"/>
          <p:cNvSpPr/>
          <p:nvPr/>
        </p:nvSpPr>
        <p:spPr>
          <a:xfrm flipH="1">
            <a:off x="1818720" y="4975200"/>
            <a:ext cx="1122120" cy="835200"/>
          </a:xfrm>
          <a:prstGeom prst="ellipse">
            <a:avLst/>
          </a:prstGeom>
          <a:gradFill rotWithShape="0">
            <a:gsLst>
              <a:gs pos="0">
                <a:srgbClr val="fbe9ab"/>
              </a:gs>
              <a:gs pos="100000">
                <a:srgbClr val="f2bc04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Rectangle 93"/>
          <p:cNvSpPr/>
          <p:nvPr/>
        </p:nvSpPr>
        <p:spPr>
          <a:xfrm>
            <a:off x="1819440" y="5292720"/>
            <a:ext cx="1118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Rectangle 94"/>
          <p:cNvSpPr/>
          <p:nvPr/>
        </p:nvSpPr>
        <p:spPr>
          <a:xfrm>
            <a:off x="1628640" y="51544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Nee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Go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The Lie and the Tru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7091280" y="3578400"/>
            <a:ext cx="1440000" cy="2314440"/>
            <a:chOff x="7091280" y="3578400"/>
            <a:chExt cx="1440000" cy="2314440"/>
          </a:xfrm>
        </p:grpSpPr>
        <p:sp>
          <p:nvSpPr>
            <p:cNvPr id="199" name="AutoShape 3"/>
            <p:cNvSpPr/>
            <p:nvPr/>
          </p:nvSpPr>
          <p:spPr>
            <a:xfrm>
              <a:off x="7091280" y="3578400"/>
              <a:ext cx="1440000" cy="2314440"/>
            </a:xfrm>
            <a:custGeom>
              <a:avLst/>
              <a:gdLst>
                <a:gd name="textAreaLeft" fmla="*/ 57600 w 1440000"/>
                <a:gd name="textAreaRight" fmla="*/ 1382400 w 1440000"/>
                <a:gd name="textAreaTop" fmla="*/ 57600 h 2314440"/>
                <a:gd name="textAreaBottom" fmla="*/ 2256840 h 2314440"/>
              </a:gdLst>
              <a:ahLst/>
              <a:rect l="textAreaLeft" t="textAreaTop" r="textAreaRight" b="textAreaBottom"/>
              <a:pathLst>
                <a:path w="21600" h="34713">
                  <a:moveTo>
                    <a:pt x="2953" y="0"/>
                  </a:moveTo>
                  <a:arcTo wR="2953" hR="2953" stAng="16200000" swAng="-5400000"/>
                  <a:lnTo>
                    <a:pt x="0" y="31760"/>
                  </a:lnTo>
                  <a:arcTo wR="2953" hR="2953" stAng="10800000" swAng="-5400000"/>
                  <a:lnTo>
                    <a:pt x="18647" y="34713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0" name="AutoShape 4"/>
            <p:cNvSpPr/>
            <p:nvPr/>
          </p:nvSpPr>
          <p:spPr>
            <a:xfrm rot="10800000">
              <a:off x="7100280" y="3587400"/>
              <a:ext cx="1419480" cy="1008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932360" y="3568680"/>
            <a:ext cx="1440000" cy="2314440"/>
            <a:chOff x="4932360" y="3568680"/>
            <a:chExt cx="1440000" cy="2314440"/>
          </a:xfrm>
        </p:grpSpPr>
        <p:sp>
          <p:nvSpPr>
            <p:cNvPr id="202" name="AutoShape 6"/>
            <p:cNvSpPr/>
            <p:nvPr/>
          </p:nvSpPr>
          <p:spPr>
            <a:xfrm>
              <a:off x="4932360" y="3568680"/>
              <a:ext cx="1440000" cy="2314440"/>
            </a:xfrm>
            <a:custGeom>
              <a:avLst/>
              <a:gdLst>
                <a:gd name="textAreaLeft" fmla="*/ 57600 w 1440000"/>
                <a:gd name="textAreaRight" fmla="*/ 1382400 w 1440000"/>
                <a:gd name="textAreaTop" fmla="*/ 57600 h 2314440"/>
                <a:gd name="textAreaBottom" fmla="*/ 2256840 h 2314440"/>
              </a:gdLst>
              <a:ahLst/>
              <a:rect l="textAreaLeft" t="textAreaTop" r="textAreaRight" b="textAreaBottom"/>
              <a:pathLst>
                <a:path w="21600" h="34713">
                  <a:moveTo>
                    <a:pt x="2953" y="0"/>
                  </a:moveTo>
                  <a:arcTo wR="2953" hR="2953" stAng="16200000" swAng="-5400000"/>
                  <a:lnTo>
                    <a:pt x="0" y="31760"/>
                  </a:lnTo>
                  <a:arcTo wR="2953" hR="2953" stAng="10800000" swAng="-5400000"/>
                  <a:lnTo>
                    <a:pt x="18647" y="34713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" name="AutoShape 7"/>
            <p:cNvSpPr/>
            <p:nvPr/>
          </p:nvSpPr>
          <p:spPr>
            <a:xfrm rot="10800000">
              <a:off x="4941360" y="3577680"/>
              <a:ext cx="1419480" cy="1008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00360" y="3568680"/>
            <a:ext cx="1440000" cy="2314440"/>
            <a:chOff x="2700360" y="3568680"/>
            <a:chExt cx="1440000" cy="2314440"/>
          </a:xfrm>
        </p:grpSpPr>
        <p:sp>
          <p:nvSpPr>
            <p:cNvPr id="205" name="AutoShape 9"/>
            <p:cNvSpPr/>
            <p:nvPr/>
          </p:nvSpPr>
          <p:spPr>
            <a:xfrm>
              <a:off x="2700360" y="3568680"/>
              <a:ext cx="1440000" cy="2314440"/>
            </a:xfrm>
            <a:custGeom>
              <a:avLst/>
              <a:gdLst>
                <a:gd name="textAreaLeft" fmla="*/ 57600 w 1440000"/>
                <a:gd name="textAreaRight" fmla="*/ 1382400 w 1440000"/>
                <a:gd name="textAreaTop" fmla="*/ 57600 h 2314440"/>
                <a:gd name="textAreaBottom" fmla="*/ 2256840 h 2314440"/>
              </a:gdLst>
              <a:ahLst/>
              <a:rect l="textAreaLeft" t="textAreaTop" r="textAreaRight" b="textAreaBottom"/>
              <a:pathLst>
                <a:path w="21600" h="34713">
                  <a:moveTo>
                    <a:pt x="2953" y="0"/>
                  </a:moveTo>
                  <a:arcTo wR="2953" hR="2953" stAng="16200000" swAng="-5400000"/>
                  <a:lnTo>
                    <a:pt x="0" y="31760"/>
                  </a:lnTo>
                  <a:arcTo wR="2953" hR="2953" stAng="10800000" swAng="-5400000"/>
                  <a:lnTo>
                    <a:pt x="18647" y="34713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 rot="10800000">
              <a:off x="2709360" y="3577680"/>
              <a:ext cx="1419480" cy="1008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1440" y="3559320"/>
            <a:ext cx="1439640" cy="2314440"/>
            <a:chOff x="541440" y="3559320"/>
            <a:chExt cx="1439640" cy="2314440"/>
          </a:xfrm>
        </p:grpSpPr>
        <p:sp>
          <p:nvSpPr>
            <p:cNvPr id="208" name="AutoShape 12"/>
            <p:cNvSpPr/>
            <p:nvPr/>
          </p:nvSpPr>
          <p:spPr>
            <a:xfrm>
              <a:off x="541440" y="3559320"/>
              <a:ext cx="1439640" cy="2314440"/>
            </a:xfrm>
            <a:custGeom>
              <a:avLst/>
              <a:gdLst>
                <a:gd name="textAreaLeft" fmla="*/ 57600 w 1439640"/>
                <a:gd name="textAreaRight" fmla="*/ 1382040 w 1439640"/>
                <a:gd name="textAreaTop" fmla="*/ 57600 h 2314440"/>
                <a:gd name="textAreaBottom" fmla="*/ 2256840 h 2314440"/>
              </a:gdLst>
              <a:ahLst/>
              <a:rect l="textAreaLeft" t="textAreaTop" r="textAreaRight" b="textAreaBottom"/>
              <a:pathLst>
                <a:path w="21600" h="34722">
                  <a:moveTo>
                    <a:pt x="2953" y="0"/>
                  </a:moveTo>
                  <a:arcTo wR="2953" hR="2953" stAng="16200000" swAng="-5400000"/>
                  <a:lnTo>
                    <a:pt x="0" y="31769"/>
                  </a:lnTo>
                  <a:arcTo wR="2953" hR="2953" stAng="10800000" swAng="-5400000"/>
                  <a:lnTo>
                    <a:pt x="18647" y="34722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" name="AutoShape 13"/>
            <p:cNvSpPr/>
            <p:nvPr/>
          </p:nvSpPr>
          <p:spPr>
            <a:xfrm rot="10800000">
              <a:off x="550440" y="3568320"/>
              <a:ext cx="1419120" cy="1008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468360" y="3992400"/>
            <a:ext cx="15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I am come in my Father's name, and ye receive me not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John 5:4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629080" y="3992400"/>
            <a:ext cx="158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Yet a little while, and the world seeth me no more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John 14:19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861080" y="3992400"/>
            <a:ext cx="158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Ye neither know me, nor my Fath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John 8:19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7021440" y="399240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I 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m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 in my Father, and ye in me, and I in you.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John 14:20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41440" y="2057400"/>
            <a:ext cx="1439640" cy="1440000"/>
            <a:chOff x="541440" y="2057400"/>
            <a:chExt cx="1439640" cy="1440000"/>
          </a:xfrm>
        </p:grpSpPr>
        <p:sp>
          <p:nvSpPr>
            <p:cNvPr id="215" name="AutoShape 19"/>
            <p:cNvSpPr/>
            <p:nvPr/>
          </p:nvSpPr>
          <p:spPr>
            <a:xfrm>
              <a:off x="541440" y="2057400"/>
              <a:ext cx="1439640" cy="1440000"/>
            </a:xfrm>
            <a:custGeom>
              <a:avLst/>
              <a:gdLst>
                <a:gd name="textAreaLeft" fmla="*/ 59760 w 1439640"/>
                <a:gd name="textAreaRight" fmla="*/ 1379880 w 1439640"/>
                <a:gd name="textAreaTop" fmla="*/ 59760 h 1440000"/>
                <a:gd name="textAreaBottom" fmla="*/ 13802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3072" y="0"/>
                  </a:moveTo>
                  <a:arcTo wR="3072" hR="3072" stAng="16200000" swAng="-5400000"/>
                  <a:lnTo>
                    <a:pt x="0" y="18533"/>
                  </a:lnTo>
                  <a:arcTo wR="3072" hR="3072" stAng="10800000" swAng="-5400000"/>
                  <a:lnTo>
                    <a:pt x="18528" y="21605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Worl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Canno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Receiv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561600" y="2077920"/>
              <a:ext cx="139680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f0c7"/>
                </a:gs>
                <a:gs pos="100000">
                  <a:srgbClr val="f2bc0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700360" y="2057400"/>
            <a:ext cx="1440000" cy="1440000"/>
            <a:chOff x="2700360" y="2057400"/>
            <a:chExt cx="1440000" cy="1440000"/>
          </a:xfrm>
        </p:grpSpPr>
        <p:sp>
          <p:nvSpPr>
            <p:cNvPr id="218" name="AutoShape 22"/>
            <p:cNvSpPr/>
            <p:nvPr/>
          </p:nvSpPr>
          <p:spPr>
            <a:xfrm>
              <a:off x="2700360" y="20574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Worl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Canno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Se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" name="AutoShape 23"/>
            <p:cNvSpPr/>
            <p:nvPr/>
          </p:nvSpPr>
          <p:spPr>
            <a:xfrm>
              <a:off x="2720880" y="20779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1dac6"/>
                </a:gs>
                <a:gs pos="100000">
                  <a:srgbClr val="c258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932360" y="2057400"/>
            <a:ext cx="1440000" cy="1440000"/>
            <a:chOff x="4932360" y="2057400"/>
            <a:chExt cx="1440000" cy="1440000"/>
          </a:xfrm>
        </p:grpSpPr>
        <p:sp>
          <p:nvSpPr>
            <p:cNvPr id="221" name="AutoShape 25"/>
            <p:cNvSpPr/>
            <p:nvPr/>
          </p:nvSpPr>
          <p:spPr>
            <a:xfrm>
              <a:off x="4932360" y="20574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World doe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Not Know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AutoShape 26"/>
            <p:cNvSpPr/>
            <p:nvPr/>
          </p:nvSpPr>
          <p:spPr>
            <a:xfrm>
              <a:off x="4952880" y="20779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6c6"/>
                </a:gs>
                <a:gs pos="100000">
                  <a:srgbClr val="fe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093080" y="2057400"/>
            <a:ext cx="1439640" cy="1440000"/>
            <a:chOff x="7093080" y="2057400"/>
            <a:chExt cx="1439640" cy="1440000"/>
          </a:xfrm>
        </p:grpSpPr>
        <p:sp>
          <p:nvSpPr>
            <p:cNvPr id="224" name="AutoShape 28"/>
            <p:cNvSpPr/>
            <p:nvPr/>
          </p:nvSpPr>
          <p:spPr>
            <a:xfrm>
              <a:off x="7093080" y="2057400"/>
              <a:ext cx="1439640" cy="1440000"/>
            </a:xfrm>
            <a:custGeom>
              <a:avLst/>
              <a:gdLst>
                <a:gd name="textAreaLeft" fmla="*/ 59760 w 1439640"/>
                <a:gd name="textAreaRight" fmla="*/ 1379880 w 1439640"/>
                <a:gd name="textAreaTop" fmla="*/ 59760 h 1440000"/>
                <a:gd name="textAreaBottom" fmla="*/ 13802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3072" y="0"/>
                  </a:moveTo>
                  <a:arcTo wR="3072" hR="3072" stAng="16200000" swAng="-5400000"/>
                  <a:lnTo>
                    <a:pt x="0" y="18533"/>
                  </a:lnTo>
                  <a:arcTo wR="3072" hR="3072" stAng="10800000" swAng="-5400000"/>
                  <a:lnTo>
                    <a:pt x="18528" y="21605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Will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Dwell in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Disciple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AutoShape 29"/>
            <p:cNvSpPr/>
            <p:nvPr/>
          </p:nvSpPr>
          <p:spPr>
            <a:xfrm>
              <a:off x="7113240" y="2077920"/>
              <a:ext cx="139680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e1e1"/>
                </a:gs>
                <a:gs pos="100000">
                  <a:srgbClr val="77777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Spirit of Truth - Christ in Yo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 flipH="1">
            <a:off x="1546920" y="5950080"/>
            <a:ext cx="720108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e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Text Box 32"/>
          <p:cNvSpPr/>
          <p:nvPr/>
        </p:nvSpPr>
        <p:spPr>
          <a:xfrm rot="16200000">
            <a:off x="4223880" y="3915000"/>
            <a:ext cx="911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  <a:ea typeface="Gulim"/>
              </a:rPr>
              <a:t>I will not leave you comfortless. I will come to yo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324000" y="1341360"/>
            <a:ext cx="8424720" cy="2232000"/>
          </a:xfrm>
          <a:prstGeom prst="rect">
            <a:avLst/>
          </a:prstGeom>
          <a:solidFill>
            <a:srgbClr val="c258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Arial"/>
              </a:rPr>
              <a:t>The Risen Christ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The Truth to be Revea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John 16:7-8  Nevertheless I tell you the truth: It is expedient for you that I go away; for if I go not away, the Comforter will not come unto you; but if I go, I will send him unto you.  (8)  And he, when he is come, will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convict the world in respect of sin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and of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righteousness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and of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 judgment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2" name="AutoShape 2"/>
          <p:cNvCxnSpPr>
            <a:stCxn id="233" idx="3"/>
            <a:endCxn id="234" idx="3"/>
          </p:cNvCxnSpPr>
          <p:nvPr/>
        </p:nvCxnSpPr>
        <p:spPr>
          <a:xfrm flipV="1">
            <a:off x="2523600" y="4857120"/>
            <a:ext cx="1412280" cy="391320"/>
          </a:xfrm>
          <a:prstGeom prst="straightConnector1">
            <a:avLst/>
          </a:prstGeom>
          <a:ln w="41400">
            <a:solidFill>
              <a:srgbClr val="4d4d4d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35" name="AutoShape 3"/>
          <p:cNvCxnSpPr>
            <a:stCxn id="236" idx="1"/>
            <a:endCxn id="234" idx="5"/>
          </p:cNvCxnSpPr>
          <p:nvPr/>
        </p:nvCxnSpPr>
        <p:spPr>
          <a:xfrm flipH="1" flipV="1">
            <a:off x="5072760" y="4857480"/>
            <a:ext cx="1443960" cy="116640"/>
          </a:xfrm>
          <a:prstGeom prst="straightConnector1">
            <a:avLst/>
          </a:prstGeom>
          <a:ln w="41400">
            <a:solidFill>
              <a:srgbClr val="4d4d4d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37" name="AutoShape 4"/>
          <p:cNvCxnSpPr>
            <a:stCxn id="234" idx="0"/>
            <a:endCxn id="238" idx="4"/>
          </p:cNvCxnSpPr>
          <p:nvPr/>
        </p:nvCxnSpPr>
        <p:spPr>
          <a:xfrm flipV="1">
            <a:off x="4505040" y="2904480"/>
            <a:ext cx="29160" cy="578520"/>
          </a:xfrm>
          <a:prstGeom prst="straightConnector1">
            <a:avLst/>
          </a:prstGeom>
          <a:ln w="41400">
            <a:solidFill>
              <a:srgbClr val="4d4d4d"/>
            </a:solidFill>
            <a:miter/>
            <a:headEnd len="lg" type="triangle" w="lg"/>
            <a:tailEnd len="lg" type="triangle" w="lg"/>
          </a:ln>
        </p:spPr>
      </p:cxnSp>
      <p:grpSp>
        <p:nvGrpSpPr>
          <p:cNvPr id="239" name=""/>
          <p:cNvGrpSpPr/>
          <p:nvPr/>
        </p:nvGrpSpPr>
        <p:grpSpPr>
          <a:xfrm>
            <a:off x="3675240" y="3481560"/>
            <a:ext cx="1655280" cy="1652040"/>
            <a:chOff x="3675240" y="3481560"/>
            <a:chExt cx="1655280" cy="1652040"/>
          </a:xfrm>
        </p:grpSpPr>
        <p:grpSp>
          <p:nvGrpSpPr>
            <p:cNvPr id="240" name=""/>
            <p:cNvGrpSpPr/>
            <p:nvPr/>
          </p:nvGrpSpPr>
          <p:grpSpPr>
            <a:xfrm>
              <a:off x="3675240" y="3481560"/>
              <a:ext cx="1652400" cy="1652040"/>
              <a:chOff x="3675240" y="3481560"/>
              <a:chExt cx="1652400" cy="1652040"/>
            </a:xfrm>
          </p:grpSpPr>
          <p:sp>
            <p:nvSpPr>
              <p:cNvPr id="241" name="Oval 10"/>
              <p:cNvSpPr/>
              <p:nvPr/>
            </p:nvSpPr>
            <p:spPr>
              <a:xfrm>
                <a:off x="3675240" y="3481560"/>
                <a:ext cx="1652400" cy="165204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4" name="Oval 11"/>
              <p:cNvSpPr/>
              <p:nvPr/>
            </p:nvSpPr>
            <p:spPr>
              <a:xfrm>
                <a:off x="3699000" y="3483720"/>
                <a:ext cx="1610640" cy="16088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2" name="Oval 12"/>
            <p:cNvSpPr/>
            <p:nvPr/>
          </p:nvSpPr>
          <p:spPr>
            <a:xfrm flipH="1">
              <a:off x="3807360" y="3631680"/>
              <a:ext cx="1387440" cy="13186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 flipH="1">
              <a:off x="3936960" y="3673080"/>
              <a:ext cx="1125360" cy="868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777777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3675240" y="4041000"/>
              <a:ext cx="16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ruth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51280" y="1268280"/>
            <a:ext cx="1363680" cy="1636920"/>
            <a:chOff x="3851280" y="1268280"/>
            <a:chExt cx="1363680" cy="1636920"/>
          </a:xfrm>
        </p:grpSpPr>
        <p:sp>
          <p:nvSpPr>
            <p:cNvPr id="238" name="Oval 17"/>
            <p:cNvSpPr/>
            <p:nvPr/>
          </p:nvSpPr>
          <p:spPr>
            <a:xfrm>
              <a:off x="3851280" y="1268280"/>
              <a:ext cx="1363680" cy="16369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>
              <a:off x="3871080" y="1270440"/>
              <a:ext cx="1329120" cy="1594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7" name="Oval 19"/>
          <p:cNvSpPr/>
          <p:nvPr/>
        </p:nvSpPr>
        <p:spPr>
          <a:xfrm flipH="1">
            <a:off x="3961800" y="1414440"/>
            <a:ext cx="1144440" cy="131940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Oval 20"/>
          <p:cNvSpPr/>
          <p:nvPr/>
        </p:nvSpPr>
        <p:spPr>
          <a:xfrm flipH="1">
            <a:off x="4070520" y="1452600"/>
            <a:ext cx="925200" cy="860400"/>
          </a:xfrm>
          <a:prstGeom prst="ellipse">
            <a:avLst/>
          </a:prstGeom>
          <a:gradFill rotWithShape="0">
            <a:gsLst>
              <a:gs pos="0">
                <a:srgbClr val="ffaaaa"/>
              </a:gs>
              <a:gs pos="100000">
                <a:srgbClr val="fe0000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4067280" y="1787400"/>
            <a:ext cx="928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3851280" y="1484280"/>
            <a:ext cx="136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W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inner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971640" y="4437000"/>
            <a:ext cx="1549440" cy="1557360"/>
            <a:chOff x="971640" y="4437000"/>
            <a:chExt cx="1549440" cy="1557360"/>
          </a:xfrm>
        </p:grpSpPr>
        <p:sp>
          <p:nvSpPr>
            <p:cNvPr id="252" name="Oval 25"/>
            <p:cNvSpPr/>
            <p:nvPr/>
          </p:nvSpPr>
          <p:spPr>
            <a:xfrm>
              <a:off x="971640" y="4437000"/>
              <a:ext cx="1549440" cy="1557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3" name="Oval 26"/>
            <p:cNvSpPr/>
            <p:nvPr/>
          </p:nvSpPr>
          <p:spPr>
            <a:xfrm>
              <a:off x="993960" y="4438800"/>
              <a:ext cx="1510200" cy="151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4" name="Oval 27"/>
          <p:cNvSpPr/>
          <p:nvPr/>
        </p:nvSpPr>
        <p:spPr>
          <a:xfrm flipH="1">
            <a:off x="1094760" y="4579920"/>
            <a:ext cx="1305000" cy="1247760"/>
          </a:xfrm>
          <a:prstGeom prst="ellipse">
            <a:avLst/>
          </a:prstGeom>
          <a:solidFill>
            <a:srgbClr val="f2b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Oval 28"/>
          <p:cNvSpPr/>
          <p:nvPr/>
        </p:nvSpPr>
        <p:spPr>
          <a:xfrm flipH="1">
            <a:off x="1217520" y="4613400"/>
            <a:ext cx="1052640" cy="820440"/>
          </a:xfrm>
          <a:prstGeom prst="ellipse">
            <a:avLst/>
          </a:prstGeom>
          <a:gradFill rotWithShape="0">
            <a:gsLst>
              <a:gs pos="0">
                <a:srgbClr val="fbe9ab"/>
              </a:gs>
              <a:gs pos="100000">
                <a:srgbClr val="f2bc04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1217520" y="4925880"/>
            <a:ext cx="10494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Rectangle 30"/>
          <p:cNvSpPr/>
          <p:nvPr/>
        </p:nvSpPr>
        <p:spPr>
          <a:xfrm>
            <a:off x="971640" y="465300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Without Go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We a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Dy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492960" y="4292640"/>
            <a:ext cx="1463760" cy="1636560"/>
            <a:chOff x="6492960" y="4292640"/>
            <a:chExt cx="1463760" cy="1636560"/>
          </a:xfrm>
        </p:grpSpPr>
        <p:sp>
          <p:nvSpPr>
            <p:cNvPr id="258" name="Oval 33"/>
            <p:cNvSpPr/>
            <p:nvPr/>
          </p:nvSpPr>
          <p:spPr>
            <a:xfrm>
              <a:off x="6492960" y="4292640"/>
              <a:ext cx="1463760" cy="1636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9" name="Oval 34"/>
            <p:cNvSpPr/>
            <p:nvPr/>
          </p:nvSpPr>
          <p:spPr>
            <a:xfrm>
              <a:off x="6514200" y="4294800"/>
              <a:ext cx="1426680" cy="15940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60" name="Oval 35"/>
          <p:cNvSpPr/>
          <p:nvPr/>
        </p:nvSpPr>
        <p:spPr>
          <a:xfrm flipH="1">
            <a:off x="6611760" y="4438800"/>
            <a:ext cx="1229040" cy="1319040"/>
          </a:xfrm>
          <a:prstGeom prst="ellipse">
            <a:avLst/>
          </a:pr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Oval 36"/>
          <p:cNvSpPr/>
          <p:nvPr/>
        </p:nvSpPr>
        <p:spPr>
          <a:xfrm flipH="1">
            <a:off x="6726960" y="4476600"/>
            <a:ext cx="993960" cy="860400"/>
          </a:xfrm>
          <a:prstGeom prst="ellipse">
            <a:avLst/>
          </a:prstGeom>
          <a:gradFill rotWithShape="0">
            <a:gsLst>
              <a:gs pos="0">
                <a:srgbClr val="ebc7aa"/>
              </a:gs>
              <a:gs pos="100000">
                <a:srgbClr val="c25800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6724800" y="4811760"/>
            <a:ext cx="996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Rectangle 38"/>
          <p:cNvSpPr/>
          <p:nvPr/>
        </p:nvSpPr>
        <p:spPr>
          <a:xfrm>
            <a:off x="6516720" y="46530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God i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Righteou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162864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777777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1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40:09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