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01C-8747-43BA-BEBA-63F940D1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8CD-1AED-41A2-A02F-BEE3866B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39C-379E-499C-9EB5-505380CA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FD0-F2B5-4182-8422-38FC84FB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DC2-0613-484D-8B94-4971BF43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50C-3D41-4EE2-A324-63E75B0D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8C8-FF41-4AA2-A5C6-BEEC82FE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DA0-231E-4CC4-B47E-086A430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97F-B671-479E-9B6C-06E95D11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187-4AFA-4AD1-992F-DA4DBAB2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D1F-2BCD-49BB-956A-CE79F8C2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BA4-DDFC-4FD9-B995-B812903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2D6E-F76A-413F-9B06-D4A2CFCC28F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3B23-A233-47CC-9C2A-E96214E77AD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7"/>
          <p:cNvGrpSpPr/>
          <p:nvPr/>
        </p:nvGrpSpPr>
        <p:grpSpPr>
          <a:xfrm>
            <a:off x="1028880" y="1693800"/>
            <a:ext cx="7143480" cy="3822480"/>
            <a:chOff x="1028880" y="1693800"/>
            <a:chExt cx="7143480" cy="3822480"/>
          </a:xfrm>
        </p:grpSpPr>
        <p:grpSp>
          <p:nvGrpSpPr>
            <p:cNvPr id="42" name="Group 8"/>
            <p:cNvGrpSpPr/>
            <p:nvPr/>
          </p:nvGrpSpPr>
          <p:grpSpPr>
            <a:xfrm>
              <a:off x="4311000" y="1693800"/>
              <a:ext cx="2072160" cy="2702880"/>
              <a:chOff x="4311000" y="1693800"/>
              <a:chExt cx="2072160" cy="2702880"/>
            </a:xfrm>
          </p:grpSpPr>
          <p:sp>
            <p:nvSpPr>
              <p:cNvPr id="43" name="Freeform 44"/>
              <p:cNvSpPr/>
              <p:nvPr/>
            </p:nvSpPr>
            <p:spPr>
              <a:xfrm>
                <a:off x="4345920" y="1722240"/>
                <a:ext cx="2001960" cy="393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10"/>
              <p:cNvSpPr/>
              <p:nvPr/>
            </p:nvSpPr>
            <p:spPr>
              <a:xfrm>
                <a:off x="4311000" y="1929600"/>
                <a:ext cx="425880" cy="246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11"/>
              <p:cNvSpPr/>
              <p:nvPr/>
            </p:nvSpPr>
            <p:spPr>
              <a:xfrm>
                <a:off x="4736880" y="1819800"/>
                <a:ext cx="1646280" cy="2570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93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12"/>
              <p:cNvSpPr/>
              <p:nvPr/>
            </p:nvSpPr>
            <p:spPr>
              <a:xfrm>
                <a:off x="4311000" y="1693800"/>
                <a:ext cx="1748160" cy="267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6043680" y="1704240"/>
                <a:ext cx="30600" cy="30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" name="Group 8"/>
            <p:cNvGrpSpPr/>
            <p:nvPr/>
          </p:nvGrpSpPr>
          <p:grpSpPr>
            <a:xfrm>
              <a:off x="4609440" y="1814400"/>
              <a:ext cx="2144160" cy="2795040"/>
              <a:chOff x="4609440" y="1814400"/>
              <a:chExt cx="2144160" cy="2795040"/>
            </a:xfrm>
          </p:grpSpPr>
          <p:sp>
            <p:nvSpPr>
              <p:cNvPr id="49" name="Freeform 9"/>
              <p:cNvSpPr/>
              <p:nvPr/>
            </p:nvSpPr>
            <p:spPr>
              <a:xfrm>
                <a:off x="4645800" y="1842840"/>
                <a:ext cx="2071080" cy="406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0"/>
              <p:cNvSpPr/>
              <p:nvPr/>
            </p:nvSpPr>
            <p:spPr>
              <a:xfrm>
                <a:off x="4609440" y="2058840"/>
                <a:ext cx="440280" cy="2550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2a6f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1"/>
              <p:cNvSpPr/>
              <p:nvPr/>
            </p:nvSpPr>
            <p:spPr>
              <a:xfrm>
                <a:off x="5049720" y="1944720"/>
                <a:ext cx="1703880" cy="2657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9360">
                <a:solidFill>
                  <a:srgbClr val="2a6f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2"/>
              <p:cNvSpPr/>
              <p:nvPr/>
            </p:nvSpPr>
            <p:spPr>
              <a:xfrm>
                <a:off x="4609440" y="1814400"/>
                <a:ext cx="1808280" cy="27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2a6f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02240" y="1825200"/>
                <a:ext cx="31680" cy="31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" name="Group 14"/>
            <p:cNvGrpSpPr/>
            <p:nvPr/>
          </p:nvGrpSpPr>
          <p:grpSpPr>
            <a:xfrm>
              <a:off x="4952520" y="1921320"/>
              <a:ext cx="2202480" cy="2871000"/>
              <a:chOff x="4952520" y="1921320"/>
              <a:chExt cx="2202480" cy="2871000"/>
            </a:xfrm>
          </p:grpSpPr>
          <p:sp>
            <p:nvSpPr>
              <p:cNvPr id="55" name="Freeform 9"/>
              <p:cNvSpPr/>
              <p:nvPr/>
            </p:nvSpPr>
            <p:spPr>
              <a:xfrm>
                <a:off x="4988880" y="1950840"/>
                <a:ext cx="2129400" cy="417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4952520" y="2172240"/>
                <a:ext cx="452160" cy="262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0000"/>
              </a:gradFill>
              <a:ln w="9360">
                <a:solidFill>
                  <a:srgbClr val="d09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5404680" y="2055240"/>
                <a:ext cx="1750320" cy="272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9360">
                <a:solidFill>
                  <a:srgbClr val="d09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4952520" y="1921320"/>
                <a:ext cx="1857240" cy="28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9360">
                <a:solidFill>
                  <a:srgbClr val="d09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94280" y="1932480"/>
                <a:ext cx="32760" cy="32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Group 14"/>
            <p:cNvGrpSpPr/>
            <p:nvPr/>
          </p:nvGrpSpPr>
          <p:grpSpPr>
            <a:xfrm>
              <a:off x="5367600" y="2019240"/>
              <a:ext cx="2301480" cy="3031200"/>
              <a:chOff x="5367600" y="2019240"/>
              <a:chExt cx="2301480" cy="3031200"/>
            </a:xfrm>
          </p:grpSpPr>
          <p:sp>
            <p:nvSpPr>
              <p:cNvPr id="61" name="Freeform 9"/>
              <p:cNvSpPr/>
              <p:nvPr/>
            </p:nvSpPr>
            <p:spPr>
              <a:xfrm>
                <a:off x="5406840" y="2050200"/>
                <a:ext cx="2223000" cy="44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5367600" y="2284200"/>
                <a:ext cx="472320" cy="2766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0000"/>
              </a:gradFill>
              <a:ln w="9360">
                <a:solidFill>
                  <a:srgbClr val="006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5839920" y="2160720"/>
                <a:ext cx="1829160" cy="288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9360">
                <a:solidFill>
                  <a:srgbClr val="006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5367600" y="2019240"/>
                <a:ext cx="1940760" cy="29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9360">
                <a:solidFill>
                  <a:srgbClr val="006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7292160" y="2031120"/>
                <a:ext cx="34200" cy="3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Group 14"/>
            <p:cNvGrpSpPr/>
            <p:nvPr/>
          </p:nvGrpSpPr>
          <p:grpSpPr>
            <a:xfrm>
              <a:off x="5777280" y="2149200"/>
              <a:ext cx="2395080" cy="3154680"/>
              <a:chOff x="5777280" y="2149200"/>
              <a:chExt cx="2395080" cy="3154680"/>
            </a:xfrm>
          </p:grpSpPr>
          <p:sp>
            <p:nvSpPr>
              <p:cNvPr id="67" name="Freeform 9"/>
              <p:cNvSpPr/>
              <p:nvPr/>
            </p:nvSpPr>
            <p:spPr>
              <a:xfrm>
                <a:off x="5817960" y="2181600"/>
                <a:ext cx="2313720" cy="459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>
                <a:off x="5777280" y="2424960"/>
                <a:ext cx="491760" cy="287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6269040" y="2296440"/>
                <a:ext cx="1903320" cy="299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777280" y="2149200"/>
                <a:ext cx="2019960" cy="31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400000"/>
              </a:gradFill>
              <a:ln w="9360">
                <a:solidFill>
                  <a:srgbClr val="006d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7779960" y="2161440"/>
                <a:ext cx="35640" cy="35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" name=""/>
            <p:cNvGrpSpPr/>
            <p:nvPr/>
          </p:nvGrpSpPr>
          <p:grpSpPr>
            <a:xfrm>
              <a:off x="2874600" y="2109600"/>
              <a:ext cx="1535040" cy="360"/>
              <a:chOff x="2874600" y="2109600"/>
              <a:chExt cx="1535040" cy="360"/>
            </a:xfrm>
          </p:grpSpPr>
          <p:sp>
            <p:nvSpPr>
              <p:cNvPr id="73" name="Line 33"/>
              <p:cNvSpPr/>
              <p:nvPr/>
            </p:nvSpPr>
            <p:spPr>
              <a:xfrm flipH="1">
                <a:off x="2874600" y="2109960"/>
                <a:ext cx="1535040" cy="0"/>
              </a:xfrm>
              <a:prstGeom prst="line">
                <a:avLst/>
              </a:prstGeom>
              <a:ln w="1908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 rot="10800000">
                <a:off x="2874600" y="2109600"/>
                <a:ext cx="1535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222000" y="2873520"/>
              <a:ext cx="1505520" cy="360"/>
              <a:chOff x="3222000" y="2873520"/>
              <a:chExt cx="1505520" cy="360"/>
            </a:xfrm>
          </p:grpSpPr>
          <p:sp>
            <p:nvSpPr>
              <p:cNvPr id="76" name="Line 33"/>
              <p:cNvSpPr/>
              <p:nvPr/>
            </p:nvSpPr>
            <p:spPr>
              <a:xfrm flipH="1">
                <a:off x="3222000" y="2873520"/>
                <a:ext cx="1505520" cy="0"/>
              </a:xfrm>
              <a:prstGeom prst="line">
                <a:avLst/>
              </a:prstGeom>
              <a:ln w="1908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3222000" y="2873520"/>
                <a:ext cx="1505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620520" y="3636000"/>
              <a:ext cx="1527120" cy="360"/>
              <a:chOff x="3620520" y="3636000"/>
              <a:chExt cx="1527120" cy="360"/>
            </a:xfrm>
          </p:grpSpPr>
          <p:sp>
            <p:nvSpPr>
              <p:cNvPr id="79" name="Line 33"/>
              <p:cNvSpPr/>
              <p:nvPr/>
            </p:nvSpPr>
            <p:spPr>
              <a:xfrm flipH="1">
                <a:off x="3620520" y="3636000"/>
                <a:ext cx="1527120" cy="0"/>
              </a:xfrm>
              <a:prstGeom prst="line">
                <a:avLst/>
              </a:prstGeom>
              <a:ln w="1908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3620520" y="3636000"/>
                <a:ext cx="152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057560" y="4399560"/>
              <a:ext cx="1488960" cy="360"/>
              <a:chOff x="4057560" y="4399560"/>
              <a:chExt cx="1488960" cy="360"/>
            </a:xfrm>
          </p:grpSpPr>
          <p:sp>
            <p:nvSpPr>
              <p:cNvPr id="82" name="Line 33"/>
              <p:cNvSpPr/>
              <p:nvPr/>
            </p:nvSpPr>
            <p:spPr>
              <a:xfrm flipH="1">
                <a:off x="4057560" y="4399560"/>
                <a:ext cx="1488960" cy="0"/>
              </a:xfrm>
              <a:prstGeom prst="line">
                <a:avLst/>
              </a:prstGeom>
              <a:ln w="1908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4057560" y="4399560"/>
                <a:ext cx="148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344840" y="5161680"/>
              <a:ext cx="1617840" cy="360"/>
              <a:chOff x="4344840" y="5161680"/>
              <a:chExt cx="1617840" cy="360"/>
            </a:xfrm>
          </p:grpSpPr>
          <p:sp>
            <p:nvSpPr>
              <p:cNvPr id="85" name="Line 33"/>
              <p:cNvSpPr/>
              <p:nvPr/>
            </p:nvSpPr>
            <p:spPr>
              <a:xfrm flipH="1">
                <a:off x="4344840" y="5161680"/>
                <a:ext cx="1617840" cy="0"/>
              </a:xfrm>
              <a:prstGeom prst="line">
                <a:avLst/>
              </a:prstGeom>
              <a:ln w="1908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4344840" y="5161680"/>
                <a:ext cx="161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Rectangle 42"/>
            <p:cNvSpPr/>
            <p:nvPr/>
          </p:nvSpPr>
          <p:spPr>
            <a:xfrm>
              <a:off x="6300000" y="2516040"/>
              <a:ext cx="179820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45"/>
            <p:cNvSpPr/>
            <p:nvPr/>
          </p:nvSpPr>
          <p:spPr>
            <a:xfrm>
              <a:off x="1831320" y="182340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46"/>
            <p:cNvSpPr/>
            <p:nvPr/>
          </p:nvSpPr>
          <p:spPr>
            <a:xfrm>
              <a:off x="1028880" y="2105640"/>
              <a:ext cx="23212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47"/>
            <p:cNvSpPr/>
            <p:nvPr/>
          </p:nvSpPr>
          <p:spPr>
            <a:xfrm>
              <a:off x="2221920" y="264168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48"/>
            <p:cNvSpPr/>
            <p:nvPr/>
          </p:nvSpPr>
          <p:spPr>
            <a:xfrm>
              <a:off x="1100160" y="2923920"/>
              <a:ext cx="2640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9"/>
            <p:cNvSpPr/>
            <p:nvPr/>
          </p:nvSpPr>
          <p:spPr>
            <a:xfrm>
              <a:off x="2589480" y="342072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50"/>
            <p:cNvSpPr/>
            <p:nvPr/>
          </p:nvSpPr>
          <p:spPr>
            <a:xfrm>
              <a:off x="1243080" y="3702960"/>
              <a:ext cx="28652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51"/>
            <p:cNvSpPr/>
            <p:nvPr/>
          </p:nvSpPr>
          <p:spPr>
            <a:xfrm>
              <a:off x="3020040" y="419436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52"/>
            <p:cNvSpPr/>
            <p:nvPr/>
          </p:nvSpPr>
          <p:spPr>
            <a:xfrm>
              <a:off x="1314360" y="4476600"/>
              <a:ext cx="3224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53"/>
            <p:cNvSpPr/>
            <p:nvPr/>
          </p:nvSpPr>
          <p:spPr>
            <a:xfrm>
              <a:off x="3327840" y="4922640"/>
              <a:ext cx="10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54"/>
            <p:cNvSpPr/>
            <p:nvPr/>
          </p:nvSpPr>
          <p:spPr>
            <a:xfrm>
              <a:off x="1314360" y="5204880"/>
              <a:ext cx="35323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3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您的内容打在这里，或者通过复制您的文本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1520" y="189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书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190-340E-4282-9971-EA671DD0B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21:35Z</dcterms:modified>
  <cp:revision>110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