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1216-2CE8-48FD-9B25-8CD313D4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7612-D8EF-49C3-9212-F5EC8BAB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990D-1957-49F1-8F98-3E3AD36E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8AE2-31E1-4033-AD0F-976CBB57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3BDC-E8EB-4458-9118-7809B7DC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7C56-FBFF-418C-9B65-A36AEB2E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5308-085A-42B1-8653-EA7C3DF9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5CC0-8614-47DF-929F-49C0C8EC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49A2-6152-435D-8AA3-97DB5341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65C1-5B50-4DE1-AF1F-FA9EC65C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D99E-3AA4-4E1C-B03E-86A0A425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62F-6153-44F4-95B5-0FBFD76E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18EE9C-5DFC-4466-A6BC-B40260ADAF3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"/>
          <p:cNvSpPr/>
          <p:nvPr/>
        </p:nvSpPr>
        <p:spPr>
          <a:xfrm>
            <a:off x="2125800" y="1873440"/>
            <a:ext cx="85456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</a:t>
            </a: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深黄商务通用</a:t>
            </a:r>
            <a:r>
              <a:rPr b="1" lang="en-US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1"/>
          <p:cNvGrpSpPr/>
          <p:nvPr/>
        </p:nvGrpSpPr>
        <p:grpSpPr>
          <a:xfrm>
            <a:off x="11721960" y="6299280"/>
            <a:ext cx="469440" cy="306360"/>
            <a:chOff x="11721960" y="6299280"/>
            <a:chExt cx="469440" cy="306360"/>
          </a:xfrm>
        </p:grpSpPr>
        <p:sp>
          <p:nvSpPr>
            <p:cNvPr id="43" name="任意多边形 8"/>
            <p:cNvSpPr/>
            <p:nvPr/>
          </p:nvSpPr>
          <p:spPr>
            <a:xfrm>
              <a:off x="117219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" name="燕尾形 11"/>
            <p:cNvSpPr/>
            <p:nvPr/>
          </p:nvSpPr>
          <p:spPr>
            <a:xfrm>
              <a:off x="11926080" y="635112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" name="圆角矩形 6"/>
          <p:cNvSpPr/>
          <p:nvPr/>
        </p:nvSpPr>
        <p:spPr>
          <a:xfrm>
            <a:off x="596880" y="6299280"/>
            <a:ext cx="11010600" cy="306360"/>
          </a:xfrm>
          <a:prstGeom prst="roundRect">
            <a:avLst>
              <a:gd name="adj" fmla="val 50000"/>
            </a:avLst>
          </a:prstGeom>
          <a:solidFill>
            <a:schemeClr val="bg2">
              <a:lumMod val="10000"/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7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875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组合 26"/>
          <p:cNvGrpSpPr/>
          <p:nvPr/>
        </p:nvGrpSpPr>
        <p:grpSpPr>
          <a:xfrm>
            <a:off x="8152200" y="2608560"/>
            <a:ext cx="2400120" cy="2400120"/>
            <a:chOff x="8152200" y="2608560"/>
            <a:chExt cx="2400120" cy="2400120"/>
          </a:xfrm>
        </p:grpSpPr>
        <p:sp>
          <p:nvSpPr>
            <p:cNvPr id="308" name="椭圆 16"/>
            <p:cNvSpPr/>
            <p:nvPr/>
          </p:nvSpPr>
          <p:spPr>
            <a:xfrm>
              <a:off x="8152200" y="2608560"/>
              <a:ext cx="2400120" cy="2400120"/>
            </a:xfrm>
            <a:prstGeom prst="ellipse">
              <a:avLst/>
            </a:prstGeom>
            <a:solidFill>
              <a:schemeClr val="bg1">
                <a:alpha val="3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9" name="文本框 23"/>
            <p:cNvSpPr/>
            <p:nvPr/>
          </p:nvSpPr>
          <p:spPr>
            <a:xfrm>
              <a:off x="8605080" y="3393000"/>
              <a:ext cx="14940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8%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25"/>
          <p:cNvGrpSpPr/>
          <p:nvPr/>
        </p:nvGrpSpPr>
        <p:grpSpPr>
          <a:xfrm>
            <a:off x="5981400" y="2608560"/>
            <a:ext cx="2400120" cy="2400120"/>
            <a:chOff x="5981400" y="2608560"/>
            <a:chExt cx="2400120" cy="2400120"/>
          </a:xfrm>
        </p:grpSpPr>
        <p:sp>
          <p:nvSpPr>
            <p:cNvPr id="311" name="椭圆 15"/>
            <p:cNvSpPr/>
            <p:nvPr/>
          </p:nvSpPr>
          <p:spPr>
            <a:xfrm>
              <a:off x="5981400" y="2608560"/>
              <a:ext cx="2400120" cy="240012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2" name="文本框 22"/>
            <p:cNvSpPr/>
            <p:nvPr/>
          </p:nvSpPr>
          <p:spPr>
            <a:xfrm>
              <a:off x="6434280" y="3393000"/>
              <a:ext cx="14940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2%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"/>
          <p:cNvGrpSpPr/>
          <p:nvPr/>
        </p:nvGrpSpPr>
        <p:grpSpPr>
          <a:xfrm>
            <a:off x="360" y="6299280"/>
            <a:ext cx="12191040" cy="306360"/>
            <a:chOff x="360" y="6299280"/>
            <a:chExt cx="12191040" cy="306360"/>
          </a:xfrm>
        </p:grpSpPr>
        <p:sp>
          <p:nvSpPr>
            <p:cNvPr id="314" name="圆角矩形 2"/>
            <p:cNvSpPr/>
            <p:nvPr/>
          </p:nvSpPr>
          <p:spPr>
            <a:xfrm>
              <a:off x="585720" y="6299280"/>
              <a:ext cx="11021760" cy="30636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5" name="任意多边形 3"/>
            <p:cNvSpPr/>
            <p:nvPr/>
          </p:nvSpPr>
          <p:spPr>
            <a:xfrm>
              <a:off x="117219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6" name="燕尾形 4"/>
            <p:cNvSpPr/>
            <p:nvPr/>
          </p:nvSpPr>
          <p:spPr>
            <a:xfrm>
              <a:off x="11926080" y="635112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任意多边形 5"/>
            <p:cNvSpPr/>
            <p:nvPr/>
          </p:nvSpPr>
          <p:spPr>
            <a:xfrm rot="10800000">
              <a:off x="3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8" name="燕尾形 6"/>
            <p:cNvSpPr/>
            <p:nvPr/>
          </p:nvSpPr>
          <p:spPr>
            <a:xfrm rot="10800000">
              <a:off x="115920" y="635148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9" name="组合 8"/>
          <p:cNvGrpSpPr/>
          <p:nvPr/>
        </p:nvGrpSpPr>
        <p:grpSpPr>
          <a:xfrm>
            <a:off x="4888080" y="388080"/>
            <a:ext cx="2292840" cy="939600"/>
            <a:chOff x="4888080" y="388080"/>
            <a:chExt cx="2292840" cy="939600"/>
          </a:xfrm>
        </p:grpSpPr>
        <p:sp>
          <p:nvSpPr>
            <p:cNvPr id="320" name="文本框 11"/>
            <p:cNvSpPr/>
            <p:nvPr/>
          </p:nvSpPr>
          <p:spPr>
            <a:xfrm>
              <a:off x="5253840" y="388080"/>
              <a:ext cx="16840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市场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情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文本框 12"/>
            <p:cNvSpPr/>
            <p:nvPr/>
          </p:nvSpPr>
          <p:spPr>
            <a:xfrm>
              <a:off x="4888080" y="872280"/>
              <a:ext cx="2292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urrent mark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右箭头 9"/>
          <p:cNvSpPr/>
          <p:nvPr/>
        </p:nvSpPr>
        <p:spPr>
          <a:xfrm rot="16200000">
            <a:off x="2563560" y="1886400"/>
            <a:ext cx="552240" cy="799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3" name="右箭头 17"/>
          <p:cNvSpPr/>
          <p:nvPr/>
        </p:nvSpPr>
        <p:spPr>
          <a:xfrm rot="16200000">
            <a:off x="6905160" y="1846440"/>
            <a:ext cx="552240" cy="799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4" name="右箭头 18"/>
          <p:cNvSpPr/>
          <p:nvPr/>
        </p:nvSpPr>
        <p:spPr>
          <a:xfrm rot="16200000">
            <a:off x="9075960" y="1846440"/>
            <a:ext cx="552240" cy="799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alpha val="3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5" name="右箭头 19"/>
          <p:cNvSpPr/>
          <p:nvPr/>
        </p:nvSpPr>
        <p:spPr>
          <a:xfrm rot="5400000">
            <a:off x="4734720" y="4978080"/>
            <a:ext cx="552240" cy="799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>
              <a:alpha val="3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26" name="组合 24"/>
          <p:cNvGrpSpPr/>
          <p:nvPr/>
        </p:nvGrpSpPr>
        <p:grpSpPr>
          <a:xfrm>
            <a:off x="3810600" y="2608560"/>
            <a:ext cx="2400120" cy="2400120"/>
            <a:chOff x="3810600" y="2608560"/>
            <a:chExt cx="2400120" cy="2400120"/>
          </a:xfrm>
        </p:grpSpPr>
        <p:sp>
          <p:nvSpPr>
            <p:cNvPr id="327" name="椭圆 14"/>
            <p:cNvSpPr/>
            <p:nvPr/>
          </p:nvSpPr>
          <p:spPr>
            <a:xfrm>
              <a:off x="3810600" y="2608560"/>
              <a:ext cx="2400120" cy="2400120"/>
            </a:xfrm>
            <a:prstGeom prst="ellipse">
              <a:avLst/>
            </a:prstGeom>
            <a:solidFill>
              <a:schemeClr val="tx1">
                <a:alpha val="3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8" name="文本框 21"/>
            <p:cNvSpPr/>
            <p:nvPr/>
          </p:nvSpPr>
          <p:spPr>
            <a:xfrm>
              <a:off x="4263480" y="3393000"/>
              <a:ext cx="14940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-5%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10"/>
          <p:cNvGrpSpPr/>
          <p:nvPr/>
        </p:nvGrpSpPr>
        <p:grpSpPr>
          <a:xfrm>
            <a:off x="1639440" y="2608560"/>
            <a:ext cx="2400120" cy="2400120"/>
            <a:chOff x="1639440" y="2608560"/>
            <a:chExt cx="2400120" cy="2400120"/>
          </a:xfrm>
        </p:grpSpPr>
        <p:sp>
          <p:nvSpPr>
            <p:cNvPr id="330" name="椭圆 7"/>
            <p:cNvSpPr/>
            <p:nvPr/>
          </p:nvSpPr>
          <p:spPr>
            <a:xfrm>
              <a:off x="1639440" y="2608560"/>
              <a:ext cx="2400120" cy="240012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1" name="文本框 20"/>
            <p:cNvSpPr/>
            <p:nvPr/>
          </p:nvSpPr>
          <p:spPr>
            <a:xfrm>
              <a:off x="2092680" y="3393000"/>
              <a:ext cx="14940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%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5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25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125" autoRev="1" fill="hold"/>
                                        <p:tgtEl>
                                          <p:spTgt spid="319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0833E-006 -4.07407E-006 L -0.05169 -4.07407E-006 E">
                                      <p:cBhvr>
                                        <p:cTn id="5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3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0833E-006 -4.07407E-006 L -0.05169 -4.07407E-006 E">
                                      <p:cBhvr>
                                        <p:cTn id="51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0833E-006 -4.07407E-006 L -0.05169 -4.07407E-006 E">
                                      <p:cBhvr>
                                        <p:cTn id="52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path" presetID="35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70833E-006 -4.07407E-006 L -0.05169 -4.07407E-006 E">
                                      <p:cBhvr>
                                        <p:cTn id="52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25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autoRev="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0833E-006 -3.33333E-006 L -2.70833E-006 -0.02083 E">
                                      <p:cBhvr>
                                        <p:cTn id="533" dur="2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2.5E-006 2.22222E-006 L 2.5E-006 0.02014 E">
                                      <p:cBhvr>
                                        <p:cTn id="5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autoRev="1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0833E-006 -3.33333E-006 L -2.70833E-006 -0.02083 E">
                                      <p:cBhvr>
                                        <p:cTn id="543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autoRev="1" nodeType="withEffect" fill="hold" presetClass="path" presetID="64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70833E-006 -3.33333E-006 L -2.70833E-006 -0.02083 E">
                                      <p:cBhvr>
                                        <p:cTn id="548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组合 1"/>
          <p:cNvGrpSpPr/>
          <p:nvPr/>
        </p:nvGrpSpPr>
        <p:grpSpPr>
          <a:xfrm>
            <a:off x="360" y="6299280"/>
            <a:ext cx="12191040" cy="306360"/>
            <a:chOff x="360" y="6299280"/>
            <a:chExt cx="12191040" cy="306360"/>
          </a:xfrm>
        </p:grpSpPr>
        <p:sp>
          <p:nvSpPr>
            <p:cNvPr id="333" name="圆角矩形 2"/>
            <p:cNvSpPr/>
            <p:nvPr/>
          </p:nvSpPr>
          <p:spPr>
            <a:xfrm>
              <a:off x="585720" y="6299280"/>
              <a:ext cx="11021760" cy="30636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4" name="任意多边形 3"/>
            <p:cNvSpPr/>
            <p:nvPr/>
          </p:nvSpPr>
          <p:spPr>
            <a:xfrm>
              <a:off x="117219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5" name="燕尾形 4"/>
            <p:cNvSpPr/>
            <p:nvPr/>
          </p:nvSpPr>
          <p:spPr>
            <a:xfrm>
              <a:off x="11926080" y="635112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任意多边形 5"/>
            <p:cNvSpPr/>
            <p:nvPr/>
          </p:nvSpPr>
          <p:spPr>
            <a:xfrm rot="10800000">
              <a:off x="3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7" name="燕尾形 6"/>
            <p:cNvSpPr/>
            <p:nvPr/>
          </p:nvSpPr>
          <p:spPr>
            <a:xfrm rot="10800000">
              <a:off x="115920" y="635148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8" name="组合 7"/>
          <p:cNvGrpSpPr/>
          <p:nvPr/>
        </p:nvGrpSpPr>
        <p:grpSpPr>
          <a:xfrm>
            <a:off x="5196240" y="388080"/>
            <a:ext cx="1741680" cy="939600"/>
            <a:chOff x="5196240" y="388080"/>
            <a:chExt cx="1741680" cy="939600"/>
          </a:xfrm>
        </p:grpSpPr>
        <p:sp>
          <p:nvSpPr>
            <p:cNvPr id="339" name="文本框 11"/>
            <p:cNvSpPr/>
            <p:nvPr/>
          </p:nvSpPr>
          <p:spPr>
            <a:xfrm>
              <a:off x="5253840" y="388080"/>
              <a:ext cx="16840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市场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风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文本框 12"/>
            <p:cNvSpPr/>
            <p:nvPr/>
          </p:nvSpPr>
          <p:spPr>
            <a:xfrm>
              <a:off x="5196240" y="872280"/>
              <a:ext cx="17416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rket ris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1" name="直接连接符 8"/>
          <p:cNvCxnSpPr/>
          <p:nvPr/>
        </p:nvCxnSpPr>
        <p:spPr>
          <a:xfrm flipV="1">
            <a:off x="5834520" y="2288520"/>
            <a:ext cx="4833720" cy="82440"/>
          </a:xfrm>
          <a:prstGeom prst="straightConnector1">
            <a:avLst/>
          </a:prstGeom>
          <a:ln w="38100">
            <a:solidFill>
              <a:srgbClr val="262626"/>
            </a:solidFill>
          </a:ln>
        </p:spPr>
      </p:cxnSp>
      <p:grpSp>
        <p:nvGrpSpPr>
          <p:cNvPr id="342" name="组合 9"/>
          <p:cNvGrpSpPr/>
          <p:nvPr/>
        </p:nvGrpSpPr>
        <p:grpSpPr>
          <a:xfrm>
            <a:off x="5863680" y="2957400"/>
            <a:ext cx="4804200" cy="362880"/>
            <a:chOff x="5863680" y="2957400"/>
            <a:chExt cx="4804200" cy="362880"/>
          </a:xfrm>
        </p:grpSpPr>
        <p:cxnSp>
          <p:nvCxnSpPr>
            <p:cNvPr id="343" name="直接连接符 10"/>
            <p:cNvCxnSpPr/>
            <p:nvPr/>
          </p:nvCxnSpPr>
          <p:spPr>
            <a:xfrm flipV="1">
              <a:off x="5863680" y="2957400"/>
              <a:ext cx="1727640" cy="102240"/>
            </a:xfrm>
            <a:prstGeom prst="straightConnector1">
              <a:avLst/>
            </a:prstGeom>
            <a:ln w="38100">
              <a:solidFill>
                <a:srgbClr val="595959"/>
              </a:solidFill>
            </a:ln>
          </p:spPr>
        </p:cxnSp>
        <p:cxnSp>
          <p:nvCxnSpPr>
            <p:cNvPr id="344" name="直接连接符 17"/>
            <p:cNvCxnSpPr/>
            <p:nvPr/>
          </p:nvCxnSpPr>
          <p:spPr>
            <a:xfrm>
              <a:off x="7576200" y="2957400"/>
              <a:ext cx="1553400" cy="290880"/>
            </a:xfrm>
            <a:prstGeom prst="straightConnector1">
              <a:avLst/>
            </a:prstGeom>
            <a:ln w="38100">
              <a:solidFill>
                <a:srgbClr val="595959"/>
              </a:solidFill>
            </a:ln>
          </p:spPr>
        </p:cxnSp>
        <p:cxnSp>
          <p:nvCxnSpPr>
            <p:cNvPr id="345" name="直接连接符 19"/>
            <p:cNvCxnSpPr/>
            <p:nvPr/>
          </p:nvCxnSpPr>
          <p:spPr>
            <a:xfrm>
              <a:off x="9129240" y="3247920"/>
              <a:ext cx="1539000" cy="72720"/>
            </a:xfrm>
            <a:prstGeom prst="straightConnector1">
              <a:avLst/>
            </a:prstGeom>
            <a:ln w="38100">
              <a:solidFill>
                <a:srgbClr val="595959"/>
              </a:solidFill>
            </a:ln>
          </p:spPr>
        </p:cxnSp>
      </p:grpSp>
      <p:grpSp>
        <p:nvGrpSpPr>
          <p:cNvPr id="346" name="组合 14"/>
          <p:cNvGrpSpPr/>
          <p:nvPr/>
        </p:nvGrpSpPr>
        <p:grpSpPr>
          <a:xfrm>
            <a:off x="5863680" y="3815640"/>
            <a:ext cx="4770720" cy="396360"/>
            <a:chOff x="5863680" y="3815640"/>
            <a:chExt cx="4770720" cy="396360"/>
          </a:xfrm>
        </p:grpSpPr>
        <p:cxnSp>
          <p:nvCxnSpPr>
            <p:cNvPr id="347" name="直接连接符 24"/>
            <p:cNvCxnSpPr/>
            <p:nvPr/>
          </p:nvCxnSpPr>
          <p:spPr>
            <a:xfrm>
              <a:off x="5863680" y="3815640"/>
              <a:ext cx="1712880" cy="39420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348" name="直接连接符 26"/>
            <p:cNvCxnSpPr/>
            <p:nvPr/>
          </p:nvCxnSpPr>
          <p:spPr>
            <a:xfrm flipV="1">
              <a:off x="7543080" y="3907440"/>
              <a:ext cx="1553400" cy="30492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349" name="直接连接符 28"/>
            <p:cNvCxnSpPr/>
            <p:nvPr/>
          </p:nvCxnSpPr>
          <p:spPr>
            <a:xfrm>
              <a:off x="9096120" y="3907440"/>
              <a:ext cx="1538640" cy="15804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</p:grpSp>
      <p:grpSp>
        <p:nvGrpSpPr>
          <p:cNvPr id="350" name="组合 29"/>
          <p:cNvGrpSpPr/>
          <p:nvPr/>
        </p:nvGrpSpPr>
        <p:grpSpPr>
          <a:xfrm>
            <a:off x="5245920" y="4777200"/>
            <a:ext cx="6213960" cy="144720"/>
            <a:chOff x="5245920" y="4777200"/>
            <a:chExt cx="6213960" cy="144720"/>
          </a:xfrm>
        </p:grpSpPr>
        <p:cxnSp>
          <p:nvCxnSpPr>
            <p:cNvPr id="351" name="直接连接符 30"/>
            <p:cNvCxnSpPr/>
            <p:nvPr/>
          </p:nvCxnSpPr>
          <p:spPr>
            <a:xfrm>
              <a:off x="5245920" y="4829400"/>
              <a:ext cx="6214320" cy="360"/>
            </a:xfrm>
            <a:prstGeom prst="straightConnector1">
              <a:avLst/>
            </a:prstGeom>
            <a:ln w="19050">
              <a:solidFill>
                <a:srgbClr val="000000">
                  <a:lumMod val="50000"/>
                  <a:lumOff val="50000"/>
                </a:srgbClr>
              </a:solidFill>
            </a:ln>
          </p:spPr>
        </p:cxnSp>
        <p:cxnSp>
          <p:nvCxnSpPr>
            <p:cNvPr id="352" name="直接连接符 31"/>
            <p:cNvCxnSpPr/>
            <p:nvPr/>
          </p:nvCxnSpPr>
          <p:spPr>
            <a:xfrm>
              <a:off x="5247720" y="4829400"/>
              <a:ext cx="360" cy="9288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  <p:cxnSp>
          <p:nvCxnSpPr>
            <p:cNvPr id="353" name="直接连接符 32"/>
            <p:cNvCxnSpPr/>
            <p:nvPr/>
          </p:nvCxnSpPr>
          <p:spPr>
            <a:xfrm>
              <a:off x="6764400" y="4777200"/>
              <a:ext cx="360" cy="5256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  <p:cxnSp>
          <p:nvCxnSpPr>
            <p:cNvPr id="354" name="直接连接符 33"/>
            <p:cNvCxnSpPr/>
            <p:nvPr/>
          </p:nvCxnSpPr>
          <p:spPr>
            <a:xfrm>
              <a:off x="8358480" y="4777200"/>
              <a:ext cx="360" cy="5256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  <p:cxnSp>
          <p:nvCxnSpPr>
            <p:cNvPr id="355" name="直接连接符 34"/>
            <p:cNvCxnSpPr/>
            <p:nvPr/>
          </p:nvCxnSpPr>
          <p:spPr>
            <a:xfrm>
              <a:off x="9964800" y="4777200"/>
              <a:ext cx="360" cy="5256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  <p:cxnSp>
          <p:nvCxnSpPr>
            <p:cNvPr id="356" name="直接连接符 35"/>
            <p:cNvCxnSpPr/>
            <p:nvPr/>
          </p:nvCxnSpPr>
          <p:spPr>
            <a:xfrm>
              <a:off x="11451960" y="4829400"/>
              <a:ext cx="360" cy="9288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</p:grpSp>
      <p:grpSp>
        <p:nvGrpSpPr>
          <p:cNvPr id="357" name="组合 18"/>
          <p:cNvGrpSpPr/>
          <p:nvPr/>
        </p:nvGrpSpPr>
        <p:grpSpPr>
          <a:xfrm>
            <a:off x="2836800" y="4733280"/>
            <a:ext cx="1728360" cy="1040040"/>
            <a:chOff x="2836800" y="4733280"/>
            <a:chExt cx="1728360" cy="1040040"/>
          </a:xfrm>
        </p:grpSpPr>
        <p:sp>
          <p:nvSpPr>
            <p:cNvPr id="358" name="椭圆 36"/>
            <p:cNvSpPr/>
            <p:nvPr/>
          </p:nvSpPr>
          <p:spPr>
            <a:xfrm>
              <a:off x="4309200" y="4750560"/>
              <a:ext cx="255960" cy="255960"/>
            </a:xfrm>
            <a:prstGeom prst="ellipse">
              <a:avLst/>
            </a:prstGeom>
            <a:solidFill>
              <a:srgbClr val="2626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9" name="椭圆 37"/>
            <p:cNvSpPr/>
            <p:nvPr/>
          </p:nvSpPr>
          <p:spPr>
            <a:xfrm>
              <a:off x="4309200" y="5127480"/>
              <a:ext cx="255960" cy="255960"/>
            </a:xfrm>
            <a:prstGeom prst="ellipse">
              <a:avLst/>
            </a:prstGeom>
            <a:solidFill>
              <a:srgbClr val="59595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0" name="椭圆 38"/>
            <p:cNvSpPr/>
            <p:nvPr/>
          </p:nvSpPr>
          <p:spPr>
            <a:xfrm>
              <a:off x="4309200" y="5487840"/>
              <a:ext cx="255960" cy="255960"/>
            </a:xfrm>
            <a:prstGeom prst="ellipse">
              <a:avLst/>
            </a:prstGeom>
            <a:solidFill>
              <a:srgbClr val="f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61" name="组合 15"/>
            <p:cNvGrpSpPr/>
            <p:nvPr/>
          </p:nvGrpSpPr>
          <p:grpSpPr>
            <a:xfrm>
              <a:off x="2836800" y="4733280"/>
              <a:ext cx="1604520" cy="1040040"/>
              <a:chOff x="2836800" y="4733280"/>
              <a:chExt cx="1604520" cy="1040040"/>
            </a:xfrm>
          </p:grpSpPr>
          <p:sp>
            <p:nvSpPr>
              <p:cNvPr id="362" name="文本框 39"/>
              <p:cNvSpPr/>
              <p:nvPr/>
            </p:nvSpPr>
            <p:spPr>
              <a:xfrm>
                <a:off x="2836800" y="4733280"/>
                <a:ext cx="16045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Block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文本框 40"/>
              <p:cNvSpPr/>
              <p:nvPr/>
            </p:nvSpPr>
            <p:spPr>
              <a:xfrm>
                <a:off x="2836800" y="5110560"/>
                <a:ext cx="16045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Block 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文本框 41"/>
              <p:cNvSpPr/>
              <p:nvPr/>
            </p:nvSpPr>
            <p:spPr>
              <a:xfrm>
                <a:off x="2836800" y="5470560"/>
                <a:ext cx="16045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Block 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5" name="文本框 42"/>
          <p:cNvSpPr/>
          <p:nvPr/>
        </p:nvSpPr>
        <p:spPr>
          <a:xfrm>
            <a:off x="5706360" y="513792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43"/>
          <p:cNvSpPr/>
          <p:nvPr/>
        </p:nvSpPr>
        <p:spPr>
          <a:xfrm>
            <a:off x="7161480" y="513792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44"/>
          <p:cNvSpPr/>
          <p:nvPr/>
        </p:nvSpPr>
        <p:spPr>
          <a:xfrm>
            <a:off x="8649360" y="513792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45"/>
          <p:cNvSpPr/>
          <p:nvPr/>
        </p:nvSpPr>
        <p:spPr>
          <a:xfrm>
            <a:off x="10144080" y="513792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16"/>
          <p:cNvGrpSpPr/>
          <p:nvPr/>
        </p:nvGrpSpPr>
        <p:grpSpPr>
          <a:xfrm>
            <a:off x="585720" y="1711800"/>
            <a:ext cx="3196440" cy="469440"/>
            <a:chOff x="585720" y="1711800"/>
            <a:chExt cx="3196440" cy="469440"/>
          </a:xfrm>
        </p:grpSpPr>
        <p:sp>
          <p:nvSpPr>
            <p:cNvPr id="370" name="圆角矩形 47"/>
            <p:cNvSpPr/>
            <p:nvPr/>
          </p:nvSpPr>
          <p:spPr>
            <a:xfrm>
              <a:off x="585720" y="1711800"/>
              <a:ext cx="3196440" cy="46944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1" name="文本框 48"/>
            <p:cNvSpPr/>
            <p:nvPr/>
          </p:nvSpPr>
          <p:spPr>
            <a:xfrm>
              <a:off x="878400" y="1736280"/>
              <a:ext cx="26110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文本框 51"/>
          <p:cNvSpPr/>
          <p:nvPr/>
        </p:nvSpPr>
        <p:spPr>
          <a:xfrm>
            <a:off x="756720" y="2480760"/>
            <a:ext cx="2732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5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25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8" dur="125" autoRev="1" fill="hold"/>
                                        <p:tgtEl>
                                          <p:spTgt spid="33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5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5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5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5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9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900"/>
                            </p:stCondLst>
                            <p:childTnLst>
                              <p:par>
                                <p:cTn id="5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35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35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35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35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35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5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组合 1"/>
          <p:cNvGrpSpPr/>
          <p:nvPr/>
        </p:nvGrpSpPr>
        <p:grpSpPr>
          <a:xfrm>
            <a:off x="360" y="6299280"/>
            <a:ext cx="12191040" cy="306360"/>
            <a:chOff x="360" y="6299280"/>
            <a:chExt cx="12191040" cy="306360"/>
          </a:xfrm>
        </p:grpSpPr>
        <p:sp>
          <p:nvSpPr>
            <p:cNvPr id="374" name="圆角矩形 2"/>
            <p:cNvSpPr/>
            <p:nvPr/>
          </p:nvSpPr>
          <p:spPr>
            <a:xfrm>
              <a:off x="585720" y="6299280"/>
              <a:ext cx="11021760" cy="30636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5" name="任意多边形 3"/>
            <p:cNvSpPr/>
            <p:nvPr/>
          </p:nvSpPr>
          <p:spPr>
            <a:xfrm>
              <a:off x="117219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6" name="燕尾形 4"/>
            <p:cNvSpPr/>
            <p:nvPr/>
          </p:nvSpPr>
          <p:spPr>
            <a:xfrm>
              <a:off x="11926080" y="635112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任意多边形 5"/>
            <p:cNvSpPr/>
            <p:nvPr/>
          </p:nvSpPr>
          <p:spPr>
            <a:xfrm rot="10800000">
              <a:off x="3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8" name="燕尾形 6"/>
            <p:cNvSpPr/>
            <p:nvPr/>
          </p:nvSpPr>
          <p:spPr>
            <a:xfrm rot="10800000">
              <a:off x="115920" y="635148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9" name="组合 7"/>
          <p:cNvGrpSpPr/>
          <p:nvPr/>
        </p:nvGrpSpPr>
        <p:grpSpPr>
          <a:xfrm>
            <a:off x="4807440" y="388080"/>
            <a:ext cx="2652120" cy="939600"/>
            <a:chOff x="4807440" y="388080"/>
            <a:chExt cx="2652120" cy="939600"/>
          </a:xfrm>
        </p:grpSpPr>
        <p:sp>
          <p:nvSpPr>
            <p:cNvPr id="380" name="文本框 11"/>
            <p:cNvSpPr/>
            <p:nvPr/>
          </p:nvSpPr>
          <p:spPr>
            <a:xfrm>
              <a:off x="5253840" y="388080"/>
              <a:ext cx="16840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供需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变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文本框 12"/>
            <p:cNvSpPr/>
            <p:nvPr/>
          </p:nvSpPr>
          <p:spPr>
            <a:xfrm>
              <a:off x="4807440" y="872280"/>
              <a:ext cx="2652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Needed chang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任意多边形 23"/>
          <p:cNvSpPr/>
          <p:nvPr/>
        </p:nvSpPr>
        <p:spPr>
          <a:xfrm rot="18289200">
            <a:off x="5174640" y="1832760"/>
            <a:ext cx="1637640" cy="1534320"/>
          </a:xfrm>
          <a:custGeom>
            <a:avLst/>
            <a:gdLst>
              <a:gd name="textAreaLeft" fmla="*/ 0 w 1637640"/>
              <a:gd name="textAreaRight" fmla="*/ 1638000 w 1637640"/>
              <a:gd name="textAreaTop" fmla="*/ 0 h 1534320"/>
              <a:gd name="textAreaBottom" fmla="*/ 1534680 h 1534320"/>
            </a:gdLst>
            <a:ahLst/>
            <a:rect l="textAreaLeft" t="textAreaTop" r="textAreaRight" b="textAreaBottom"/>
            <a:pathLst>
              <a:path w="1637932" h="1534568">
                <a:moveTo>
                  <a:pt x="1290436" y="104339"/>
                </a:moveTo>
                <a:lnTo>
                  <a:pt x="1221945" y="317022"/>
                </a:lnTo>
                <a:lnTo>
                  <a:pt x="1280242" y="377856"/>
                </a:lnTo>
                <a:cubicBezTo>
                  <a:pt x="1299188" y="400848"/>
                  <a:pt x="1316638" y="425562"/>
                  <a:pt x="1332363" y="451939"/>
                </a:cubicBezTo>
                <a:cubicBezTo>
                  <a:pt x="1374297" y="522278"/>
                  <a:pt x="1399990" y="597786"/>
                  <a:pt x="1410547" y="674104"/>
                </a:cubicBezTo>
                <a:lnTo>
                  <a:pt x="1410559" y="674418"/>
                </a:lnTo>
                <a:lnTo>
                  <a:pt x="1637932" y="739771"/>
                </a:lnTo>
                <a:lnTo>
                  <a:pt x="1626701" y="875619"/>
                </a:lnTo>
                <a:lnTo>
                  <a:pt x="1392154" y="917214"/>
                </a:lnTo>
                <a:lnTo>
                  <a:pt x="1359597" y="1008278"/>
                </a:lnTo>
                <a:cubicBezTo>
                  <a:pt x="1323177" y="1085830"/>
                  <a:pt x="1269693" y="1156129"/>
                  <a:pt x="1200716" y="1212967"/>
                </a:cubicBezTo>
                <a:lnTo>
                  <a:pt x="1153637" y="1246090"/>
                </a:lnTo>
                <a:lnTo>
                  <a:pt x="1183792" y="1491749"/>
                </a:lnTo>
                <a:lnTo>
                  <a:pt x="1054381" y="1534568"/>
                </a:lnTo>
                <a:lnTo>
                  <a:pt x="926292" y="1338010"/>
                </a:lnTo>
                <a:lnTo>
                  <a:pt x="904468" y="1343272"/>
                </a:lnTo>
                <a:cubicBezTo>
                  <a:pt x="818611" y="1355148"/>
                  <a:pt x="731731" y="1347866"/>
                  <a:pt x="650033" y="1322996"/>
                </a:cubicBezTo>
                <a:lnTo>
                  <a:pt x="646378" y="1321590"/>
                </a:lnTo>
                <a:lnTo>
                  <a:pt x="483605" y="1512878"/>
                </a:lnTo>
                <a:lnTo>
                  <a:pt x="364484" y="1446616"/>
                </a:lnTo>
                <a:lnTo>
                  <a:pt x="427173" y="1200722"/>
                </a:lnTo>
                <a:lnTo>
                  <a:pt x="438951" y="1206662"/>
                </a:lnTo>
                <a:lnTo>
                  <a:pt x="426700" y="1197196"/>
                </a:lnTo>
                <a:cubicBezTo>
                  <a:pt x="383285" y="1158213"/>
                  <a:pt x="344933" y="1112112"/>
                  <a:pt x="313483" y="1059358"/>
                </a:cubicBezTo>
                <a:cubicBezTo>
                  <a:pt x="295137" y="1028585"/>
                  <a:pt x="279899" y="996822"/>
                  <a:pt x="267678" y="964435"/>
                </a:cubicBezTo>
                <a:lnTo>
                  <a:pt x="245876" y="886798"/>
                </a:lnTo>
                <a:lnTo>
                  <a:pt x="0" y="804399"/>
                </a:lnTo>
                <a:lnTo>
                  <a:pt x="17124" y="669169"/>
                </a:lnTo>
                <a:lnTo>
                  <a:pt x="243066" y="639159"/>
                </a:lnTo>
                <a:lnTo>
                  <a:pt x="259883" y="569192"/>
                </a:lnTo>
                <a:cubicBezTo>
                  <a:pt x="291172" y="474573"/>
                  <a:pt x="346280" y="387478"/>
                  <a:pt x="422714" y="317766"/>
                </a:cubicBezTo>
                <a:lnTo>
                  <a:pt x="447591" y="299319"/>
                </a:lnTo>
                <a:lnTo>
                  <a:pt x="382584" y="60960"/>
                </a:lnTo>
                <a:lnTo>
                  <a:pt x="504504" y="0"/>
                </a:lnTo>
                <a:lnTo>
                  <a:pt x="667947" y="185731"/>
                </a:lnTo>
                <a:lnTo>
                  <a:pt x="741378" y="168025"/>
                </a:lnTo>
                <a:cubicBezTo>
                  <a:pt x="827235" y="156150"/>
                  <a:pt x="914116" y="163432"/>
                  <a:pt x="995813" y="188301"/>
                </a:cubicBezTo>
                <a:lnTo>
                  <a:pt x="1016288" y="196178"/>
                </a:lnTo>
                <a:lnTo>
                  <a:pt x="1175644" y="30832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3" name="任意多边形 24"/>
          <p:cNvSpPr/>
          <p:nvPr/>
        </p:nvSpPr>
        <p:spPr>
          <a:xfrm rot="16701600">
            <a:off x="4244760" y="3006360"/>
            <a:ext cx="1637640" cy="1534320"/>
          </a:xfrm>
          <a:custGeom>
            <a:avLst/>
            <a:gdLst>
              <a:gd name="textAreaLeft" fmla="*/ 0 w 1637640"/>
              <a:gd name="textAreaRight" fmla="*/ 1638000 w 1637640"/>
              <a:gd name="textAreaTop" fmla="*/ 0 h 1534320"/>
              <a:gd name="textAreaBottom" fmla="*/ 1534680 h 1534320"/>
            </a:gdLst>
            <a:ahLst/>
            <a:rect l="textAreaLeft" t="textAreaTop" r="textAreaRight" b="textAreaBottom"/>
            <a:pathLst>
              <a:path w="1637932" h="1534568">
                <a:moveTo>
                  <a:pt x="1290436" y="104339"/>
                </a:moveTo>
                <a:lnTo>
                  <a:pt x="1221945" y="317022"/>
                </a:lnTo>
                <a:lnTo>
                  <a:pt x="1280242" y="377856"/>
                </a:lnTo>
                <a:cubicBezTo>
                  <a:pt x="1299188" y="400848"/>
                  <a:pt x="1316638" y="425562"/>
                  <a:pt x="1332363" y="451939"/>
                </a:cubicBezTo>
                <a:cubicBezTo>
                  <a:pt x="1374297" y="522278"/>
                  <a:pt x="1399990" y="597786"/>
                  <a:pt x="1410547" y="674104"/>
                </a:cubicBezTo>
                <a:lnTo>
                  <a:pt x="1410559" y="674418"/>
                </a:lnTo>
                <a:lnTo>
                  <a:pt x="1637932" y="739771"/>
                </a:lnTo>
                <a:lnTo>
                  <a:pt x="1626701" y="875619"/>
                </a:lnTo>
                <a:lnTo>
                  <a:pt x="1392154" y="917214"/>
                </a:lnTo>
                <a:lnTo>
                  <a:pt x="1359597" y="1008278"/>
                </a:lnTo>
                <a:cubicBezTo>
                  <a:pt x="1323177" y="1085830"/>
                  <a:pt x="1269693" y="1156129"/>
                  <a:pt x="1200716" y="1212967"/>
                </a:cubicBezTo>
                <a:lnTo>
                  <a:pt x="1153637" y="1246090"/>
                </a:lnTo>
                <a:lnTo>
                  <a:pt x="1183792" y="1491749"/>
                </a:lnTo>
                <a:lnTo>
                  <a:pt x="1054381" y="1534568"/>
                </a:lnTo>
                <a:lnTo>
                  <a:pt x="926292" y="1338010"/>
                </a:lnTo>
                <a:lnTo>
                  <a:pt x="904468" y="1343272"/>
                </a:lnTo>
                <a:cubicBezTo>
                  <a:pt x="818611" y="1355148"/>
                  <a:pt x="731731" y="1347866"/>
                  <a:pt x="650033" y="1322996"/>
                </a:cubicBezTo>
                <a:lnTo>
                  <a:pt x="646378" y="1321590"/>
                </a:lnTo>
                <a:lnTo>
                  <a:pt x="483605" y="1512878"/>
                </a:lnTo>
                <a:lnTo>
                  <a:pt x="364484" y="1446616"/>
                </a:lnTo>
                <a:lnTo>
                  <a:pt x="427173" y="1200722"/>
                </a:lnTo>
                <a:lnTo>
                  <a:pt x="438951" y="1206662"/>
                </a:lnTo>
                <a:lnTo>
                  <a:pt x="426700" y="1197196"/>
                </a:lnTo>
                <a:cubicBezTo>
                  <a:pt x="383285" y="1158213"/>
                  <a:pt x="344933" y="1112112"/>
                  <a:pt x="313483" y="1059358"/>
                </a:cubicBezTo>
                <a:cubicBezTo>
                  <a:pt x="295137" y="1028585"/>
                  <a:pt x="279899" y="996822"/>
                  <a:pt x="267678" y="964435"/>
                </a:cubicBezTo>
                <a:lnTo>
                  <a:pt x="245876" y="886798"/>
                </a:lnTo>
                <a:lnTo>
                  <a:pt x="0" y="804399"/>
                </a:lnTo>
                <a:lnTo>
                  <a:pt x="17124" y="669169"/>
                </a:lnTo>
                <a:lnTo>
                  <a:pt x="243066" y="639159"/>
                </a:lnTo>
                <a:lnTo>
                  <a:pt x="259883" y="569192"/>
                </a:lnTo>
                <a:cubicBezTo>
                  <a:pt x="291172" y="474573"/>
                  <a:pt x="346280" y="387478"/>
                  <a:pt x="422714" y="317766"/>
                </a:cubicBezTo>
                <a:lnTo>
                  <a:pt x="447591" y="299319"/>
                </a:lnTo>
                <a:lnTo>
                  <a:pt x="382584" y="60960"/>
                </a:lnTo>
                <a:lnTo>
                  <a:pt x="504504" y="0"/>
                </a:lnTo>
                <a:lnTo>
                  <a:pt x="667947" y="185731"/>
                </a:lnTo>
                <a:lnTo>
                  <a:pt x="741378" y="168025"/>
                </a:lnTo>
                <a:cubicBezTo>
                  <a:pt x="827235" y="156150"/>
                  <a:pt x="914116" y="163432"/>
                  <a:pt x="995813" y="188301"/>
                </a:cubicBezTo>
                <a:lnTo>
                  <a:pt x="1016288" y="196178"/>
                </a:lnTo>
                <a:lnTo>
                  <a:pt x="1175644" y="30832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4" name="任意多边形 35"/>
          <p:cNvSpPr/>
          <p:nvPr/>
        </p:nvSpPr>
        <p:spPr>
          <a:xfrm rot="10006800">
            <a:off x="5574960" y="3512520"/>
            <a:ext cx="2347200" cy="2365200"/>
          </a:xfrm>
          <a:custGeom>
            <a:avLst/>
            <a:gdLst>
              <a:gd name="textAreaLeft" fmla="*/ 0 w 2347200"/>
              <a:gd name="textAreaRight" fmla="*/ 2347560 w 2347200"/>
              <a:gd name="textAreaTop" fmla="*/ 0 h 2365200"/>
              <a:gd name="textAreaBottom" fmla="*/ 2365560 h 2365200"/>
            </a:gdLst>
            <a:ahLst/>
            <a:rect l="textAreaLeft" t="textAreaTop" r="textAreaRight" b="textAreaBottom"/>
            <a:pathLst>
              <a:path w="2347410" h="2365579">
                <a:moveTo>
                  <a:pt x="364349" y="2050649"/>
                </a:moveTo>
                <a:lnTo>
                  <a:pt x="274944" y="1947755"/>
                </a:lnTo>
                <a:lnTo>
                  <a:pt x="416920" y="1739077"/>
                </a:lnTo>
                <a:lnTo>
                  <a:pt x="415010" y="1736668"/>
                </a:lnTo>
                <a:cubicBezTo>
                  <a:pt x="361537" y="1661931"/>
                  <a:pt x="319715" y="1580257"/>
                  <a:pt x="290251" y="1494579"/>
                </a:cubicBezTo>
                <a:lnTo>
                  <a:pt x="271164" y="1422732"/>
                </a:lnTo>
                <a:lnTo>
                  <a:pt x="274907" y="1447104"/>
                </a:lnTo>
                <a:lnTo>
                  <a:pt x="15216" y="1424838"/>
                </a:lnTo>
                <a:lnTo>
                  <a:pt x="0" y="1289379"/>
                </a:lnTo>
                <a:lnTo>
                  <a:pt x="236598" y="1197647"/>
                </a:lnTo>
                <a:lnTo>
                  <a:pt x="239895" y="1219115"/>
                </a:lnTo>
                <a:lnTo>
                  <a:pt x="243450" y="1091910"/>
                </a:lnTo>
                <a:cubicBezTo>
                  <a:pt x="250344" y="1023595"/>
                  <a:pt x="264784" y="955503"/>
                  <a:pt x="287068" y="888874"/>
                </a:cubicBezTo>
                <a:lnTo>
                  <a:pt x="291451" y="877877"/>
                </a:lnTo>
                <a:lnTo>
                  <a:pt x="93043" y="719817"/>
                </a:lnTo>
                <a:lnTo>
                  <a:pt x="155420" y="598616"/>
                </a:lnTo>
                <a:lnTo>
                  <a:pt x="403211" y="653322"/>
                </a:lnTo>
                <a:lnTo>
                  <a:pt x="395404" y="670134"/>
                </a:lnTo>
                <a:lnTo>
                  <a:pt x="462046" y="577789"/>
                </a:lnTo>
                <a:cubicBezTo>
                  <a:pt x="492615" y="541586"/>
                  <a:pt x="525529" y="508150"/>
                  <a:pt x="560422" y="477568"/>
                </a:cubicBezTo>
                <a:lnTo>
                  <a:pt x="611565" y="437022"/>
                </a:lnTo>
                <a:lnTo>
                  <a:pt x="593237" y="447135"/>
                </a:lnTo>
                <a:lnTo>
                  <a:pt x="524657" y="195675"/>
                </a:lnTo>
                <a:lnTo>
                  <a:pt x="646577" y="134715"/>
                </a:lnTo>
                <a:lnTo>
                  <a:pt x="811307" y="321908"/>
                </a:lnTo>
                <a:lnTo>
                  <a:pt x="961730" y="270158"/>
                </a:lnTo>
                <a:lnTo>
                  <a:pt x="1071481" y="253322"/>
                </a:lnTo>
                <a:lnTo>
                  <a:pt x="1038814" y="253343"/>
                </a:lnTo>
                <a:lnTo>
                  <a:pt x="1100073" y="0"/>
                </a:lnTo>
                <a:lnTo>
                  <a:pt x="1236275" y="5431"/>
                </a:lnTo>
                <a:lnTo>
                  <a:pt x="1290754" y="251180"/>
                </a:lnTo>
                <a:lnTo>
                  <a:pt x="1435910" y="278597"/>
                </a:lnTo>
                <a:cubicBezTo>
                  <a:pt x="1488191" y="293229"/>
                  <a:pt x="1539754" y="312565"/>
                  <a:pt x="1590017" y="336746"/>
                </a:cubicBezTo>
                <a:lnTo>
                  <a:pt x="1668277" y="379413"/>
                </a:lnTo>
                <a:lnTo>
                  <a:pt x="1867401" y="228197"/>
                </a:lnTo>
                <a:lnTo>
                  <a:pt x="1969529" y="318478"/>
                </a:lnTo>
                <a:lnTo>
                  <a:pt x="1860275" y="535760"/>
                </a:lnTo>
                <a:lnTo>
                  <a:pt x="1906890" y="583258"/>
                </a:lnTo>
                <a:cubicBezTo>
                  <a:pt x="1971084" y="660267"/>
                  <a:pt x="2021809" y="746279"/>
                  <a:pt x="2058170" y="837562"/>
                </a:cubicBezTo>
                <a:lnTo>
                  <a:pt x="2076866" y="897696"/>
                </a:lnTo>
                <a:lnTo>
                  <a:pt x="2072633" y="869974"/>
                </a:lnTo>
                <a:lnTo>
                  <a:pt x="2332305" y="892455"/>
                </a:lnTo>
                <a:lnTo>
                  <a:pt x="2347410" y="1027926"/>
                </a:lnTo>
                <a:lnTo>
                  <a:pt x="2122025" y="1115097"/>
                </a:lnTo>
                <a:lnTo>
                  <a:pt x="2123263" y="1123499"/>
                </a:lnTo>
                <a:cubicBezTo>
                  <a:pt x="2129999" y="1221596"/>
                  <a:pt x="2121474" y="1321236"/>
                  <a:pt x="2096792" y="1418688"/>
                </a:cubicBezTo>
                <a:lnTo>
                  <a:pt x="2074408" y="1491585"/>
                </a:lnTo>
                <a:lnTo>
                  <a:pt x="2275939" y="1634607"/>
                </a:lnTo>
                <a:lnTo>
                  <a:pt x="2220382" y="1759082"/>
                </a:lnTo>
                <a:lnTo>
                  <a:pt x="1969937" y="1718205"/>
                </a:lnTo>
                <a:lnTo>
                  <a:pt x="1983473" y="1684244"/>
                </a:lnTo>
                <a:lnTo>
                  <a:pt x="1917221" y="1778513"/>
                </a:lnTo>
                <a:cubicBezTo>
                  <a:pt x="1892406" y="1809448"/>
                  <a:pt x="1865921" y="1838472"/>
                  <a:pt x="1837977" y="1865535"/>
                </a:cubicBezTo>
                <a:lnTo>
                  <a:pt x="1750768" y="1940111"/>
                </a:lnTo>
                <a:lnTo>
                  <a:pt x="1836704" y="2163756"/>
                </a:lnTo>
                <a:lnTo>
                  <a:pt x="1721523" y="2236653"/>
                </a:lnTo>
                <a:lnTo>
                  <a:pt x="1535597" y="2063953"/>
                </a:lnTo>
                <a:lnTo>
                  <a:pt x="1544730" y="2057640"/>
                </a:lnTo>
                <a:lnTo>
                  <a:pt x="1446194" y="2092855"/>
                </a:lnTo>
                <a:cubicBezTo>
                  <a:pt x="1373752" y="2113960"/>
                  <a:pt x="1298869" y="2126402"/>
                  <a:pt x="1223244" y="2129773"/>
                </a:cubicBezTo>
                <a:lnTo>
                  <a:pt x="1186922" y="2129639"/>
                </a:lnTo>
                <a:lnTo>
                  <a:pt x="1118220" y="2365579"/>
                </a:lnTo>
                <a:lnTo>
                  <a:pt x="982412" y="2353877"/>
                </a:lnTo>
                <a:lnTo>
                  <a:pt x="938968" y="2103865"/>
                </a:lnTo>
                <a:lnTo>
                  <a:pt x="965984" y="2105093"/>
                </a:lnTo>
                <a:lnTo>
                  <a:pt x="950718" y="2102019"/>
                </a:lnTo>
                <a:cubicBezTo>
                  <a:pt x="860763" y="2079235"/>
                  <a:pt x="772671" y="2042685"/>
                  <a:pt x="689379" y="1991663"/>
                </a:cubicBezTo>
                <a:cubicBezTo>
                  <a:pt x="661614" y="1974656"/>
                  <a:pt x="635041" y="1956443"/>
                  <a:pt x="609683" y="1937133"/>
                </a:cubicBezTo>
                <a:lnTo>
                  <a:pt x="588945" y="1919629"/>
                </a:lnTo>
                <a:lnTo>
                  <a:pt x="590803" y="1921600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85" name="组合 66"/>
          <p:cNvGrpSpPr/>
          <p:nvPr/>
        </p:nvGrpSpPr>
        <p:grpSpPr>
          <a:xfrm>
            <a:off x="7091640" y="3259080"/>
            <a:ext cx="1159560" cy="2423880"/>
            <a:chOff x="7091640" y="3259080"/>
            <a:chExt cx="1159560" cy="2423880"/>
          </a:xfrm>
        </p:grpSpPr>
        <p:sp>
          <p:nvSpPr>
            <p:cNvPr id="386" name="任意多边形 47"/>
            <p:cNvSpPr/>
            <p:nvPr/>
          </p:nvSpPr>
          <p:spPr>
            <a:xfrm>
              <a:off x="7091640" y="3259080"/>
              <a:ext cx="1159560" cy="2260800"/>
            </a:xfrm>
            <a:custGeom>
              <a:avLst/>
              <a:gdLst>
                <a:gd name="textAreaLeft" fmla="*/ 0 w 1159560"/>
                <a:gd name="textAreaRight" fmla="*/ 1159920 w 1159560"/>
                <a:gd name="textAreaTop" fmla="*/ 0 h 2260800"/>
                <a:gd name="textAreaBottom" fmla="*/ 2261160 h 2260800"/>
              </a:gdLst>
              <a:ahLst/>
              <a:rect l="textAreaLeft" t="textAreaTop" r="textAreaRight" b="textAreaBottom"/>
              <a:pathLst>
                <a:path w="1159813" h="2261006">
                  <a:moveTo>
                    <a:pt x="54764" y="0"/>
                  </a:moveTo>
                  <a:lnTo>
                    <a:pt x="166926" y="28840"/>
                  </a:lnTo>
                  <a:cubicBezTo>
                    <a:pt x="742155" y="207755"/>
                    <a:pt x="1159813" y="744307"/>
                    <a:pt x="1159813" y="1378409"/>
                  </a:cubicBezTo>
                  <a:cubicBezTo>
                    <a:pt x="1159813" y="1671072"/>
                    <a:pt x="1070845" y="1942954"/>
                    <a:pt x="918478" y="2168486"/>
                  </a:cubicBezTo>
                  <a:lnTo>
                    <a:pt x="849293" y="2261006"/>
                  </a:lnTo>
                  <a:lnTo>
                    <a:pt x="745413" y="2184566"/>
                  </a:lnTo>
                  <a:lnTo>
                    <a:pt x="811418" y="2096300"/>
                  </a:lnTo>
                  <a:cubicBezTo>
                    <a:pt x="949863" y="1891374"/>
                    <a:pt x="1030703" y="1644332"/>
                    <a:pt x="1030703" y="1378409"/>
                  </a:cubicBezTo>
                  <a:cubicBezTo>
                    <a:pt x="1030703" y="757922"/>
                    <a:pt x="590575" y="240233"/>
                    <a:pt x="5483" y="120506"/>
                  </a:cubicBezTo>
                  <a:lnTo>
                    <a:pt x="0" y="119669"/>
                  </a:lnTo>
                  <a:lnTo>
                    <a:pt x="54764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7" name="等腰三角形 48"/>
            <p:cNvSpPr/>
            <p:nvPr/>
          </p:nvSpPr>
          <p:spPr>
            <a:xfrm rot="13062000">
              <a:off x="7706520" y="5450400"/>
              <a:ext cx="272880" cy="16632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88" name="组合 65"/>
          <p:cNvGrpSpPr/>
          <p:nvPr/>
        </p:nvGrpSpPr>
        <p:grpSpPr>
          <a:xfrm>
            <a:off x="4820400" y="1665360"/>
            <a:ext cx="609480" cy="999000"/>
            <a:chOff x="4820400" y="1665360"/>
            <a:chExt cx="609480" cy="999000"/>
          </a:xfrm>
        </p:grpSpPr>
        <p:sp>
          <p:nvSpPr>
            <p:cNvPr id="389" name="任意多边形 54"/>
            <p:cNvSpPr/>
            <p:nvPr/>
          </p:nvSpPr>
          <p:spPr>
            <a:xfrm>
              <a:off x="4820400" y="1809000"/>
              <a:ext cx="443160" cy="855360"/>
            </a:xfrm>
            <a:custGeom>
              <a:avLst/>
              <a:gdLst>
                <a:gd name="textAreaLeft" fmla="*/ 0 w 443160"/>
                <a:gd name="textAreaRight" fmla="*/ 443520 w 443160"/>
                <a:gd name="textAreaTop" fmla="*/ 0 h 855360"/>
                <a:gd name="textAreaBottom" fmla="*/ 855720 h 855360"/>
              </a:gdLst>
              <a:ahLst/>
              <a:rect l="textAreaLeft" t="textAreaTop" r="textAreaRight" b="textAreaBottom"/>
              <a:pathLst>
                <a:path w="443478" h="855578">
                  <a:moveTo>
                    <a:pt x="367224" y="0"/>
                  </a:moveTo>
                  <a:lnTo>
                    <a:pt x="443478" y="107262"/>
                  </a:lnTo>
                  <a:lnTo>
                    <a:pt x="366350" y="203612"/>
                  </a:lnTo>
                  <a:cubicBezTo>
                    <a:pt x="340973" y="238801"/>
                    <a:pt x="317130" y="275606"/>
                    <a:pt x="294969" y="313989"/>
                  </a:cubicBezTo>
                  <a:cubicBezTo>
                    <a:pt x="206328" y="467520"/>
                    <a:pt x="152998" y="631747"/>
                    <a:pt x="132460" y="797268"/>
                  </a:cubicBezTo>
                  <a:lnTo>
                    <a:pt x="128098" y="855578"/>
                  </a:lnTo>
                  <a:lnTo>
                    <a:pt x="0" y="838869"/>
                  </a:lnTo>
                  <a:lnTo>
                    <a:pt x="4306" y="781309"/>
                  </a:lnTo>
                  <a:cubicBezTo>
                    <a:pt x="26911" y="599144"/>
                    <a:pt x="85603" y="418403"/>
                    <a:pt x="183157" y="249434"/>
                  </a:cubicBezTo>
                  <a:cubicBezTo>
                    <a:pt x="231934" y="164950"/>
                    <a:pt x="288118" y="87408"/>
                    <a:pt x="350414" y="17154"/>
                  </a:cubicBezTo>
                  <a:lnTo>
                    <a:pt x="367224" y="0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0" name="等腰三角形 56"/>
            <p:cNvSpPr/>
            <p:nvPr/>
          </p:nvSpPr>
          <p:spPr>
            <a:xfrm rot="2749800">
              <a:off x="5138640" y="1737720"/>
              <a:ext cx="272880" cy="166320"/>
            </a:xfrm>
            <a:prstGeom prst="triangle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91" name="组合 64"/>
          <p:cNvGrpSpPr/>
          <p:nvPr/>
        </p:nvGrpSpPr>
        <p:grpSpPr>
          <a:xfrm>
            <a:off x="3855240" y="2835360"/>
            <a:ext cx="593280" cy="1280520"/>
            <a:chOff x="3855240" y="2835360"/>
            <a:chExt cx="593280" cy="1280520"/>
          </a:xfrm>
        </p:grpSpPr>
        <p:sp>
          <p:nvSpPr>
            <p:cNvPr id="392" name="任意多边形 62"/>
            <p:cNvSpPr/>
            <p:nvPr/>
          </p:nvSpPr>
          <p:spPr>
            <a:xfrm>
              <a:off x="3922200" y="2835360"/>
              <a:ext cx="526320" cy="1123920"/>
            </a:xfrm>
            <a:custGeom>
              <a:avLst/>
              <a:gdLst>
                <a:gd name="textAreaLeft" fmla="*/ 0 w 526320"/>
                <a:gd name="textAreaRight" fmla="*/ 526680 w 526320"/>
                <a:gd name="textAreaTop" fmla="*/ 0 h 1123920"/>
                <a:gd name="textAreaBottom" fmla="*/ 1124280 h 1123920"/>
              </a:gdLst>
              <a:ahLst/>
              <a:rect l="textAreaLeft" t="textAreaTop" r="textAreaRight" b="textAreaBottom"/>
              <a:pathLst>
                <a:path w="526514" h="1124123">
                  <a:moveTo>
                    <a:pt x="416589" y="0"/>
                  </a:moveTo>
                  <a:lnTo>
                    <a:pt x="526514" y="74666"/>
                  </a:lnTo>
                  <a:lnTo>
                    <a:pt x="505182" y="93705"/>
                  </a:lnTo>
                  <a:cubicBezTo>
                    <a:pt x="254468" y="344420"/>
                    <a:pt x="129110" y="673021"/>
                    <a:pt x="129110" y="1001622"/>
                  </a:cubicBezTo>
                  <a:lnTo>
                    <a:pt x="134822" y="1121257"/>
                  </a:lnTo>
                  <a:lnTo>
                    <a:pt x="5849" y="1124123"/>
                  </a:lnTo>
                  <a:lnTo>
                    <a:pt x="0" y="1001623"/>
                  </a:lnTo>
                  <a:cubicBezTo>
                    <a:pt x="0" y="639980"/>
                    <a:pt x="137963" y="278336"/>
                    <a:pt x="413887" y="2411"/>
                  </a:cubicBezTo>
                  <a:lnTo>
                    <a:pt x="416589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3" name="等腰三角形 63"/>
            <p:cNvSpPr/>
            <p:nvPr/>
          </p:nvSpPr>
          <p:spPr>
            <a:xfrm rot="10800000">
              <a:off x="3855240" y="3949560"/>
              <a:ext cx="272880" cy="16632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94" name="文本框 68"/>
          <p:cNvSpPr/>
          <p:nvPr/>
        </p:nvSpPr>
        <p:spPr>
          <a:xfrm>
            <a:off x="5355720" y="240984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69"/>
          <p:cNvSpPr/>
          <p:nvPr/>
        </p:nvSpPr>
        <p:spPr>
          <a:xfrm>
            <a:off x="4405680" y="356580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70"/>
          <p:cNvSpPr/>
          <p:nvPr/>
        </p:nvSpPr>
        <p:spPr>
          <a:xfrm>
            <a:off x="6095880" y="451044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71"/>
          <p:cNvSpPr/>
          <p:nvPr/>
        </p:nvSpPr>
        <p:spPr>
          <a:xfrm>
            <a:off x="8628840" y="2967480"/>
            <a:ext cx="2577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72"/>
          <p:cNvSpPr/>
          <p:nvPr/>
        </p:nvSpPr>
        <p:spPr>
          <a:xfrm>
            <a:off x="585720" y="2236680"/>
            <a:ext cx="2577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73"/>
          <p:cNvSpPr/>
          <p:nvPr/>
        </p:nvSpPr>
        <p:spPr>
          <a:xfrm>
            <a:off x="585720" y="3596400"/>
            <a:ext cx="2577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5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8" dur="25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9" dur="125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7" dur="250" autoRev="1" fill="hold"/>
                                        <p:tgtEl>
                                          <p:spTgt spid="38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6" dur="250" autoRev="1" fill="hold"/>
                                        <p:tgtEl>
                                          <p:spTgt spid="38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5" dur="250" autoRev="1" fill="hold"/>
                                        <p:tgtEl>
                                          <p:spTgt spid="38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5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000"/>
                            </p:stCondLst>
                            <p:childTnLst>
                              <p:par>
                                <p:cTn id="6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67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Rot by="21600000">
                                      <p:cBhvr>
                                        <p:cTn id="668" dur="3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Rot by="21600000">
                                      <p:cBhvr>
                                        <p:cTn id="670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Rot by="21600000">
                                      <p:cBhvr>
                                        <p:cTn id="672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组合 1"/>
          <p:cNvGrpSpPr/>
          <p:nvPr/>
        </p:nvGrpSpPr>
        <p:grpSpPr>
          <a:xfrm>
            <a:off x="360" y="6299280"/>
            <a:ext cx="12191040" cy="306360"/>
            <a:chOff x="360" y="6299280"/>
            <a:chExt cx="12191040" cy="306360"/>
          </a:xfrm>
        </p:grpSpPr>
        <p:sp>
          <p:nvSpPr>
            <p:cNvPr id="401" name="圆角矩形 2"/>
            <p:cNvSpPr/>
            <p:nvPr/>
          </p:nvSpPr>
          <p:spPr>
            <a:xfrm>
              <a:off x="585720" y="6299280"/>
              <a:ext cx="11021760" cy="30636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2" name="任意多边形 3"/>
            <p:cNvSpPr/>
            <p:nvPr/>
          </p:nvSpPr>
          <p:spPr>
            <a:xfrm>
              <a:off x="117219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3" name="燕尾形 4"/>
            <p:cNvSpPr/>
            <p:nvPr/>
          </p:nvSpPr>
          <p:spPr>
            <a:xfrm>
              <a:off x="11926080" y="635112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任意多边形 5"/>
            <p:cNvSpPr/>
            <p:nvPr/>
          </p:nvSpPr>
          <p:spPr>
            <a:xfrm rot="10800000">
              <a:off x="3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5" name="燕尾形 6"/>
            <p:cNvSpPr/>
            <p:nvPr/>
          </p:nvSpPr>
          <p:spPr>
            <a:xfrm rot="10800000">
              <a:off x="115920" y="635148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6" name="组合 9"/>
          <p:cNvGrpSpPr/>
          <p:nvPr/>
        </p:nvGrpSpPr>
        <p:grpSpPr>
          <a:xfrm>
            <a:off x="4844520" y="388080"/>
            <a:ext cx="2594160" cy="939600"/>
            <a:chOff x="4844520" y="388080"/>
            <a:chExt cx="2594160" cy="939600"/>
          </a:xfrm>
        </p:grpSpPr>
        <p:sp>
          <p:nvSpPr>
            <p:cNvPr id="407" name="文本框 11"/>
            <p:cNvSpPr/>
            <p:nvPr/>
          </p:nvSpPr>
          <p:spPr>
            <a:xfrm>
              <a:off x="5253840" y="388080"/>
              <a:ext cx="16840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最终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结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文本框 12"/>
            <p:cNvSpPr/>
            <p:nvPr/>
          </p:nvSpPr>
          <p:spPr>
            <a:xfrm>
              <a:off x="4844520" y="872280"/>
              <a:ext cx="2594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Final conclu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组合 8"/>
          <p:cNvGrpSpPr/>
          <p:nvPr/>
        </p:nvGrpSpPr>
        <p:grpSpPr>
          <a:xfrm>
            <a:off x="7895880" y="1711800"/>
            <a:ext cx="3510360" cy="469440"/>
            <a:chOff x="7895880" y="1711800"/>
            <a:chExt cx="3510360" cy="469440"/>
          </a:xfrm>
        </p:grpSpPr>
        <p:sp>
          <p:nvSpPr>
            <p:cNvPr id="410" name="圆角矩形 10"/>
            <p:cNvSpPr/>
            <p:nvPr/>
          </p:nvSpPr>
          <p:spPr>
            <a:xfrm>
              <a:off x="7895880" y="1711800"/>
              <a:ext cx="3510360" cy="46944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1" name="文本框 14"/>
            <p:cNvSpPr/>
            <p:nvPr/>
          </p:nvSpPr>
          <p:spPr>
            <a:xfrm>
              <a:off x="8070120" y="1736280"/>
              <a:ext cx="31183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组合 7"/>
          <p:cNvGrpSpPr/>
          <p:nvPr/>
        </p:nvGrpSpPr>
        <p:grpSpPr>
          <a:xfrm>
            <a:off x="774720" y="1711800"/>
            <a:ext cx="3510360" cy="469440"/>
            <a:chOff x="774720" y="1711800"/>
            <a:chExt cx="3510360" cy="469440"/>
          </a:xfrm>
        </p:grpSpPr>
        <p:sp>
          <p:nvSpPr>
            <p:cNvPr id="413" name="圆角矩形 15"/>
            <p:cNvSpPr/>
            <p:nvPr/>
          </p:nvSpPr>
          <p:spPr>
            <a:xfrm>
              <a:off x="774720" y="1711800"/>
              <a:ext cx="3510360" cy="46944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4" name="文本框 16"/>
            <p:cNvSpPr/>
            <p:nvPr/>
          </p:nvSpPr>
          <p:spPr>
            <a:xfrm>
              <a:off x="948960" y="1736280"/>
              <a:ext cx="31183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任意多边形 67"/>
          <p:cNvSpPr/>
          <p:nvPr/>
        </p:nvSpPr>
        <p:spPr>
          <a:xfrm>
            <a:off x="5267880" y="3944160"/>
            <a:ext cx="1669680" cy="1694520"/>
          </a:xfrm>
          <a:custGeom>
            <a:avLst/>
            <a:gdLst>
              <a:gd name="textAreaLeft" fmla="*/ 0 w 1669680"/>
              <a:gd name="textAreaRight" fmla="*/ 1670040 w 1669680"/>
              <a:gd name="textAreaTop" fmla="*/ 0 h 1694520"/>
              <a:gd name="textAreaBottom" fmla="*/ 1694880 h 1694520"/>
            </a:gdLst>
            <a:ahLst/>
            <a:rect l="textAreaLeft" t="textAreaTop" r="textAreaRight" b="textAreaBottom"/>
            <a:pathLst>
              <a:path w="1670186" h="1694968">
                <a:moveTo>
                  <a:pt x="822702" y="0"/>
                </a:moveTo>
                <a:cubicBezTo>
                  <a:pt x="1290754" y="0"/>
                  <a:pt x="1670186" y="379432"/>
                  <a:pt x="1670186" y="847484"/>
                </a:cubicBezTo>
                <a:cubicBezTo>
                  <a:pt x="1670186" y="1315536"/>
                  <a:pt x="1290754" y="1694968"/>
                  <a:pt x="822702" y="1694968"/>
                </a:cubicBezTo>
                <a:cubicBezTo>
                  <a:pt x="438753" y="1694968"/>
                  <a:pt x="114438" y="1439644"/>
                  <a:pt x="10283" y="1089522"/>
                </a:cubicBezTo>
                <a:lnTo>
                  <a:pt x="0" y="1037455"/>
                </a:lnTo>
                <a:lnTo>
                  <a:pt x="193062" y="1031019"/>
                </a:lnTo>
                <a:lnTo>
                  <a:pt x="210224" y="1088803"/>
                </a:lnTo>
                <a:cubicBezTo>
                  <a:pt x="306474" y="1332892"/>
                  <a:pt x="544417" y="1505612"/>
                  <a:pt x="822702" y="1505612"/>
                </a:cubicBezTo>
                <a:cubicBezTo>
                  <a:pt x="1186176" y="1505612"/>
                  <a:pt x="1480830" y="1210958"/>
                  <a:pt x="1480830" y="847484"/>
                </a:cubicBezTo>
                <a:cubicBezTo>
                  <a:pt x="1480830" y="484010"/>
                  <a:pt x="1186176" y="189356"/>
                  <a:pt x="822702" y="189356"/>
                </a:cubicBezTo>
                <a:cubicBezTo>
                  <a:pt x="595531" y="189356"/>
                  <a:pt x="395243" y="304455"/>
                  <a:pt x="276972" y="479518"/>
                </a:cubicBezTo>
                <a:lnTo>
                  <a:pt x="248133" y="532650"/>
                </a:lnTo>
                <a:lnTo>
                  <a:pt x="100451" y="409582"/>
                </a:lnTo>
                <a:lnTo>
                  <a:pt x="119955" y="373648"/>
                </a:lnTo>
                <a:cubicBezTo>
                  <a:pt x="272254" y="148216"/>
                  <a:pt x="530170" y="0"/>
                  <a:pt x="822702" y="0"/>
                </a:cubicBez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6" name="任意多边形 57"/>
          <p:cNvSpPr/>
          <p:nvPr/>
        </p:nvSpPr>
        <p:spPr>
          <a:xfrm rot="14815800">
            <a:off x="5255280" y="1897560"/>
            <a:ext cx="1772280" cy="1610280"/>
          </a:xfrm>
          <a:custGeom>
            <a:avLst/>
            <a:gdLst>
              <a:gd name="textAreaLeft" fmla="*/ 0 w 1772280"/>
              <a:gd name="textAreaRight" fmla="*/ 1772640 w 1772280"/>
              <a:gd name="textAreaTop" fmla="*/ 0 h 1610280"/>
              <a:gd name="textAreaBottom" fmla="*/ 1610640 h 1610280"/>
            </a:gdLst>
            <a:ahLst/>
            <a:rect l="textAreaLeft" t="textAreaTop" r="textAreaRight" b="textAreaBottom"/>
            <a:pathLst>
              <a:path w="1772530" h="1610554">
                <a:moveTo>
                  <a:pt x="1714017" y="1072064"/>
                </a:moveTo>
                <a:cubicBezTo>
                  <a:pt x="1703539" y="1098715"/>
                  <a:pt x="1691615" y="1125090"/>
                  <a:pt x="1678215" y="1151093"/>
                </a:cubicBezTo>
                <a:cubicBezTo>
                  <a:pt x="1463819" y="1567155"/>
                  <a:pt x="952730" y="1730636"/>
                  <a:pt x="536670" y="1516239"/>
                </a:cubicBezTo>
                <a:cubicBezTo>
                  <a:pt x="276631" y="1382241"/>
                  <a:pt x="115257" y="1132349"/>
                  <a:pt x="83137" y="862195"/>
                </a:cubicBezTo>
                <a:lnTo>
                  <a:pt x="80489" y="738901"/>
                </a:lnTo>
                <a:lnTo>
                  <a:pt x="0" y="708695"/>
                </a:lnTo>
                <a:lnTo>
                  <a:pt x="250183" y="404073"/>
                </a:lnTo>
                <a:lnTo>
                  <a:pt x="420974" y="866677"/>
                </a:lnTo>
                <a:lnTo>
                  <a:pt x="270568" y="810233"/>
                </a:lnTo>
                <a:lnTo>
                  <a:pt x="271208" y="840008"/>
                </a:lnTo>
                <a:cubicBezTo>
                  <a:pt x="296151" y="1049800"/>
                  <a:pt x="421469" y="1243859"/>
                  <a:pt x="623406" y="1347917"/>
                </a:cubicBezTo>
                <a:cubicBezTo>
                  <a:pt x="946506" y="1514411"/>
                  <a:pt x="1343399" y="1387456"/>
                  <a:pt x="1509893" y="1064357"/>
                </a:cubicBezTo>
                <a:cubicBezTo>
                  <a:pt x="1676386" y="741258"/>
                  <a:pt x="1549432" y="344364"/>
                  <a:pt x="1226333" y="177870"/>
                </a:cubicBezTo>
                <a:lnTo>
                  <a:pt x="1206387" y="170012"/>
                </a:lnTo>
                <a:lnTo>
                  <a:pt x="1291993" y="0"/>
                </a:lnTo>
                <a:lnTo>
                  <a:pt x="1313069" y="9548"/>
                </a:lnTo>
                <a:cubicBezTo>
                  <a:pt x="1703127" y="210545"/>
                  <a:pt x="1871190" y="672306"/>
                  <a:pt x="1714017" y="1072064"/>
                </a:cubicBezTo>
                <a:close/>
              </a:path>
            </a:pathLst>
          </a:custGeom>
          <a:solidFill>
            <a:schemeClr val="tx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7" name="任意多边形 69"/>
          <p:cNvSpPr/>
          <p:nvPr/>
        </p:nvSpPr>
        <p:spPr>
          <a:xfrm rot="408600">
            <a:off x="4658400" y="2987640"/>
            <a:ext cx="1399320" cy="1755360"/>
          </a:xfrm>
          <a:custGeom>
            <a:avLst/>
            <a:gdLst>
              <a:gd name="textAreaLeft" fmla="*/ 0 w 1399320"/>
              <a:gd name="textAreaRight" fmla="*/ 1399680 w 1399320"/>
              <a:gd name="textAreaTop" fmla="*/ 0 h 1755360"/>
              <a:gd name="textAreaBottom" fmla="*/ 1755720 h 1755360"/>
            </a:gdLst>
            <a:ahLst/>
            <a:rect l="textAreaLeft" t="textAreaTop" r="textAreaRight" b="textAreaBottom"/>
            <a:pathLst>
              <a:path w="1399672" h="1755618">
                <a:moveTo>
                  <a:pt x="769368" y="4375"/>
                </a:moveTo>
                <a:cubicBezTo>
                  <a:pt x="798177" y="1482"/>
                  <a:pt x="827408" y="0"/>
                  <a:pt x="856990" y="0"/>
                </a:cubicBezTo>
                <a:cubicBezTo>
                  <a:pt x="1034478" y="0"/>
                  <a:pt x="1199364" y="53358"/>
                  <a:pt x="1336140" y="144737"/>
                </a:cubicBezTo>
                <a:lnTo>
                  <a:pt x="1399672" y="196574"/>
                </a:lnTo>
                <a:lnTo>
                  <a:pt x="1283531" y="346179"/>
                </a:lnTo>
                <a:lnTo>
                  <a:pt x="1229083" y="301754"/>
                </a:lnTo>
                <a:cubicBezTo>
                  <a:pt x="1122867" y="230792"/>
                  <a:pt x="994821" y="189356"/>
                  <a:pt x="856990" y="189356"/>
                </a:cubicBezTo>
                <a:cubicBezTo>
                  <a:pt x="489439" y="189356"/>
                  <a:pt x="191480" y="484010"/>
                  <a:pt x="191480" y="847484"/>
                </a:cubicBezTo>
                <a:cubicBezTo>
                  <a:pt x="191480" y="1120090"/>
                  <a:pt x="359082" y="1353984"/>
                  <a:pt x="597943" y="1453893"/>
                </a:cubicBezTo>
                <a:lnTo>
                  <a:pt x="629813" y="1463676"/>
                </a:lnTo>
                <a:lnTo>
                  <a:pt x="619032" y="1373364"/>
                </a:lnTo>
                <a:lnTo>
                  <a:pt x="915654" y="1557387"/>
                </a:lnTo>
                <a:lnTo>
                  <a:pt x="664666" y="1755618"/>
                </a:lnTo>
                <a:lnTo>
                  <a:pt x="653064" y="1658435"/>
                </a:lnTo>
                <a:lnTo>
                  <a:pt x="652708" y="1669723"/>
                </a:lnTo>
                <a:lnTo>
                  <a:pt x="602147" y="1656867"/>
                </a:lnTo>
                <a:cubicBezTo>
                  <a:pt x="253294" y="1549566"/>
                  <a:pt x="0" y="1227776"/>
                  <a:pt x="0" y="847484"/>
                </a:cubicBezTo>
                <a:cubicBezTo>
                  <a:pt x="0" y="408685"/>
                  <a:pt x="337225" y="47775"/>
                  <a:pt x="769368" y="4375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" name="文本框 70"/>
          <p:cNvSpPr/>
          <p:nvPr/>
        </p:nvSpPr>
        <p:spPr>
          <a:xfrm>
            <a:off x="5355720" y="243108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71"/>
          <p:cNvSpPr/>
          <p:nvPr/>
        </p:nvSpPr>
        <p:spPr>
          <a:xfrm>
            <a:off x="5355720" y="462060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72"/>
          <p:cNvSpPr/>
          <p:nvPr/>
        </p:nvSpPr>
        <p:spPr>
          <a:xfrm>
            <a:off x="4790520" y="358272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73"/>
          <p:cNvSpPr/>
          <p:nvPr/>
        </p:nvSpPr>
        <p:spPr>
          <a:xfrm>
            <a:off x="8628840" y="2967480"/>
            <a:ext cx="2577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74"/>
          <p:cNvSpPr/>
          <p:nvPr/>
        </p:nvSpPr>
        <p:spPr>
          <a:xfrm>
            <a:off x="1054800" y="2910960"/>
            <a:ext cx="2577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5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1" dur="25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2" dur="125" autoRev="1" fill="hold"/>
                                        <p:tgtEl>
                                          <p:spTgt spid="406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5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5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5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500"/>
                            </p:stCondLst>
                            <p:childTnLst>
                              <p:par>
                                <p:cTn id="7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35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3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3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35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35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5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850"/>
                            </p:stCondLst>
                            <p:childTnLst>
                              <p:par>
                                <p:cTn id="7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35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35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35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35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35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35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组合 1"/>
          <p:cNvGrpSpPr/>
          <p:nvPr/>
        </p:nvGrpSpPr>
        <p:grpSpPr>
          <a:xfrm>
            <a:off x="360" y="6299280"/>
            <a:ext cx="11607120" cy="306360"/>
            <a:chOff x="360" y="6299280"/>
            <a:chExt cx="11607120" cy="306360"/>
          </a:xfrm>
        </p:grpSpPr>
        <p:sp>
          <p:nvSpPr>
            <p:cNvPr id="424" name="圆角矩形 2"/>
            <p:cNvSpPr/>
            <p:nvPr/>
          </p:nvSpPr>
          <p:spPr>
            <a:xfrm>
              <a:off x="585720" y="6299280"/>
              <a:ext cx="11021760" cy="30636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5" name="任意多边形 5"/>
            <p:cNvSpPr/>
            <p:nvPr/>
          </p:nvSpPr>
          <p:spPr>
            <a:xfrm rot="10800000">
              <a:off x="3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6" name="燕尾形 6"/>
            <p:cNvSpPr/>
            <p:nvPr/>
          </p:nvSpPr>
          <p:spPr>
            <a:xfrm rot="10800000">
              <a:off x="115920" y="635148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7" name="文本框 14"/>
          <p:cNvSpPr/>
          <p:nvPr/>
        </p:nvSpPr>
        <p:spPr>
          <a:xfrm>
            <a:off x="3351960" y="1861560"/>
            <a:ext cx="54874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谢谢</a:t>
            </a:r>
            <a:r>
              <a:rPr b="1" lang="zh-CN" sz="6000" spc="-1" strike="noStrike">
                <a:solidFill>
                  <a:srgbClr val="f2f2f2"/>
                </a:solidFill>
                <a:latin typeface="微软雅黑"/>
                <a:ea typeface="微软雅黑"/>
              </a:rPr>
              <a:t>聆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344520" y="64695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1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2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3" dur="75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8"/>
          <p:cNvGrpSpPr/>
          <p:nvPr/>
        </p:nvGrpSpPr>
        <p:grpSpPr>
          <a:xfrm>
            <a:off x="360" y="6299280"/>
            <a:ext cx="12191040" cy="306360"/>
            <a:chOff x="360" y="6299280"/>
            <a:chExt cx="12191040" cy="306360"/>
          </a:xfrm>
        </p:grpSpPr>
        <p:sp>
          <p:nvSpPr>
            <p:cNvPr id="48" name="圆角矩形 9"/>
            <p:cNvSpPr/>
            <p:nvPr/>
          </p:nvSpPr>
          <p:spPr>
            <a:xfrm>
              <a:off x="585720" y="6299280"/>
              <a:ext cx="11021760" cy="30636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" name="任意多边形 10"/>
            <p:cNvSpPr/>
            <p:nvPr/>
          </p:nvSpPr>
          <p:spPr>
            <a:xfrm>
              <a:off x="117219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" name="燕尾形 11"/>
            <p:cNvSpPr/>
            <p:nvPr/>
          </p:nvSpPr>
          <p:spPr>
            <a:xfrm>
              <a:off x="11926080" y="635112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任意多边形 12"/>
            <p:cNvSpPr/>
            <p:nvPr/>
          </p:nvSpPr>
          <p:spPr>
            <a:xfrm rot="10800000">
              <a:off x="3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" name="燕尾形 13"/>
            <p:cNvSpPr/>
            <p:nvPr/>
          </p:nvSpPr>
          <p:spPr>
            <a:xfrm rot="10800000">
              <a:off x="115920" y="635148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组合 2"/>
          <p:cNvGrpSpPr/>
          <p:nvPr/>
        </p:nvGrpSpPr>
        <p:grpSpPr>
          <a:xfrm>
            <a:off x="5253840" y="388080"/>
            <a:ext cx="1684080" cy="939600"/>
            <a:chOff x="5253840" y="388080"/>
            <a:chExt cx="1684080" cy="939600"/>
          </a:xfrm>
        </p:grpSpPr>
        <p:sp>
          <p:nvSpPr>
            <p:cNvPr id="54" name="文本框 14"/>
            <p:cNvSpPr/>
            <p:nvPr/>
          </p:nvSpPr>
          <p:spPr>
            <a:xfrm>
              <a:off x="5253840" y="388080"/>
              <a:ext cx="16840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关于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我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文本框 15"/>
            <p:cNvSpPr/>
            <p:nvPr/>
          </p:nvSpPr>
          <p:spPr>
            <a:xfrm>
              <a:off x="5355720" y="872280"/>
              <a:ext cx="14803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bout 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文本框 5"/>
          <p:cNvSpPr/>
          <p:nvPr/>
        </p:nvSpPr>
        <p:spPr>
          <a:xfrm>
            <a:off x="912240" y="2759040"/>
            <a:ext cx="30898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16"/>
          <p:cNvSpPr/>
          <p:nvPr/>
        </p:nvSpPr>
        <p:spPr>
          <a:xfrm>
            <a:off x="4807080" y="2759040"/>
            <a:ext cx="2577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7"/>
          <p:cNvSpPr/>
          <p:nvPr/>
        </p:nvSpPr>
        <p:spPr>
          <a:xfrm>
            <a:off x="8534520" y="2759040"/>
            <a:ext cx="2577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组合 3"/>
          <p:cNvGrpSpPr/>
          <p:nvPr/>
        </p:nvGrpSpPr>
        <p:grpSpPr>
          <a:xfrm>
            <a:off x="826560" y="2056320"/>
            <a:ext cx="3175200" cy="469440"/>
            <a:chOff x="826560" y="2056320"/>
            <a:chExt cx="3175200" cy="469440"/>
          </a:xfrm>
        </p:grpSpPr>
        <p:sp>
          <p:nvSpPr>
            <p:cNvPr id="60" name="圆角矩形 1"/>
            <p:cNvSpPr/>
            <p:nvPr/>
          </p:nvSpPr>
          <p:spPr>
            <a:xfrm>
              <a:off x="826560" y="2056320"/>
              <a:ext cx="3175200" cy="46944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" name="文本框 18"/>
            <p:cNvSpPr/>
            <p:nvPr/>
          </p:nvSpPr>
          <p:spPr>
            <a:xfrm>
              <a:off x="1079640" y="2106720"/>
              <a:ext cx="25776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演界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4"/>
          <p:cNvGrpSpPr/>
          <p:nvPr/>
        </p:nvGrpSpPr>
        <p:grpSpPr>
          <a:xfrm>
            <a:off x="4553640" y="2056320"/>
            <a:ext cx="3175200" cy="469440"/>
            <a:chOff x="4553640" y="2056320"/>
            <a:chExt cx="3175200" cy="469440"/>
          </a:xfrm>
        </p:grpSpPr>
        <p:sp>
          <p:nvSpPr>
            <p:cNvPr id="63" name="圆角矩形 6"/>
            <p:cNvSpPr/>
            <p:nvPr/>
          </p:nvSpPr>
          <p:spPr>
            <a:xfrm>
              <a:off x="4553640" y="2056320"/>
              <a:ext cx="3175200" cy="46944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" name="文本框 19"/>
            <p:cNvSpPr/>
            <p:nvPr/>
          </p:nvSpPr>
          <p:spPr>
            <a:xfrm>
              <a:off x="4807080" y="2106720"/>
              <a:ext cx="25776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22"/>
          <p:cNvGrpSpPr/>
          <p:nvPr/>
        </p:nvGrpSpPr>
        <p:grpSpPr>
          <a:xfrm>
            <a:off x="8280360" y="2056320"/>
            <a:ext cx="3175200" cy="469440"/>
            <a:chOff x="8280360" y="2056320"/>
            <a:chExt cx="3175200" cy="469440"/>
          </a:xfrm>
        </p:grpSpPr>
        <p:sp>
          <p:nvSpPr>
            <p:cNvPr id="66" name="圆角矩形 7"/>
            <p:cNvSpPr/>
            <p:nvPr/>
          </p:nvSpPr>
          <p:spPr>
            <a:xfrm>
              <a:off x="8280360" y="2056320"/>
              <a:ext cx="3175200" cy="46944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7" name="文本框 20"/>
            <p:cNvSpPr/>
            <p:nvPr/>
          </p:nvSpPr>
          <p:spPr>
            <a:xfrm>
              <a:off x="8534520" y="2106720"/>
              <a:ext cx="25776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125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3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3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3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5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3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3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组合 1"/>
          <p:cNvGrpSpPr/>
          <p:nvPr/>
        </p:nvGrpSpPr>
        <p:grpSpPr>
          <a:xfrm>
            <a:off x="360" y="6299280"/>
            <a:ext cx="12191040" cy="306360"/>
            <a:chOff x="360" y="6299280"/>
            <a:chExt cx="12191040" cy="306360"/>
          </a:xfrm>
        </p:grpSpPr>
        <p:sp>
          <p:nvSpPr>
            <p:cNvPr id="69" name="圆角矩形 2"/>
            <p:cNvSpPr/>
            <p:nvPr/>
          </p:nvSpPr>
          <p:spPr>
            <a:xfrm>
              <a:off x="585720" y="6299280"/>
              <a:ext cx="11021760" cy="30636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0" name="任意多边形 3"/>
            <p:cNvSpPr/>
            <p:nvPr/>
          </p:nvSpPr>
          <p:spPr>
            <a:xfrm>
              <a:off x="117219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1" name="燕尾形 4"/>
            <p:cNvSpPr/>
            <p:nvPr/>
          </p:nvSpPr>
          <p:spPr>
            <a:xfrm>
              <a:off x="11926080" y="635112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任意多边形 5"/>
            <p:cNvSpPr/>
            <p:nvPr/>
          </p:nvSpPr>
          <p:spPr>
            <a:xfrm rot="10800000">
              <a:off x="3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3" name="燕尾形 6"/>
            <p:cNvSpPr/>
            <p:nvPr/>
          </p:nvSpPr>
          <p:spPr>
            <a:xfrm rot="10800000">
              <a:off x="115920" y="635148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组合 76"/>
          <p:cNvGrpSpPr/>
          <p:nvPr/>
        </p:nvGrpSpPr>
        <p:grpSpPr>
          <a:xfrm>
            <a:off x="1856880" y="3152880"/>
            <a:ext cx="2526120" cy="2415240"/>
            <a:chOff x="1856880" y="3152880"/>
            <a:chExt cx="2526120" cy="2415240"/>
          </a:xfrm>
        </p:grpSpPr>
        <p:sp>
          <p:nvSpPr>
            <p:cNvPr id="75" name="任意多边形 48"/>
            <p:cNvSpPr/>
            <p:nvPr/>
          </p:nvSpPr>
          <p:spPr>
            <a:xfrm>
              <a:off x="3209760" y="3155400"/>
              <a:ext cx="360" cy="578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578160"/>
                <a:gd name="textAreaBottom" fmla="*/ 578520 h 578160"/>
              </a:gdLst>
              <a:ahLst/>
              <a:rect l="textAreaLeft" t="textAreaTop" r="textAreaRight" b="textAreaBottom"/>
              <a:pathLst>
                <a:path w="337" h="578519">
                  <a:moveTo>
                    <a:pt x="336" y="0"/>
                  </a:moveTo>
                  <a:lnTo>
                    <a:pt x="337" y="0"/>
                  </a:lnTo>
                  <a:lnTo>
                    <a:pt x="1" y="578519"/>
                  </a:lnTo>
                  <a:lnTo>
                    <a:pt x="0" y="578519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6" name="任意多边形 42"/>
            <p:cNvSpPr/>
            <p:nvPr/>
          </p:nvSpPr>
          <p:spPr>
            <a:xfrm>
              <a:off x="2323440" y="3153600"/>
              <a:ext cx="886320" cy="750600"/>
            </a:xfrm>
            <a:custGeom>
              <a:avLst/>
              <a:gdLst>
                <a:gd name="textAreaLeft" fmla="*/ 0 w 886320"/>
                <a:gd name="textAreaRight" fmla="*/ 886680 w 88632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886648" h="750803">
                  <a:moveTo>
                    <a:pt x="851252" y="0"/>
                  </a:moveTo>
                  <a:lnTo>
                    <a:pt x="886648" y="1788"/>
                  </a:lnTo>
                  <a:lnTo>
                    <a:pt x="886312" y="580307"/>
                  </a:lnTo>
                  <a:lnTo>
                    <a:pt x="854206" y="577070"/>
                  </a:lnTo>
                  <a:cubicBezTo>
                    <a:pt x="725324" y="577070"/>
                    <a:pt x="605592" y="616250"/>
                    <a:pt x="506272" y="683349"/>
                  </a:cubicBezTo>
                  <a:lnTo>
                    <a:pt x="424517" y="750803"/>
                  </a:lnTo>
                  <a:lnTo>
                    <a:pt x="0" y="350883"/>
                  </a:lnTo>
                  <a:lnTo>
                    <a:pt x="82367" y="276022"/>
                  </a:lnTo>
                  <a:cubicBezTo>
                    <a:pt x="291313" y="103586"/>
                    <a:pt x="559185" y="0"/>
                    <a:pt x="851252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7" name="任意多边形 41"/>
            <p:cNvSpPr/>
            <p:nvPr/>
          </p:nvSpPr>
          <p:spPr>
            <a:xfrm>
              <a:off x="2521080" y="3152880"/>
              <a:ext cx="1861920" cy="2415240"/>
            </a:xfrm>
            <a:custGeom>
              <a:avLst/>
              <a:gdLst>
                <a:gd name="textAreaLeft" fmla="*/ 0 w 1861920"/>
                <a:gd name="textAreaRight" fmla="*/ 1862280 w 1861920"/>
                <a:gd name="textAreaTop" fmla="*/ 0 h 2415240"/>
                <a:gd name="textAreaBottom" fmla="*/ 2415600 h 2415240"/>
              </a:gdLst>
              <a:ahLst/>
              <a:rect l="textAreaLeft" t="textAreaTop" r="textAreaRight" b="textAreaBottom"/>
              <a:pathLst>
                <a:path w="1862420" h="2415736">
                  <a:moveTo>
                    <a:pt x="689055" y="0"/>
                  </a:moveTo>
                  <a:lnTo>
                    <a:pt x="777247" y="4453"/>
                  </a:lnTo>
                  <a:cubicBezTo>
                    <a:pt x="1386773" y="66354"/>
                    <a:pt x="1862420" y="581117"/>
                    <a:pt x="1862420" y="1206974"/>
                  </a:cubicBezTo>
                  <a:cubicBezTo>
                    <a:pt x="1862420" y="1874555"/>
                    <a:pt x="1321239" y="2415736"/>
                    <a:pt x="653658" y="2415736"/>
                  </a:cubicBezTo>
                  <a:cubicBezTo>
                    <a:pt x="445039" y="2415736"/>
                    <a:pt x="248764" y="2362887"/>
                    <a:pt x="77490" y="2269845"/>
                  </a:cubicBezTo>
                  <a:lnTo>
                    <a:pt x="0" y="2222768"/>
                  </a:lnTo>
                  <a:lnTo>
                    <a:pt x="284223" y="1693426"/>
                  </a:lnTo>
                  <a:lnTo>
                    <a:pt x="308679" y="1713604"/>
                  </a:lnTo>
                  <a:cubicBezTo>
                    <a:pt x="407999" y="1780703"/>
                    <a:pt x="527731" y="1819883"/>
                    <a:pt x="656613" y="1819883"/>
                  </a:cubicBezTo>
                  <a:cubicBezTo>
                    <a:pt x="1000300" y="1819883"/>
                    <a:pt x="1278913" y="1541270"/>
                    <a:pt x="1278913" y="1197583"/>
                  </a:cubicBezTo>
                  <a:cubicBezTo>
                    <a:pt x="1278913" y="896857"/>
                    <a:pt x="1065600" y="645953"/>
                    <a:pt x="782028" y="587926"/>
                  </a:cubicBezTo>
                  <a:lnTo>
                    <a:pt x="688720" y="578520"/>
                  </a:lnTo>
                  <a:lnTo>
                    <a:pt x="689056" y="1"/>
                  </a:lnTo>
                  <a:lnTo>
                    <a:pt x="689055" y="1"/>
                  </a:lnTo>
                  <a:lnTo>
                    <a:pt x="689055" y="0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8" name="任意多边形 40"/>
            <p:cNvSpPr/>
            <p:nvPr/>
          </p:nvSpPr>
          <p:spPr>
            <a:xfrm>
              <a:off x="1975320" y="3504600"/>
              <a:ext cx="772560" cy="765000"/>
            </a:xfrm>
            <a:custGeom>
              <a:avLst/>
              <a:gdLst>
                <a:gd name="textAreaLeft" fmla="*/ 0 w 772560"/>
                <a:gd name="textAreaRight" fmla="*/ 772920 w 77256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772812" h="765446">
                  <a:moveTo>
                    <a:pt x="348295" y="0"/>
                  </a:moveTo>
                  <a:lnTo>
                    <a:pt x="772812" y="399920"/>
                  </a:lnTo>
                  <a:lnTo>
                    <a:pt x="762469" y="408454"/>
                  </a:lnTo>
                  <a:cubicBezTo>
                    <a:pt x="678009" y="492915"/>
                    <a:pt x="617714" y="601541"/>
                    <a:pt x="592845" y="723072"/>
                  </a:cubicBezTo>
                  <a:lnTo>
                    <a:pt x="588573" y="765446"/>
                  </a:lnTo>
                  <a:lnTo>
                    <a:pt x="0" y="714802"/>
                  </a:lnTo>
                  <a:lnTo>
                    <a:pt x="15343" y="614271"/>
                  </a:lnTo>
                  <a:cubicBezTo>
                    <a:pt x="63648" y="378209"/>
                    <a:pt x="180766" y="167212"/>
                    <a:pt x="344823" y="3155"/>
                  </a:cubicBezTo>
                  <a:lnTo>
                    <a:pt x="348295" y="0"/>
                  </a:ln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9" name="任意多边形 38"/>
            <p:cNvSpPr/>
            <p:nvPr/>
          </p:nvSpPr>
          <p:spPr>
            <a:xfrm>
              <a:off x="1856880" y="4269960"/>
              <a:ext cx="838080" cy="115524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155240"/>
                <a:gd name="textAreaBottom" fmla="*/ 1155600 h 1155240"/>
              </a:gdLst>
              <a:ahLst/>
              <a:rect l="textAreaLeft" t="textAreaTop" r="textAreaRight" b="textAreaBottom"/>
              <a:pathLst>
                <a:path w="838345" h="1155687">
                  <a:moveTo>
                    <a:pt x="8729" y="0"/>
                  </a:moveTo>
                  <a:lnTo>
                    <a:pt x="10011" y="111"/>
                  </a:lnTo>
                  <a:lnTo>
                    <a:pt x="9525" y="3295"/>
                  </a:lnTo>
                  <a:lnTo>
                    <a:pt x="598262" y="53954"/>
                  </a:lnTo>
                  <a:lnTo>
                    <a:pt x="590213" y="133796"/>
                  </a:lnTo>
                  <a:cubicBezTo>
                    <a:pt x="590213" y="305640"/>
                    <a:pt x="659866" y="461215"/>
                    <a:pt x="772480" y="573829"/>
                  </a:cubicBezTo>
                  <a:lnTo>
                    <a:pt x="838345" y="628172"/>
                  </a:lnTo>
                  <a:lnTo>
                    <a:pt x="555104" y="1155687"/>
                  </a:lnTo>
                  <a:lnTo>
                    <a:pt x="532932" y="1142217"/>
                  </a:lnTo>
                  <a:cubicBezTo>
                    <a:pt x="211399" y="924994"/>
                    <a:pt x="0" y="557131"/>
                    <a:pt x="0" y="139893"/>
                  </a:cubicBezTo>
                  <a:cubicBezTo>
                    <a:pt x="0" y="98169"/>
                    <a:pt x="2114" y="56939"/>
                    <a:pt x="6241" y="16304"/>
                  </a:cubicBezTo>
                  <a:lnTo>
                    <a:pt x="8729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0" name="组合 74"/>
          <p:cNvGrpSpPr/>
          <p:nvPr/>
        </p:nvGrpSpPr>
        <p:grpSpPr>
          <a:xfrm>
            <a:off x="7617600" y="3146760"/>
            <a:ext cx="2482920" cy="2482560"/>
            <a:chOff x="7617600" y="3146760"/>
            <a:chExt cx="2482920" cy="2482560"/>
          </a:xfrm>
        </p:grpSpPr>
        <p:sp>
          <p:nvSpPr>
            <p:cNvPr id="81" name="任意多边形 73"/>
            <p:cNvSpPr/>
            <p:nvPr/>
          </p:nvSpPr>
          <p:spPr>
            <a:xfrm>
              <a:off x="8218800" y="3148200"/>
              <a:ext cx="657720" cy="695160"/>
            </a:xfrm>
            <a:custGeom>
              <a:avLst/>
              <a:gdLst>
                <a:gd name="textAreaLeft" fmla="*/ 0 w 657720"/>
                <a:gd name="textAreaRight" fmla="*/ 658080 w 65772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657985" h="695464">
                  <a:moveTo>
                    <a:pt x="645156" y="0"/>
                  </a:moveTo>
                  <a:lnTo>
                    <a:pt x="657985" y="590564"/>
                  </a:lnTo>
                  <a:lnTo>
                    <a:pt x="559495" y="600531"/>
                  </a:lnTo>
                  <a:cubicBezTo>
                    <a:pt x="479460" y="616973"/>
                    <a:pt x="405090" y="649028"/>
                    <a:pt x="339682" y="693389"/>
                  </a:cubicBezTo>
                  <a:lnTo>
                    <a:pt x="337176" y="695464"/>
                  </a:lnTo>
                  <a:lnTo>
                    <a:pt x="0" y="206214"/>
                  </a:lnTo>
                  <a:lnTo>
                    <a:pt x="1246" y="205278"/>
                  </a:lnTo>
                  <a:cubicBezTo>
                    <a:pt x="161690" y="96462"/>
                    <a:pt x="349613" y="25376"/>
                    <a:pt x="552381" y="4703"/>
                  </a:cubicBezTo>
                  <a:lnTo>
                    <a:pt x="645156" y="0"/>
                  </a:lnTo>
                  <a:close/>
                </a:path>
              </a:pathLst>
            </a:custGeom>
            <a:solidFill>
              <a:srgbClr val="2626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2" name="任意多边形 70"/>
            <p:cNvSpPr/>
            <p:nvPr/>
          </p:nvSpPr>
          <p:spPr>
            <a:xfrm>
              <a:off x="7617600" y="3938400"/>
              <a:ext cx="1376640" cy="1690920"/>
            </a:xfrm>
            <a:custGeom>
              <a:avLst/>
              <a:gdLst>
                <a:gd name="textAreaLeft" fmla="*/ 0 w 1376640"/>
                <a:gd name="textAreaRight" fmla="*/ 1377000 w 1376640"/>
                <a:gd name="textAreaTop" fmla="*/ 0 h 1690920"/>
                <a:gd name="textAreaBottom" fmla="*/ 1691280 h 1690920"/>
              </a:gdLst>
              <a:ahLst/>
              <a:rect l="textAreaLeft" t="textAreaTop" r="textAreaRight" b="textAreaBottom"/>
              <a:pathLst>
                <a:path w="1376853" h="1691249">
                  <a:moveTo>
                    <a:pt x="99030" y="0"/>
                  </a:moveTo>
                  <a:lnTo>
                    <a:pt x="671569" y="191250"/>
                  </a:lnTo>
                  <a:lnTo>
                    <a:pt x="647578" y="235621"/>
                  </a:lnTo>
                  <a:cubicBezTo>
                    <a:pt x="616471" y="309454"/>
                    <a:pt x="599269" y="390628"/>
                    <a:pt x="599269" y="475836"/>
                  </a:cubicBezTo>
                  <a:cubicBezTo>
                    <a:pt x="599269" y="816669"/>
                    <a:pt x="874495" y="1092968"/>
                    <a:pt x="1214004" y="1092968"/>
                  </a:cubicBezTo>
                  <a:lnTo>
                    <a:pt x="1276459" y="1086648"/>
                  </a:lnTo>
                  <a:lnTo>
                    <a:pt x="1376853" y="1677770"/>
                  </a:lnTo>
                  <a:lnTo>
                    <a:pt x="1329681" y="1684997"/>
                  </a:lnTo>
                  <a:cubicBezTo>
                    <a:pt x="1289128" y="1689131"/>
                    <a:pt x="1247980" y="1691249"/>
                    <a:pt x="1206340" y="1691249"/>
                  </a:cubicBezTo>
                  <a:cubicBezTo>
                    <a:pt x="540097" y="1691249"/>
                    <a:pt x="0" y="1149047"/>
                    <a:pt x="0" y="480206"/>
                  </a:cubicBezTo>
                  <a:cubicBezTo>
                    <a:pt x="0" y="312996"/>
                    <a:pt x="33756" y="153701"/>
                    <a:pt x="94800" y="8814"/>
                  </a:cubicBezTo>
                  <a:lnTo>
                    <a:pt x="99030" y="0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3" name="任意多边形 67"/>
            <p:cNvSpPr/>
            <p:nvPr/>
          </p:nvSpPr>
          <p:spPr>
            <a:xfrm>
              <a:off x="8863920" y="3146760"/>
              <a:ext cx="1236600" cy="240840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2408400"/>
                <a:gd name="textAreaBottom" fmla="*/ 2408760 h 2408400"/>
              </a:gdLst>
              <a:ahLst/>
              <a:rect l="textAreaLeft" t="textAreaTop" r="textAreaRight" b="textAreaBottom"/>
              <a:pathLst>
                <a:path w="1236906" h="2408607">
                  <a:moveTo>
                    <a:pt x="30566" y="0"/>
                  </a:moveTo>
                  <a:cubicBezTo>
                    <a:pt x="696809" y="0"/>
                    <a:pt x="1236906" y="542203"/>
                    <a:pt x="1236906" y="1211043"/>
                  </a:cubicBezTo>
                  <a:cubicBezTo>
                    <a:pt x="1236906" y="1796279"/>
                    <a:pt x="823394" y="2284557"/>
                    <a:pt x="273686" y="2397482"/>
                  </a:cubicBezTo>
                  <a:lnTo>
                    <a:pt x="201079" y="2408607"/>
                  </a:lnTo>
                  <a:lnTo>
                    <a:pt x="100685" y="1817485"/>
                  </a:lnTo>
                  <a:lnTo>
                    <a:pt x="162121" y="1811267"/>
                  </a:lnTo>
                  <a:cubicBezTo>
                    <a:pt x="442245" y="1753722"/>
                    <a:pt x="652965" y="1504902"/>
                    <a:pt x="652965" y="1206673"/>
                  </a:cubicBezTo>
                  <a:cubicBezTo>
                    <a:pt x="652965" y="865841"/>
                    <a:pt x="377739" y="589542"/>
                    <a:pt x="38230" y="589542"/>
                  </a:cubicBezTo>
                  <a:lnTo>
                    <a:pt x="12829" y="592113"/>
                  </a:lnTo>
                  <a:lnTo>
                    <a:pt x="0" y="1549"/>
                  </a:lnTo>
                  <a:lnTo>
                    <a:pt x="30566" y="0"/>
                  </a:ln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4" name="任意多边形 66"/>
            <p:cNvSpPr/>
            <p:nvPr/>
          </p:nvSpPr>
          <p:spPr>
            <a:xfrm>
              <a:off x="7787160" y="3354480"/>
              <a:ext cx="768240" cy="71388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713880"/>
                <a:gd name="textAreaBottom" fmla="*/ 714240 h 713880"/>
              </a:gdLst>
              <a:ahLst/>
              <a:rect l="textAreaLeft" t="textAreaTop" r="textAreaRight" b="textAreaBottom"/>
              <a:pathLst>
                <a:path w="768764" h="714324">
                  <a:moveTo>
                    <a:pt x="431588" y="0"/>
                  </a:moveTo>
                  <a:lnTo>
                    <a:pt x="768764" y="489250"/>
                  </a:lnTo>
                  <a:lnTo>
                    <a:pt x="680291" y="562533"/>
                  </a:lnTo>
                  <a:cubicBezTo>
                    <a:pt x="652479" y="590452"/>
                    <a:pt x="627320" y="621035"/>
                    <a:pt x="605226" y="653866"/>
                  </a:cubicBezTo>
                  <a:lnTo>
                    <a:pt x="572539" y="714324"/>
                  </a:lnTo>
                  <a:lnTo>
                    <a:pt x="0" y="523074"/>
                  </a:lnTo>
                  <a:lnTo>
                    <a:pt x="46569" y="426025"/>
                  </a:lnTo>
                  <a:cubicBezTo>
                    <a:pt x="120853" y="288748"/>
                    <a:pt x="220808" y="167502"/>
                    <a:pt x="339966" y="68781"/>
                  </a:cubicBezTo>
                  <a:lnTo>
                    <a:pt x="431588" y="0"/>
                  </a:lnTo>
                  <a:close/>
                </a:path>
              </a:pathLst>
            </a:custGeom>
            <a:solidFill>
              <a:srgbClr val="59595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85" name="文本框 77"/>
          <p:cNvSpPr/>
          <p:nvPr/>
        </p:nvSpPr>
        <p:spPr>
          <a:xfrm>
            <a:off x="2741040" y="4042080"/>
            <a:ext cx="1014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9"/>
          <p:cNvSpPr/>
          <p:nvPr/>
        </p:nvSpPr>
        <p:spPr>
          <a:xfrm>
            <a:off x="8446320" y="4066560"/>
            <a:ext cx="1014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7"/>
          <p:cNvGrpSpPr/>
          <p:nvPr/>
        </p:nvGrpSpPr>
        <p:grpSpPr>
          <a:xfrm>
            <a:off x="5065200" y="388080"/>
            <a:ext cx="2061000" cy="939600"/>
            <a:chOff x="5065200" y="388080"/>
            <a:chExt cx="2061000" cy="939600"/>
          </a:xfrm>
        </p:grpSpPr>
        <p:sp>
          <p:nvSpPr>
            <p:cNvPr id="88" name="文本框 82"/>
            <p:cNvSpPr/>
            <p:nvPr/>
          </p:nvSpPr>
          <p:spPr>
            <a:xfrm>
              <a:off x="5065200" y="388080"/>
              <a:ext cx="2061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的任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文本框 83"/>
            <p:cNvSpPr/>
            <p:nvPr/>
          </p:nvSpPr>
          <p:spPr>
            <a:xfrm>
              <a:off x="5160600" y="872280"/>
              <a:ext cx="1870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Our mi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8"/>
          <p:cNvGrpSpPr/>
          <p:nvPr/>
        </p:nvGrpSpPr>
        <p:grpSpPr>
          <a:xfrm>
            <a:off x="1252080" y="2056320"/>
            <a:ext cx="4059720" cy="469440"/>
            <a:chOff x="1252080" y="2056320"/>
            <a:chExt cx="4059720" cy="469440"/>
          </a:xfrm>
        </p:grpSpPr>
        <p:sp>
          <p:nvSpPr>
            <p:cNvPr id="91" name="圆角矩形 10"/>
            <p:cNvSpPr/>
            <p:nvPr/>
          </p:nvSpPr>
          <p:spPr>
            <a:xfrm>
              <a:off x="1252080" y="2056320"/>
              <a:ext cx="4059720" cy="46944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2" name="文本框 84"/>
            <p:cNvSpPr/>
            <p:nvPr/>
          </p:nvSpPr>
          <p:spPr>
            <a:xfrm>
              <a:off x="1975320" y="2106720"/>
              <a:ext cx="2519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月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9"/>
          <p:cNvGrpSpPr/>
          <p:nvPr/>
        </p:nvGrpSpPr>
        <p:grpSpPr>
          <a:xfrm>
            <a:off x="6676560" y="2056320"/>
            <a:ext cx="4435560" cy="469440"/>
            <a:chOff x="6676560" y="2056320"/>
            <a:chExt cx="4435560" cy="469440"/>
          </a:xfrm>
        </p:grpSpPr>
        <p:sp>
          <p:nvSpPr>
            <p:cNvPr id="94" name="圆角矩形 15"/>
            <p:cNvSpPr/>
            <p:nvPr/>
          </p:nvSpPr>
          <p:spPr>
            <a:xfrm>
              <a:off x="6888960" y="2056320"/>
              <a:ext cx="4011120" cy="46944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5" name="文本框 85"/>
            <p:cNvSpPr/>
            <p:nvPr/>
          </p:nvSpPr>
          <p:spPr>
            <a:xfrm>
              <a:off x="6676560" y="2106720"/>
              <a:ext cx="4435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六月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125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125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75E-006 -4.44444E-006 L -0.07578 0.0551 E">
                                      <p:cBhvr>
                                        <p:cTn id="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75E-006 -4.44444E-006 L -0.07578 0.0551 E">
                                      <p:cBhvr>
                                        <p:cTn id="1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1"/>
          <p:cNvGrpSpPr/>
          <p:nvPr/>
        </p:nvGrpSpPr>
        <p:grpSpPr>
          <a:xfrm>
            <a:off x="360" y="6299280"/>
            <a:ext cx="12191040" cy="306360"/>
            <a:chOff x="360" y="6299280"/>
            <a:chExt cx="12191040" cy="306360"/>
          </a:xfrm>
        </p:grpSpPr>
        <p:sp>
          <p:nvSpPr>
            <p:cNvPr id="97" name="圆角矩形 2"/>
            <p:cNvSpPr/>
            <p:nvPr/>
          </p:nvSpPr>
          <p:spPr>
            <a:xfrm>
              <a:off x="585720" y="6299280"/>
              <a:ext cx="11021760" cy="30636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8" name="任意多边形 3"/>
            <p:cNvSpPr/>
            <p:nvPr/>
          </p:nvSpPr>
          <p:spPr>
            <a:xfrm>
              <a:off x="117219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" name="燕尾形 4"/>
            <p:cNvSpPr/>
            <p:nvPr/>
          </p:nvSpPr>
          <p:spPr>
            <a:xfrm>
              <a:off x="11926080" y="635112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任意多边形 5"/>
            <p:cNvSpPr/>
            <p:nvPr/>
          </p:nvSpPr>
          <p:spPr>
            <a:xfrm rot="10800000">
              <a:off x="3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1" name="燕尾形 6"/>
            <p:cNvSpPr/>
            <p:nvPr/>
          </p:nvSpPr>
          <p:spPr>
            <a:xfrm rot="10800000">
              <a:off x="115920" y="635148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组合 7"/>
          <p:cNvGrpSpPr/>
          <p:nvPr/>
        </p:nvGrpSpPr>
        <p:grpSpPr>
          <a:xfrm>
            <a:off x="5053680" y="388080"/>
            <a:ext cx="2301840" cy="939600"/>
            <a:chOff x="5053680" y="388080"/>
            <a:chExt cx="2301840" cy="939600"/>
          </a:xfrm>
        </p:grpSpPr>
        <p:sp>
          <p:nvSpPr>
            <p:cNvPr id="103" name="文本框 9"/>
            <p:cNvSpPr/>
            <p:nvPr/>
          </p:nvSpPr>
          <p:spPr>
            <a:xfrm>
              <a:off x="5253840" y="388080"/>
              <a:ext cx="1987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员工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生产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文本框 10"/>
            <p:cNvSpPr/>
            <p:nvPr/>
          </p:nvSpPr>
          <p:spPr>
            <a:xfrm>
              <a:off x="5053680" y="872280"/>
              <a:ext cx="2301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taff produ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矩形 13"/>
          <p:cNvSpPr/>
          <p:nvPr/>
        </p:nvSpPr>
        <p:spPr>
          <a:xfrm>
            <a:off x="585720" y="2616840"/>
            <a:ext cx="357480" cy="2791800"/>
          </a:xfrm>
          <a:prstGeom prst="rect">
            <a:avLst/>
          </a:prstGeom>
          <a:solidFill>
            <a:srgbClr val="2626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矩形 14"/>
          <p:cNvSpPr/>
          <p:nvPr/>
        </p:nvSpPr>
        <p:spPr>
          <a:xfrm>
            <a:off x="943560" y="3569400"/>
            <a:ext cx="357480" cy="183924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矩形 15"/>
          <p:cNvSpPr/>
          <p:nvPr/>
        </p:nvSpPr>
        <p:spPr>
          <a:xfrm>
            <a:off x="1301400" y="3950280"/>
            <a:ext cx="357480" cy="14583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矩形 16"/>
          <p:cNvSpPr/>
          <p:nvPr/>
        </p:nvSpPr>
        <p:spPr>
          <a:xfrm>
            <a:off x="5385240" y="2274120"/>
            <a:ext cx="357480" cy="3134520"/>
          </a:xfrm>
          <a:prstGeom prst="rect">
            <a:avLst/>
          </a:prstGeom>
          <a:solidFill>
            <a:srgbClr val="2626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矩形 17"/>
          <p:cNvSpPr/>
          <p:nvPr/>
        </p:nvSpPr>
        <p:spPr>
          <a:xfrm>
            <a:off x="5743080" y="3429720"/>
            <a:ext cx="357480" cy="197892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矩形 18"/>
          <p:cNvSpPr/>
          <p:nvPr/>
        </p:nvSpPr>
        <p:spPr>
          <a:xfrm>
            <a:off x="6100920" y="2039400"/>
            <a:ext cx="357480" cy="33692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矩形 19"/>
          <p:cNvSpPr/>
          <p:nvPr/>
        </p:nvSpPr>
        <p:spPr>
          <a:xfrm>
            <a:off x="2185560" y="3429720"/>
            <a:ext cx="357480" cy="1978920"/>
          </a:xfrm>
          <a:prstGeom prst="rect">
            <a:avLst/>
          </a:prstGeom>
          <a:solidFill>
            <a:srgbClr val="2626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矩形 20"/>
          <p:cNvSpPr/>
          <p:nvPr/>
        </p:nvSpPr>
        <p:spPr>
          <a:xfrm>
            <a:off x="2543400" y="2400840"/>
            <a:ext cx="357480" cy="300780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矩形 21"/>
          <p:cNvSpPr/>
          <p:nvPr/>
        </p:nvSpPr>
        <p:spPr>
          <a:xfrm>
            <a:off x="2901240" y="3848760"/>
            <a:ext cx="357480" cy="15598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矩形 22"/>
          <p:cNvSpPr/>
          <p:nvPr/>
        </p:nvSpPr>
        <p:spPr>
          <a:xfrm>
            <a:off x="3785400" y="2832840"/>
            <a:ext cx="357480" cy="2575800"/>
          </a:xfrm>
          <a:prstGeom prst="rect">
            <a:avLst/>
          </a:prstGeom>
          <a:solidFill>
            <a:srgbClr val="2626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矩形 23"/>
          <p:cNvSpPr/>
          <p:nvPr/>
        </p:nvSpPr>
        <p:spPr>
          <a:xfrm>
            <a:off x="4143240" y="3950280"/>
            <a:ext cx="357480" cy="145836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矩形 24"/>
          <p:cNvSpPr/>
          <p:nvPr/>
        </p:nvSpPr>
        <p:spPr>
          <a:xfrm>
            <a:off x="4501080" y="3188160"/>
            <a:ext cx="357480" cy="22204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17" name="组合 62"/>
          <p:cNvGrpSpPr/>
          <p:nvPr/>
        </p:nvGrpSpPr>
        <p:grpSpPr>
          <a:xfrm>
            <a:off x="414360" y="5356800"/>
            <a:ext cx="6213960" cy="144360"/>
            <a:chOff x="414360" y="5356800"/>
            <a:chExt cx="6213960" cy="144360"/>
          </a:xfrm>
        </p:grpSpPr>
        <p:cxnSp>
          <p:nvCxnSpPr>
            <p:cNvPr id="118" name="直接连接符 12"/>
            <p:cNvCxnSpPr/>
            <p:nvPr/>
          </p:nvCxnSpPr>
          <p:spPr>
            <a:xfrm>
              <a:off x="414360" y="5408640"/>
              <a:ext cx="6214320" cy="360"/>
            </a:xfrm>
            <a:prstGeom prst="straightConnector1">
              <a:avLst/>
            </a:prstGeom>
            <a:ln w="19050">
              <a:solidFill>
                <a:srgbClr val="000000">
                  <a:lumMod val="50000"/>
                  <a:lumOff val="50000"/>
                </a:srgbClr>
              </a:solidFill>
            </a:ln>
          </p:spPr>
        </p:cxnSp>
        <p:cxnSp>
          <p:nvCxnSpPr>
            <p:cNvPr id="119" name="直接连接符 33"/>
            <p:cNvCxnSpPr/>
            <p:nvPr/>
          </p:nvCxnSpPr>
          <p:spPr>
            <a:xfrm>
              <a:off x="416160" y="5408640"/>
              <a:ext cx="360" cy="9288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  <p:cxnSp>
          <p:nvCxnSpPr>
            <p:cNvPr id="120" name="直接连接符 37"/>
            <p:cNvCxnSpPr/>
            <p:nvPr/>
          </p:nvCxnSpPr>
          <p:spPr>
            <a:xfrm>
              <a:off x="1933200" y="5356800"/>
              <a:ext cx="360" cy="5220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  <p:cxnSp>
          <p:nvCxnSpPr>
            <p:cNvPr id="121" name="直接连接符 39"/>
            <p:cNvCxnSpPr/>
            <p:nvPr/>
          </p:nvCxnSpPr>
          <p:spPr>
            <a:xfrm>
              <a:off x="3526920" y="5356800"/>
              <a:ext cx="360" cy="5220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  <p:cxnSp>
          <p:nvCxnSpPr>
            <p:cNvPr id="122" name="直接连接符 41"/>
            <p:cNvCxnSpPr/>
            <p:nvPr/>
          </p:nvCxnSpPr>
          <p:spPr>
            <a:xfrm>
              <a:off x="5133600" y="5356800"/>
              <a:ext cx="360" cy="5220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  <p:cxnSp>
          <p:nvCxnSpPr>
            <p:cNvPr id="123" name="直接连接符 43"/>
            <p:cNvCxnSpPr/>
            <p:nvPr/>
          </p:nvCxnSpPr>
          <p:spPr>
            <a:xfrm>
              <a:off x="6620400" y="5408640"/>
              <a:ext cx="360" cy="9288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</p:grpSp>
      <p:sp>
        <p:nvSpPr>
          <p:cNvPr id="124" name="文本框 47"/>
          <p:cNvSpPr/>
          <p:nvPr/>
        </p:nvSpPr>
        <p:spPr>
          <a:xfrm>
            <a:off x="631080" y="5520960"/>
            <a:ext cx="937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48"/>
          <p:cNvSpPr/>
          <p:nvPr/>
        </p:nvSpPr>
        <p:spPr>
          <a:xfrm>
            <a:off x="2253240" y="5520960"/>
            <a:ext cx="937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49"/>
          <p:cNvSpPr/>
          <p:nvPr/>
        </p:nvSpPr>
        <p:spPr>
          <a:xfrm>
            <a:off x="3853080" y="5520960"/>
            <a:ext cx="937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50"/>
          <p:cNvSpPr/>
          <p:nvPr/>
        </p:nvSpPr>
        <p:spPr>
          <a:xfrm>
            <a:off x="5449680" y="5520960"/>
            <a:ext cx="937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25"/>
          <p:cNvGrpSpPr/>
          <p:nvPr/>
        </p:nvGrpSpPr>
        <p:grpSpPr>
          <a:xfrm>
            <a:off x="7286040" y="1711800"/>
            <a:ext cx="4120200" cy="469440"/>
            <a:chOff x="7286040" y="1711800"/>
            <a:chExt cx="4120200" cy="469440"/>
          </a:xfrm>
        </p:grpSpPr>
        <p:sp>
          <p:nvSpPr>
            <p:cNvPr id="129" name="圆角矩形 11"/>
            <p:cNvSpPr/>
            <p:nvPr/>
          </p:nvSpPr>
          <p:spPr>
            <a:xfrm>
              <a:off x="7286040" y="1711800"/>
              <a:ext cx="4120200" cy="46944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0" name="文本框 57"/>
            <p:cNvSpPr/>
            <p:nvPr/>
          </p:nvSpPr>
          <p:spPr>
            <a:xfrm>
              <a:off x="7480440" y="1736280"/>
              <a:ext cx="3708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文本框 58"/>
          <p:cNvSpPr/>
          <p:nvPr/>
        </p:nvSpPr>
        <p:spPr>
          <a:xfrm>
            <a:off x="7581960" y="2422080"/>
            <a:ext cx="2577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8"/>
          <p:cNvGrpSpPr/>
          <p:nvPr/>
        </p:nvGrpSpPr>
        <p:grpSpPr>
          <a:xfrm>
            <a:off x="6985080" y="4226040"/>
            <a:ext cx="2935440" cy="1040040"/>
            <a:chOff x="6985080" y="4226040"/>
            <a:chExt cx="2935440" cy="1040040"/>
          </a:xfrm>
        </p:grpSpPr>
        <p:sp>
          <p:nvSpPr>
            <p:cNvPr id="133" name="椭圆 51"/>
            <p:cNvSpPr/>
            <p:nvPr/>
          </p:nvSpPr>
          <p:spPr>
            <a:xfrm>
              <a:off x="6985080" y="4251600"/>
              <a:ext cx="255960" cy="255960"/>
            </a:xfrm>
            <a:prstGeom prst="ellipse">
              <a:avLst/>
            </a:prstGeom>
            <a:solidFill>
              <a:srgbClr val="2626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4" name="椭圆 54"/>
            <p:cNvSpPr/>
            <p:nvPr/>
          </p:nvSpPr>
          <p:spPr>
            <a:xfrm>
              <a:off x="6985080" y="4628880"/>
              <a:ext cx="255960" cy="255960"/>
            </a:xfrm>
            <a:prstGeom prst="ellipse">
              <a:avLst/>
            </a:prstGeom>
            <a:solidFill>
              <a:srgbClr val="59595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5" name="椭圆 55"/>
            <p:cNvSpPr/>
            <p:nvPr/>
          </p:nvSpPr>
          <p:spPr>
            <a:xfrm>
              <a:off x="6985080" y="4988880"/>
              <a:ext cx="255960" cy="255960"/>
            </a:xfrm>
            <a:prstGeom prst="ellipse">
              <a:avLst/>
            </a:prstGeom>
            <a:solidFill>
              <a:srgbClr val="f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6" name="文本框 59"/>
            <p:cNvSpPr/>
            <p:nvPr/>
          </p:nvSpPr>
          <p:spPr>
            <a:xfrm>
              <a:off x="7342920" y="4226040"/>
              <a:ext cx="2577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lock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文本框 60"/>
            <p:cNvSpPr/>
            <p:nvPr/>
          </p:nvSpPr>
          <p:spPr>
            <a:xfrm>
              <a:off x="7342920" y="4603320"/>
              <a:ext cx="2577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lock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文本框 61"/>
            <p:cNvSpPr/>
            <p:nvPr/>
          </p:nvSpPr>
          <p:spPr>
            <a:xfrm>
              <a:off x="7342920" y="4963320"/>
              <a:ext cx="2577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lock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125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125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9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15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3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3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3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组合 1"/>
          <p:cNvGrpSpPr/>
          <p:nvPr/>
        </p:nvGrpSpPr>
        <p:grpSpPr>
          <a:xfrm>
            <a:off x="360" y="6299280"/>
            <a:ext cx="12191040" cy="306360"/>
            <a:chOff x="360" y="6299280"/>
            <a:chExt cx="12191040" cy="306360"/>
          </a:xfrm>
        </p:grpSpPr>
        <p:sp>
          <p:nvSpPr>
            <p:cNvPr id="140" name="圆角矩形 2"/>
            <p:cNvSpPr/>
            <p:nvPr/>
          </p:nvSpPr>
          <p:spPr>
            <a:xfrm>
              <a:off x="585720" y="6299280"/>
              <a:ext cx="11021760" cy="30636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1" name="任意多边形 3"/>
            <p:cNvSpPr/>
            <p:nvPr/>
          </p:nvSpPr>
          <p:spPr>
            <a:xfrm>
              <a:off x="117219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2" name="燕尾形 4"/>
            <p:cNvSpPr/>
            <p:nvPr/>
          </p:nvSpPr>
          <p:spPr>
            <a:xfrm>
              <a:off x="11926080" y="635112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任意多边形 5"/>
            <p:cNvSpPr/>
            <p:nvPr/>
          </p:nvSpPr>
          <p:spPr>
            <a:xfrm rot="10800000">
              <a:off x="3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4" name="燕尾形 6"/>
            <p:cNvSpPr/>
            <p:nvPr/>
          </p:nvSpPr>
          <p:spPr>
            <a:xfrm rot="10800000">
              <a:off x="115920" y="635148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椭圆 11"/>
          <p:cNvSpPr/>
          <p:nvPr/>
        </p:nvSpPr>
        <p:spPr>
          <a:xfrm rot="18900000">
            <a:off x="2815560" y="4006080"/>
            <a:ext cx="1755720" cy="1755720"/>
          </a:xfrm>
          <a:prstGeom prst="ellipse">
            <a:avLst/>
          </a:prstGeom>
          <a:noFill/>
          <a:ln w="76200">
            <a:solidFill>
              <a:srgbClr val="000000"/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椭圆 12"/>
          <p:cNvSpPr/>
          <p:nvPr/>
        </p:nvSpPr>
        <p:spPr>
          <a:xfrm rot="900000">
            <a:off x="5079960" y="4005720"/>
            <a:ext cx="1755720" cy="1755720"/>
          </a:xfrm>
          <a:prstGeom prst="ellipse">
            <a:avLst/>
          </a:prstGeom>
          <a:noFill/>
          <a:ln w="76200">
            <a:solidFill>
              <a:srgbClr val="000000"/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椭圆 13"/>
          <p:cNvSpPr/>
          <p:nvPr/>
        </p:nvSpPr>
        <p:spPr>
          <a:xfrm>
            <a:off x="7431480" y="2598120"/>
            <a:ext cx="1755720" cy="1755720"/>
          </a:xfrm>
          <a:prstGeom prst="ellipse">
            <a:avLst/>
          </a:prstGeom>
          <a:noFill/>
          <a:ln w="76200">
            <a:solidFill>
              <a:srgbClr val="ffffff"/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椭圆 14"/>
          <p:cNvSpPr/>
          <p:nvPr/>
        </p:nvSpPr>
        <p:spPr>
          <a:xfrm rot="900000">
            <a:off x="9695520" y="4005720"/>
            <a:ext cx="1755720" cy="1755720"/>
          </a:xfrm>
          <a:prstGeom prst="ellipse">
            <a:avLst/>
          </a:prstGeom>
          <a:noFill/>
          <a:ln w="76200">
            <a:solidFill>
              <a:srgbClr val="000000"/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49" name="组合 8"/>
          <p:cNvGrpSpPr/>
          <p:nvPr/>
        </p:nvGrpSpPr>
        <p:grpSpPr>
          <a:xfrm>
            <a:off x="5060880" y="388080"/>
            <a:ext cx="2191320" cy="939600"/>
            <a:chOff x="5060880" y="388080"/>
            <a:chExt cx="2191320" cy="939600"/>
          </a:xfrm>
        </p:grpSpPr>
        <p:sp>
          <p:nvSpPr>
            <p:cNvPr id="150" name="文本框 15"/>
            <p:cNvSpPr/>
            <p:nvPr/>
          </p:nvSpPr>
          <p:spPr>
            <a:xfrm>
              <a:off x="5253840" y="388080"/>
              <a:ext cx="16840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发展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进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文本框 16"/>
            <p:cNvSpPr/>
            <p:nvPr/>
          </p:nvSpPr>
          <p:spPr>
            <a:xfrm>
              <a:off x="5060880" y="872280"/>
              <a:ext cx="21913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evelop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2" name="直接连接符 17"/>
          <p:cNvCxnSpPr/>
          <p:nvPr/>
        </p:nvCxnSpPr>
        <p:spPr>
          <a:xfrm>
            <a:off x="2276280" y="3130200"/>
            <a:ext cx="781560" cy="1051560"/>
          </a:xfrm>
          <a:prstGeom prst="straightConnector1">
            <a:avLst/>
          </a:prstGeom>
          <a:ln w="28575">
            <a:solidFill>
              <a:srgbClr val="ffffff"/>
            </a:solidFill>
            <a:tailEnd len="med" type="arrow" w="med"/>
          </a:ln>
        </p:spPr>
      </p:cxnSp>
      <p:cxnSp>
        <p:nvCxnSpPr>
          <p:cNvPr id="153" name="直接连接符 19"/>
          <p:cNvCxnSpPr/>
          <p:nvPr/>
        </p:nvCxnSpPr>
        <p:spPr>
          <a:xfrm>
            <a:off x="2815560" y="2496600"/>
            <a:ext cx="4553280" cy="842040"/>
          </a:xfrm>
          <a:prstGeom prst="straightConnector1">
            <a:avLst/>
          </a:prstGeom>
          <a:ln w="28575">
            <a:solidFill>
              <a:srgbClr val="ffffff"/>
            </a:solidFill>
            <a:tailEnd len="med" type="arrow" w="med"/>
          </a:ln>
        </p:spPr>
      </p:cxnSp>
      <p:cxnSp>
        <p:nvCxnSpPr>
          <p:cNvPr id="154" name="直接连接符 26"/>
          <p:cNvCxnSpPr>
            <a:stCxn id="145" idx="5"/>
          </p:cNvCxnSpPr>
          <p:nvPr/>
        </p:nvCxnSpPr>
        <p:spPr>
          <a:xfrm>
            <a:off x="4571640" y="4883760"/>
            <a:ext cx="520560" cy="360"/>
          </a:xfrm>
          <a:prstGeom prst="straightConnector1">
            <a:avLst/>
          </a:prstGeom>
          <a:ln w="28575">
            <a:solidFill>
              <a:srgbClr val="000000"/>
            </a:solidFill>
            <a:tailEnd len="med" type="arrow" w="med"/>
          </a:ln>
        </p:spPr>
      </p:cxnSp>
      <p:cxnSp>
        <p:nvCxnSpPr>
          <p:cNvPr id="155" name="直接连接符 34"/>
          <p:cNvCxnSpPr/>
          <p:nvPr/>
        </p:nvCxnSpPr>
        <p:spPr>
          <a:xfrm>
            <a:off x="6836040" y="4883760"/>
            <a:ext cx="2803320" cy="360"/>
          </a:xfrm>
          <a:prstGeom prst="straightConnector1">
            <a:avLst/>
          </a:prstGeom>
          <a:ln w="28575">
            <a:solidFill>
              <a:srgbClr val="000000"/>
            </a:solidFill>
            <a:tailEnd len="med" type="arrow" w="med"/>
          </a:ln>
        </p:spPr>
      </p:cxnSp>
      <p:grpSp>
        <p:nvGrpSpPr>
          <p:cNvPr id="156" name="组合 9"/>
          <p:cNvGrpSpPr/>
          <p:nvPr/>
        </p:nvGrpSpPr>
        <p:grpSpPr>
          <a:xfrm>
            <a:off x="1028160" y="1435680"/>
            <a:ext cx="1818720" cy="1755720"/>
            <a:chOff x="1028160" y="1435680"/>
            <a:chExt cx="1818720" cy="1755720"/>
          </a:xfrm>
        </p:grpSpPr>
        <p:sp>
          <p:nvSpPr>
            <p:cNvPr id="157" name="椭圆 7"/>
            <p:cNvSpPr/>
            <p:nvPr/>
          </p:nvSpPr>
          <p:spPr>
            <a:xfrm>
              <a:off x="1059480" y="1435680"/>
              <a:ext cx="1755720" cy="1755720"/>
            </a:xfrm>
            <a:prstGeom prst="ellipse">
              <a:avLst/>
            </a:prstGeom>
            <a:noFill/>
            <a:ln w="762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8" name="文本框 38"/>
            <p:cNvSpPr/>
            <p:nvPr/>
          </p:nvSpPr>
          <p:spPr>
            <a:xfrm>
              <a:off x="1028160" y="2082960"/>
              <a:ext cx="18187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文本框 39"/>
          <p:cNvSpPr/>
          <p:nvPr/>
        </p:nvSpPr>
        <p:spPr>
          <a:xfrm>
            <a:off x="7399800" y="3245400"/>
            <a:ext cx="1818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40"/>
          <p:cNvSpPr/>
          <p:nvPr/>
        </p:nvSpPr>
        <p:spPr>
          <a:xfrm>
            <a:off x="2784240" y="4662360"/>
            <a:ext cx="1818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41"/>
          <p:cNvSpPr/>
          <p:nvPr/>
        </p:nvSpPr>
        <p:spPr>
          <a:xfrm>
            <a:off x="5017320" y="4627080"/>
            <a:ext cx="1818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42"/>
          <p:cNvSpPr/>
          <p:nvPr/>
        </p:nvSpPr>
        <p:spPr>
          <a:xfrm>
            <a:off x="9664200" y="4627080"/>
            <a:ext cx="1818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43"/>
          <p:cNvSpPr/>
          <p:nvPr/>
        </p:nvSpPr>
        <p:spPr>
          <a:xfrm rot="601800">
            <a:off x="2905560" y="2398680"/>
            <a:ext cx="443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2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125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9167E-006 2.96296E-006 L -0.05533 2.96296E-006 E">
                                      <p:cBhvr>
                                        <p:cTn id="2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25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9167E-006 2.96296E-006 L -0.05533 2.96296E-006 E">
                                      <p:cBhvr>
                                        <p:cTn id="2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16667E-007 -4.44444E-006 L -4.16667E-007 0.06459 E">
                                      <p:cBhvr>
                                        <p:cTn id="2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35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4.79167E-006 2.96296E-006 L -0.05533 2.96296E-006 E">
                                      <p:cBhvr>
                                        <p:cTn id="2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Rot by="21600000">
                                      <p:cBhvr>
                                        <p:cTn id="25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Rot by="21600000">
                                      <p:cBhvr>
                                        <p:cTn id="25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Rot by="21600000">
                                      <p:cBhvr>
                                        <p:cTn id="25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Rot by="21600000">
                                      <p:cBhvr>
                                        <p:cTn id="25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任意多边形 44"/>
          <p:cNvSpPr/>
          <p:nvPr/>
        </p:nvSpPr>
        <p:spPr>
          <a:xfrm>
            <a:off x="7345440" y="2029320"/>
            <a:ext cx="1491480" cy="963360"/>
          </a:xfrm>
          <a:custGeom>
            <a:avLst/>
            <a:gdLst>
              <a:gd name="textAreaLeft" fmla="*/ 0 w 1491480"/>
              <a:gd name="textAreaRight" fmla="*/ 1491840 w 1491480"/>
              <a:gd name="textAreaTop" fmla="*/ 0 h 963360"/>
              <a:gd name="textAreaBottom" fmla="*/ 963720 h 963360"/>
            </a:gdLst>
            <a:ahLst/>
            <a:rect l="textAreaLeft" t="textAreaTop" r="textAreaRight" b="textAreaBottom"/>
            <a:pathLst>
              <a:path w="1402067" h="963803">
                <a:moveTo>
                  <a:pt x="194429" y="0"/>
                </a:moveTo>
                <a:lnTo>
                  <a:pt x="1207638" y="0"/>
                </a:lnTo>
                <a:cubicBezTo>
                  <a:pt x="1315018" y="0"/>
                  <a:pt x="1402067" y="87049"/>
                  <a:pt x="1402067" y="194429"/>
                </a:cubicBezTo>
                <a:lnTo>
                  <a:pt x="1402067" y="560634"/>
                </a:lnTo>
                <a:cubicBezTo>
                  <a:pt x="1402067" y="668014"/>
                  <a:pt x="1315018" y="755063"/>
                  <a:pt x="1207638" y="755063"/>
                </a:cubicBezTo>
                <a:lnTo>
                  <a:pt x="609906" y="755063"/>
                </a:lnTo>
                <a:lnTo>
                  <a:pt x="362897" y="963803"/>
                </a:lnTo>
                <a:lnTo>
                  <a:pt x="303754" y="755063"/>
                </a:lnTo>
                <a:lnTo>
                  <a:pt x="194429" y="755063"/>
                </a:lnTo>
                <a:cubicBezTo>
                  <a:pt x="87049" y="755063"/>
                  <a:pt x="0" y="668014"/>
                  <a:pt x="0" y="560634"/>
                </a:cubicBezTo>
                <a:lnTo>
                  <a:pt x="0" y="194429"/>
                </a:lnTo>
                <a:cubicBezTo>
                  <a:pt x="0" y="87049"/>
                  <a:pt x="87049" y="0"/>
                  <a:pt x="194429" y="0"/>
                </a:cubicBezTo>
                <a:close/>
              </a:path>
            </a:pathLst>
          </a:custGeom>
          <a:noFill/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任意多边形 45"/>
          <p:cNvSpPr/>
          <p:nvPr/>
        </p:nvSpPr>
        <p:spPr>
          <a:xfrm rot="10800000">
            <a:off x="5232600" y="4218120"/>
            <a:ext cx="1339560" cy="963360"/>
          </a:xfrm>
          <a:custGeom>
            <a:avLst/>
            <a:gdLst>
              <a:gd name="textAreaLeft" fmla="*/ 0 w 1339560"/>
              <a:gd name="textAreaRight" fmla="*/ 1339920 w 1339560"/>
              <a:gd name="textAreaTop" fmla="*/ 0 h 963360"/>
              <a:gd name="textAreaBottom" fmla="*/ 963720 h 963360"/>
            </a:gdLst>
            <a:ahLst/>
            <a:rect l="textAreaLeft" t="textAreaTop" r="textAreaRight" b="textAreaBottom"/>
            <a:pathLst>
              <a:path w="1402067" h="963803">
                <a:moveTo>
                  <a:pt x="194429" y="0"/>
                </a:moveTo>
                <a:lnTo>
                  <a:pt x="1207638" y="0"/>
                </a:lnTo>
                <a:cubicBezTo>
                  <a:pt x="1315018" y="0"/>
                  <a:pt x="1402067" y="87049"/>
                  <a:pt x="1402067" y="194429"/>
                </a:cubicBezTo>
                <a:lnTo>
                  <a:pt x="1402067" y="560634"/>
                </a:lnTo>
                <a:cubicBezTo>
                  <a:pt x="1402067" y="668014"/>
                  <a:pt x="1315018" y="755063"/>
                  <a:pt x="1207638" y="755063"/>
                </a:cubicBezTo>
                <a:lnTo>
                  <a:pt x="609906" y="755063"/>
                </a:lnTo>
                <a:lnTo>
                  <a:pt x="362897" y="963803"/>
                </a:lnTo>
                <a:lnTo>
                  <a:pt x="303754" y="755063"/>
                </a:lnTo>
                <a:lnTo>
                  <a:pt x="194429" y="755063"/>
                </a:lnTo>
                <a:cubicBezTo>
                  <a:pt x="87049" y="755063"/>
                  <a:pt x="0" y="668014"/>
                  <a:pt x="0" y="560634"/>
                </a:cubicBezTo>
                <a:lnTo>
                  <a:pt x="0" y="194429"/>
                </a:lnTo>
                <a:cubicBezTo>
                  <a:pt x="0" y="87049"/>
                  <a:pt x="87049" y="0"/>
                  <a:pt x="194429" y="0"/>
                </a:cubicBezTo>
                <a:close/>
              </a:path>
            </a:pathLst>
          </a:custGeom>
          <a:noFill/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66" name="组合 1"/>
          <p:cNvGrpSpPr/>
          <p:nvPr/>
        </p:nvGrpSpPr>
        <p:grpSpPr>
          <a:xfrm>
            <a:off x="360" y="6299280"/>
            <a:ext cx="12191040" cy="306360"/>
            <a:chOff x="360" y="6299280"/>
            <a:chExt cx="12191040" cy="306360"/>
          </a:xfrm>
        </p:grpSpPr>
        <p:sp>
          <p:nvSpPr>
            <p:cNvPr id="167" name="圆角矩形 2"/>
            <p:cNvSpPr/>
            <p:nvPr/>
          </p:nvSpPr>
          <p:spPr>
            <a:xfrm>
              <a:off x="585720" y="6299280"/>
              <a:ext cx="11021760" cy="30636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8" name="任意多边形 3"/>
            <p:cNvSpPr/>
            <p:nvPr/>
          </p:nvSpPr>
          <p:spPr>
            <a:xfrm>
              <a:off x="117219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9" name="燕尾形 4"/>
            <p:cNvSpPr/>
            <p:nvPr/>
          </p:nvSpPr>
          <p:spPr>
            <a:xfrm>
              <a:off x="11926080" y="635112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任意多边形 5"/>
            <p:cNvSpPr/>
            <p:nvPr/>
          </p:nvSpPr>
          <p:spPr>
            <a:xfrm rot="10800000">
              <a:off x="3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1" name="燕尾形 6"/>
            <p:cNvSpPr/>
            <p:nvPr/>
          </p:nvSpPr>
          <p:spPr>
            <a:xfrm rot="10800000">
              <a:off x="115920" y="635148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组合 8"/>
          <p:cNvGrpSpPr/>
          <p:nvPr/>
        </p:nvGrpSpPr>
        <p:grpSpPr>
          <a:xfrm>
            <a:off x="4484880" y="388080"/>
            <a:ext cx="3200400" cy="939600"/>
            <a:chOff x="4484880" y="388080"/>
            <a:chExt cx="3200400" cy="939600"/>
          </a:xfrm>
        </p:grpSpPr>
        <p:sp>
          <p:nvSpPr>
            <p:cNvPr id="173" name="文本框 11"/>
            <p:cNvSpPr/>
            <p:nvPr/>
          </p:nvSpPr>
          <p:spPr>
            <a:xfrm>
              <a:off x="4644720" y="388080"/>
              <a:ext cx="27864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星期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情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12"/>
            <p:cNvSpPr/>
            <p:nvPr/>
          </p:nvSpPr>
          <p:spPr>
            <a:xfrm>
              <a:off x="4484880" y="872280"/>
              <a:ext cx="3200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eekly probl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文本框 30"/>
          <p:cNvSpPr/>
          <p:nvPr/>
        </p:nvSpPr>
        <p:spPr>
          <a:xfrm>
            <a:off x="986760" y="1838520"/>
            <a:ext cx="2577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9"/>
          <p:cNvGrpSpPr/>
          <p:nvPr/>
        </p:nvGrpSpPr>
        <p:grpSpPr>
          <a:xfrm>
            <a:off x="733320" y="3120840"/>
            <a:ext cx="1477800" cy="968400"/>
            <a:chOff x="733320" y="3120840"/>
            <a:chExt cx="1477800" cy="968400"/>
          </a:xfrm>
        </p:grpSpPr>
        <p:sp>
          <p:nvSpPr>
            <p:cNvPr id="177" name="圆角矩形 7"/>
            <p:cNvSpPr/>
            <p:nvPr/>
          </p:nvSpPr>
          <p:spPr>
            <a:xfrm>
              <a:off x="749160" y="3120840"/>
              <a:ext cx="1446480" cy="968400"/>
            </a:xfrm>
            <a:prstGeom prst="roundRect">
              <a:avLst>
                <a:gd name="adj" fmla="val 47756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8" name="文本框 32"/>
            <p:cNvSpPr/>
            <p:nvPr/>
          </p:nvSpPr>
          <p:spPr>
            <a:xfrm>
              <a:off x="733320" y="3376800"/>
              <a:ext cx="1477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10"/>
          <p:cNvGrpSpPr/>
          <p:nvPr/>
        </p:nvGrpSpPr>
        <p:grpSpPr>
          <a:xfrm>
            <a:off x="2244600" y="3120840"/>
            <a:ext cx="1477800" cy="968400"/>
            <a:chOff x="2244600" y="3120840"/>
            <a:chExt cx="1477800" cy="968400"/>
          </a:xfrm>
        </p:grpSpPr>
        <p:sp>
          <p:nvSpPr>
            <p:cNvPr id="180" name="圆角矩形 24"/>
            <p:cNvSpPr/>
            <p:nvPr/>
          </p:nvSpPr>
          <p:spPr>
            <a:xfrm>
              <a:off x="2275920" y="3120840"/>
              <a:ext cx="1446480" cy="968400"/>
            </a:xfrm>
            <a:prstGeom prst="roundRect">
              <a:avLst>
                <a:gd name="adj" fmla="val 47756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1" name="文本框 34"/>
            <p:cNvSpPr/>
            <p:nvPr/>
          </p:nvSpPr>
          <p:spPr>
            <a:xfrm>
              <a:off x="2244600" y="3376800"/>
              <a:ext cx="1477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14"/>
          <p:cNvGrpSpPr/>
          <p:nvPr/>
        </p:nvGrpSpPr>
        <p:grpSpPr>
          <a:xfrm>
            <a:off x="3754080" y="3120840"/>
            <a:ext cx="1495080" cy="968400"/>
            <a:chOff x="3754080" y="3120840"/>
            <a:chExt cx="1495080" cy="968400"/>
          </a:xfrm>
        </p:grpSpPr>
        <p:sp>
          <p:nvSpPr>
            <p:cNvPr id="183" name="圆角矩形 25"/>
            <p:cNvSpPr/>
            <p:nvPr/>
          </p:nvSpPr>
          <p:spPr>
            <a:xfrm>
              <a:off x="3802680" y="3120840"/>
              <a:ext cx="1446480" cy="968400"/>
            </a:xfrm>
            <a:prstGeom prst="roundRect">
              <a:avLst>
                <a:gd name="adj" fmla="val 47756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4" name="文本框 35"/>
            <p:cNvSpPr/>
            <p:nvPr/>
          </p:nvSpPr>
          <p:spPr>
            <a:xfrm>
              <a:off x="3754080" y="3376800"/>
              <a:ext cx="1477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15"/>
          <p:cNvGrpSpPr/>
          <p:nvPr/>
        </p:nvGrpSpPr>
        <p:grpSpPr>
          <a:xfrm>
            <a:off x="5329800" y="3120840"/>
            <a:ext cx="1486440" cy="968400"/>
            <a:chOff x="5329800" y="3120840"/>
            <a:chExt cx="1486440" cy="968400"/>
          </a:xfrm>
        </p:grpSpPr>
        <p:sp>
          <p:nvSpPr>
            <p:cNvPr id="186" name="圆角矩形 26"/>
            <p:cNvSpPr/>
            <p:nvPr/>
          </p:nvSpPr>
          <p:spPr>
            <a:xfrm>
              <a:off x="5329800" y="3120840"/>
              <a:ext cx="1446480" cy="968400"/>
            </a:xfrm>
            <a:prstGeom prst="roundRect">
              <a:avLst>
                <a:gd name="adj" fmla="val 47756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7" name="文本框 36"/>
            <p:cNvSpPr/>
            <p:nvPr/>
          </p:nvSpPr>
          <p:spPr>
            <a:xfrm>
              <a:off x="5338440" y="3376800"/>
              <a:ext cx="1477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16"/>
          <p:cNvGrpSpPr/>
          <p:nvPr/>
        </p:nvGrpSpPr>
        <p:grpSpPr>
          <a:xfrm>
            <a:off x="6840720" y="3120840"/>
            <a:ext cx="1477800" cy="968400"/>
            <a:chOff x="6840720" y="3120840"/>
            <a:chExt cx="1477800" cy="968400"/>
          </a:xfrm>
        </p:grpSpPr>
        <p:sp>
          <p:nvSpPr>
            <p:cNvPr id="189" name="圆角矩形 27"/>
            <p:cNvSpPr/>
            <p:nvPr/>
          </p:nvSpPr>
          <p:spPr>
            <a:xfrm>
              <a:off x="6856560" y="3120840"/>
              <a:ext cx="1446480" cy="968400"/>
            </a:xfrm>
            <a:prstGeom prst="roundRect">
              <a:avLst>
                <a:gd name="adj" fmla="val 47756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0" name="文本框 37"/>
            <p:cNvSpPr/>
            <p:nvPr/>
          </p:nvSpPr>
          <p:spPr>
            <a:xfrm>
              <a:off x="6840720" y="3376800"/>
              <a:ext cx="1477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17"/>
          <p:cNvGrpSpPr/>
          <p:nvPr/>
        </p:nvGrpSpPr>
        <p:grpSpPr>
          <a:xfrm>
            <a:off x="8367840" y="3120840"/>
            <a:ext cx="1477800" cy="968400"/>
            <a:chOff x="8367840" y="3120840"/>
            <a:chExt cx="1477800" cy="968400"/>
          </a:xfrm>
        </p:grpSpPr>
        <p:sp>
          <p:nvSpPr>
            <p:cNvPr id="192" name="圆角矩形 28"/>
            <p:cNvSpPr/>
            <p:nvPr/>
          </p:nvSpPr>
          <p:spPr>
            <a:xfrm>
              <a:off x="8383320" y="3120840"/>
              <a:ext cx="1446480" cy="968400"/>
            </a:xfrm>
            <a:prstGeom prst="roundRect">
              <a:avLst>
                <a:gd name="adj" fmla="val 47756"/>
              </a:avLst>
            </a:prstGeom>
            <a:solidFill>
              <a:schemeClr val="tx1">
                <a:alpha val="38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3" name="文本框 38"/>
            <p:cNvSpPr/>
            <p:nvPr/>
          </p:nvSpPr>
          <p:spPr>
            <a:xfrm>
              <a:off x="8367840" y="3376800"/>
              <a:ext cx="1477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18"/>
          <p:cNvGrpSpPr/>
          <p:nvPr/>
        </p:nvGrpSpPr>
        <p:grpSpPr>
          <a:xfrm>
            <a:off x="9878760" y="3120840"/>
            <a:ext cx="1478160" cy="968400"/>
            <a:chOff x="9878760" y="3120840"/>
            <a:chExt cx="1478160" cy="968400"/>
          </a:xfrm>
        </p:grpSpPr>
        <p:sp>
          <p:nvSpPr>
            <p:cNvPr id="195" name="圆角矩形 29"/>
            <p:cNvSpPr/>
            <p:nvPr/>
          </p:nvSpPr>
          <p:spPr>
            <a:xfrm>
              <a:off x="9910440" y="3120840"/>
              <a:ext cx="1446480" cy="968400"/>
            </a:xfrm>
            <a:prstGeom prst="roundRect">
              <a:avLst>
                <a:gd name="adj" fmla="val 47756"/>
              </a:avLst>
            </a:prstGeom>
            <a:solidFill>
              <a:schemeClr val="tx1">
                <a:alpha val="38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6" name="文本框 39"/>
            <p:cNvSpPr/>
            <p:nvPr/>
          </p:nvSpPr>
          <p:spPr>
            <a:xfrm>
              <a:off x="9878760" y="3376800"/>
              <a:ext cx="1477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文本框 46"/>
          <p:cNvSpPr/>
          <p:nvPr/>
        </p:nvSpPr>
        <p:spPr>
          <a:xfrm>
            <a:off x="5163120" y="4607280"/>
            <a:ext cx="1477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1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47"/>
          <p:cNvSpPr/>
          <p:nvPr/>
        </p:nvSpPr>
        <p:spPr>
          <a:xfrm>
            <a:off x="7345440" y="2195640"/>
            <a:ext cx="1477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2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125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7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8333E-006 4.81481E-006 L 0.01172 -0.1463 E">
                                      <p:cBhvr>
                                        <p:cTn id="3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2.22222E-006 L -0.03333 0.13797 E">
                                      <p:cBhvr>
                                        <p:cTn id="3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1"/>
          <p:cNvGrpSpPr/>
          <p:nvPr/>
        </p:nvGrpSpPr>
        <p:grpSpPr>
          <a:xfrm>
            <a:off x="360" y="6299280"/>
            <a:ext cx="12191040" cy="306360"/>
            <a:chOff x="360" y="6299280"/>
            <a:chExt cx="12191040" cy="306360"/>
          </a:xfrm>
        </p:grpSpPr>
        <p:sp>
          <p:nvSpPr>
            <p:cNvPr id="200" name="圆角矩形 2"/>
            <p:cNvSpPr/>
            <p:nvPr/>
          </p:nvSpPr>
          <p:spPr>
            <a:xfrm>
              <a:off x="585720" y="6299280"/>
              <a:ext cx="11021760" cy="30636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1" name="任意多边形 3"/>
            <p:cNvSpPr/>
            <p:nvPr/>
          </p:nvSpPr>
          <p:spPr>
            <a:xfrm>
              <a:off x="117219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2" name="燕尾形 4"/>
            <p:cNvSpPr/>
            <p:nvPr/>
          </p:nvSpPr>
          <p:spPr>
            <a:xfrm>
              <a:off x="11926080" y="635112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任意多边形 5"/>
            <p:cNvSpPr/>
            <p:nvPr/>
          </p:nvSpPr>
          <p:spPr>
            <a:xfrm rot="10800000">
              <a:off x="3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4" name="燕尾形 6"/>
            <p:cNvSpPr/>
            <p:nvPr/>
          </p:nvSpPr>
          <p:spPr>
            <a:xfrm rot="10800000">
              <a:off x="115920" y="635148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组合 9"/>
          <p:cNvGrpSpPr/>
          <p:nvPr/>
        </p:nvGrpSpPr>
        <p:grpSpPr>
          <a:xfrm>
            <a:off x="4896000" y="388080"/>
            <a:ext cx="2440440" cy="939600"/>
            <a:chOff x="4896000" y="388080"/>
            <a:chExt cx="2440440" cy="939600"/>
          </a:xfrm>
        </p:grpSpPr>
        <p:sp>
          <p:nvSpPr>
            <p:cNvPr id="206" name="文本框 11"/>
            <p:cNvSpPr/>
            <p:nvPr/>
          </p:nvSpPr>
          <p:spPr>
            <a:xfrm>
              <a:off x="5253840" y="388080"/>
              <a:ext cx="16840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基本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文本框 12"/>
            <p:cNvSpPr/>
            <p:nvPr/>
          </p:nvSpPr>
          <p:spPr>
            <a:xfrm>
              <a:off x="4896000" y="872280"/>
              <a:ext cx="24404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Basic ques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椭圆 7"/>
          <p:cNvSpPr/>
          <p:nvPr/>
        </p:nvSpPr>
        <p:spPr>
          <a:xfrm rot="20823000">
            <a:off x="4510080" y="2118600"/>
            <a:ext cx="3200400" cy="3200400"/>
          </a:xfrm>
          <a:prstGeom prst="ellipse">
            <a:avLst/>
          </a:prstGeom>
          <a:noFill/>
          <a:ln w="28575">
            <a:solidFill>
              <a:srgbClr val="ffffff"/>
            </a:solidFill>
            <a:prstDash val="lg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9" name="椭圆 14"/>
          <p:cNvSpPr/>
          <p:nvPr/>
        </p:nvSpPr>
        <p:spPr>
          <a:xfrm>
            <a:off x="4395600" y="2018880"/>
            <a:ext cx="3400200" cy="3400200"/>
          </a:xfrm>
          <a:prstGeom prst="ellipse">
            <a:avLst/>
          </a:prstGeom>
          <a:noFill/>
          <a:ln w="28575">
            <a:solidFill>
              <a:srgbClr val="ffffff"/>
            </a:solidFill>
            <a:prstDash val="lg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0" name="文本框 8"/>
          <p:cNvSpPr/>
          <p:nvPr/>
        </p:nvSpPr>
        <p:spPr>
          <a:xfrm rot="19800000">
            <a:off x="5189760" y="2200680"/>
            <a:ext cx="198072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17"/>
          <p:cNvGrpSpPr/>
          <p:nvPr/>
        </p:nvGrpSpPr>
        <p:grpSpPr>
          <a:xfrm>
            <a:off x="8411040" y="1711800"/>
            <a:ext cx="3196440" cy="469440"/>
            <a:chOff x="8411040" y="1711800"/>
            <a:chExt cx="3196440" cy="469440"/>
          </a:xfrm>
        </p:grpSpPr>
        <p:sp>
          <p:nvSpPr>
            <p:cNvPr id="212" name="圆角矩形 23"/>
            <p:cNvSpPr/>
            <p:nvPr/>
          </p:nvSpPr>
          <p:spPr>
            <a:xfrm>
              <a:off x="8411040" y="1711800"/>
              <a:ext cx="3196440" cy="46944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3" name="文本框 24"/>
            <p:cNvSpPr/>
            <p:nvPr/>
          </p:nvSpPr>
          <p:spPr>
            <a:xfrm>
              <a:off x="8703720" y="1736280"/>
              <a:ext cx="26110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10"/>
          <p:cNvGrpSpPr/>
          <p:nvPr/>
        </p:nvGrpSpPr>
        <p:grpSpPr>
          <a:xfrm>
            <a:off x="585720" y="2187360"/>
            <a:ext cx="3309840" cy="898560"/>
            <a:chOff x="585720" y="2187360"/>
            <a:chExt cx="3309840" cy="898560"/>
          </a:xfrm>
        </p:grpSpPr>
        <p:sp>
          <p:nvSpPr>
            <p:cNvPr id="215" name="任意多边形 20"/>
            <p:cNvSpPr/>
            <p:nvPr/>
          </p:nvSpPr>
          <p:spPr>
            <a:xfrm>
              <a:off x="585720" y="2187360"/>
              <a:ext cx="3309840" cy="898560"/>
            </a:xfrm>
            <a:custGeom>
              <a:avLst/>
              <a:gdLst>
                <a:gd name="textAreaLeft" fmla="*/ 0 w 3309840"/>
                <a:gd name="textAreaRight" fmla="*/ 3310200 w 330984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2816225" h="898754">
                  <a:moveTo>
                    <a:pt x="118627" y="0"/>
                  </a:moveTo>
                  <a:lnTo>
                    <a:pt x="1811773" y="0"/>
                  </a:lnTo>
                  <a:cubicBezTo>
                    <a:pt x="1877289" y="0"/>
                    <a:pt x="1930400" y="53111"/>
                    <a:pt x="1930400" y="118627"/>
                  </a:cubicBezTo>
                  <a:lnTo>
                    <a:pt x="1930400" y="429267"/>
                  </a:lnTo>
                  <a:lnTo>
                    <a:pt x="2816225" y="898754"/>
                  </a:lnTo>
                  <a:lnTo>
                    <a:pt x="1930400" y="579857"/>
                  </a:lnTo>
                  <a:lnTo>
                    <a:pt x="1930400" y="593121"/>
                  </a:lnTo>
                  <a:cubicBezTo>
                    <a:pt x="1930400" y="658637"/>
                    <a:pt x="1877289" y="711748"/>
                    <a:pt x="1811773" y="711748"/>
                  </a:cubicBezTo>
                  <a:lnTo>
                    <a:pt x="118627" y="711748"/>
                  </a:lnTo>
                  <a:cubicBezTo>
                    <a:pt x="53111" y="711748"/>
                    <a:pt x="0" y="658637"/>
                    <a:pt x="0" y="593121"/>
                  </a:cubicBezTo>
                  <a:lnTo>
                    <a:pt x="0" y="118627"/>
                  </a:lnTo>
                  <a:cubicBezTo>
                    <a:pt x="0" y="53111"/>
                    <a:pt x="53111" y="0"/>
                    <a:pt x="118627" y="0"/>
                  </a:cubicBezTo>
                  <a:close/>
                </a:path>
              </a:pathLst>
            </a:custGeom>
            <a:noFill/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6" name="文本框 25"/>
            <p:cNvSpPr/>
            <p:nvPr/>
          </p:nvSpPr>
          <p:spPr>
            <a:xfrm>
              <a:off x="1317600" y="2378880"/>
              <a:ext cx="10821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15"/>
          <p:cNvGrpSpPr/>
          <p:nvPr/>
        </p:nvGrpSpPr>
        <p:grpSpPr>
          <a:xfrm>
            <a:off x="585720" y="3445920"/>
            <a:ext cx="3224160" cy="603720"/>
            <a:chOff x="585720" y="3445920"/>
            <a:chExt cx="3224160" cy="603720"/>
          </a:xfrm>
        </p:grpSpPr>
        <p:sp>
          <p:nvSpPr>
            <p:cNvPr id="218" name="任意多边形 19"/>
            <p:cNvSpPr/>
            <p:nvPr/>
          </p:nvSpPr>
          <p:spPr>
            <a:xfrm>
              <a:off x="585720" y="3445920"/>
              <a:ext cx="3224160" cy="603720"/>
            </a:xfrm>
            <a:custGeom>
              <a:avLst/>
              <a:gdLst>
                <a:gd name="textAreaLeft" fmla="*/ 0 w 3224160"/>
                <a:gd name="textAreaRight" fmla="*/ 3224520 w 322416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2730500" h="603983">
                  <a:moveTo>
                    <a:pt x="2730500" y="0"/>
                  </a:moveTo>
                  <a:lnTo>
                    <a:pt x="1930400" y="364490"/>
                  </a:lnTo>
                  <a:lnTo>
                    <a:pt x="1930400" y="522447"/>
                  </a:lnTo>
                  <a:cubicBezTo>
                    <a:pt x="1930400" y="567478"/>
                    <a:pt x="1893895" y="603983"/>
                    <a:pt x="1848864" y="603983"/>
                  </a:cubicBezTo>
                  <a:lnTo>
                    <a:pt x="81536" y="603983"/>
                  </a:lnTo>
                  <a:cubicBezTo>
                    <a:pt x="36505" y="603983"/>
                    <a:pt x="0" y="567478"/>
                    <a:pt x="0" y="522447"/>
                  </a:cubicBezTo>
                  <a:lnTo>
                    <a:pt x="0" y="196310"/>
                  </a:lnTo>
                  <a:cubicBezTo>
                    <a:pt x="0" y="151279"/>
                    <a:pt x="36505" y="114774"/>
                    <a:pt x="81536" y="114774"/>
                  </a:cubicBezTo>
                  <a:lnTo>
                    <a:pt x="1848864" y="114774"/>
                  </a:lnTo>
                  <a:cubicBezTo>
                    <a:pt x="1893895" y="114774"/>
                    <a:pt x="1930400" y="151279"/>
                    <a:pt x="1930400" y="196310"/>
                  </a:cubicBezTo>
                  <a:lnTo>
                    <a:pt x="1930400" y="243509"/>
                  </a:lnTo>
                  <a:close/>
                </a:path>
              </a:pathLst>
            </a:custGeom>
            <a:noFill/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9" name="文本框 26"/>
            <p:cNvSpPr/>
            <p:nvPr/>
          </p:nvSpPr>
          <p:spPr>
            <a:xfrm>
              <a:off x="1317600" y="3672720"/>
              <a:ext cx="10821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文本框 28"/>
          <p:cNvSpPr/>
          <p:nvPr/>
        </p:nvSpPr>
        <p:spPr>
          <a:xfrm>
            <a:off x="8582040" y="2378880"/>
            <a:ext cx="2732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组合 16"/>
          <p:cNvGrpSpPr/>
          <p:nvPr/>
        </p:nvGrpSpPr>
        <p:grpSpPr>
          <a:xfrm>
            <a:off x="585360" y="4410000"/>
            <a:ext cx="3342600" cy="898560"/>
            <a:chOff x="585360" y="4410000"/>
            <a:chExt cx="3342600" cy="898560"/>
          </a:xfrm>
        </p:grpSpPr>
        <p:sp>
          <p:nvSpPr>
            <p:cNvPr id="222" name="文本框 27"/>
            <p:cNvSpPr/>
            <p:nvPr/>
          </p:nvSpPr>
          <p:spPr>
            <a:xfrm>
              <a:off x="1317600" y="4765320"/>
              <a:ext cx="10821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 29"/>
            <p:cNvSpPr/>
            <p:nvPr/>
          </p:nvSpPr>
          <p:spPr>
            <a:xfrm flipH="1" rot="10800000">
              <a:off x="585000" y="4410000"/>
              <a:ext cx="3342600" cy="898560"/>
            </a:xfrm>
            <a:custGeom>
              <a:avLst/>
              <a:gdLst>
                <a:gd name="textAreaLeft" fmla="*/ -360 w 3342600"/>
                <a:gd name="textAreaRight" fmla="*/ 3342600 w 334260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2816225" h="898754">
                  <a:moveTo>
                    <a:pt x="118627" y="0"/>
                  </a:moveTo>
                  <a:lnTo>
                    <a:pt x="1811773" y="0"/>
                  </a:lnTo>
                  <a:cubicBezTo>
                    <a:pt x="1877289" y="0"/>
                    <a:pt x="1930400" y="53111"/>
                    <a:pt x="1930400" y="118627"/>
                  </a:cubicBezTo>
                  <a:lnTo>
                    <a:pt x="1930400" y="429267"/>
                  </a:lnTo>
                  <a:lnTo>
                    <a:pt x="2816225" y="898754"/>
                  </a:lnTo>
                  <a:lnTo>
                    <a:pt x="1930400" y="579857"/>
                  </a:lnTo>
                  <a:lnTo>
                    <a:pt x="1930400" y="593121"/>
                  </a:lnTo>
                  <a:cubicBezTo>
                    <a:pt x="1930400" y="658637"/>
                    <a:pt x="1877289" y="711748"/>
                    <a:pt x="1811773" y="711748"/>
                  </a:cubicBezTo>
                  <a:lnTo>
                    <a:pt x="118627" y="711748"/>
                  </a:lnTo>
                  <a:cubicBezTo>
                    <a:pt x="53111" y="711748"/>
                    <a:pt x="0" y="658637"/>
                    <a:pt x="0" y="593121"/>
                  </a:cubicBezTo>
                  <a:lnTo>
                    <a:pt x="0" y="118627"/>
                  </a:lnTo>
                  <a:cubicBezTo>
                    <a:pt x="0" y="53111"/>
                    <a:pt x="53111" y="0"/>
                    <a:pt x="118627" y="0"/>
                  </a:cubicBezTo>
                  <a:close/>
                </a:path>
              </a:pathLst>
            </a:custGeom>
            <a:noFill/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125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5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25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125" autoRev="1" fill="hold"/>
                                        <p:tgtEl>
                                          <p:spTgt spid="20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95833E-006 -7.40741E-007 L 0.07318 0.04028 E">
                                      <p:cBhvr>
                                        <p:cTn id="3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6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66667E-006 2.22222E-006 L 0.07109 2.22222E-006 E">
                                      <p:cBhvr>
                                        <p:cTn id="3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75E-006 -4.81481E-006 L 0.06354 -0.04814 E">
                                      <p:cBhvr>
                                        <p:cTn id="3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75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75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75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75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7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7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800000">
                                      <p:cBhvr>
                                        <p:cTn id="367" dur="75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250"/>
                            </p:stCondLst>
                            <p:childTnLst>
                              <p:par>
                                <p:cTn id="3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3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3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35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3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600"/>
                            </p:stCondLst>
                            <p:childTnLst>
                              <p:par>
                                <p:cTn id="380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Rot by="21600000">
                                      <p:cBhvr>
                                        <p:cTn id="381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1"/>
          <p:cNvGrpSpPr/>
          <p:nvPr/>
        </p:nvGrpSpPr>
        <p:grpSpPr>
          <a:xfrm>
            <a:off x="360" y="6299280"/>
            <a:ext cx="12191040" cy="306360"/>
            <a:chOff x="360" y="6299280"/>
            <a:chExt cx="12191040" cy="306360"/>
          </a:xfrm>
        </p:grpSpPr>
        <p:sp>
          <p:nvSpPr>
            <p:cNvPr id="225" name="圆角矩形 2"/>
            <p:cNvSpPr/>
            <p:nvPr/>
          </p:nvSpPr>
          <p:spPr>
            <a:xfrm>
              <a:off x="585720" y="6299280"/>
              <a:ext cx="11021760" cy="30636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6" name="任意多边形 3"/>
            <p:cNvSpPr/>
            <p:nvPr/>
          </p:nvSpPr>
          <p:spPr>
            <a:xfrm>
              <a:off x="117219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7" name="燕尾形 4"/>
            <p:cNvSpPr/>
            <p:nvPr/>
          </p:nvSpPr>
          <p:spPr>
            <a:xfrm>
              <a:off x="11926080" y="635112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任意多边形 5"/>
            <p:cNvSpPr/>
            <p:nvPr/>
          </p:nvSpPr>
          <p:spPr>
            <a:xfrm rot="10800000">
              <a:off x="3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9" name="燕尾形 6"/>
            <p:cNvSpPr/>
            <p:nvPr/>
          </p:nvSpPr>
          <p:spPr>
            <a:xfrm rot="10800000">
              <a:off x="115920" y="635148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组合 7"/>
          <p:cNvGrpSpPr/>
          <p:nvPr/>
        </p:nvGrpSpPr>
        <p:grpSpPr>
          <a:xfrm>
            <a:off x="4611600" y="388080"/>
            <a:ext cx="2931480" cy="939600"/>
            <a:chOff x="4611600" y="388080"/>
            <a:chExt cx="2931480" cy="939600"/>
          </a:xfrm>
        </p:grpSpPr>
        <p:sp>
          <p:nvSpPr>
            <p:cNvPr id="231" name="文本框 11"/>
            <p:cNvSpPr/>
            <p:nvPr/>
          </p:nvSpPr>
          <p:spPr>
            <a:xfrm>
              <a:off x="5041440" y="388080"/>
              <a:ext cx="20714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理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生产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12"/>
            <p:cNvSpPr/>
            <p:nvPr/>
          </p:nvSpPr>
          <p:spPr>
            <a:xfrm>
              <a:off x="4611600" y="872280"/>
              <a:ext cx="2931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r produ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31"/>
          <p:cNvGrpSpPr/>
          <p:nvPr/>
        </p:nvGrpSpPr>
        <p:grpSpPr>
          <a:xfrm>
            <a:off x="6985080" y="4226040"/>
            <a:ext cx="2935440" cy="1040040"/>
            <a:chOff x="6985080" y="4226040"/>
            <a:chExt cx="2935440" cy="1040040"/>
          </a:xfrm>
        </p:grpSpPr>
        <p:sp>
          <p:nvSpPr>
            <p:cNvPr id="234" name="椭圆 10"/>
            <p:cNvSpPr/>
            <p:nvPr/>
          </p:nvSpPr>
          <p:spPr>
            <a:xfrm>
              <a:off x="6985080" y="4251600"/>
              <a:ext cx="255960" cy="255960"/>
            </a:xfrm>
            <a:prstGeom prst="ellipse">
              <a:avLst/>
            </a:prstGeom>
            <a:solidFill>
              <a:srgbClr val="2626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5" name="椭圆 14"/>
            <p:cNvSpPr/>
            <p:nvPr/>
          </p:nvSpPr>
          <p:spPr>
            <a:xfrm>
              <a:off x="6985080" y="4628880"/>
              <a:ext cx="255960" cy="255960"/>
            </a:xfrm>
            <a:prstGeom prst="ellipse">
              <a:avLst/>
            </a:prstGeom>
            <a:solidFill>
              <a:srgbClr val="59595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6" name="椭圆 15"/>
            <p:cNvSpPr/>
            <p:nvPr/>
          </p:nvSpPr>
          <p:spPr>
            <a:xfrm>
              <a:off x="6985080" y="4988880"/>
              <a:ext cx="255960" cy="255960"/>
            </a:xfrm>
            <a:prstGeom prst="ellipse">
              <a:avLst/>
            </a:prstGeom>
            <a:solidFill>
              <a:srgbClr val="f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7" name="文本框 16"/>
            <p:cNvSpPr/>
            <p:nvPr/>
          </p:nvSpPr>
          <p:spPr>
            <a:xfrm>
              <a:off x="7342920" y="4226040"/>
              <a:ext cx="2577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lock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文本框 17"/>
            <p:cNvSpPr/>
            <p:nvPr/>
          </p:nvSpPr>
          <p:spPr>
            <a:xfrm>
              <a:off x="7342920" y="4603320"/>
              <a:ext cx="2577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lock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文本框 18"/>
            <p:cNvSpPr/>
            <p:nvPr/>
          </p:nvSpPr>
          <p:spPr>
            <a:xfrm>
              <a:off x="7342920" y="4963320"/>
              <a:ext cx="2577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lock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32"/>
          <p:cNvGrpSpPr/>
          <p:nvPr/>
        </p:nvGrpSpPr>
        <p:grpSpPr>
          <a:xfrm>
            <a:off x="7286040" y="1711800"/>
            <a:ext cx="4120200" cy="469440"/>
            <a:chOff x="7286040" y="1711800"/>
            <a:chExt cx="4120200" cy="469440"/>
          </a:xfrm>
        </p:grpSpPr>
        <p:sp>
          <p:nvSpPr>
            <p:cNvPr id="241" name="圆角矩形 19"/>
            <p:cNvSpPr/>
            <p:nvPr/>
          </p:nvSpPr>
          <p:spPr>
            <a:xfrm>
              <a:off x="7286040" y="1711800"/>
              <a:ext cx="4120200" cy="46944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2" name="文本框 20"/>
            <p:cNvSpPr/>
            <p:nvPr/>
          </p:nvSpPr>
          <p:spPr>
            <a:xfrm>
              <a:off x="7480440" y="1736280"/>
              <a:ext cx="3708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文本框 21"/>
          <p:cNvSpPr/>
          <p:nvPr/>
        </p:nvSpPr>
        <p:spPr>
          <a:xfrm>
            <a:off x="7581960" y="2422080"/>
            <a:ext cx="2577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35"/>
          <p:cNvGrpSpPr/>
          <p:nvPr/>
        </p:nvGrpSpPr>
        <p:grpSpPr>
          <a:xfrm>
            <a:off x="2144160" y="1729800"/>
            <a:ext cx="115920" cy="3920760"/>
            <a:chOff x="2144160" y="1729800"/>
            <a:chExt cx="115920" cy="3920760"/>
          </a:xfrm>
        </p:grpSpPr>
        <p:cxnSp>
          <p:nvCxnSpPr>
            <p:cNvPr id="245" name="直接连接符 22"/>
            <p:cNvCxnSpPr/>
            <p:nvPr/>
          </p:nvCxnSpPr>
          <p:spPr>
            <a:xfrm flipV="1">
              <a:off x="2218320" y="1729800"/>
              <a:ext cx="360" cy="3921120"/>
            </a:xfrm>
            <a:prstGeom prst="straightConnector1">
              <a:avLst/>
            </a:prstGeom>
            <a:ln w="19050">
              <a:solidFill>
                <a:srgbClr val="000000">
                  <a:lumMod val="50000"/>
                  <a:lumOff val="50000"/>
                </a:srgbClr>
              </a:solidFill>
            </a:ln>
          </p:spPr>
        </p:cxnSp>
        <p:cxnSp>
          <p:nvCxnSpPr>
            <p:cNvPr id="246" name="直接连接符 23"/>
            <p:cNvCxnSpPr/>
            <p:nvPr/>
          </p:nvCxnSpPr>
          <p:spPr>
            <a:xfrm flipH="1">
              <a:off x="2144160" y="5649480"/>
              <a:ext cx="74520" cy="36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  <p:cxnSp>
          <p:nvCxnSpPr>
            <p:cNvPr id="247" name="直接连接符 24"/>
            <p:cNvCxnSpPr/>
            <p:nvPr/>
          </p:nvCxnSpPr>
          <p:spPr>
            <a:xfrm flipH="1">
              <a:off x="2218320" y="4692240"/>
              <a:ext cx="42120" cy="36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  <p:cxnSp>
          <p:nvCxnSpPr>
            <p:cNvPr id="248" name="直接连接符 25"/>
            <p:cNvCxnSpPr/>
            <p:nvPr/>
          </p:nvCxnSpPr>
          <p:spPr>
            <a:xfrm flipH="1">
              <a:off x="2218320" y="3686760"/>
              <a:ext cx="42120" cy="36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  <p:cxnSp>
          <p:nvCxnSpPr>
            <p:cNvPr id="249" name="直接连接符 26"/>
            <p:cNvCxnSpPr/>
            <p:nvPr/>
          </p:nvCxnSpPr>
          <p:spPr>
            <a:xfrm flipH="1">
              <a:off x="2218320" y="2673000"/>
              <a:ext cx="42120" cy="36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  <p:cxnSp>
          <p:nvCxnSpPr>
            <p:cNvPr id="250" name="直接连接符 27"/>
            <p:cNvCxnSpPr/>
            <p:nvPr/>
          </p:nvCxnSpPr>
          <p:spPr>
            <a:xfrm flipH="1">
              <a:off x="2144160" y="1734840"/>
              <a:ext cx="74520" cy="36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</p:grpSp>
      <p:sp>
        <p:nvSpPr>
          <p:cNvPr id="251" name="文本框 28"/>
          <p:cNvSpPr/>
          <p:nvPr/>
        </p:nvSpPr>
        <p:spPr>
          <a:xfrm>
            <a:off x="785520" y="204012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组合 8"/>
          <p:cNvGrpSpPr/>
          <p:nvPr/>
        </p:nvGrpSpPr>
        <p:grpSpPr>
          <a:xfrm>
            <a:off x="2219040" y="2064240"/>
            <a:ext cx="4145040" cy="357480"/>
            <a:chOff x="2219040" y="2064240"/>
            <a:chExt cx="4145040" cy="357480"/>
          </a:xfrm>
        </p:grpSpPr>
        <p:sp>
          <p:nvSpPr>
            <p:cNvPr id="253" name="矩形 36"/>
            <p:cNvSpPr/>
            <p:nvPr/>
          </p:nvSpPr>
          <p:spPr>
            <a:xfrm rot="5400000">
              <a:off x="2756520" y="1526760"/>
              <a:ext cx="357480" cy="1432440"/>
            </a:xfrm>
            <a:prstGeom prst="rect">
              <a:avLst/>
            </a:prstGeom>
            <a:solidFill>
              <a:srgbClr val="2626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4" name="矩形 37"/>
            <p:cNvSpPr/>
            <p:nvPr/>
          </p:nvSpPr>
          <p:spPr>
            <a:xfrm rot="5400000">
              <a:off x="3870360" y="1845720"/>
              <a:ext cx="357480" cy="794520"/>
            </a:xfrm>
            <a:prstGeom prst="rect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5" name="矩形 38"/>
            <p:cNvSpPr/>
            <p:nvPr/>
          </p:nvSpPr>
          <p:spPr>
            <a:xfrm rot="5400000">
              <a:off x="5226480" y="1284120"/>
              <a:ext cx="357480" cy="191736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56" name="组合 9"/>
          <p:cNvGrpSpPr/>
          <p:nvPr/>
        </p:nvGrpSpPr>
        <p:grpSpPr>
          <a:xfrm>
            <a:off x="2218680" y="3025800"/>
            <a:ext cx="2647800" cy="357480"/>
            <a:chOff x="2218680" y="3025800"/>
            <a:chExt cx="2647800" cy="357480"/>
          </a:xfrm>
        </p:grpSpPr>
        <p:sp>
          <p:nvSpPr>
            <p:cNvPr id="257" name="矩形 39"/>
            <p:cNvSpPr/>
            <p:nvPr/>
          </p:nvSpPr>
          <p:spPr>
            <a:xfrm rot="5400000">
              <a:off x="2651040" y="2593440"/>
              <a:ext cx="357480" cy="1222200"/>
            </a:xfrm>
            <a:prstGeom prst="rect">
              <a:avLst/>
            </a:prstGeom>
            <a:solidFill>
              <a:srgbClr val="2626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8" name="矩形 40"/>
            <p:cNvSpPr/>
            <p:nvPr/>
          </p:nvSpPr>
          <p:spPr>
            <a:xfrm rot="5400000">
              <a:off x="3489120" y="2977920"/>
              <a:ext cx="357480" cy="453240"/>
            </a:xfrm>
            <a:prstGeom prst="rect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9" name="矩形 41"/>
            <p:cNvSpPr/>
            <p:nvPr/>
          </p:nvSpPr>
          <p:spPr>
            <a:xfrm rot="5400000">
              <a:off x="4201920" y="2718720"/>
              <a:ext cx="357480" cy="97164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60" name="组合 29"/>
          <p:cNvGrpSpPr/>
          <p:nvPr/>
        </p:nvGrpSpPr>
        <p:grpSpPr>
          <a:xfrm>
            <a:off x="2219040" y="4008600"/>
            <a:ext cx="2898360" cy="357480"/>
            <a:chOff x="2219040" y="4008600"/>
            <a:chExt cx="2898360" cy="357480"/>
          </a:xfrm>
        </p:grpSpPr>
        <p:sp>
          <p:nvSpPr>
            <p:cNvPr id="261" name="矩形 42"/>
            <p:cNvSpPr/>
            <p:nvPr/>
          </p:nvSpPr>
          <p:spPr>
            <a:xfrm rot="5400000">
              <a:off x="2486160" y="3741480"/>
              <a:ext cx="357480" cy="891720"/>
            </a:xfrm>
            <a:prstGeom prst="rect">
              <a:avLst/>
            </a:prstGeom>
            <a:solidFill>
              <a:srgbClr val="2626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2" name="矩形 43"/>
            <p:cNvSpPr/>
            <p:nvPr/>
          </p:nvSpPr>
          <p:spPr>
            <a:xfrm rot="5400000">
              <a:off x="3600000" y="3519720"/>
              <a:ext cx="357480" cy="1335240"/>
            </a:xfrm>
            <a:prstGeom prst="rect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3" name="矩形 44"/>
            <p:cNvSpPr/>
            <p:nvPr/>
          </p:nvSpPr>
          <p:spPr>
            <a:xfrm rot="5400000">
              <a:off x="4602240" y="3850920"/>
              <a:ext cx="357480" cy="67248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64" name="组合 30"/>
          <p:cNvGrpSpPr/>
          <p:nvPr/>
        </p:nvGrpSpPr>
        <p:grpSpPr>
          <a:xfrm>
            <a:off x="2218680" y="4978080"/>
            <a:ext cx="2837880" cy="357480"/>
            <a:chOff x="2218680" y="4978080"/>
            <a:chExt cx="2837880" cy="357480"/>
          </a:xfrm>
        </p:grpSpPr>
        <p:sp>
          <p:nvSpPr>
            <p:cNvPr id="265" name="矩形 45"/>
            <p:cNvSpPr/>
            <p:nvPr/>
          </p:nvSpPr>
          <p:spPr>
            <a:xfrm rot="5400000">
              <a:off x="2720880" y="4475880"/>
              <a:ext cx="357480" cy="1361880"/>
            </a:xfrm>
            <a:prstGeom prst="rect">
              <a:avLst/>
            </a:prstGeom>
            <a:solidFill>
              <a:srgbClr val="2626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6" name="矩形 46"/>
            <p:cNvSpPr/>
            <p:nvPr/>
          </p:nvSpPr>
          <p:spPr>
            <a:xfrm rot="5400000">
              <a:off x="3782520" y="4759560"/>
              <a:ext cx="357480" cy="794520"/>
            </a:xfrm>
            <a:prstGeom prst="rect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7" name="矩形 47"/>
            <p:cNvSpPr/>
            <p:nvPr/>
          </p:nvSpPr>
          <p:spPr>
            <a:xfrm rot="5400000">
              <a:off x="4520880" y="4799880"/>
              <a:ext cx="357480" cy="713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68" name="文本框 48"/>
          <p:cNvSpPr/>
          <p:nvPr/>
        </p:nvSpPr>
        <p:spPr>
          <a:xfrm>
            <a:off x="785520" y="300420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49"/>
          <p:cNvSpPr/>
          <p:nvPr/>
        </p:nvSpPr>
        <p:spPr>
          <a:xfrm>
            <a:off x="785520" y="399276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50"/>
          <p:cNvSpPr/>
          <p:nvPr/>
        </p:nvSpPr>
        <p:spPr>
          <a:xfrm>
            <a:off x="785520" y="495396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1" dur="125" autoRev="1" fill="hold"/>
                                        <p:tgtEl>
                                          <p:spTgt spid="23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9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15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3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3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3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35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5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组合 1"/>
          <p:cNvGrpSpPr/>
          <p:nvPr/>
        </p:nvGrpSpPr>
        <p:grpSpPr>
          <a:xfrm>
            <a:off x="360" y="6299280"/>
            <a:ext cx="12191040" cy="306360"/>
            <a:chOff x="360" y="6299280"/>
            <a:chExt cx="12191040" cy="306360"/>
          </a:xfrm>
        </p:grpSpPr>
        <p:sp>
          <p:nvSpPr>
            <p:cNvPr id="272" name="圆角矩形 2"/>
            <p:cNvSpPr/>
            <p:nvPr/>
          </p:nvSpPr>
          <p:spPr>
            <a:xfrm>
              <a:off x="585720" y="6299280"/>
              <a:ext cx="11021760" cy="30636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3" name="任意多边形 3"/>
            <p:cNvSpPr/>
            <p:nvPr/>
          </p:nvSpPr>
          <p:spPr>
            <a:xfrm>
              <a:off x="117219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4" name="燕尾形 4"/>
            <p:cNvSpPr/>
            <p:nvPr/>
          </p:nvSpPr>
          <p:spPr>
            <a:xfrm>
              <a:off x="11926080" y="635112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任意多边形 5"/>
            <p:cNvSpPr/>
            <p:nvPr/>
          </p:nvSpPr>
          <p:spPr>
            <a:xfrm rot="10800000">
              <a:off x="360" y="6299280"/>
              <a:ext cx="469440" cy="3063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387349" h="306614">
                  <a:moveTo>
                    <a:pt x="153307" y="0"/>
                  </a:moveTo>
                  <a:lnTo>
                    <a:pt x="367392" y="0"/>
                  </a:lnTo>
                  <a:lnTo>
                    <a:pt x="387349" y="4029"/>
                  </a:lnTo>
                  <a:lnTo>
                    <a:pt x="387349" y="302585"/>
                  </a:lnTo>
                  <a:lnTo>
                    <a:pt x="367392" y="306614"/>
                  </a:lnTo>
                  <a:lnTo>
                    <a:pt x="153307" y="306614"/>
                  </a:lnTo>
                  <a:cubicBezTo>
                    <a:pt x="68638" y="306614"/>
                    <a:pt x="0" y="237976"/>
                    <a:pt x="0" y="153307"/>
                  </a:cubicBezTo>
                  <a:cubicBezTo>
                    <a:pt x="0" y="68638"/>
                    <a:pt x="68638" y="0"/>
                    <a:pt x="153307" y="0"/>
                  </a:cubicBezTo>
                  <a:close/>
                </a:path>
              </a:pathLst>
            </a:cu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6" name="燕尾形 6"/>
            <p:cNvSpPr/>
            <p:nvPr/>
          </p:nvSpPr>
          <p:spPr>
            <a:xfrm rot="10800000">
              <a:off x="115920" y="6351480"/>
              <a:ext cx="139320" cy="202680"/>
            </a:xfrm>
            <a:prstGeom prst="chevron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组合 7"/>
          <p:cNvGrpSpPr/>
          <p:nvPr/>
        </p:nvGrpSpPr>
        <p:grpSpPr>
          <a:xfrm>
            <a:off x="5053320" y="388080"/>
            <a:ext cx="2440080" cy="939600"/>
            <a:chOff x="5053320" y="388080"/>
            <a:chExt cx="2440080" cy="939600"/>
          </a:xfrm>
        </p:grpSpPr>
        <p:sp>
          <p:nvSpPr>
            <p:cNvPr id="278" name="文本框 11"/>
            <p:cNvSpPr/>
            <p:nvPr/>
          </p:nvSpPr>
          <p:spPr>
            <a:xfrm>
              <a:off x="5253840" y="388080"/>
              <a:ext cx="2061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成功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的方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12"/>
            <p:cNvSpPr/>
            <p:nvPr/>
          </p:nvSpPr>
          <p:spPr>
            <a:xfrm>
              <a:off x="5053320" y="872280"/>
              <a:ext cx="24400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ay of succ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15"/>
          <p:cNvGrpSpPr/>
          <p:nvPr/>
        </p:nvGrpSpPr>
        <p:grpSpPr>
          <a:xfrm>
            <a:off x="8251560" y="1711800"/>
            <a:ext cx="3155040" cy="469440"/>
            <a:chOff x="8251560" y="1711800"/>
            <a:chExt cx="3155040" cy="469440"/>
          </a:xfrm>
        </p:grpSpPr>
        <p:sp>
          <p:nvSpPr>
            <p:cNvPr id="281" name="圆角矩形 16"/>
            <p:cNvSpPr/>
            <p:nvPr/>
          </p:nvSpPr>
          <p:spPr>
            <a:xfrm>
              <a:off x="8251560" y="1711800"/>
              <a:ext cx="3155040" cy="469440"/>
            </a:xfrm>
            <a:prstGeom prst="roundRect">
              <a:avLst>
                <a:gd name="adj" fmla="val 50000"/>
              </a:avLst>
            </a:prstGeom>
            <a:solidFill>
              <a:schemeClr val="bg2">
                <a:lumMod val="10000"/>
                <a:alpha val="2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2" name="文本框 17"/>
            <p:cNvSpPr/>
            <p:nvPr/>
          </p:nvSpPr>
          <p:spPr>
            <a:xfrm>
              <a:off x="8467560" y="1736280"/>
              <a:ext cx="27208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8"/>
          <p:cNvGrpSpPr/>
          <p:nvPr/>
        </p:nvGrpSpPr>
        <p:grpSpPr>
          <a:xfrm>
            <a:off x="1991160" y="2535840"/>
            <a:ext cx="2091600" cy="2555280"/>
            <a:chOff x="1991160" y="2535840"/>
            <a:chExt cx="2091600" cy="2555280"/>
          </a:xfrm>
        </p:grpSpPr>
        <p:cxnSp>
          <p:nvCxnSpPr>
            <p:cNvPr id="284" name="直接箭头连接符 20"/>
            <p:cNvCxnSpPr/>
            <p:nvPr/>
          </p:nvCxnSpPr>
          <p:spPr>
            <a:xfrm>
              <a:off x="1991160" y="2535840"/>
              <a:ext cx="516600" cy="617400"/>
            </a:xfrm>
            <a:prstGeom prst="straightConnector1">
              <a:avLst/>
            </a:prstGeom>
            <a:ln w="19050">
              <a:solidFill>
                <a:srgbClr val="000000"/>
              </a:solidFill>
              <a:tailEnd len="med" type="arrow" w="med"/>
            </a:ln>
          </p:spPr>
        </p:cxnSp>
        <p:cxnSp>
          <p:nvCxnSpPr>
            <p:cNvPr id="285" name="直接箭头连接符 21"/>
            <p:cNvCxnSpPr/>
            <p:nvPr/>
          </p:nvCxnSpPr>
          <p:spPr>
            <a:xfrm>
              <a:off x="2666160" y="3380760"/>
              <a:ext cx="542880" cy="649080"/>
            </a:xfrm>
            <a:prstGeom prst="straightConnector1">
              <a:avLst/>
            </a:prstGeom>
            <a:ln w="19050">
              <a:solidFill>
                <a:srgbClr val="000000"/>
              </a:solidFill>
              <a:tailEnd len="med" type="arrow" w="med"/>
            </a:ln>
          </p:spPr>
        </p:cxnSp>
        <p:cxnSp>
          <p:nvCxnSpPr>
            <p:cNvPr id="286" name="直接箭头连接符 22"/>
            <p:cNvCxnSpPr/>
            <p:nvPr/>
          </p:nvCxnSpPr>
          <p:spPr>
            <a:xfrm>
              <a:off x="3397680" y="4272120"/>
              <a:ext cx="685440" cy="819360"/>
            </a:xfrm>
            <a:prstGeom prst="straightConnector1">
              <a:avLst/>
            </a:prstGeom>
            <a:ln w="19050">
              <a:solidFill>
                <a:srgbClr val="000000"/>
              </a:solidFill>
              <a:tailEnd len="med" type="arrow" w="med"/>
            </a:ln>
          </p:spPr>
        </p:cxnSp>
        <p:sp>
          <p:nvSpPr>
            <p:cNvPr id="287" name="椭圆 28"/>
            <p:cNvSpPr/>
            <p:nvPr/>
          </p:nvSpPr>
          <p:spPr>
            <a:xfrm>
              <a:off x="2440080" y="3116160"/>
              <a:ext cx="285480" cy="285480"/>
            </a:xfrm>
            <a:prstGeom prst="ellipse">
              <a:avLst/>
            </a:prstGeom>
            <a:noFill/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8" name="椭圆 29"/>
            <p:cNvSpPr/>
            <p:nvPr/>
          </p:nvSpPr>
          <p:spPr>
            <a:xfrm>
              <a:off x="3164400" y="3995640"/>
              <a:ext cx="285480" cy="285480"/>
            </a:xfrm>
            <a:prstGeom prst="ellipse">
              <a:avLst/>
            </a:prstGeom>
            <a:noFill/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289" name="直接箭头连接符 33"/>
          <p:cNvCxnSpPr/>
          <p:nvPr/>
        </p:nvCxnSpPr>
        <p:spPr>
          <a:xfrm flipV="1">
            <a:off x="5096520" y="4095360"/>
            <a:ext cx="1496520" cy="1138320"/>
          </a:xfrm>
          <a:prstGeom prst="straightConnector1">
            <a:avLst/>
          </a:prstGeom>
          <a:ln w="19050">
            <a:solidFill>
              <a:srgbClr val="000000"/>
            </a:solidFill>
            <a:tailEnd len="med" type="arrow" w="med"/>
          </a:ln>
        </p:spPr>
      </p:cxnSp>
      <p:grpSp>
        <p:nvGrpSpPr>
          <p:cNvPr id="290" name="组合 52"/>
          <p:cNvGrpSpPr/>
          <p:nvPr/>
        </p:nvGrpSpPr>
        <p:grpSpPr>
          <a:xfrm>
            <a:off x="1112760" y="1510200"/>
            <a:ext cx="1108440" cy="1108440"/>
            <a:chOff x="1112760" y="1510200"/>
            <a:chExt cx="1108440" cy="1108440"/>
          </a:xfrm>
        </p:grpSpPr>
        <p:sp>
          <p:nvSpPr>
            <p:cNvPr id="291" name="椭圆 10"/>
            <p:cNvSpPr/>
            <p:nvPr/>
          </p:nvSpPr>
          <p:spPr>
            <a:xfrm>
              <a:off x="1112760" y="1510200"/>
              <a:ext cx="1108440" cy="1108440"/>
            </a:xfrm>
            <a:prstGeom prst="ellipse">
              <a:avLst/>
            </a:prstGeom>
            <a:solidFill>
              <a:schemeClr val="tx1"/>
            </a:solidFill>
            <a:ln w="762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" name="文本框 36"/>
            <p:cNvSpPr/>
            <p:nvPr/>
          </p:nvSpPr>
          <p:spPr>
            <a:xfrm>
              <a:off x="1187280" y="1833840"/>
              <a:ext cx="959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53"/>
          <p:cNvGrpSpPr/>
          <p:nvPr/>
        </p:nvGrpSpPr>
        <p:grpSpPr>
          <a:xfrm>
            <a:off x="4062240" y="4887360"/>
            <a:ext cx="1108440" cy="1108440"/>
            <a:chOff x="4062240" y="4887360"/>
            <a:chExt cx="1108440" cy="1108440"/>
          </a:xfrm>
        </p:grpSpPr>
        <p:sp>
          <p:nvSpPr>
            <p:cNvPr id="294" name="椭圆 38"/>
            <p:cNvSpPr/>
            <p:nvPr/>
          </p:nvSpPr>
          <p:spPr>
            <a:xfrm>
              <a:off x="4062240" y="4887360"/>
              <a:ext cx="1108440" cy="1108440"/>
            </a:xfrm>
            <a:prstGeom prst="ellipse">
              <a:avLst/>
            </a:prstGeom>
            <a:solidFill>
              <a:schemeClr val="tx1"/>
            </a:solidFill>
            <a:ln w="762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5" name="文本框 37"/>
            <p:cNvSpPr/>
            <p:nvPr/>
          </p:nvSpPr>
          <p:spPr>
            <a:xfrm>
              <a:off x="4136760" y="5211000"/>
              <a:ext cx="959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54"/>
          <p:cNvGrpSpPr/>
          <p:nvPr/>
        </p:nvGrpSpPr>
        <p:grpSpPr>
          <a:xfrm>
            <a:off x="6428520" y="3102120"/>
            <a:ext cx="1108440" cy="1108440"/>
            <a:chOff x="6428520" y="3102120"/>
            <a:chExt cx="1108440" cy="1108440"/>
          </a:xfrm>
        </p:grpSpPr>
        <p:sp>
          <p:nvSpPr>
            <p:cNvPr id="297" name="椭圆 39"/>
            <p:cNvSpPr/>
            <p:nvPr/>
          </p:nvSpPr>
          <p:spPr>
            <a:xfrm>
              <a:off x="6428520" y="3102120"/>
              <a:ext cx="1108440" cy="1108440"/>
            </a:xfrm>
            <a:prstGeom prst="ellipse">
              <a:avLst/>
            </a:prstGeom>
            <a:solidFill>
              <a:schemeClr val="tx1"/>
            </a:solidFill>
            <a:ln w="762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" name="文本框 40"/>
            <p:cNvSpPr/>
            <p:nvPr/>
          </p:nvSpPr>
          <p:spPr>
            <a:xfrm>
              <a:off x="6503040" y="3421440"/>
              <a:ext cx="959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组合 9"/>
          <p:cNvGrpSpPr/>
          <p:nvPr/>
        </p:nvGrpSpPr>
        <p:grpSpPr>
          <a:xfrm>
            <a:off x="3048840" y="2105640"/>
            <a:ext cx="2545200" cy="988200"/>
            <a:chOff x="3048840" y="2105640"/>
            <a:chExt cx="2545200" cy="988200"/>
          </a:xfrm>
        </p:grpSpPr>
        <p:sp>
          <p:nvSpPr>
            <p:cNvPr id="300" name="任意多边形 50"/>
            <p:cNvSpPr/>
            <p:nvPr/>
          </p:nvSpPr>
          <p:spPr>
            <a:xfrm>
              <a:off x="3048840" y="2105640"/>
              <a:ext cx="2545200" cy="988200"/>
            </a:xfrm>
            <a:custGeom>
              <a:avLst/>
              <a:gdLst>
                <a:gd name="textAreaLeft" fmla="*/ 0 w 2545200"/>
                <a:gd name="textAreaRight" fmla="*/ 2545560 w 2545200"/>
                <a:gd name="textAreaTop" fmla="*/ 0 h 988200"/>
                <a:gd name="textAreaBottom" fmla="*/ 988560 h 988200"/>
              </a:gdLst>
              <a:ahLst/>
              <a:rect l="textAreaLeft" t="textAreaTop" r="textAreaRight" b="textAreaBottom"/>
              <a:pathLst>
                <a:path w="2545677" h="988602">
                  <a:moveTo>
                    <a:pt x="434260" y="0"/>
                  </a:moveTo>
                  <a:lnTo>
                    <a:pt x="2448235" y="0"/>
                  </a:lnTo>
                  <a:cubicBezTo>
                    <a:pt x="2502051" y="0"/>
                    <a:pt x="2545677" y="43626"/>
                    <a:pt x="2545677" y="97442"/>
                  </a:cubicBezTo>
                  <a:lnTo>
                    <a:pt x="2545677" y="487196"/>
                  </a:lnTo>
                  <a:cubicBezTo>
                    <a:pt x="2545677" y="541012"/>
                    <a:pt x="2502051" y="584638"/>
                    <a:pt x="2448235" y="584638"/>
                  </a:cubicBezTo>
                  <a:lnTo>
                    <a:pt x="940261" y="584638"/>
                  </a:lnTo>
                  <a:lnTo>
                    <a:pt x="0" y="988602"/>
                  </a:lnTo>
                  <a:lnTo>
                    <a:pt x="605946" y="584638"/>
                  </a:lnTo>
                  <a:lnTo>
                    <a:pt x="434260" y="584638"/>
                  </a:lnTo>
                  <a:cubicBezTo>
                    <a:pt x="380444" y="584638"/>
                    <a:pt x="336818" y="541012"/>
                    <a:pt x="336818" y="487196"/>
                  </a:cubicBezTo>
                  <a:lnTo>
                    <a:pt x="336818" y="97442"/>
                  </a:lnTo>
                  <a:cubicBezTo>
                    <a:pt x="336818" y="43626"/>
                    <a:pt x="380444" y="0"/>
                    <a:pt x="434260" y="0"/>
                  </a:cubicBezTo>
                  <a:close/>
                </a:path>
              </a:pathLst>
            </a:custGeom>
            <a:noFill/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1" name="文本框 58"/>
            <p:cNvSpPr/>
            <p:nvPr/>
          </p:nvSpPr>
          <p:spPr>
            <a:xfrm>
              <a:off x="3945240" y="2215080"/>
              <a:ext cx="149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组合 14"/>
          <p:cNvGrpSpPr/>
          <p:nvPr/>
        </p:nvGrpSpPr>
        <p:grpSpPr>
          <a:xfrm>
            <a:off x="981000" y="4447080"/>
            <a:ext cx="2104200" cy="1111680"/>
            <a:chOff x="981000" y="4447080"/>
            <a:chExt cx="2104200" cy="1111680"/>
          </a:xfrm>
        </p:grpSpPr>
        <p:sp>
          <p:nvSpPr>
            <p:cNvPr id="303" name="任意多边形 51"/>
            <p:cNvSpPr/>
            <p:nvPr/>
          </p:nvSpPr>
          <p:spPr>
            <a:xfrm>
              <a:off x="981000" y="4447080"/>
              <a:ext cx="2104200" cy="1111680"/>
            </a:xfrm>
            <a:custGeom>
              <a:avLst/>
              <a:gdLst>
                <a:gd name="textAreaLeft" fmla="*/ 0 w 2104200"/>
                <a:gd name="textAreaRight" fmla="*/ 2104560 w 2104200"/>
                <a:gd name="textAreaTop" fmla="*/ 0 h 1111680"/>
                <a:gd name="textAreaBottom" fmla="*/ 1112040 h 1111680"/>
              </a:gdLst>
              <a:ahLst/>
              <a:rect l="textAreaLeft" t="textAreaTop" r="textAreaRight" b="textAreaBottom"/>
              <a:pathLst>
                <a:path w="2104382" h="1203162">
                  <a:moveTo>
                    <a:pt x="2104382" y="0"/>
                  </a:moveTo>
                  <a:lnTo>
                    <a:pt x="1658217" y="288695"/>
                  </a:lnTo>
                  <a:lnTo>
                    <a:pt x="1733201" y="288695"/>
                  </a:lnTo>
                  <a:cubicBezTo>
                    <a:pt x="1817377" y="288695"/>
                    <a:pt x="1885615" y="356933"/>
                    <a:pt x="1885615" y="441109"/>
                  </a:cubicBezTo>
                  <a:lnTo>
                    <a:pt x="1885615" y="1050748"/>
                  </a:lnTo>
                  <a:cubicBezTo>
                    <a:pt x="1885615" y="1134924"/>
                    <a:pt x="1817377" y="1203162"/>
                    <a:pt x="1733201" y="1203162"/>
                  </a:cubicBezTo>
                  <a:lnTo>
                    <a:pt x="152414" y="1203162"/>
                  </a:lnTo>
                  <a:cubicBezTo>
                    <a:pt x="68238" y="1203162"/>
                    <a:pt x="0" y="1134924"/>
                    <a:pt x="0" y="1050748"/>
                  </a:cubicBezTo>
                  <a:lnTo>
                    <a:pt x="0" y="441109"/>
                  </a:lnTo>
                  <a:cubicBezTo>
                    <a:pt x="0" y="356933"/>
                    <a:pt x="68238" y="288695"/>
                    <a:pt x="152414" y="288695"/>
                  </a:cubicBezTo>
                  <a:lnTo>
                    <a:pt x="1290787" y="288695"/>
                  </a:lnTo>
                  <a:close/>
                </a:path>
              </a:pathLst>
            </a:custGeom>
            <a:noFill/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4" name="文本框 59"/>
            <p:cNvSpPr/>
            <p:nvPr/>
          </p:nvSpPr>
          <p:spPr>
            <a:xfrm>
              <a:off x="1333080" y="4979880"/>
              <a:ext cx="149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60"/>
          <p:cNvSpPr/>
          <p:nvPr/>
        </p:nvSpPr>
        <p:spPr>
          <a:xfrm>
            <a:off x="8467560" y="2445840"/>
            <a:ext cx="2577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344520" y="64695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5" dur="125" autoRev="1" fill="hold"/>
                                        <p:tgtEl>
                                          <p:spTgt spid="277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3" dur="250" autoRev="1" fill="hold"/>
                                        <p:tgtEl>
                                          <p:spTgt spid="29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250" autoRev="1" fill="hold"/>
                                        <p:tgtEl>
                                          <p:spTgt spid="29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25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5185E-006 L 0.02005 -0.04306 E">
                                      <p:cBhvr>
                                        <p:cTn id="47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91667E-006 4.81481E-006 L -0.03125 0.02268 E">
                                      <p:cBhvr>
                                        <p:cTn id="4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50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3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3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3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3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0</TotalTime>
  <Application>LibreOffice/7.4.7.2$Linux_X86_64 LibreOffice_project/40$Build-2</Application>
  <AppVersion>15.0000</AppVersion>
  <Words>273</Words>
  <Paragraphs>11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0:02:26Z</dcterms:created>
  <dc:creator>www.pptbz.com</dc:creator>
  <dc:description/>
  <dc:language>en-US</dc:language>
  <cp:lastModifiedBy>王玉清</cp:lastModifiedBy>
  <dcterms:modified xsi:type="dcterms:W3CDTF">2016-03-06T03:06:56Z</dcterms:modified>
  <cp:revision>1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4</vt:r8>
  </property>
</Properties>
</file>