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1F4-2EE0-4D6A-AE63-30BB94EE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7E3-78B6-4BB9-9F26-C875D31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814-FF7F-415D-BFC3-7563AC8B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6E6-08F0-4E33-BCB8-E69E5F3D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721D-D118-4933-945D-708CA0A7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C65-5CCA-4DD5-B8EA-EA56EDDE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DC5-CBAE-4F77-9358-168B1F5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6BC-F78A-4695-81B3-AA0A323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40CC-9190-4D1F-A777-57DA385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360C-986D-474D-B6B5-CC18868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4D31-4C77-4F47-B0C3-935CBC0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2E9-2996-41F1-8157-1A778E11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C60-35EA-4D34-B879-44B1671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25E2-894A-4881-8AE0-48EBCDA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0C5-8D3D-415F-9A2D-457A47E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4A5-4C53-42D2-A263-CF17533D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4680" y="169992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4680" y="4182480"/>
            <a:ext cx="2573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7B0-A73D-498E-A6BA-5F4849C8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563-DA6C-404C-A39A-039AB964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671-89C7-4716-806B-490EF27C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1EC-FD74-4147-B9B9-534E96A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57120"/>
            <a:ext cx="79930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0FF-606C-447B-AA35-A65C8C81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6B0-77DA-4D1F-AD30-4B8E2FA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18248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24B-087E-4664-9BFA-276570F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699920"/>
            <a:ext cx="3900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8248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CCB-1C2C-4F27-B011-B068747E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C718-91FC-429A-8FDB-556F74DB1FDF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799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28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7B8-7F6D-4CA2-B5CE-06E62C6FD809}" type="slidenum">
              <a:rPr b="0" lang="zh-CN" sz="1400" spc="-1" strike="noStrike">
                <a:solidFill>
                  <a:srgbClr val="003366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413160"/>
            <a:ext cx="727236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时间管理商务</a:t>
            </a:r>
            <a:r>
              <a:rPr b="0" lang="en-US" sz="4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4327200"/>
            <a:ext cx="693432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3366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9:53:01Z</dcterms:created>
  <dc:creator>ppt宝藏</dc:creator>
  <dc:description/>
  <dc:language>en-US</dc:language>
  <cp:lastModifiedBy>a</cp:lastModifiedBy>
  <dcterms:modified xsi:type="dcterms:W3CDTF">2015-07-25T06:48:20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82052</vt:lpwstr>
  </property>
</Properties>
</file>