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B27D-790E-4E63-9C42-B890B07C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7FF-C90E-47FC-A206-B90E2C1B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674-FC15-4857-BA99-B8D5CDEE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ACA-70FA-4ECD-A743-FCCC5391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C39-8BC6-4060-A27E-20DA4D9F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873-A9A8-4D1E-84E2-2F7295F0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84B-BF3C-4688-A516-7804D0E3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540-A5AB-466F-972A-42F8C58A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BFE-F838-47B4-8D01-D888B9E3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0041-D318-4F12-BCAC-394C207A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F11-CFB2-469C-AFDF-0DFBADBF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800-9FF9-425D-9D6F-CF1C5E55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C53E-A3A4-447C-9260-279A75199925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63880" y="682560"/>
            <a:ext cx="94345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15968"/>
                </a:solidFill>
                <a:latin typeface="时尚中黑简体"/>
                <a:ea typeface="时尚中黑简体"/>
              </a:rPr>
              <a:t>数据统计数据计算通用</a:t>
            </a:r>
            <a:r>
              <a:rPr b="0" lang="en-US" sz="4000" spc="-1" strike="noStrike">
                <a:solidFill>
                  <a:srgbClr val="215968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215968"/>
                </a:solidFill>
                <a:latin typeface="时尚中黑简体"/>
                <a:ea typeface="时尚中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4680" y="115920"/>
            <a:ext cx="863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n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262626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57200" y="63579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6:02:59Z</dcterms:created>
  <dc:creator/>
  <dc:description>第一PPT模板网-WWW.1PPT.COM</dc:description>
  <dc:language>en-US</dc:language>
  <cp:lastModifiedBy>王玉清</cp:lastModifiedBy>
  <dcterms:modified xsi:type="dcterms:W3CDTF">2016-03-07T03:00:09Z</dcterms:modified>
  <cp:revision>21</cp:revision>
  <dc:subject/>
  <dc:title>数据统计数据计算通用PPT模板免费下载</dc:title>
</cp:coreProperties>
</file>