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0CC-1794-4D4E-996E-3A368659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A70-5462-4F63-B809-BF636C28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1CF-1DA3-4C16-92C2-D0FF8ACB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006-3CEF-4C9B-8711-8D0F36D8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970-C42A-46DD-9940-D3FB22B2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0AF-290A-43C7-A730-9DAC1FAB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680-FAD1-41B0-AE48-E8BFFF27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686-B7B4-4FBC-8866-5106C154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0D6-BADC-4797-937F-18C3C29D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55F-73FD-468C-98CD-E8745A30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7AD-9C9B-4057-B6BC-AB063A6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E96-6F36-45FC-A0B0-79B3602D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499675-F5F1-4509-A00C-9193FE6AAD1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5121000" y="-31320"/>
            <a:ext cx="338400" cy="688896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0" y="-31320"/>
            <a:ext cx="5128200" cy="6888960"/>
          </a:xfrm>
          <a:prstGeom prst="rect">
            <a:avLst/>
          </a:prstGeom>
          <a:ln w="0">
            <a:noFill/>
          </a:ln>
        </p:spPr>
      </p:pic>
      <p:sp>
        <p:nvSpPr>
          <p:cNvPr id="43" name="矩形 1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5778000" y="1230120"/>
            <a:ext cx="5883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《</a:t>
            </a:r>
            <a:r>
              <a:rPr b="0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世界因你不同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8817480" y="3856320"/>
            <a:ext cx="2167920" cy="195624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5"/>
          <p:cNvSpPr/>
          <p:nvPr/>
        </p:nvSpPr>
        <p:spPr>
          <a:xfrm>
            <a:off x="6095880" y="1937880"/>
            <a:ext cx="524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A WORLD OF DIFFERENT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KAI-FU LEE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6"/>
          <p:cNvSpPr/>
          <p:nvPr/>
        </p:nvSpPr>
        <p:spPr>
          <a:xfrm>
            <a:off x="5924880" y="2939040"/>
            <a:ext cx="5247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读书笔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3212640" y="58356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世界因你不同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9"/>
          <p:cNvSpPr/>
          <p:nvPr/>
        </p:nvSpPr>
        <p:spPr>
          <a:xfrm>
            <a:off x="3048120" y="961200"/>
            <a:ext cx="872424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等腰三角形 8"/>
          <p:cNvSpPr/>
          <p:nvPr/>
        </p:nvSpPr>
        <p:spPr>
          <a:xfrm rot="5400000">
            <a:off x="-261720" y="654120"/>
            <a:ext cx="1744200" cy="1220040"/>
          </a:xfrm>
          <a:prstGeom prst="triangle">
            <a:avLst>
              <a:gd name="adj" fmla="val 51092"/>
            </a:avLst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189000" y="103392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10553400" y="9748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直接连接符 11"/>
          <p:cNvCxnSpPr/>
          <p:nvPr/>
        </p:nvCxnSpPr>
        <p:spPr>
          <a:xfrm>
            <a:off x="7924680" y="5766120"/>
            <a:ext cx="38480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134" name="矩形 2"/>
          <p:cNvSpPr/>
          <p:nvPr/>
        </p:nvSpPr>
        <p:spPr>
          <a:xfrm>
            <a:off x="1626840" y="99756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博士生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3124080" y="1685160"/>
            <a:ext cx="457164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读博士，就是挑选一个狭窄并重要的领域作研究，毕业的时候交出一篇世界一流的毕业论文，成为这个领域里世界首屈一指的专家。任何人提到这个领域的时候，都会想起你的名字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你从学校带走最有价值的不是这份论文，而是你分析和独立思考的能力、研究和发现真理的经验，还有科学家的胸怀，当你某一天不再研究这个领域的时候，你依然能在任何一个新的领域做到最好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瑞迪教授这样说：“我不同意你，但是我支持你。”这是一种真正的科学家的精神。他这种“科学面前，人人平等”的信念，深深的影响了我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7924680" y="1685160"/>
            <a:ext cx="384732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这种无言的伟大，让我受益终身，也让我以这种信念对待他人的不同意见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只会思考而不会表达的人，与不会思考的人没什么两样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如今，我在各个学校里做巡回主题演讲，每年至少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5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场，面对至少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0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万学生。当年那个羞涩、内向、恐惧的小伙子已经不复存在。这还得感谢那个暑假的尴尬经历。它让我认清了自己，并让我勇于挑战自己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2" descr=""/>
          <p:cNvPicPr/>
          <p:nvPr/>
        </p:nvPicPr>
        <p:blipFill>
          <a:blip r:embed="rId1"/>
          <a:stretch/>
        </p:blipFill>
        <p:spPr>
          <a:xfrm>
            <a:off x="8148600" y="-31320"/>
            <a:ext cx="5128200" cy="6888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19"/>
          <p:cNvSpPr/>
          <p:nvPr/>
        </p:nvSpPr>
        <p:spPr>
          <a:xfrm>
            <a:off x="914400" y="961200"/>
            <a:ext cx="645768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8148600" y="0"/>
            <a:ext cx="4043160" cy="6857640"/>
          </a:xfrm>
          <a:prstGeom prst="rect">
            <a:avLst/>
          </a:prstGeom>
          <a:solidFill>
            <a:srgbClr val="e31e12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6649560" y="99648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摘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914400" y="4199760"/>
            <a:ext cx="645768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矩形 9"/>
          <p:cNvSpPr/>
          <p:nvPr/>
        </p:nvSpPr>
        <p:spPr>
          <a:xfrm>
            <a:off x="5424840" y="423504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印象深刻的话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接连接符 11"/>
          <p:cNvCxnSpPr/>
          <p:nvPr/>
        </p:nvCxnSpPr>
        <p:spPr>
          <a:xfrm>
            <a:off x="914400" y="5989320"/>
            <a:ext cx="64580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144" name="矩形 12"/>
          <p:cNvSpPr/>
          <p:nvPr/>
        </p:nvSpPr>
        <p:spPr>
          <a:xfrm>
            <a:off x="914400" y="1753920"/>
            <a:ext cx="645768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卡内基 • 梅隆大学里，“让我印象最深刻的是，就连计算机学院的一台自动售货机里，都安装有‘局域网’，学生可以通过自己的终端看到自动售货机里还剩下几瓶汽水和可乐”。而原因却是“那些家伙（计算机学院里的博士们）太懒了，他们希望待在宿舍就知道他们想要的东西还有没有，于是就在自动售货机里装上了芯片”。在这里有着一种“神奇的环境、天才的同学、宽松的制度”。这里时刻都培养着人们的创造力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914400" y="4949640"/>
            <a:ext cx="6457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“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沉淀下来的才是教育，学习成绩只是一种表象的结果，而学习能力才是伴随一生的能力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2"/>
          <p:cNvSpPr/>
          <p:nvPr/>
        </p:nvSpPr>
        <p:spPr>
          <a:xfrm>
            <a:off x="-256680" y="517320"/>
            <a:ext cx="1494720" cy="1494720"/>
          </a:xfrm>
          <a:prstGeom prst="ellipse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3048120" y="961200"/>
            <a:ext cx="872424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189000" y="9874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五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10553400" y="989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直接连接符 11"/>
          <p:cNvCxnSpPr/>
          <p:nvPr/>
        </p:nvCxnSpPr>
        <p:spPr>
          <a:xfrm>
            <a:off x="3124080" y="6312960"/>
            <a:ext cx="86486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151" name="矩形 3"/>
          <p:cNvSpPr/>
          <p:nvPr/>
        </p:nvSpPr>
        <p:spPr>
          <a:xfrm>
            <a:off x="1778040" y="687600"/>
            <a:ext cx="729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在苹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3124080" y="1571760"/>
            <a:ext cx="457164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你想一辈子写一堆像废纸一样的学术论文呢？还是要来真正地改变世界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克制住每件事都要自己过问的想法，充分信任员工，给员工一定范围的自由。我深信，这才是真正有艺术的管理。而且作为管理者，当员工的价值观与公司的不符时，你要大胆做出决策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到后来，我们渐渐明白，创新不仅仅是做出一项前无古人、后无来者的技术，创新也可以是一个比较广义的创新，商业模式的创新、产品的创新、技术的创新，甚至把 别人做过的概念重新汇集起来，也是一种创新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"/>
          <p:cNvSpPr/>
          <p:nvPr/>
        </p:nvSpPr>
        <p:spPr>
          <a:xfrm>
            <a:off x="7924680" y="1571760"/>
            <a:ext cx="3847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定并与员工分享美好愿景，能充分激发员工的参与感和积极性，可以让整个团队保持激昂的斗志和坚定的方向，这是领导艺术的重要组成部分。我必须承认，这是我最美好的体验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经过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6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在苹果的浸润，我理解，苹果的平等、自由、民主的风气固然好，但是，公司还需要一个有战略眼光的决策者，需要一个核心人物来维护公司的文化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2" descr=""/>
          <p:cNvPicPr/>
          <p:nvPr/>
        </p:nvPicPr>
        <p:blipFill>
          <a:blip r:embed="rId1"/>
          <a:stretch/>
        </p:blipFill>
        <p:spPr>
          <a:xfrm>
            <a:off x="8148600" y="-31320"/>
            <a:ext cx="5128200" cy="6888960"/>
          </a:xfrm>
          <a:prstGeom prst="rect">
            <a:avLst/>
          </a:prstGeom>
          <a:ln w="0">
            <a:noFill/>
          </a:ln>
        </p:spPr>
      </p:pic>
      <p:sp>
        <p:nvSpPr>
          <p:cNvPr id="155" name="矩形 19"/>
          <p:cNvSpPr/>
          <p:nvPr/>
        </p:nvSpPr>
        <p:spPr>
          <a:xfrm>
            <a:off x="914400" y="961200"/>
            <a:ext cx="645768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8148600" y="0"/>
            <a:ext cx="4043160" cy="6857640"/>
          </a:xfrm>
          <a:prstGeom prst="rect">
            <a:avLst/>
          </a:prstGeom>
          <a:solidFill>
            <a:srgbClr val="e31e12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6548040" y="98460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摘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直接连接符 11"/>
          <p:cNvCxnSpPr/>
          <p:nvPr/>
        </p:nvCxnSpPr>
        <p:spPr>
          <a:xfrm>
            <a:off x="914400" y="5131080"/>
            <a:ext cx="64580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159" name="矩形 12"/>
          <p:cNvSpPr/>
          <p:nvPr/>
        </p:nvSpPr>
        <p:spPr>
          <a:xfrm>
            <a:off x="914400" y="1649160"/>
            <a:ext cx="64576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苹果陷入了极度的危机中。“灾难中的苹果连物色一个新的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CEO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时间都没有，他们直接邀请董事吉尔 • 阿梅里奥（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Gil Amelio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）来接任这个职位。” “他说：‘不必担心，这家公司的境况比我以前从鬼门关里救回的那些公司好多了。给我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00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天，我会告诉你们公司的出路在哪儿。’”但是阿梅里奥的相当自负，并有一种阶级观念，“它们让我们看到了一个思维并不缜密却爱夸夸其谈的领导”。“他以为他可以用智慧和经验改变公司的一切，他做了战略决定后就直接开始执行，却没有花时间寻求所有员工的支持。其实，他的战略方案不无道理，但他做事的方向是完全错误的——他不是一位懂得倾听、懂得理解的好领导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椭圆 2"/>
          <p:cNvSpPr/>
          <p:nvPr/>
        </p:nvSpPr>
        <p:spPr>
          <a:xfrm>
            <a:off x="-256680" y="517320"/>
            <a:ext cx="1494720" cy="1494720"/>
          </a:xfrm>
          <a:prstGeom prst="ellipse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矩形 19"/>
          <p:cNvSpPr/>
          <p:nvPr/>
        </p:nvSpPr>
        <p:spPr>
          <a:xfrm>
            <a:off x="3048120" y="961200"/>
            <a:ext cx="464796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矩形 7"/>
          <p:cNvSpPr/>
          <p:nvPr/>
        </p:nvSpPr>
        <p:spPr>
          <a:xfrm>
            <a:off x="189000" y="9874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六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6514920" y="989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8096400" y="961200"/>
            <a:ext cx="367596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矩形 8"/>
          <p:cNvSpPr/>
          <p:nvPr/>
        </p:nvSpPr>
        <p:spPr>
          <a:xfrm>
            <a:off x="9877680" y="98928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印象深刻的话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直接连接符 14"/>
          <p:cNvCxnSpPr/>
          <p:nvPr/>
        </p:nvCxnSpPr>
        <p:spPr>
          <a:xfrm>
            <a:off x="8096040" y="2181960"/>
            <a:ext cx="367668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167" name="矩形 3"/>
          <p:cNvSpPr/>
          <p:nvPr/>
        </p:nvSpPr>
        <p:spPr>
          <a:xfrm>
            <a:off x="1744920" y="979200"/>
            <a:ext cx="688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S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2"/>
          <p:cNvSpPr/>
          <p:nvPr/>
        </p:nvSpPr>
        <p:spPr>
          <a:xfrm>
            <a:off x="3124080" y="1598040"/>
            <a:ext cx="457164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产品的成功，不光取决于技术，而且取决于市场，尤其是渠道建立得是否正确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为技术出身的管理人员，既有好处也有弊端。好处是技术人员可以看出一个产品的发展趋势，预测它的未来。而弊端就是，技术人员喜欢追求真理，而忽视整体运营，注重智商，而忽略了运营中需要的情商。而作为一个管理人员，情商比智商要重要得多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更重要的一点，我可以到中国工作，将招聘中国的人才，帮助中国的学生，带领一批中国的研发人员进行最先进的技术探索，在最前沿的科技中畅游。不管怎么说，回中国工作，这是父亲的梦想和希望，也确实是令我激动的梦想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8228160" y="1598040"/>
            <a:ext cx="3847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“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世界不需要没有用的创新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椭圆 2"/>
          <p:cNvSpPr/>
          <p:nvPr/>
        </p:nvSpPr>
        <p:spPr>
          <a:xfrm>
            <a:off x="-256680" y="517320"/>
            <a:ext cx="1494720" cy="1494720"/>
          </a:xfrm>
          <a:prstGeom prst="ellipse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矩形 7"/>
          <p:cNvSpPr/>
          <p:nvPr/>
        </p:nvSpPr>
        <p:spPr>
          <a:xfrm>
            <a:off x="189000" y="9874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5"/>
          <p:cNvSpPr/>
          <p:nvPr/>
        </p:nvSpPr>
        <p:spPr>
          <a:xfrm>
            <a:off x="3048120" y="961200"/>
            <a:ext cx="872424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矩形 16"/>
          <p:cNvSpPr/>
          <p:nvPr/>
        </p:nvSpPr>
        <p:spPr>
          <a:xfrm>
            <a:off x="10553400" y="989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连接符 18"/>
          <p:cNvCxnSpPr/>
          <p:nvPr/>
        </p:nvCxnSpPr>
        <p:spPr>
          <a:xfrm>
            <a:off x="3124080" y="6343200"/>
            <a:ext cx="86486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175" name="矩形 1"/>
          <p:cNvSpPr/>
          <p:nvPr/>
        </p:nvSpPr>
        <p:spPr>
          <a:xfrm>
            <a:off x="1263240" y="765720"/>
            <a:ext cx="17589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创建微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中国研究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3124080" y="1596600"/>
            <a:ext cx="457164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选择工作的标准，那就是成长，兴趣和影响力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为领导，我相信，“架子最不值钱，而点子最值钱”，我们需要新的公司管理方式，需要用一种更加平等、更加均衡、更富有创造力的心态来认识、理解和实践领导艺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可以说，白板文化代表着一种开放的精神。它意味着每个人都是平等的，每个人的想法都可以大胆地说出来、写出来，而且允许犯错误，因为白板上的字是很容易抹去的。它更意味着一种团队精神，每个人都不是封闭的，你的思想可以建立在别人的灵感上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7924680" y="1596600"/>
            <a:ext cx="38473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有些企业，布置得很奢华，老板的办公室比员工的要豪华得多，就可以猜到，它的等级观念可能很深。在我们的研究院，来访者看到那些白板，就可以感受到它鲜明的学术风格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总结微软中国研究院的成功，还在于一种创新的研究方式。尽管我们也提倡放权，但是，科研课题是经过大家集体讨论有很大把握才去做的。在美国的研究环境里，这种方式会让人觉得不可思议，在那里，谁都无法使唤别人，因为人人都是大师。人人都有独立思考的能力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4040" y="64360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22" descr=""/>
          <p:cNvPicPr/>
          <p:nvPr/>
        </p:nvPicPr>
        <p:blipFill>
          <a:blip r:embed="rId1"/>
          <a:stretch/>
        </p:blipFill>
        <p:spPr>
          <a:xfrm>
            <a:off x="8148600" y="-31320"/>
            <a:ext cx="5128200" cy="6888960"/>
          </a:xfrm>
          <a:prstGeom prst="rect">
            <a:avLst/>
          </a:prstGeom>
          <a:ln w="0">
            <a:noFill/>
          </a:ln>
        </p:spPr>
      </p:pic>
      <p:sp>
        <p:nvSpPr>
          <p:cNvPr id="180" name="矩形 19"/>
          <p:cNvSpPr/>
          <p:nvPr/>
        </p:nvSpPr>
        <p:spPr>
          <a:xfrm>
            <a:off x="914400" y="961200"/>
            <a:ext cx="645768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8148600" y="0"/>
            <a:ext cx="4043160" cy="6857640"/>
          </a:xfrm>
          <a:prstGeom prst="rect">
            <a:avLst/>
          </a:prstGeom>
          <a:solidFill>
            <a:srgbClr val="e31e12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矩形 15"/>
          <p:cNvSpPr/>
          <p:nvPr/>
        </p:nvSpPr>
        <p:spPr>
          <a:xfrm>
            <a:off x="6548040" y="98460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摘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直接连接符 11"/>
          <p:cNvCxnSpPr/>
          <p:nvPr/>
        </p:nvCxnSpPr>
        <p:spPr>
          <a:xfrm>
            <a:off x="914400" y="5171760"/>
            <a:ext cx="64580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184" name="矩形 12"/>
          <p:cNvSpPr/>
          <p:nvPr/>
        </p:nvSpPr>
        <p:spPr>
          <a:xfrm>
            <a:off x="914400" y="1674000"/>
            <a:ext cx="645768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“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美国长大的我习惯了直截了当的表达。我说既可以坐飞机也可以坐火车，意思是让大家根据自己的具体情况来作选择。”但是“后来有人悄悄告诉我说：刘挺认为，研究院说他们既可以坐飞机也可以坐火车，其实潜台词就是让大家坐火车，这样节省费用。”“我发现，在中国，大家习惯了做老板要你做的事情，没有对老板说“不”的习惯。“可是事实上”你有权力说‘是’或是‘不’。我们中国人总是认为，我是为老板工作的，所以总是想，老板会怎样想。其实，你做事情不是为你老板，而是为你的公司，你拥有这个项目，你就拥有权力。你应该相信，在你自己的领域里，你比老板懂得多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2"/>
          <p:cNvSpPr/>
          <p:nvPr/>
        </p:nvSpPr>
        <p:spPr>
          <a:xfrm>
            <a:off x="-256680" y="517320"/>
            <a:ext cx="1494720" cy="1494720"/>
          </a:xfrm>
          <a:prstGeom prst="ellipse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189000" y="9874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八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5"/>
          <p:cNvSpPr/>
          <p:nvPr/>
        </p:nvSpPr>
        <p:spPr>
          <a:xfrm>
            <a:off x="3048120" y="961200"/>
            <a:ext cx="872424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矩形 16"/>
          <p:cNvSpPr/>
          <p:nvPr/>
        </p:nvSpPr>
        <p:spPr>
          <a:xfrm>
            <a:off x="10553400" y="989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连接符 18"/>
          <p:cNvCxnSpPr/>
          <p:nvPr/>
        </p:nvCxnSpPr>
        <p:spPr>
          <a:xfrm>
            <a:off x="3072960" y="5780160"/>
            <a:ext cx="869976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190" name="矩形 4"/>
          <p:cNvSpPr/>
          <p:nvPr/>
        </p:nvSpPr>
        <p:spPr>
          <a:xfrm>
            <a:off x="1778040" y="794520"/>
            <a:ext cx="729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西雅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五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3124080" y="1627560"/>
            <a:ext cx="457164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发现在已经使用的微软产品方便、便捷而又智能。但是在科技研发过程中，充满了曲折和困难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高科技公司工作多年，半途而废和无疾而终是时有发生的事情，而作为一个探索者，接受是必须的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希望能够帮助在微软总部的中国员工提升他们的信心，促进他们的职业发展，努力帮助他们突破“玻璃天花板”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7924680" y="1627560"/>
            <a:ext cx="3847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为一个跨国公司在中国的高级管理者，我一直都在感受来自各方面文化和价值观差异的冲突和冲撞，我深深体会到那种水土不服所带来的痛苦，以及主见适应过程中的煎熬，同时也深深体会着每一点一滴的成功的来之不易。有时候，那种扑面而来、毫无防备的价值文化冲撞，让人备感挣扎，尤其是那些倾诉无门的委屈和不被理解的孤独。但是，我相信，这一切的一切，都是事物发展过程中的必经之路，也是跨国公司在中国成功的必经之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椭圆 2"/>
          <p:cNvSpPr/>
          <p:nvPr/>
        </p:nvSpPr>
        <p:spPr>
          <a:xfrm>
            <a:off x="-256680" y="517320"/>
            <a:ext cx="1494720" cy="1494720"/>
          </a:xfrm>
          <a:prstGeom prst="ellipse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189000" y="9874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5"/>
          <p:cNvSpPr/>
          <p:nvPr/>
        </p:nvSpPr>
        <p:spPr>
          <a:xfrm>
            <a:off x="3048120" y="961200"/>
            <a:ext cx="872424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矩形 16"/>
          <p:cNvSpPr/>
          <p:nvPr/>
        </p:nvSpPr>
        <p:spPr>
          <a:xfrm>
            <a:off x="10553400" y="97776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10"/>
          <p:cNvGrpSpPr/>
          <p:nvPr/>
        </p:nvGrpSpPr>
        <p:grpSpPr>
          <a:xfrm>
            <a:off x="10168200" y="5240520"/>
            <a:ext cx="1473480" cy="369000"/>
            <a:chOff x="10168200" y="5240520"/>
            <a:chExt cx="1473480" cy="369000"/>
          </a:xfrm>
        </p:grpSpPr>
        <p:sp>
          <p:nvSpPr>
            <p:cNvPr id="198" name="文本框 11"/>
            <p:cNvSpPr/>
            <p:nvPr/>
          </p:nvSpPr>
          <p:spPr>
            <a:xfrm>
              <a:off x="10168200" y="5240520"/>
              <a:ext cx="1473480" cy="363960"/>
            </a:xfrm>
            <a:prstGeom prst="rect">
              <a:avLst/>
            </a:prstGeom>
            <a:solidFill>
              <a:srgbClr val="e31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右箭头 13"/>
            <p:cNvSpPr/>
            <p:nvPr/>
          </p:nvSpPr>
          <p:spPr>
            <a:xfrm>
              <a:off x="10879200" y="5252760"/>
              <a:ext cx="660960" cy="356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0" name="矩形 1"/>
          <p:cNvSpPr/>
          <p:nvPr/>
        </p:nvSpPr>
        <p:spPr>
          <a:xfrm>
            <a:off x="1521000" y="726120"/>
            <a:ext cx="1243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最艰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60</a:t>
            </a: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3124080" y="1685160"/>
            <a:ext cx="45716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遇到机遇的时候，只能自己伸出手去把握。罗曼•罗兰曾经说，“如果有人错过机会，多半不是机会没有到来，而是因为等待机会者没有看见机会到来，而且机会过来时，没有一伸手就抓住它。”我想，如果我没有主动出击去把握潜藏着的机会，很可能，我会与自己的理想失之交臂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终于意识到，失去勇气就意味着丧失了面对挑战的机会，不但于事无补，还可能让我终生悔恨。人生在世，我们要用勇气改变可以改变的事情，并用智慧分辨二者的不同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7924680" y="1685160"/>
            <a:ext cx="3847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人生在世时间非常短，如果你总是不敢做想做的事情，那么一生过去了，你留下来的只有悔恨，只有懊恼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常常说追随我心，当然追随我心必须是要在负责、守信、守法的前提之下。在这个前提之下，冒一些风险也是值得的。虽然经历风险的日子可能会比较艰难，但如果我不这样做，那蹉跎十年、二十年后我可能会后悔终生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9"/>
          <p:cNvSpPr/>
          <p:nvPr/>
        </p:nvSpPr>
        <p:spPr>
          <a:xfrm>
            <a:off x="0" y="961200"/>
            <a:ext cx="554328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矩形 13"/>
          <p:cNvSpPr/>
          <p:nvPr/>
        </p:nvSpPr>
        <p:spPr>
          <a:xfrm>
            <a:off x="4386600" y="980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连接符 14"/>
          <p:cNvCxnSpPr/>
          <p:nvPr/>
        </p:nvCxnSpPr>
        <p:spPr>
          <a:xfrm>
            <a:off x="0" y="5527440"/>
            <a:ext cx="55436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pic>
        <p:nvPicPr>
          <p:cNvPr id="206" name="图片 15" descr=""/>
          <p:cNvPicPr/>
          <p:nvPr/>
        </p:nvPicPr>
        <p:blipFill>
          <a:blip r:embed="rId1"/>
          <a:stretch/>
        </p:blipFill>
        <p:spPr>
          <a:xfrm>
            <a:off x="8148600" y="-31320"/>
            <a:ext cx="5128200" cy="6888960"/>
          </a:xfrm>
          <a:prstGeom prst="rect">
            <a:avLst/>
          </a:prstGeom>
          <a:ln w="0">
            <a:noFill/>
          </a:ln>
        </p:spPr>
      </p:pic>
      <p:sp>
        <p:nvSpPr>
          <p:cNvPr id="207" name="矩形 16"/>
          <p:cNvSpPr/>
          <p:nvPr/>
        </p:nvSpPr>
        <p:spPr>
          <a:xfrm>
            <a:off x="8148600" y="0"/>
            <a:ext cx="4043160" cy="6857640"/>
          </a:xfrm>
          <a:prstGeom prst="rect">
            <a:avLst/>
          </a:prstGeom>
          <a:solidFill>
            <a:srgbClr val="e31e12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矩形 12"/>
          <p:cNvSpPr/>
          <p:nvPr/>
        </p:nvSpPr>
        <p:spPr>
          <a:xfrm>
            <a:off x="448920" y="1685160"/>
            <a:ext cx="49608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一切都仿佛凸透镜一样，折射出人生百态。有的人坚定不移地支持你，有的人冒着自己受伤的风险帮助你，而有的人在经历心理挣扎后退却，有的人也在这个时候作出了伤害你的决定。官司，就像一块试金石，不经意间，把人间万象顷刻检测了一遍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想，我今天已经完全可以做到从容面对过去，我已经完全理解了书中所说的话，大意是“宽恕是一种拯救，它将每个人都从往昔灾难的阴影里拯救出来，只有这样，才能与历史和解”。我想，我已经与历史和解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9840600" y="0"/>
            <a:ext cx="2350800" cy="59688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9532800" y="620280"/>
            <a:ext cx="2269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000" spc="-1" strike="noStrike">
                <a:solidFill>
                  <a:srgbClr val="e31e12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9532800" y="0"/>
            <a:ext cx="807840" cy="596880"/>
          </a:xfrm>
          <a:prstGeom prst="rect">
            <a:avLst/>
          </a:prstGeom>
          <a:solidFill>
            <a:srgbClr val="e31e12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9372600" y="0"/>
            <a:ext cx="159840" cy="596880"/>
          </a:xfrm>
          <a:prstGeom prst="rect">
            <a:avLst/>
          </a:prstGeom>
          <a:solidFill>
            <a:srgbClr val="e31e12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文本框 24"/>
          <p:cNvSpPr/>
          <p:nvPr/>
        </p:nvSpPr>
        <p:spPr>
          <a:xfrm>
            <a:off x="588240" y="1074600"/>
            <a:ext cx="151884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0" spc="-1" strike="noStrike">
                <a:solidFill>
                  <a:srgbClr val="e31e12"/>
                </a:solidFill>
                <a:latin typeface="Calibri"/>
              </a:rPr>
              <a:t>{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5"/>
          <p:cNvSpPr/>
          <p:nvPr/>
        </p:nvSpPr>
        <p:spPr>
          <a:xfrm>
            <a:off x="9897120" y="1074600"/>
            <a:ext cx="151884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0" spc="-1" strike="noStrike">
                <a:solidFill>
                  <a:srgbClr val="e31e12"/>
                </a:solidFill>
                <a:latin typeface="Calibri"/>
              </a:rPr>
              <a:t>}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337200" y="2428560"/>
            <a:ext cx="862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一章  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顽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3292920" y="1747080"/>
            <a:ext cx="118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引言  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从心选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3339720" y="3110400"/>
            <a:ext cx="131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二章  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飞往美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0"/>
          <p:cNvSpPr/>
          <p:nvPr/>
        </p:nvSpPr>
        <p:spPr>
          <a:xfrm>
            <a:off x="3339720" y="3791880"/>
            <a:ext cx="131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三章  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的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1"/>
          <p:cNvSpPr/>
          <p:nvPr/>
        </p:nvSpPr>
        <p:spPr>
          <a:xfrm>
            <a:off x="3339720" y="4473720"/>
            <a:ext cx="131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四章  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博士生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3386520" y="5155200"/>
            <a:ext cx="145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五章  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工作在苹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6656040" y="1730520"/>
            <a:ext cx="1194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六章   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7103160" y="2415600"/>
            <a:ext cx="200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七章  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创建微软中国研究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5"/>
          <p:cNvSpPr/>
          <p:nvPr/>
        </p:nvSpPr>
        <p:spPr>
          <a:xfrm>
            <a:off x="6915960" y="3100680"/>
            <a:ext cx="145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八章  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西雅图五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6"/>
          <p:cNvSpPr/>
          <p:nvPr/>
        </p:nvSpPr>
        <p:spPr>
          <a:xfrm>
            <a:off x="6864840" y="3785400"/>
            <a:ext cx="182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九章  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最艰难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60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7009560" y="4470480"/>
            <a:ext cx="1730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十章  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谷歌的通话世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7130880" y="5155200"/>
            <a:ext cx="1410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十一章   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世界因你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椭圆 2"/>
          <p:cNvSpPr/>
          <p:nvPr/>
        </p:nvSpPr>
        <p:spPr>
          <a:xfrm>
            <a:off x="-256680" y="517320"/>
            <a:ext cx="1494720" cy="1494720"/>
          </a:xfrm>
          <a:prstGeom prst="ellipse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191160" y="9874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十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5"/>
          <p:cNvSpPr/>
          <p:nvPr/>
        </p:nvSpPr>
        <p:spPr>
          <a:xfrm>
            <a:off x="3048120" y="961200"/>
            <a:ext cx="872424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矩形 16"/>
          <p:cNvSpPr/>
          <p:nvPr/>
        </p:nvSpPr>
        <p:spPr>
          <a:xfrm>
            <a:off x="10576080" y="980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连接符 14"/>
          <p:cNvCxnSpPr/>
          <p:nvPr/>
        </p:nvCxnSpPr>
        <p:spPr>
          <a:xfrm>
            <a:off x="3124080" y="5838840"/>
            <a:ext cx="86486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214" name="矩形 1"/>
          <p:cNvSpPr/>
          <p:nvPr/>
        </p:nvSpPr>
        <p:spPr>
          <a:xfrm>
            <a:off x="1495080" y="715680"/>
            <a:ext cx="1955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谷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通话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2"/>
          <p:cNvSpPr/>
          <p:nvPr/>
        </p:nvSpPr>
        <p:spPr>
          <a:xfrm>
            <a:off x="3124080" y="1685160"/>
            <a:ext cx="457164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那些最酷最吸引眼球的业务，我们肯定都会去做。但不是现在去做，而是将来。我想，在发表意见时，大家可以百花齐放。而现在，一旦公司做了决定，我们也希望我们都能够全力以赴，专注搜索业务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这真是一件孤独又无奈的事情。跨国公司的高管在重大的压力下，不仅仅要做好被误解、被质疑、被冤枉的准备，也要忍受在前进的过程中那些突破瓶颈之前的煎熬。同时还要做好员工的心理工作。这其中的心理承压能力绝非一日能够练就。很多时候都只能自己默默承受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"/>
          <p:cNvSpPr/>
          <p:nvPr/>
        </p:nvSpPr>
        <p:spPr>
          <a:xfrm>
            <a:off x="7924680" y="1685160"/>
            <a:ext cx="38473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自我管理的机制就这样被不知不觉地建立了起来，谷歌如天方夜谭般无为放任的管理方式也在这样神奇地发挥着作用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相信，当梦想照进现实那一刻，他们心中的感受一定无与伦比的美好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非常感谢这四年带来的美好回忆，我想，我的身体里已经存留了一份“小飞侠”的天真，能让我一往无前地继续前行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22" descr=""/>
          <p:cNvPicPr/>
          <p:nvPr/>
        </p:nvPicPr>
        <p:blipFill>
          <a:blip r:embed="rId1"/>
          <a:stretch/>
        </p:blipFill>
        <p:spPr>
          <a:xfrm>
            <a:off x="8148600" y="-31320"/>
            <a:ext cx="5128200" cy="6888960"/>
          </a:xfrm>
          <a:prstGeom prst="rect">
            <a:avLst/>
          </a:prstGeom>
          <a:ln w="0">
            <a:noFill/>
          </a:ln>
        </p:spPr>
      </p:pic>
      <p:sp>
        <p:nvSpPr>
          <p:cNvPr id="218" name="矩形 19"/>
          <p:cNvSpPr/>
          <p:nvPr/>
        </p:nvSpPr>
        <p:spPr>
          <a:xfrm>
            <a:off x="914400" y="961200"/>
            <a:ext cx="645768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矩形 14"/>
          <p:cNvSpPr/>
          <p:nvPr/>
        </p:nvSpPr>
        <p:spPr>
          <a:xfrm>
            <a:off x="8148600" y="0"/>
            <a:ext cx="4043160" cy="6857640"/>
          </a:xfrm>
          <a:prstGeom prst="rect">
            <a:avLst/>
          </a:prstGeom>
          <a:solidFill>
            <a:srgbClr val="e31e12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6567120" y="98136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摘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直接连接符 11"/>
          <p:cNvCxnSpPr/>
          <p:nvPr/>
        </p:nvCxnSpPr>
        <p:spPr>
          <a:xfrm>
            <a:off x="914400" y="4509720"/>
            <a:ext cx="64580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222" name="矩形 12"/>
          <p:cNvSpPr/>
          <p:nvPr/>
        </p:nvSpPr>
        <p:spPr>
          <a:xfrm>
            <a:off x="914400" y="1667160"/>
            <a:ext cx="645768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“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公司，每个工程师可以匹配两台速度最快、显示屏最大的电脑，也可以随时去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ch Stop(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科技小站）免费索取各种最酷的配置”，“休息室里有游戏机、跳舞机、台球桌、桌上足球，健身房里有高档的器械，按摩室里有专业的按摩师”。“众所周知，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Google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的食堂请的是五星级酒店的大厨”，最大的餐厅“查理的地盘”，它囊括了世界各地的各种美食。“最惊人的是，在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Google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办公楼的顶楼，还有两个游泳池。”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Google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一个推崇自由、平等和宽容，允许犯错的公司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椭圆 2"/>
          <p:cNvSpPr/>
          <p:nvPr/>
        </p:nvSpPr>
        <p:spPr>
          <a:xfrm>
            <a:off x="-256680" y="517320"/>
            <a:ext cx="1494720" cy="1494720"/>
          </a:xfrm>
          <a:prstGeom prst="ellipse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矩形 7"/>
          <p:cNvSpPr/>
          <p:nvPr/>
        </p:nvSpPr>
        <p:spPr>
          <a:xfrm>
            <a:off x="302400" y="987480"/>
            <a:ext cx="48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十一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5"/>
          <p:cNvSpPr/>
          <p:nvPr/>
        </p:nvSpPr>
        <p:spPr>
          <a:xfrm>
            <a:off x="3048120" y="961200"/>
            <a:ext cx="872424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矩形 16"/>
          <p:cNvSpPr/>
          <p:nvPr/>
        </p:nvSpPr>
        <p:spPr>
          <a:xfrm>
            <a:off x="10553400" y="98496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9"/>
          <p:cNvGrpSpPr/>
          <p:nvPr/>
        </p:nvGrpSpPr>
        <p:grpSpPr>
          <a:xfrm>
            <a:off x="6197400" y="5849640"/>
            <a:ext cx="1473480" cy="369000"/>
            <a:chOff x="6197400" y="5849640"/>
            <a:chExt cx="1473480" cy="369000"/>
          </a:xfrm>
        </p:grpSpPr>
        <p:sp>
          <p:nvSpPr>
            <p:cNvPr id="228" name="文本框 10"/>
            <p:cNvSpPr/>
            <p:nvPr/>
          </p:nvSpPr>
          <p:spPr>
            <a:xfrm>
              <a:off x="6197400" y="5849640"/>
              <a:ext cx="1473480" cy="363960"/>
            </a:xfrm>
            <a:prstGeom prst="rect">
              <a:avLst/>
            </a:prstGeom>
            <a:solidFill>
              <a:srgbClr val="e31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右箭头 11"/>
            <p:cNvSpPr/>
            <p:nvPr/>
          </p:nvSpPr>
          <p:spPr>
            <a:xfrm>
              <a:off x="6908760" y="5861880"/>
              <a:ext cx="660960" cy="356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矩形 13" hidden="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矩形 12"/>
          <p:cNvSpPr/>
          <p:nvPr/>
        </p:nvSpPr>
        <p:spPr>
          <a:xfrm>
            <a:off x="3124080" y="1685160"/>
            <a:ext cx="457164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中国的大学生是非常优秀的，但我却越来越多地感受到他们的内心困惑。面对着望子成龙的父母、应试教育体制束缚下的学校和老师、急功近利的社会心态，这些都让他们很多人在路途中陷于迷失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所以，每每离开高校我都会暗自感叹：“是否可能有那么一天，校长引以为豪是该校聘用的那些学识渊博、名声卓著的大师，而非华丽的大楼；校长激情畅谈的是无私的教育理想，而非大而无当的校园？是否还能有这么一天，高校里走出的每个毕业生都是能得到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1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世纪企业认可的人才，而不是总是徘徊在失业边缘的‘待业者’？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3"/>
          <p:cNvSpPr/>
          <p:nvPr/>
        </p:nvSpPr>
        <p:spPr>
          <a:xfrm>
            <a:off x="7924680" y="1666080"/>
            <a:ext cx="384732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最富有的人不是拥有最多的人，而是需求最少的人。（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e richest man is not the one who has the most ,but the one who needs the least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过去的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，我有幸在乔布斯、盖茨、施密特等人的身边学习成长，我有幸在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PC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时代经历苹果、微软，有幸在互联网时代经历谷歌，有幸看到三家世界一流的公司成长、成功，我有幸在美国硅谷和中国中关村崛起时，在这两个地方做过最有创意的工作。这些职业经验才是我最有价值的资产，我非常希望能够把这些资产传授给中国青年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5"/>
          <p:cNvSpPr/>
          <p:nvPr/>
        </p:nvSpPr>
        <p:spPr>
          <a:xfrm>
            <a:off x="1524960" y="736200"/>
            <a:ext cx="1598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因你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5" descr=""/>
          <p:cNvPicPr/>
          <p:nvPr/>
        </p:nvPicPr>
        <p:blipFill>
          <a:blip r:embed="rId1"/>
          <a:stretch/>
        </p:blipFill>
        <p:spPr>
          <a:xfrm>
            <a:off x="8148600" y="-31320"/>
            <a:ext cx="5128200" cy="6888960"/>
          </a:xfrm>
          <a:prstGeom prst="rect">
            <a:avLst/>
          </a:prstGeom>
          <a:ln w="0">
            <a:noFill/>
          </a:ln>
        </p:spPr>
      </p:pic>
      <p:sp>
        <p:nvSpPr>
          <p:cNvPr id="235" name="矩形 16"/>
          <p:cNvSpPr/>
          <p:nvPr/>
        </p:nvSpPr>
        <p:spPr>
          <a:xfrm>
            <a:off x="8148600" y="0"/>
            <a:ext cx="4043160" cy="6857640"/>
          </a:xfrm>
          <a:prstGeom prst="rect">
            <a:avLst/>
          </a:prstGeom>
          <a:solidFill>
            <a:srgbClr val="e31e12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矩形 19"/>
          <p:cNvSpPr/>
          <p:nvPr/>
        </p:nvSpPr>
        <p:spPr>
          <a:xfrm>
            <a:off x="0" y="961200"/>
            <a:ext cx="554328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37" name="直接连接符 14"/>
          <p:cNvCxnSpPr/>
          <p:nvPr/>
        </p:nvCxnSpPr>
        <p:spPr>
          <a:xfrm>
            <a:off x="0" y="4199040"/>
            <a:ext cx="55436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238" name="矩形 13"/>
          <p:cNvSpPr/>
          <p:nvPr/>
        </p:nvSpPr>
        <p:spPr>
          <a:xfrm>
            <a:off x="4417200" y="9792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2"/>
          <p:cNvSpPr/>
          <p:nvPr/>
        </p:nvSpPr>
        <p:spPr>
          <a:xfrm>
            <a:off x="448920" y="1685160"/>
            <a:ext cx="49608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想，帮助更多的中国青年实现创业梦想应该是有意义、有影响力的一件事，而且是我帮助中国大学生的延续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6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步入丛林，因为我希望生活得有意义，我希望活得深刻，并汲取生命中所有的精华。然后从中学习，以免让我在生命终结时，却发现自己从来没有活过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54040" y="64360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10"/>
          <p:cNvSpPr/>
          <p:nvPr/>
        </p:nvSpPr>
        <p:spPr>
          <a:xfrm>
            <a:off x="5121000" y="-31320"/>
            <a:ext cx="338400" cy="688896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图片 1" descr=""/>
          <p:cNvPicPr/>
          <p:nvPr/>
        </p:nvPicPr>
        <p:blipFill>
          <a:blip r:embed="rId1"/>
          <a:stretch/>
        </p:blipFill>
        <p:spPr>
          <a:xfrm>
            <a:off x="0" y="-31320"/>
            <a:ext cx="5128200" cy="6888960"/>
          </a:xfrm>
          <a:prstGeom prst="rect">
            <a:avLst/>
          </a:prstGeom>
          <a:ln w="0">
            <a:noFill/>
          </a:ln>
        </p:spPr>
      </p:pic>
      <p:sp>
        <p:nvSpPr>
          <p:cNvPr id="243" name="图片 12"/>
          <p:cNvSpPr/>
          <p:nvPr/>
        </p:nvSpPr>
        <p:spPr>
          <a:xfrm>
            <a:off x="10406520" y="149760"/>
            <a:ext cx="713880" cy="713880"/>
          </a:xfrm>
          <a:custGeom>
            <a:avLst/>
            <a:gdLst>
              <a:gd name="textAreaLeft" fmla="*/ 0 w 713880"/>
              <a:gd name="textAreaRight" fmla="*/ 714240 w 713880"/>
              <a:gd name="textAreaTop" fmla="*/ 0 h 713880"/>
              <a:gd name="textAreaBottom" fmla="*/ 714240 h 713880"/>
            </a:gdLst>
            <a:ahLst/>
            <a:rect l="textAreaLeft" t="textAreaTop" r="textAreaRight" b="textAreaBottom"/>
            <a:pathLst>
              <a:path w="1639708" h="1639708">
                <a:moveTo>
                  <a:pt x="819854" y="0"/>
                </a:moveTo>
                <a:cubicBezTo>
                  <a:pt x="1272647" y="0"/>
                  <a:pt x="1639708" y="367061"/>
                  <a:pt x="1639708" y="819854"/>
                </a:cubicBezTo>
                <a:cubicBezTo>
                  <a:pt x="1639708" y="1272647"/>
                  <a:pt x="1272647" y="1639708"/>
                  <a:pt x="819854" y="1639708"/>
                </a:cubicBezTo>
                <a:cubicBezTo>
                  <a:pt x="367061" y="1639708"/>
                  <a:pt x="0" y="1272647"/>
                  <a:pt x="0" y="819854"/>
                </a:cubicBezTo>
                <a:cubicBezTo>
                  <a:pt x="0" y="367061"/>
                  <a:pt x="367061" y="0"/>
                  <a:pt x="819854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5"/>
          <p:cNvSpPr/>
          <p:nvPr/>
        </p:nvSpPr>
        <p:spPr>
          <a:xfrm>
            <a:off x="11120760" y="0"/>
            <a:ext cx="1071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Y 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直接连接符 9"/>
          <p:cNvCxnSpPr/>
          <p:nvPr/>
        </p:nvCxnSpPr>
        <p:spPr>
          <a:xfrm flipH="1">
            <a:off x="9739080" y="988560"/>
            <a:ext cx="24530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cxnSp>
        <p:nvCxnSpPr>
          <p:cNvPr id="246" name="直接连接符 16"/>
          <p:cNvCxnSpPr/>
          <p:nvPr/>
        </p:nvCxnSpPr>
        <p:spPr>
          <a:xfrm flipH="1">
            <a:off x="10822680" y="1119240"/>
            <a:ext cx="13694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247" name="矩形 1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文本框 3"/>
          <p:cNvSpPr/>
          <p:nvPr/>
        </p:nvSpPr>
        <p:spPr>
          <a:xfrm>
            <a:off x="5778000" y="3378600"/>
            <a:ext cx="5883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7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观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5"/>
          <p:cNvSpPr/>
          <p:nvPr/>
        </p:nvSpPr>
        <p:spPr>
          <a:xfrm>
            <a:off x="6331320" y="4578840"/>
            <a:ext cx="524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6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20"/>
          <p:cNvSpPr/>
          <p:nvPr/>
        </p:nvSpPr>
        <p:spPr>
          <a:xfrm>
            <a:off x="8148600" y="961200"/>
            <a:ext cx="362340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矩形 19"/>
          <p:cNvSpPr/>
          <p:nvPr/>
        </p:nvSpPr>
        <p:spPr>
          <a:xfrm>
            <a:off x="3048120" y="961200"/>
            <a:ext cx="457164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等腰三角形 8"/>
          <p:cNvSpPr/>
          <p:nvPr/>
        </p:nvSpPr>
        <p:spPr>
          <a:xfrm rot="5400000">
            <a:off x="-261720" y="654120"/>
            <a:ext cx="1744200" cy="1220040"/>
          </a:xfrm>
          <a:prstGeom prst="triangle">
            <a:avLst>
              <a:gd name="adj" fmla="val 51092"/>
            </a:avLst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222840" y="103392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6382800" y="9914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接连接符 16"/>
          <p:cNvCxnSpPr/>
          <p:nvPr/>
        </p:nvCxnSpPr>
        <p:spPr>
          <a:xfrm>
            <a:off x="8148240" y="3233160"/>
            <a:ext cx="362448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74" name="矩形 18"/>
          <p:cNvSpPr/>
          <p:nvPr/>
        </p:nvSpPr>
        <p:spPr>
          <a:xfrm>
            <a:off x="9861120" y="98784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印象深刻的话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直接连接符 21"/>
          <p:cNvCxnSpPr/>
          <p:nvPr/>
        </p:nvCxnSpPr>
        <p:spPr>
          <a:xfrm>
            <a:off x="3047760" y="5964840"/>
            <a:ext cx="457236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76" name="矩形 1"/>
          <p:cNvSpPr/>
          <p:nvPr/>
        </p:nvSpPr>
        <p:spPr>
          <a:xfrm>
            <a:off x="1676520" y="9792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从心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4" hidden="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3048120" y="1605960"/>
            <a:ext cx="457164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 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价值不是你拥有多少，而是你留下多少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br>
              <a:rPr sz="1500"/>
            </a:b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 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用你的梦想和理想引领你的一生，要用感恩、真诚、助人圆梦的心态引领你的一生，要用执著、无惧、乐观的态度引领你的一生。如果你做到了这些，姻缘会给你一切你所应得的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br>
              <a:rPr sz="1500"/>
            </a:b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 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不要被信条所惑。盲从信条就是活在别人思考的结果里，不要让别人的意见淹没了你内在的心声，最重要的，拥有跟随内心与直觉的勇气，你的内心与直觉多少已经知道你真正想要成为什么样的人，任何其他事物都是次要的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3"/>
          <p:cNvSpPr/>
          <p:nvPr/>
        </p:nvSpPr>
        <p:spPr>
          <a:xfrm>
            <a:off x="8148240" y="1576800"/>
            <a:ext cx="3623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 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当一个微小的火种慢慢地在心里闪烁，最终蔓延成为燃烧的火焰；当一个并不清晰的潜意识渐渐地野蛮生长，成为了明确的意志；我想，就是作出改变的时候了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9"/>
          <p:cNvSpPr/>
          <p:nvPr/>
        </p:nvSpPr>
        <p:spPr>
          <a:xfrm>
            <a:off x="3048120" y="961200"/>
            <a:ext cx="872424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等腰三角形 8"/>
          <p:cNvSpPr/>
          <p:nvPr/>
        </p:nvSpPr>
        <p:spPr>
          <a:xfrm rot="5400000">
            <a:off x="-261720" y="654120"/>
            <a:ext cx="1744200" cy="1220040"/>
          </a:xfrm>
          <a:prstGeom prst="triangle">
            <a:avLst>
              <a:gd name="adj" fmla="val 51092"/>
            </a:avLst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310680" y="1033920"/>
            <a:ext cx="48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10553400" y="989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连接符 21"/>
          <p:cNvCxnSpPr/>
          <p:nvPr/>
        </p:nvCxnSpPr>
        <p:spPr>
          <a:xfrm>
            <a:off x="3124080" y="6029640"/>
            <a:ext cx="439452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85" name="矩形 2"/>
          <p:cNvSpPr/>
          <p:nvPr/>
        </p:nvSpPr>
        <p:spPr>
          <a:xfrm>
            <a:off x="1860480" y="99756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顽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 hidden="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3048120" y="1591200"/>
            <a:ext cx="457164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 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那一刻，母亲脸上掩饰不住的兴奋和自豪，即便再过几十年，我也不会忘记。我那时才知道，自己一丁点儿的成功就可以让母亲那么的骄傲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br>
              <a:rPr sz="1500"/>
            </a:b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 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中国，父母对孩子特别关爱，生怕孩子受一点伤害，不愿让孩子冒险尝试与众不同的东西。其实，孩子从小就需要独立性、责任心、选择力和判断力。很庆幸的是，早在四十年前，我父母就把选择权交给了我，让我成为了自己的主人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br>
              <a:rPr sz="1500"/>
            </a:b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 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“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书不算是礼物，你要买多少书，只要是中外名著，随时都可以买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7924680" y="1210320"/>
            <a:ext cx="3847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br>
              <a:rPr sz="1500"/>
            </a:b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 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母亲像打造一块璞玉一样，精心地打磨和教育我。是她教会了我什么是严谨和务实，什么是品行和礼仪，什么是快乐和温馨，什么是忠孝和诚信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br>
              <a:rPr sz="1500"/>
            </a:b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 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父亲的冷静却让我感到意外，他只是把我叫到他跟前说，“希望你以后不要让自己这么失望！”这句话掷地有声，它的力量，让我的愧疚到了极点。那么突如其来的自卑和悔恨，让我感觉到自己如此失落。从此以后，我时时刻刻铭记着这句话，这让我内心的城堡里有了一个守望者，让我以后，绝对不会再让自己失望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连接符 11"/>
          <p:cNvCxnSpPr/>
          <p:nvPr/>
        </p:nvCxnSpPr>
        <p:spPr>
          <a:xfrm>
            <a:off x="8026200" y="6348960"/>
            <a:ext cx="374652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22" descr=""/>
          <p:cNvPicPr/>
          <p:nvPr/>
        </p:nvPicPr>
        <p:blipFill>
          <a:blip r:embed="rId1"/>
          <a:stretch/>
        </p:blipFill>
        <p:spPr>
          <a:xfrm>
            <a:off x="8148600" y="-31320"/>
            <a:ext cx="5128200" cy="6888960"/>
          </a:xfrm>
          <a:prstGeom prst="rect">
            <a:avLst/>
          </a:prstGeom>
          <a:ln w="0">
            <a:noFill/>
          </a:ln>
        </p:spPr>
      </p:pic>
      <p:sp>
        <p:nvSpPr>
          <p:cNvPr id="91" name="矩形 19"/>
          <p:cNvSpPr/>
          <p:nvPr/>
        </p:nvSpPr>
        <p:spPr>
          <a:xfrm>
            <a:off x="914400" y="961200"/>
            <a:ext cx="550512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2" name="直接连接符 21"/>
          <p:cNvCxnSpPr/>
          <p:nvPr/>
        </p:nvCxnSpPr>
        <p:spPr>
          <a:xfrm>
            <a:off x="914400" y="3663000"/>
            <a:ext cx="550548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93" name="矩形 14"/>
          <p:cNvSpPr/>
          <p:nvPr/>
        </p:nvSpPr>
        <p:spPr>
          <a:xfrm>
            <a:off x="8148600" y="0"/>
            <a:ext cx="4043160" cy="6857640"/>
          </a:xfrm>
          <a:prstGeom prst="rect">
            <a:avLst/>
          </a:prstGeom>
          <a:solidFill>
            <a:srgbClr val="e31e12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5610240" y="98100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摘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914400" y="1620720"/>
            <a:ext cx="5505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 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“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父亲的学生也写了一篇回忆父亲的文章，‘我们最钦佩老师的是他的为学与做人。老师虽已八十岁高龄，但是仍然好学不倦，用功甚勤。老师的用功着实令我们后辈望尘莫及。据我们所知，老师每年均要利用暑假到美国哈佛、普林斯顿等大学图书馆去搜集资料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......“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9"/>
          <p:cNvSpPr/>
          <p:nvPr/>
        </p:nvSpPr>
        <p:spPr>
          <a:xfrm>
            <a:off x="3048120" y="961200"/>
            <a:ext cx="872424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等腰三角形 8"/>
          <p:cNvSpPr/>
          <p:nvPr/>
        </p:nvSpPr>
        <p:spPr>
          <a:xfrm rot="5400000">
            <a:off x="-261720" y="654120"/>
            <a:ext cx="1744200" cy="1220040"/>
          </a:xfrm>
          <a:prstGeom prst="triangle">
            <a:avLst>
              <a:gd name="adj" fmla="val 51092"/>
            </a:avLst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189000" y="103392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10553400" y="989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接连接符 21"/>
          <p:cNvCxnSpPr/>
          <p:nvPr/>
        </p:nvCxnSpPr>
        <p:spPr>
          <a:xfrm>
            <a:off x="8038800" y="6202440"/>
            <a:ext cx="373392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101" name="矩形 2"/>
          <p:cNvSpPr/>
          <p:nvPr/>
        </p:nvSpPr>
        <p:spPr>
          <a:xfrm>
            <a:off x="1626840" y="99756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飞往美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3124080" y="1179360"/>
            <a:ext cx="4571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国孩子的创造力和想象力，都是在这些稀奇古怪的题目中每天得到锻炼的。这样的教育的差别就是：（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）从不同的观点看问题，没有正确答案；（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）经过参与和实践真正理解；（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）团队合作，避免零和思维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成年以后，我才发现这种教育的真谛。美国的教育和学习方法所注重的准则是：自由、独立、自主学习、重视理解、重视实用。老师重视学生发表的意见，甚至鼓励学生反驳老师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每次回到家都严格按照老师说的做，题目里不认识的单词就去查词典，但是却从来没去翻书找答案。因为，我觉得这是老师给我的最大的信任，我不能辜负这份信任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7924680" y="1172520"/>
            <a:ext cx="384732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br>
              <a:rPr sz="1500"/>
            </a:b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终于理解了，对于一种语言文化的掌握，远远不只是会说当地的语言，了解当地的风格，更要对这种文化的历史和这个国家的制度有深刻的了解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如同初到美国之后，我大声念出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/7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等于多少的时候一样，别人认为我是数学天才，而我在这种鼓励中得到了心理暗示。这种心理暗示时刻影响着今后的选择 、生活、行为方式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6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勇于选择，有一颗勇敢的心，这是走向成功的第一步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54040" y="64360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22" descr=""/>
          <p:cNvPicPr/>
          <p:nvPr/>
        </p:nvPicPr>
        <p:blipFill>
          <a:blip r:embed="rId1"/>
          <a:stretch/>
        </p:blipFill>
        <p:spPr>
          <a:xfrm>
            <a:off x="8148600" y="-31320"/>
            <a:ext cx="5128200" cy="6888960"/>
          </a:xfrm>
          <a:prstGeom prst="rect">
            <a:avLst/>
          </a:prstGeom>
          <a:ln w="0">
            <a:noFill/>
          </a:ln>
        </p:spPr>
      </p:pic>
      <p:sp>
        <p:nvSpPr>
          <p:cNvPr id="106" name="矩形 19"/>
          <p:cNvSpPr/>
          <p:nvPr/>
        </p:nvSpPr>
        <p:spPr>
          <a:xfrm>
            <a:off x="914400" y="961200"/>
            <a:ext cx="550512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7" name="直接连接符 21"/>
          <p:cNvCxnSpPr/>
          <p:nvPr/>
        </p:nvCxnSpPr>
        <p:spPr>
          <a:xfrm>
            <a:off x="914400" y="4025520"/>
            <a:ext cx="550548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108" name="矩形 14"/>
          <p:cNvSpPr/>
          <p:nvPr/>
        </p:nvSpPr>
        <p:spPr>
          <a:xfrm>
            <a:off x="8148600" y="0"/>
            <a:ext cx="4043160" cy="6857640"/>
          </a:xfrm>
          <a:prstGeom prst="rect">
            <a:avLst/>
          </a:prstGeom>
          <a:solidFill>
            <a:srgbClr val="e31e12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5617440" y="96984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摘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914400" y="1602720"/>
            <a:ext cx="550512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 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“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没有统一的教科书，没有统一的考试，没有对学生三六九等的分类排位，这就是呈现在一个中国记者眼前的美国教育。”“在美国上学，你可以鲜明地感觉到，美国学生只在乎‘自己喜欢的’，而对于自己不喜欢的必修课，则不会特别上心。”美式教育“鼓励学生自我选择，按照兴趣发展，让一个人发挥最大的激情，去选择自己的爱好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3048120" y="961200"/>
            <a:ext cx="914364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等腰三角形 8"/>
          <p:cNvSpPr/>
          <p:nvPr/>
        </p:nvSpPr>
        <p:spPr>
          <a:xfrm rot="5400000">
            <a:off x="-261720" y="654120"/>
            <a:ext cx="1744200" cy="1220040"/>
          </a:xfrm>
          <a:prstGeom prst="triangle">
            <a:avLst>
              <a:gd name="adj" fmla="val 51092"/>
            </a:avLst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189000" y="103392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10582200" y="989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4"/>
          <p:cNvGrpSpPr/>
          <p:nvPr/>
        </p:nvGrpSpPr>
        <p:grpSpPr>
          <a:xfrm>
            <a:off x="10168200" y="5962680"/>
            <a:ext cx="1473480" cy="369000"/>
            <a:chOff x="10168200" y="5962680"/>
            <a:chExt cx="1473480" cy="369000"/>
          </a:xfrm>
        </p:grpSpPr>
        <p:sp>
          <p:nvSpPr>
            <p:cNvPr id="116" name="文本框 2"/>
            <p:cNvSpPr/>
            <p:nvPr/>
          </p:nvSpPr>
          <p:spPr>
            <a:xfrm>
              <a:off x="10168200" y="5962680"/>
              <a:ext cx="1473480" cy="363960"/>
            </a:xfrm>
            <a:prstGeom prst="rect">
              <a:avLst/>
            </a:prstGeom>
            <a:solidFill>
              <a:srgbClr val="e31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右箭头 3"/>
            <p:cNvSpPr/>
            <p:nvPr/>
          </p:nvSpPr>
          <p:spPr>
            <a:xfrm>
              <a:off x="10879200" y="5974920"/>
              <a:ext cx="660960" cy="356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8" name="矩形 5"/>
          <p:cNvSpPr/>
          <p:nvPr/>
        </p:nvSpPr>
        <p:spPr>
          <a:xfrm>
            <a:off x="1677600" y="10184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e31e12"/>
                </a:solidFill>
                <a:latin typeface="微软雅黑"/>
                <a:ea typeface="微软雅黑"/>
              </a:rPr>
              <a:t>我的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3048120" y="1345680"/>
            <a:ext cx="457164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如果我们将学过的东西忘得一干二净，最后剩下的东西就是教育的本质了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从必修的人文课程中，收获了让人一生受益的知识。它沉淀在我的身体里，成为思想和灵魂的一部分，在此后人生的关键时刻它会灵光一现，帮助我度过人生中或孤独或困惑的日子。多年以后，我才参透，哥大通才教育的重要意义是无可比拟的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3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直到今天，我才记得哲学系的一个老教授说的话：知道什么是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make a difference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（制造不同）吗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7924680" y="1681200"/>
            <a:ext cx="384732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想象有两个世界，一个世界中有你，一个世界中没有你，让两者的不同最大，最大化你的影响力，这就是你一生的意义。“这句话，可以说影响了我的一生。那之后，凡是我要做重要的决定，我都会想起这句”让世界不同“的话，从而让我的内心作出选择的时候更加坚定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4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兴趣就是天赋，天赋就是兴趣。（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You are good at what you love;you love what you are good at.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9"/>
          <p:cNvSpPr/>
          <p:nvPr/>
        </p:nvSpPr>
        <p:spPr>
          <a:xfrm>
            <a:off x="0" y="961200"/>
            <a:ext cx="554328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4375080" y="10036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彩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直接连接符 21"/>
          <p:cNvCxnSpPr/>
          <p:nvPr/>
        </p:nvCxnSpPr>
        <p:spPr>
          <a:xfrm>
            <a:off x="6197400" y="5096520"/>
            <a:ext cx="51566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124" name="矩形 9"/>
          <p:cNvSpPr/>
          <p:nvPr/>
        </p:nvSpPr>
        <p:spPr>
          <a:xfrm>
            <a:off x="6095880" y="961200"/>
            <a:ext cx="5257440" cy="497520"/>
          </a:xfrm>
          <a:prstGeom prst="rect">
            <a:avLst/>
          </a:prstGeom>
          <a:solidFill>
            <a:srgbClr val="e31e1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9426600" y="100368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印象深刻的话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连接符 14"/>
          <p:cNvCxnSpPr/>
          <p:nvPr/>
        </p:nvCxnSpPr>
        <p:spPr>
          <a:xfrm>
            <a:off x="0" y="4372560"/>
            <a:ext cx="5543640" cy="360"/>
          </a:xfrm>
          <a:prstGeom prst="straightConnector1">
            <a:avLst/>
          </a:prstGeom>
          <a:ln>
            <a:solidFill>
              <a:srgbClr val="e31e12"/>
            </a:solidFill>
          </a:ln>
        </p:spPr>
      </p:cxnSp>
      <p:sp>
        <p:nvSpPr>
          <p:cNvPr id="127" name="矩形 1"/>
          <p:cNvSpPr/>
          <p:nvPr/>
        </p:nvSpPr>
        <p:spPr>
          <a:xfrm>
            <a:off x="6095880" y="1685160"/>
            <a:ext cx="525744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1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国教育学家斯金纳（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B.F.Skinner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）说：“如果我们将学过的东西忘得一干二净，最后剩下的东西就是教育的本质了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2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著名记者怀特</a:t>
            </a:r>
            <a:r>
              <a:rPr b="0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.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霍布斯说，“成功就是当你醒来，无论身在何处，无论年龄多大，你很快从床上弹起，因为你迫不及待地想去做你爱做的、你深信的、你有才华做的工作。这工作比你个人伟大、神圣。你迫不及待地要起床，跳进它的怀里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448920" y="1685160"/>
            <a:ext cx="509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5. </a:t>
            </a:r>
            <a:r>
              <a:rPr b="0" lang="zh-CN" sz="1500" spc="-1" strike="noStrike">
                <a:solidFill>
                  <a:srgbClr val="262626"/>
                </a:solidFill>
                <a:latin typeface="微软雅黑"/>
                <a:ea typeface="微软雅黑"/>
              </a:rPr>
              <a:t>现在，我非常感谢哥伦比亚大学灵活的转系制度。它给了学生一整年的时间，一边在基础学科里学习，一边寻找自己真正的兴趣所在，学生大都在兴趣的指引下，有激情地学习。而在中国的教育体系里，我很遗憾地看到，高校设置了非常难的转系制度。而且，还有服从调剂制度，让很多孩子去学自己不喜欢的专业。这对于人才的培养，其实是个弊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  <Words>3669</Words>
  <Paragraphs>189</Paragraphs>
  <Company>www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5T13:27:00Z</dcterms:created>
  <dc:creator>吴杰</dc:creator>
  <dc:description/>
  <dc:language>en-US</dc:language>
  <cp:lastModifiedBy>王玉清</cp:lastModifiedBy>
  <dcterms:modified xsi:type="dcterms:W3CDTF">2016-03-01T07:20:11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4</vt:r8>
  </property>
</Properties>
</file>